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78360" y="1293120"/>
            <a:ext cx="808164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78360" y="3285720"/>
            <a:ext cx="808164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78360" y="1293120"/>
            <a:ext cx="394380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19800" y="1293120"/>
            <a:ext cx="394380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78360" y="3285720"/>
            <a:ext cx="394380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19800" y="3285720"/>
            <a:ext cx="394380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78360" y="1293120"/>
            <a:ext cx="260208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10760" y="1293120"/>
            <a:ext cx="260208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843520" y="1293120"/>
            <a:ext cx="260208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78360" y="3285720"/>
            <a:ext cx="260208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10760" y="3285720"/>
            <a:ext cx="260208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843520" y="3285720"/>
            <a:ext cx="260208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78360" y="1293120"/>
            <a:ext cx="394380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19800" y="1293120"/>
            <a:ext cx="394380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240" y="152280"/>
            <a:ext cx="762012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78360" y="1293120"/>
            <a:ext cx="394380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19800" y="1293120"/>
            <a:ext cx="394380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78360" y="3285720"/>
            <a:ext cx="394380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78360" y="1293120"/>
            <a:ext cx="394380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19800" y="1293120"/>
            <a:ext cx="394380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19800" y="3285720"/>
            <a:ext cx="394380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78360" y="1293120"/>
            <a:ext cx="394380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19800" y="1293120"/>
            <a:ext cx="394380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78360" y="3285720"/>
            <a:ext cx="808164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e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22280" y="838080"/>
            <a:ext cx="83026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739640" y="6524640"/>
            <a:ext cx="15454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0-</a:t>
            </a:r>
            <a:fld id="{0CD97F22-2C09-49FE-A5AB-6244A69AEDC8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5412240" y="6570720"/>
            <a:ext cx="186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pt-BR" sz="800" spc="-1" strike="noStrike">
                <a:solidFill>
                  <a:srgbClr val="000000"/>
                </a:solidFill>
                <a:latin typeface="Arial"/>
              </a:rPr>
              <a:t>1998 Morgan Kaufmann Publisher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2520" y="6583320"/>
            <a:ext cx="321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Mario Côrtes - MO401 - IC/Unicamp- 2002s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package" Target="../embeddings/oleObject1.docx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e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roduçã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371600" y="3886200"/>
            <a:ext cx="6401160" cy="175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visão de Conceitos de Circuitos Lógicos e Estruturas para Arquitetura de Computador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e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1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Barramentos: comunic. entre elementos (2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534600" y="2267640"/>
            <a:ext cx="6786720" cy="3980520"/>
            <a:chOff x="534600" y="2267640"/>
            <a:chExt cx="6786720" cy="3980520"/>
          </a:xfrm>
        </p:grpSpPr>
        <p:sp>
          <p:nvSpPr>
            <p:cNvPr id="266" name=""/>
            <p:cNvSpPr/>
            <p:nvPr/>
          </p:nvSpPr>
          <p:spPr>
            <a:xfrm>
              <a:off x="534600" y="2267640"/>
              <a:ext cx="2445120" cy="398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Arial"/>
                </a:rPr>
                <a:t>Vantagens</a:t>
              </a: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implementaçã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simplicida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custo (HW &amp; projet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escalabilida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expansibilida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isolamento</a:t>
              </a:r>
              <a:br>
                <a:rPr sz="1800"/>
              </a:b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  (desacoplament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VLSI (regularidade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955760" y="2892600"/>
              <a:ext cx="236556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Arial"/>
                </a:rPr>
                <a:t>Desvantagens</a:t>
              </a: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falta de paralelismo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611280" y="1066680"/>
            <a:ext cx="7313400" cy="1219320"/>
            <a:chOff x="611280" y="1066680"/>
            <a:chExt cx="7313400" cy="1219320"/>
          </a:xfrm>
        </p:grpSpPr>
        <p:sp>
          <p:nvSpPr>
            <p:cNvPr id="269" name=""/>
            <p:cNvSpPr/>
            <p:nvPr/>
          </p:nvSpPr>
          <p:spPr>
            <a:xfrm>
              <a:off x="611280" y="1066680"/>
              <a:ext cx="263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Arial"/>
                </a:rPr>
                <a:t>b) barramento simpl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0" name=""/>
            <p:cNvGrpSpPr/>
            <p:nvPr/>
          </p:nvGrpSpPr>
          <p:grpSpPr>
            <a:xfrm>
              <a:off x="3124080" y="1371600"/>
              <a:ext cx="4800600" cy="914400"/>
              <a:chOff x="3124080" y="1371600"/>
              <a:chExt cx="4800600" cy="914400"/>
            </a:xfrm>
          </p:grpSpPr>
          <p:sp>
            <p:nvSpPr>
              <p:cNvPr id="271" name=""/>
              <p:cNvSpPr/>
              <p:nvPr/>
            </p:nvSpPr>
            <p:spPr>
              <a:xfrm>
                <a:off x="3124080" y="2286000"/>
                <a:ext cx="4800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3276720" y="1371600"/>
                <a:ext cx="914400" cy="3808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4419720" y="1371600"/>
                <a:ext cx="914400" cy="3808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5638680" y="1371600"/>
                <a:ext cx="914400" cy="3808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6858000" y="1371600"/>
                <a:ext cx="914400" cy="3808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3581280" y="1752480"/>
                <a:ext cx="0" cy="533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4648320" y="1752480"/>
                <a:ext cx="0" cy="533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5867280" y="1752480"/>
                <a:ext cx="0" cy="533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7010280" y="1752480"/>
                <a:ext cx="0" cy="533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flipV="1">
                <a:off x="7467480" y="1752480"/>
                <a:ext cx="0" cy="533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flipV="1">
                <a:off x="6324480" y="1752480"/>
                <a:ext cx="0" cy="533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flipV="1">
                <a:off x="5105520" y="1752480"/>
                <a:ext cx="0" cy="533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flipV="1">
                <a:off x="3962520" y="1752480"/>
                <a:ext cx="0" cy="533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84" name=""/>
          <p:cNvGrpSpPr/>
          <p:nvPr/>
        </p:nvGrpSpPr>
        <p:grpSpPr>
          <a:xfrm>
            <a:off x="4497120" y="4343400"/>
            <a:ext cx="4184280" cy="1829520"/>
            <a:chOff x="4497120" y="4343400"/>
            <a:chExt cx="4184280" cy="1829520"/>
          </a:xfrm>
        </p:grpSpPr>
        <p:sp>
          <p:nvSpPr>
            <p:cNvPr id="285" name=""/>
            <p:cNvSpPr/>
            <p:nvPr/>
          </p:nvSpPr>
          <p:spPr>
            <a:xfrm>
              <a:off x="4497120" y="4343400"/>
              <a:ext cx="340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Arial"/>
                </a:rPr>
                <a:t>c) variante: barramento dupl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6" name=""/>
            <p:cNvGrpSpPr/>
            <p:nvPr/>
          </p:nvGrpSpPr>
          <p:grpSpPr>
            <a:xfrm>
              <a:off x="5181480" y="4876920"/>
              <a:ext cx="2819520" cy="841320"/>
              <a:chOff x="5181480" y="4876920"/>
              <a:chExt cx="2819520" cy="841320"/>
            </a:xfrm>
          </p:grpSpPr>
          <p:sp>
            <p:nvSpPr>
              <p:cNvPr id="287" name=""/>
              <p:cNvSpPr/>
              <p:nvPr/>
            </p:nvSpPr>
            <p:spPr>
              <a:xfrm>
                <a:off x="5181480" y="5718240"/>
                <a:ext cx="28195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5270400" y="5181480"/>
                <a:ext cx="538200" cy="2239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5941800" y="5181480"/>
                <a:ext cx="538200" cy="2239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6657840" y="5181480"/>
                <a:ext cx="538200" cy="2239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7373880" y="5181480"/>
                <a:ext cx="538200" cy="2239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5449680" y="5405400"/>
                <a:ext cx="0" cy="312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6076800" y="5405400"/>
                <a:ext cx="0" cy="312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6792840" y="5405400"/>
                <a:ext cx="0" cy="312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7464240" y="5405400"/>
                <a:ext cx="0" cy="312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V="1">
                <a:off x="7732440" y="5405040"/>
                <a:ext cx="0" cy="312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V="1">
                <a:off x="7061040" y="5405040"/>
                <a:ext cx="0" cy="312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6345000" y="5405040"/>
                <a:ext cx="0" cy="312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V="1">
                <a:off x="5673600" y="5405040"/>
                <a:ext cx="0" cy="312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00" name=""/>
              <p:cNvGrpSpPr/>
              <p:nvPr/>
            </p:nvGrpSpPr>
            <p:grpSpPr>
              <a:xfrm>
                <a:off x="5181480" y="4876920"/>
                <a:ext cx="2819520" cy="312480"/>
                <a:chOff x="5181480" y="4876920"/>
                <a:chExt cx="2819520" cy="312480"/>
              </a:xfrm>
            </p:grpSpPr>
            <p:sp>
              <p:nvSpPr>
                <p:cNvPr id="301" name=""/>
                <p:cNvSpPr/>
                <p:nvPr/>
              </p:nvSpPr>
              <p:spPr>
                <a:xfrm>
                  <a:off x="5181480" y="4876920"/>
                  <a:ext cx="28195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5450040" y="4876920"/>
                  <a:ext cx="0" cy="3124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6076800" y="4876920"/>
                  <a:ext cx="0" cy="3124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6792840" y="4876920"/>
                  <a:ext cx="0" cy="3124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7464600" y="4876920"/>
                  <a:ext cx="0" cy="3124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 flipV="1">
                  <a:off x="7732800" y="4876920"/>
                  <a:ext cx="0" cy="3124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 flipV="1">
                  <a:off x="7061040" y="4876920"/>
                  <a:ext cx="0" cy="3124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 flipV="1">
                  <a:off x="6345360" y="4876920"/>
                  <a:ext cx="0" cy="3124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 flipV="1">
                  <a:off x="5673600" y="4876920"/>
                  <a:ext cx="0" cy="3124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10" name=""/>
            <p:cNvSpPr/>
            <p:nvPr/>
          </p:nvSpPr>
          <p:spPr>
            <a:xfrm>
              <a:off x="4634280" y="5804640"/>
              <a:ext cx="404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uas transações simultâneas por cicl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e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1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Implementação de barramento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358920" y="1273680"/>
            <a:ext cx="8120520" cy="33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omunicação unidade x barramento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leitura (bar </a:t>
            </a:r>
            <a:r>
              <a:rPr b="1" lang="pt-BR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unidad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escrita (unidade </a:t>
            </a:r>
            <a:r>
              <a:rPr b="1" lang="pt-BR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bar)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Seleção de qual unidade escreve no barramento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Função multiplexado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Alternativas de implementação de escrita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AND-OR (convencional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Wired AND ou O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3-Stat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Mais popular: 3-State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3" name=""/>
          <p:cNvGrpSpPr/>
          <p:nvPr/>
        </p:nvGrpSpPr>
        <p:grpSpPr>
          <a:xfrm>
            <a:off x="1752480" y="4876200"/>
            <a:ext cx="1943280" cy="914760"/>
            <a:chOff x="1752480" y="4876200"/>
            <a:chExt cx="1943280" cy="914760"/>
          </a:xfrm>
        </p:grpSpPr>
        <p:grpSp>
          <p:nvGrpSpPr>
            <p:cNvPr id="314" name=""/>
            <p:cNvGrpSpPr/>
            <p:nvPr/>
          </p:nvGrpSpPr>
          <p:grpSpPr>
            <a:xfrm>
              <a:off x="2286000" y="4952880"/>
              <a:ext cx="914400" cy="838080"/>
              <a:chOff x="2286000" y="4952880"/>
              <a:chExt cx="914400" cy="838080"/>
            </a:xfrm>
          </p:grpSpPr>
          <p:sp>
            <p:nvSpPr>
              <p:cNvPr id="315" name=""/>
              <p:cNvSpPr/>
              <p:nvPr/>
            </p:nvSpPr>
            <p:spPr>
              <a:xfrm flipV="1">
                <a:off x="2743200" y="4952880"/>
                <a:ext cx="0" cy="398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flipH="1">
                <a:off x="2286000" y="5446800"/>
                <a:ext cx="914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flipV="1" rot="16200000">
                <a:off x="2371320" y="5152320"/>
                <a:ext cx="705600" cy="571320"/>
              </a:xfrm>
              <a:custGeom>
                <a:avLst/>
                <a:gdLst/>
                <a:ahLst/>
                <a:rect l="l" t="t" r="r" b="b"/>
                <a:pathLst>
                  <a:path w="848" h="720">
                    <a:moveTo>
                      <a:pt x="416" y="0"/>
                    </a:moveTo>
                    <a:lnTo>
                      <a:pt x="0" y="720"/>
                    </a:lnTo>
                    <a:lnTo>
                      <a:pt x="848" y="720"/>
                    </a:lnTo>
                    <a:lnTo>
                      <a:pt x="416" y="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8" name=""/>
            <p:cNvSpPr/>
            <p:nvPr/>
          </p:nvSpPr>
          <p:spPr>
            <a:xfrm>
              <a:off x="2821320" y="4876200"/>
              <a:ext cx="49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752480" y="5271480"/>
              <a:ext cx="419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276720" y="5257080"/>
              <a:ext cx="41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1" name=""/>
          <p:cNvSpPr/>
          <p:nvPr/>
        </p:nvSpPr>
        <p:spPr>
          <a:xfrm>
            <a:off x="4014000" y="4875840"/>
            <a:ext cx="387036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e EN = 1 </a:t>
            </a:r>
            <a:r>
              <a:rPr b="0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Y = 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e EN = 0 </a:t>
            </a:r>
            <a:r>
              <a:rPr b="0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Y = Z </a:t>
            </a:r>
            <a:br>
              <a:rPr sz="1800"/>
            </a:b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(Z = alta impedância </a:t>
            </a:r>
            <a:r>
              <a:rPr b="0" lang="pt-BR" sz="1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desligado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e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Implementação de barramentos (2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04920" y="4114800"/>
            <a:ext cx="8381880" cy="20574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659040" y="4190400"/>
            <a:ext cx="94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itu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251400" y="5257080"/>
            <a:ext cx="15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is modul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1219320" y="4799520"/>
            <a:ext cx="4114800" cy="839160"/>
            <a:chOff x="1219320" y="4799520"/>
            <a:chExt cx="4114800" cy="839160"/>
          </a:xfrm>
        </p:grpSpPr>
        <p:grpSp>
          <p:nvGrpSpPr>
            <p:cNvPr id="327" name=""/>
            <p:cNvGrpSpPr/>
            <p:nvPr/>
          </p:nvGrpSpPr>
          <p:grpSpPr>
            <a:xfrm>
              <a:off x="1604160" y="4799520"/>
              <a:ext cx="1520280" cy="839160"/>
              <a:chOff x="1604160" y="4799520"/>
              <a:chExt cx="1520280" cy="839160"/>
            </a:xfrm>
          </p:grpSpPr>
          <p:sp>
            <p:nvSpPr>
              <p:cNvPr id="328" name=""/>
              <p:cNvSpPr/>
              <p:nvPr/>
            </p:nvSpPr>
            <p:spPr>
              <a:xfrm>
                <a:off x="2438640" y="5029200"/>
                <a:ext cx="685800" cy="3808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 rot="16200000">
                <a:off x="2000520" y="5200560"/>
                <a:ext cx="304560" cy="571680"/>
              </a:xfrm>
              <a:custGeom>
                <a:avLst/>
                <a:gdLst/>
                <a:ahLst/>
                <a:rect l="l" t="t" r="r" b="b"/>
                <a:pathLst>
                  <a:path w="480" h="480">
                    <a:moveTo>
                      <a:pt x="480" y="480"/>
                    </a:moveTo>
                    <a:lnTo>
                      <a:pt x="480" y="0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828800" y="5105520"/>
                <a:ext cx="609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604160" y="4799520"/>
                <a:ext cx="676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Bar2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1219320" y="5638680"/>
              <a:ext cx="4114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3" name=""/>
            <p:cNvGrpSpPr/>
            <p:nvPr/>
          </p:nvGrpSpPr>
          <p:grpSpPr>
            <a:xfrm>
              <a:off x="3429720" y="4799520"/>
              <a:ext cx="1520280" cy="839160"/>
              <a:chOff x="3429720" y="4799520"/>
              <a:chExt cx="1520280" cy="839160"/>
            </a:xfrm>
          </p:grpSpPr>
          <p:sp>
            <p:nvSpPr>
              <p:cNvPr id="334" name=""/>
              <p:cNvSpPr/>
              <p:nvPr/>
            </p:nvSpPr>
            <p:spPr>
              <a:xfrm>
                <a:off x="4264200" y="5029200"/>
                <a:ext cx="685800" cy="3808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 rot="16200000">
                <a:off x="3826080" y="5200560"/>
                <a:ext cx="304560" cy="571680"/>
              </a:xfrm>
              <a:custGeom>
                <a:avLst/>
                <a:gdLst/>
                <a:ahLst/>
                <a:rect l="l" t="t" r="r" b="b"/>
                <a:pathLst>
                  <a:path w="480" h="480">
                    <a:moveTo>
                      <a:pt x="480" y="480"/>
                    </a:moveTo>
                    <a:lnTo>
                      <a:pt x="480" y="0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3654360" y="5105520"/>
                <a:ext cx="609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3429720" y="4799520"/>
                <a:ext cx="676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Bar2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38" name=""/>
          <p:cNvGrpSpPr/>
          <p:nvPr/>
        </p:nvGrpSpPr>
        <p:grpSpPr>
          <a:xfrm>
            <a:off x="304920" y="990720"/>
            <a:ext cx="8381880" cy="2971800"/>
            <a:chOff x="304920" y="990720"/>
            <a:chExt cx="8381880" cy="2971800"/>
          </a:xfrm>
        </p:grpSpPr>
        <p:grpSp>
          <p:nvGrpSpPr>
            <p:cNvPr id="339" name=""/>
            <p:cNvGrpSpPr/>
            <p:nvPr/>
          </p:nvGrpSpPr>
          <p:grpSpPr>
            <a:xfrm>
              <a:off x="304920" y="990720"/>
              <a:ext cx="8381880" cy="2971800"/>
              <a:chOff x="304920" y="990720"/>
              <a:chExt cx="8381880" cy="2971800"/>
            </a:xfrm>
          </p:grpSpPr>
          <p:sp>
            <p:nvSpPr>
              <p:cNvPr id="340" name=""/>
              <p:cNvSpPr/>
              <p:nvPr/>
            </p:nvSpPr>
            <p:spPr>
              <a:xfrm>
                <a:off x="304920" y="990720"/>
                <a:ext cx="8381880" cy="2971800"/>
              </a:xfrm>
              <a:prstGeom prst="roundRect">
                <a:avLst>
                  <a:gd name="adj" fmla="val 16667"/>
                </a:avLst>
              </a:prstGeom>
              <a:solidFill>
                <a:srgbClr val="cc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04920" y="990720"/>
                <a:ext cx="8381880" cy="2971800"/>
              </a:xfrm>
              <a:prstGeom prst="roundRect">
                <a:avLst>
                  <a:gd name="adj" fmla="val 16667"/>
                </a:avLst>
              </a:prstGeom>
              <a:solidFill>
                <a:srgbClr val="cc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3660120" y="1066320"/>
                <a:ext cx="941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Escrit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43" name=""/>
              <p:cNvGrpSpPr/>
              <p:nvPr/>
            </p:nvGrpSpPr>
            <p:grpSpPr>
              <a:xfrm>
                <a:off x="838080" y="1219320"/>
                <a:ext cx="1981440" cy="2133720"/>
                <a:chOff x="838080" y="1219320"/>
                <a:chExt cx="1981440" cy="2133720"/>
              </a:xfrm>
            </p:grpSpPr>
            <p:sp>
              <p:nvSpPr>
                <p:cNvPr id="344" name=""/>
                <p:cNvSpPr/>
                <p:nvPr/>
              </p:nvSpPr>
              <p:spPr>
                <a:xfrm>
                  <a:off x="2438280" y="2286000"/>
                  <a:ext cx="381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>
                  <a:off x="1219320" y="2590920"/>
                  <a:ext cx="996840" cy="685800"/>
                </a:xfrm>
                <a:custGeom>
                  <a:avLst/>
                  <a:gdLst/>
                  <a:ahLst/>
                  <a:rect l="l" t="t" r="r" b="b"/>
                  <a:pathLst>
                    <a:path w="1060" h="424">
                      <a:moveTo>
                        <a:pt x="0" y="424"/>
                      </a:moveTo>
                      <a:lnTo>
                        <a:pt x="724" y="424"/>
                      </a:lnTo>
                      <a:lnTo>
                        <a:pt x="724" y="0"/>
                      </a:lnTo>
                      <a:lnTo>
                        <a:pt x="1060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 flipV="1">
                  <a:off x="1219320" y="1294920"/>
                  <a:ext cx="996840" cy="685800"/>
                </a:xfrm>
                <a:custGeom>
                  <a:avLst/>
                  <a:gdLst/>
                  <a:ahLst/>
                  <a:rect l="l" t="t" r="r" b="b"/>
                  <a:pathLst>
                    <a:path w="1060" h="424">
                      <a:moveTo>
                        <a:pt x="0" y="424"/>
                      </a:moveTo>
                      <a:lnTo>
                        <a:pt x="724" y="424"/>
                      </a:lnTo>
                      <a:lnTo>
                        <a:pt x="724" y="0"/>
                      </a:lnTo>
                      <a:lnTo>
                        <a:pt x="1060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>
                  <a:off x="838080" y="1219320"/>
                  <a:ext cx="533520" cy="22860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>
                  <a:off x="1071720" y="1812960"/>
                  <a:ext cx="1144440" cy="397080"/>
                </a:xfrm>
                <a:custGeom>
                  <a:avLst/>
                  <a:gdLst/>
                  <a:ahLst/>
                  <a:rect l="l" t="t" r="r" b="b"/>
                  <a:pathLst>
                    <a:path w="721" h="250">
                      <a:moveTo>
                        <a:pt x="0" y="0"/>
                      </a:moveTo>
                      <a:lnTo>
                        <a:pt x="395" y="0"/>
                      </a:lnTo>
                      <a:lnTo>
                        <a:pt x="395" y="248"/>
                      </a:lnTo>
                      <a:lnTo>
                        <a:pt x="721" y="25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 flipV="1">
                  <a:off x="1066680" y="2422800"/>
                  <a:ext cx="1144800" cy="396720"/>
                </a:xfrm>
                <a:custGeom>
                  <a:avLst/>
                  <a:gdLst/>
                  <a:ahLst/>
                  <a:rect l="l" t="t" r="r" b="b"/>
                  <a:pathLst>
                    <a:path w="721" h="250">
                      <a:moveTo>
                        <a:pt x="0" y="0"/>
                      </a:moveTo>
                      <a:lnTo>
                        <a:pt x="395" y="0"/>
                      </a:lnTo>
                      <a:lnTo>
                        <a:pt x="395" y="248"/>
                      </a:lnTo>
                      <a:lnTo>
                        <a:pt x="721" y="25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838080" y="1676520"/>
                  <a:ext cx="533520" cy="22860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>
                  <a:off x="838080" y="2667240"/>
                  <a:ext cx="533520" cy="22860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838080" y="3124440"/>
                  <a:ext cx="533520" cy="22860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 rot="16200000">
                  <a:off x="1600200" y="2133720"/>
                  <a:ext cx="1447920" cy="380880"/>
                </a:xfrm>
                <a:custGeom>
                  <a:avLst/>
                  <a:gdLst>
                    <a:gd name="textAreaLeft" fmla="*/ 318240 w 1447920"/>
                    <a:gd name="textAreaRight" fmla="*/ 1129680 w 1447920"/>
                    <a:gd name="textAreaTop" fmla="*/ 83520 h 380880"/>
                    <a:gd name="textAreaBottom" fmla="*/ 297360 h 3808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0" y="21600"/>
                      </a:lnTo>
                      <a:lnTo>
                        <a:pt x="5400" y="216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54" name=""/>
              <p:cNvSpPr/>
              <p:nvPr/>
            </p:nvSpPr>
            <p:spPr>
              <a:xfrm>
                <a:off x="538920" y="3504600"/>
                <a:ext cx="3564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UX convencional (não modular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4800600" y="2590920"/>
                <a:ext cx="3124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56" name=""/>
              <p:cNvGrpSpPr/>
              <p:nvPr/>
            </p:nvGrpSpPr>
            <p:grpSpPr>
              <a:xfrm>
                <a:off x="4876920" y="1676520"/>
                <a:ext cx="894960" cy="948960"/>
                <a:chOff x="4876920" y="1676520"/>
                <a:chExt cx="894960" cy="948960"/>
              </a:xfrm>
            </p:grpSpPr>
            <p:sp>
              <p:nvSpPr>
                <p:cNvPr id="357" name=""/>
                <p:cNvSpPr/>
                <p:nvPr/>
              </p:nvSpPr>
              <p:spPr>
                <a:xfrm>
                  <a:off x="5197320" y="2324160"/>
                  <a:ext cx="2224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 flipV="1">
                  <a:off x="5145120" y="1828440"/>
                  <a:ext cx="0" cy="762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 flipV="1">
                  <a:off x="4952880" y="2146320"/>
                  <a:ext cx="392400" cy="333360"/>
                </a:xfrm>
                <a:custGeom>
                  <a:avLst/>
                  <a:gdLst/>
                  <a:ahLst/>
                  <a:rect l="l" t="t" r="r" b="b"/>
                  <a:pathLst>
                    <a:path w="848" h="720">
                      <a:moveTo>
                        <a:pt x="416" y="0"/>
                      </a:moveTo>
                      <a:lnTo>
                        <a:pt x="0" y="720"/>
                      </a:lnTo>
                      <a:lnTo>
                        <a:pt x="848" y="720"/>
                      </a:lnTo>
                      <a:lnTo>
                        <a:pt x="416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>
                  <a:off x="5245200" y="2318400"/>
                  <a:ext cx="526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EN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4876920" y="1676520"/>
                  <a:ext cx="533160" cy="22860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2" name=""/>
              <p:cNvGrpSpPr/>
              <p:nvPr/>
            </p:nvGrpSpPr>
            <p:grpSpPr>
              <a:xfrm>
                <a:off x="4876920" y="1676520"/>
                <a:ext cx="894960" cy="948960"/>
                <a:chOff x="4876920" y="1676520"/>
                <a:chExt cx="894960" cy="948960"/>
              </a:xfrm>
            </p:grpSpPr>
            <p:sp>
              <p:nvSpPr>
                <p:cNvPr id="363" name=""/>
                <p:cNvSpPr/>
                <p:nvPr/>
              </p:nvSpPr>
              <p:spPr>
                <a:xfrm>
                  <a:off x="5197320" y="2324160"/>
                  <a:ext cx="2224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 flipV="1">
                  <a:off x="5145120" y="1828440"/>
                  <a:ext cx="0" cy="762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 flipV="1">
                  <a:off x="4952880" y="2146320"/>
                  <a:ext cx="392400" cy="333360"/>
                </a:xfrm>
                <a:custGeom>
                  <a:avLst/>
                  <a:gdLst/>
                  <a:ahLst/>
                  <a:rect l="l" t="t" r="r" b="b"/>
                  <a:pathLst>
                    <a:path w="848" h="720">
                      <a:moveTo>
                        <a:pt x="416" y="0"/>
                      </a:moveTo>
                      <a:lnTo>
                        <a:pt x="0" y="720"/>
                      </a:lnTo>
                      <a:lnTo>
                        <a:pt x="848" y="720"/>
                      </a:lnTo>
                      <a:lnTo>
                        <a:pt x="416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>
                  <a:off x="5245200" y="2318400"/>
                  <a:ext cx="526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EN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>
                  <a:off x="4876920" y="1676520"/>
                  <a:ext cx="533160" cy="22860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8" name=""/>
              <p:cNvGrpSpPr/>
              <p:nvPr/>
            </p:nvGrpSpPr>
            <p:grpSpPr>
              <a:xfrm>
                <a:off x="5562720" y="1676520"/>
                <a:ext cx="894960" cy="948960"/>
                <a:chOff x="5562720" y="1676520"/>
                <a:chExt cx="894960" cy="948960"/>
              </a:xfrm>
            </p:grpSpPr>
            <p:sp>
              <p:nvSpPr>
                <p:cNvPr id="369" name=""/>
                <p:cNvSpPr/>
                <p:nvPr/>
              </p:nvSpPr>
              <p:spPr>
                <a:xfrm>
                  <a:off x="5883120" y="2324160"/>
                  <a:ext cx="2224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 flipV="1">
                  <a:off x="5830920" y="1828440"/>
                  <a:ext cx="0" cy="762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 flipV="1">
                  <a:off x="5638680" y="2146320"/>
                  <a:ext cx="392400" cy="333360"/>
                </a:xfrm>
                <a:custGeom>
                  <a:avLst/>
                  <a:gdLst/>
                  <a:ahLst/>
                  <a:rect l="l" t="t" r="r" b="b"/>
                  <a:pathLst>
                    <a:path w="848" h="720">
                      <a:moveTo>
                        <a:pt x="416" y="0"/>
                      </a:moveTo>
                      <a:lnTo>
                        <a:pt x="0" y="720"/>
                      </a:lnTo>
                      <a:lnTo>
                        <a:pt x="848" y="720"/>
                      </a:lnTo>
                      <a:lnTo>
                        <a:pt x="416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>
                  <a:off x="5931000" y="2318400"/>
                  <a:ext cx="526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EN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>
                  <a:off x="5562720" y="1676520"/>
                  <a:ext cx="533160" cy="22860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4" name=""/>
              <p:cNvGrpSpPr/>
              <p:nvPr/>
            </p:nvGrpSpPr>
            <p:grpSpPr>
              <a:xfrm>
                <a:off x="6400800" y="1676520"/>
                <a:ext cx="894960" cy="948960"/>
                <a:chOff x="6400800" y="1676520"/>
                <a:chExt cx="894960" cy="948960"/>
              </a:xfrm>
            </p:grpSpPr>
            <p:sp>
              <p:nvSpPr>
                <p:cNvPr id="375" name=""/>
                <p:cNvSpPr/>
                <p:nvPr/>
              </p:nvSpPr>
              <p:spPr>
                <a:xfrm>
                  <a:off x="6721200" y="2324160"/>
                  <a:ext cx="2224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 flipV="1">
                  <a:off x="6669000" y="1828440"/>
                  <a:ext cx="0" cy="762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 flipV="1">
                  <a:off x="6476760" y="2146320"/>
                  <a:ext cx="392400" cy="333360"/>
                </a:xfrm>
                <a:custGeom>
                  <a:avLst/>
                  <a:gdLst/>
                  <a:ahLst/>
                  <a:rect l="l" t="t" r="r" b="b"/>
                  <a:pathLst>
                    <a:path w="848" h="720">
                      <a:moveTo>
                        <a:pt x="416" y="0"/>
                      </a:moveTo>
                      <a:lnTo>
                        <a:pt x="0" y="720"/>
                      </a:lnTo>
                      <a:lnTo>
                        <a:pt x="848" y="720"/>
                      </a:lnTo>
                      <a:lnTo>
                        <a:pt x="416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>
                  <a:off x="6769080" y="2318400"/>
                  <a:ext cx="526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EN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>
                  <a:off x="6400800" y="1676520"/>
                  <a:ext cx="533160" cy="22860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0" name=""/>
              <p:cNvGrpSpPr/>
              <p:nvPr/>
            </p:nvGrpSpPr>
            <p:grpSpPr>
              <a:xfrm>
                <a:off x="7238880" y="1676520"/>
                <a:ext cx="894960" cy="948960"/>
                <a:chOff x="7238880" y="1676520"/>
                <a:chExt cx="894960" cy="948960"/>
              </a:xfrm>
            </p:grpSpPr>
            <p:sp>
              <p:nvSpPr>
                <p:cNvPr id="381" name=""/>
                <p:cNvSpPr/>
                <p:nvPr/>
              </p:nvSpPr>
              <p:spPr>
                <a:xfrm>
                  <a:off x="7559280" y="2324160"/>
                  <a:ext cx="2224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 flipV="1">
                  <a:off x="7507080" y="1828440"/>
                  <a:ext cx="0" cy="762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 flipV="1">
                  <a:off x="7314840" y="2146320"/>
                  <a:ext cx="392400" cy="333360"/>
                </a:xfrm>
                <a:custGeom>
                  <a:avLst/>
                  <a:gdLst/>
                  <a:ahLst/>
                  <a:rect l="l" t="t" r="r" b="b"/>
                  <a:pathLst>
                    <a:path w="848" h="720">
                      <a:moveTo>
                        <a:pt x="416" y="0"/>
                      </a:moveTo>
                      <a:lnTo>
                        <a:pt x="0" y="720"/>
                      </a:lnTo>
                      <a:lnTo>
                        <a:pt x="848" y="720"/>
                      </a:lnTo>
                      <a:lnTo>
                        <a:pt x="416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>
                  <a:off x="7607160" y="2318400"/>
                  <a:ext cx="526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EN4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>
                  <a:off x="7238880" y="1676520"/>
                  <a:ext cx="533160" cy="22860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86" name=""/>
              <p:cNvSpPr/>
              <p:nvPr/>
            </p:nvSpPr>
            <p:spPr>
              <a:xfrm>
                <a:off x="4898880" y="3352320"/>
                <a:ext cx="3073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Apenas um EN ativo por vez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7" name=""/>
            <p:cNvSpPr/>
            <p:nvPr/>
          </p:nvSpPr>
          <p:spPr>
            <a:xfrm>
              <a:off x="2819520" y="1219320"/>
              <a:ext cx="0" cy="2209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e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Implementação de barramento modular (3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9" name=""/>
          <p:cNvGrpSpPr/>
          <p:nvPr/>
        </p:nvGrpSpPr>
        <p:grpSpPr>
          <a:xfrm>
            <a:off x="1447920" y="1744920"/>
            <a:ext cx="6095880" cy="1150560"/>
            <a:chOff x="1447920" y="1744920"/>
            <a:chExt cx="6095880" cy="1150560"/>
          </a:xfrm>
        </p:grpSpPr>
        <p:grpSp>
          <p:nvGrpSpPr>
            <p:cNvPr id="390" name=""/>
            <p:cNvGrpSpPr/>
            <p:nvPr/>
          </p:nvGrpSpPr>
          <p:grpSpPr>
            <a:xfrm>
              <a:off x="5791320" y="2209680"/>
              <a:ext cx="1459440" cy="685440"/>
              <a:chOff x="5791320" y="2209680"/>
              <a:chExt cx="1459440" cy="685440"/>
            </a:xfrm>
          </p:grpSpPr>
          <p:sp>
            <p:nvSpPr>
              <p:cNvPr id="391" name=""/>
              <p:cNvSpPr/>
              <p:nvPr/>
            </p:nvSpPr>
            <p:spPr>
              <a:xfrm>
                <a:off x="5791320" y="2209680"/>
                <a:ext cx="762120" cy="685440"/>
              </a:xfrm>
              <a:custGeom>
                <a:avLst/>
                <a:gdLst/>
                <a:ahLst/>
                <a:rect l="l" t="t" r="r" b="b"/>
                <a:pathLst>
                  <a:path w="480" h="480">
                    <a:moveTo>
                      <a:pt x="480" y="480"/>
                    </a:moveTo>
                    <a:lnTo>
                      <a:pt x="480" y="0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6600960" y="2552040"/>
                <a:ext cx="222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 flipV="1">
                <a:off x="6356520" y="2373480"/>
                <a:ext cx="392040" cy="333000"/>
              </a:xfrm>
              <a:custGeom>
                <a:avLst/>
                <a:gdLst/>
                <a:ahLst/>
                <a:rect l="l" t="t" r="r" b="b"/>
                <a:pathLst>
                  <a:path w="848" h="720">
                    <a:moveTo>
                      <a:pt x="416" y="0"/>
                    </a:moveTo>
                    <a:lnTo>
                      <a:pt x="0" y="720"/>
                    </a:lnTo>
                    <a:lnTo>
                      <a:pt x="848" y="720"/>
                    </a:lnTo>
                    <a:lnTo>
                      <a:pt x="416" y="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6574680" y="2546280"/>
                <a:ext cx="676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B2Ba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5" name=""/>
            <p:cNvGrpSpPr/>
            <p:nvPr/>
          </p:nvGrpSpPr>
          <p:grpSpPr>
            <a:xfrm>
              <a:off x="3048120" y="2209680"/>
              <a:ext cx="1459440" cy="685440"/>
              <a:chOff x="3048120" y="2209680"/>
              <a:chExt cx="1459440" cy="685440"/>
            </a:xfrm>
          </p:grpSpPr>
          <p:sp>
            <p:nvSpPr>
              <p:cNvPr id="396" name=""/>
              <p:cNvSpPr/>
              <p:nvPr/>
            </p:nvSpPr>
            <p:spPr>
              <a:xfrm>
                <a:off x="3048120" y="2209680"/>
                <a:ext cx="762120" cy="685440"/>
              </a:xfrm>
              <a:custGeom>
                <a:avLst/>
                <a:gdLst/>
                <a:ahLst/>
                <a:rect l="l" t="t" r="r" b="b"/>
                <a:pathLst>
                  <a:path w="480" h="480">
                    <a:moveTo>
                      <a:pt x="480" y="480"/>
                    </a:moveTo>
                    <a:lnTo>
                      <a:pt x="480" y="0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3857760" y="2552040"/>
                <a:ext cx="222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 flipV="1">
                <a:off x="3613320" y="2373480"/>
                <a:ext cx="392040" cy="333000"/>
              </a:xfrm>
              <a:custGeom>
                <a:avLst/>
                <a:gdLst/>
                <a:ahLst/>
                <a:rect l="l" t="t" r="r" b="b"/>
                <a:pathLst>
                  <a:path w="848" h="720">
                    <a:moveTo>
                      <a:pt x="416" y="0"/>
                    </a:moveTo>
                    <a:lnTo>
                      <a:pt x="0" y="720"/>
                    </a:lnTo>
                    <a:lnTo>
                      <a:pt x="848" y="720"/>
                    </a:lnTo>
                    <a:lnTo>
                      <a:pt x="416" y="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3831480" y="2546280"/>
                <a:ext cx="676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A2Ba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0" name=""/>
            <p:cNvGrpSpPr/>
            <p:nvPr/>
          </p:nvGrpSpPr>
          <p:grpSpPr>
            <a:xfrm>
              <a:off x="1832760" y="1744920"/>
              <a:ext cx="1519560" cy="1149840"/>
              <a:chOff x="1832760" y="1744920"/>
              <a:chExt cx="1519560" cy="1149840"/>
            </a:xfrm>
          </p:grpSpPr>
          <p:sp>
            <p:nvSpPr>
              <p:cNvPr id="401" name=""/>
              <p:cNvSpPr/>
              <p:nvPr/>
            </p:nvSpPr>
            <p:spPr>
              <a:xfrm>
                <a:off x="2666880" y="2009520"/>
                <a:ext cx="685440" cy="5533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 rot="16200000">
                <a:off x="2159640" y="2387880"/>
                <a:ext cx="442440" cy="571320"/>
              </a:xfrm>
              <a:custGeom>
                <a:avLst/>
                <a:gdLst/>
                <a:ahLst/>
                <a:rect l="l" t="t" r="r" b="b"/>
                <a:pathLst>
                  <a:path w="480" h="480">
                    <a:moveTo>
                      <a:pt x="480" y="480"/>
                    </a:moveTo>
                    <a:lnTo>
                      <a:pt x="480" y="0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2057040" y="2120400"/>
                <a:ext cx="609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1832760" y="1744920"/>
                <a:ext cx="676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Bar2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5" name=""/>
            <p:cNvSpPr/>
            <p:nvPr/>
          </p:nvSpPr>
          <p:spPr>
            <a:xfrm>
              <a:off x="1447920" y="2895480"/>
              <a:ext cx="6095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6" name=""/>
            <p:cNvGrpSpPr/>
            <p:nvPr/>
          </p:nvGrpSpPr>
          <p:grpSpPr>
            <a:xfrm>
              <a:off x="4651920" y="1768680"/>
              <a:ext cx="1520280" cy="1125720"/>
              <a:chOff x="4651920" y="1768680"/>
              <a:chExt cx="1520280" cy="1125720"/>
            </a:xfrm>
          </p:grpSpPr>
          <p:sp>
            <p:nvSpPr>
              <p:cNvPr id="407" name=""/>
              <p:cNvSpPr/>
              <p:nvPr/>
            </p:nvSpPr>
            <p:spPr>
              <a:xfrm>
                <a:off x="5486400" y="2031120"/>
                <a:ext cx="685800" cy="5396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 rot="16200000">
                <a:off x="4984920" y="2392920"/>
                <a:ext cx="431280" cy="571680"/>
              </a:xfrm>
              <a:custGeom>
                <a:avLst/>
                <a:gdLst/>
                <a:ahLst/>
                <a:rect l="l" t="t" r="r" b="b"/>
                <a:pathLst>
                  <a:path w="480" h="480">
                    <a:moveTo>
                      <a:pt x="480" y="480"/>
                    </a:moveTo>
                    <a:lnTo>
                      <a:pt x="480" y="0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4876560" y="2139120"/>
                <a:ext cx="609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4651920" y="1768680"/>
                <a:ext cx="676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Bar2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11" name=""/>
          <p:cNvSpPr/>
          <p:nvPr/>
        </p:nvSpPr>
        <p:spPr>
          <a:xfrm>
            <a:off x="1221120" y="3309840"/>
            <a:ext cx="5282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Leitura e escrita modula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xpansibilidade e desacoplam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Regularidad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ssencial para VLSI, geometria e disposição</a:t>
            </a:r>
            <a:br>
              <a:rPr sz="1800"/>
            </a:b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físicas são importan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e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Circuitos seqüênciai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Latches &amp; FlipFlop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registrador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ontador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máquina de estado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e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/>
          <p:nvPr/>
        </p:nvSpPr>
        <p:spPr>
          <a:xfrm>
            <a:off x="304920" y="3581280"/>
            <a:ext cx="8305560" cy="20574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80880" y="1066680"/>
            <a:ext cx="8305920" cy="205740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6" name="" descr=""/>
          <p:cNvPicPr/>
          <p:nvPr/>
        </p:nvPicPr>
        <p:blipFill>
          <a:blip r:embed="rId1"/>
          <a:stretch/>
        </p:blipFill>
        <p:spPr>
          <a:xfrm>
            <a:off x="3429000" y="1219320"/>
            <a:ext cx="2438280" cy="1828800"/>
          </a:xfrm>
          <a:prstGeom prst="rect">
            <a:avLst/>
          </a:prstGeom>
          <a:ln w="0">
            <a:noFill/>
          </a:ln>
        </p:spPr>
      </p:pic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838188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Elementos de armazenamento: Latch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87600" y="1523160"/>
            <a:ext cx="124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Latch S-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049200" y="1294560"/>
            <a:ext cx="46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~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049560" y="2513880"/>
            <a:ext cx="47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~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05280" y="4037760"/>
            <a:ext cx="156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Latch Tipo 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106600" y="2361600"/>
            <a:ext cx="49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~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5182920" y="152316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4" name="" descr=""/>
          <p:cNvPicPr/>
          <p:nvPr/>
        </p:nvPicPr>
        <p:blipFill>
          <a:blip r:embed="rId2"/>
          <a:stretch/>
        </p:blipFill>
        <p:spPr>
          <a:xfrm>
            <a:off x="4800600" y="3886200"/>
            <a:ext cx="3429000" cy="2571840"/>
          </a:xfrm>
          <a:prstGeom prst="rect">
            <a:avLst/>
          </a:prstGeom>
          <a:ln w="0">
            <a:noFill/>
          </a:ln>
        </p:spPr>
      </p:pic>
      <p:sp>
        <p:nvSpPr>
          <p:cNvPr id="425" name=""/>
          <p:cNvSpPr/>
          <p:nvPr/>
        </p:nvSpPr>
        <p:spPr>
          <a:xfrm>
            <a:off x="8002440" y="426636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503960" y="38854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516920" y="4571280"/>
            <a:ext cx="4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8" name=""/>
          <p:cNvGrpSpPr/>
          <p:nvPr/>
        </p:nvGrpSpPr>
        <p:grpSpPr>
          <a:xfrm>
            <a:off x="1982880" y="3656880"/>
            <a:ext cx="1876320" cy="1676880"/>
            <a:chOff x="1982880" y="3656880"/>
            <a:chExt cx="1876320" cy="1676880"/>
          </a:xfrm>
        </p:grpSpPr>
        <p:grpSp>
          <p:nvGrpSpPr>
            <p:cNvPr id="429" name=""/>
            <p:cNvGrpSpPr/>
            <p:nvPr/>
          </p:nvGrpSpPr>
          <p:grpSpPr>
            <a:xfrm>
              <a:off x="1982880" y="3656880"/>
              <a:ext cx="1876320" cy="1676880"/>
              <a:chOff x="1982880" y="3656880"/>
              <a:chExt cx="1876320" cy="1676880"/>
            </a:xfrm>
          </p:grpSpPr>
          <p:grpSp>
            <p:nvGrpSpPr>
              <p:cNvPr id="430" name=""/>
              <p:cNvGrpSpPr/>
              <p:nvPr/>
            </p:nvGrpSpPr>
            <p:grpSpPr>
              <a:xfrm>
                <a:off x="2279520" y="3962160"/>
                <a:ext cx="1295280" cy="1371600"/>
                <a:chOff x="2279520" y="3962160"/>
                <a:chExt cx="1295280" cy="1371600"/>
              </a:xfrm>
            </p:grpSpPr>
            <p:sp>
              <p:nvSpPr>
                <p:cNvPr id="431" name=""/>
                <p:cNvSpPr/>
                <p:nvPr/>
              </p:nvSpPr>
              <p:spPr>
                <a:xfrm>
                  <a:off x="2965320" y="4647960"/>
                  <a:ext cx="6094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2" name=""/>
                <p:cNvSpPr/>
                <p:nvPr/>
              </p:nvSpPr>
              <p:spPr>
                <a:xfrm>
                  <a:off x="2815920" y="396216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3" name=""/>
                <p:cNvSpPr/>
                <p:nvPr/>
              </p:nvSpPr>
              <p:spPr>
                <a:xfrm>
                  <a:off x="2279520" y="4495680"/>
                  <a:ext cx="4572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>
                  <a:off x="2355840" y="4647960"/>
                  <a:ext cx="838080" cy="685800"/>
                </a:xfrm>
                <a:custGeom>
                  <a:avLst/>
                  <a:gdLst/>
                  <a:ahLst/>
                  <a:rect l="l" t="t" r="r" b="b"/>
                  <a:pathLst>
                    <a:path w="528" h="576">
                      <a:moveTo>
                        <a:pt x="240" y="192"/>
                      </a:moveTo>
                      <a:lnTo>
                        <a:pt x="0" y="192"/>
                      </a:lnTo>
                      <a:lnTo>
                        <a:pt x="0" y="576"/>
                      </a:lnTo>
                      <a:lnTo>
                        <a:pt x="528" y="576"/>
                      </a:lnTo>
                      <a:lnTo>
                        <a:pt x="528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 rot="16200000">
                  <a:off x="2355480" y="4495320"/>
                  <a:ext cx="990720" cy="381240"/>
                </a:xfrm>
                <a:custGeom>
                  <a:avLst/>
                  <a:gdLst>
                    <a:gd name="textAreaLeft" fmla="*/ 217800 w 990720"/>
                    <a:gd name="textAreaRight" fmla="*/ 772920 w 990720"/>
                    <a:gd name="textAreaTop" fmla="*/ 83880 h 381240"/>
                    <a:gd name="textAreaBottom" fmla="*/ 297360 h 3812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0" y="21600"/>
                      </a:lnTo>
                      <a:lnTo>
                        <a:pt x="5400" y="216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36" name=""/>
              <p:cNvSpPr/>
              <p:nvPr/>
            </p:nvSpPr>
            <p:spPr>
              <a:xfrm>
                <a:off x="3500280" y="4342680"/>
                <a:ext cx="358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Q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2605680" y="3656880"/>
                <a:ext cx="471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LD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1982880" y="411408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9" name=""/>
            <p:cNvGrpSpPr/>
            <p:nvPr/>
          </p:nvGrpSpPr>
          <p:grpSpPr>
            <a:xfrm>
              <a:off x="1982880" y="3656880"/>
              <a:ext cx="1876320" cy="1676880"/>
              <a:chOff x="1982880" y="3656880"/>
              <a:chExt cx="1876320" cy="1676880"/>
            </a:xfrm>
          </p:grpSpPr>
          <p:grpSp>
            <p:nvGrpSpPr>
              <p:cNvPr id="440" name=""/>
              <p:cNvGrpSpPr/>
              <p:nvPr/>
            </p:nvGrpSpPr>
            <p:grpSpPr>
              <a:xfrm>
                <a:off x="2279520" y="3962160"/>
                <a:ext cx="1295280" cy="1371600"/>
                <a:chOff x="2279520" y="3962160"/>
                <a:chExt cx="1295280" cy="1371600"/>
              </a:xfrm>
            </p:grpSpPr>
            <p:sp>
              <p:nvSpPr>
                <p:cNvPr id="441" name=""/>
                <p:cNvSpPr/>
                <p:nvPr/>
              </p:nvSpPr>
              <p:spPr>
                <a:xfrm>
                  <a:off x="2965320" y="4647960"/>
                  <a:ext cx="6094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2" name=""/>
                <p:cNvSpPr/>
                <p:nvPr/>
              </p:nvSpPr>
              <p:spPr>
                <a:xfrm>
                  <a:off x="2815920" y="396216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3" name=""/>
                <p:cNvSpPr/>
                <p:nvPr/>
              </p:nvSpPr>
              <p:spPr>
                <a:xfrm>
                  <a:off x="2279520" y="4495680"/>
                  <a:ext cx="4572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4" name=""/>
                <p:cNvSpPr/>
                <p:nvPr/>
              </p:nvSpPr>
              <p:spPr>
                <a:xfrm>
                  <a:off x="2355840" y="4647960"/>
                  <a:ext cx="838080" cy="685800"/>
                </a:xfrm>
                <a:custGeom>
                  <a:avLst/>
                  <a:gdLst/>
                  <a:ahLst/>
                  <a:rect l="l" t="t" r="r" b="b"/>
                  <a:pathLst>
                    <a:path w="528" h="576">
                      <a:moveTo>
                        <a:pt x="240" y="192"/>
                      </a:moveTo>
                      <a:lnTo>
                        <a:pt x="0" y="192"/>
                      </a:lnTo>
                      <a:lnTo>
                        <a:pt x="0" y="576"/>
                      </a:lnTo>
                      <a:lnTo>
                        <a:pt x="528" y="576"/>
                      </a:lnTo>
                      <a:lnTo>
                        <a:pt x="528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5" name=""/>
                <p:cNvSpPr/>
                <p:nvPr/>
              </p:nvSpPr>
              <p:spPr>
                <a:xfrm rot="16200000">
                  <a:off x="2355480" y="4495320"/>
                  <a:ext cx="990720" cy="381240"/>
                </a:xfrm>
                <a:custGeom>
                  <a:avLst/>
                  <a:gdLst>
                    <a:gd name="textAreaLeft" fmla="*/ 217800 w 990720"/>
                    <a:gd name="textAreaRight" fmla="*/ 772920 w 990720"/>
                    <a:gd name="textAreaTop" fmla="*/ 83880 h 381240"/>
                    <a:gd name="textAreaBottom" fmla="*/ 297360 h 3812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0" y="21600"/>
                      </a:lnTo>
                      <a:lnTo>
                        <a:pt x="5400" y="216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46" name=""/>
              <p:cNvSpPr/>
              <p:nvPr/>
            </p:nvSpPr>
            <p:spPr>
              <a:xfrm>
                <a:off x="3500280" y="4342680"/>
                <a:ext cx="358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Q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2605680" y="3656880"/>
                <a:ext cx="471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LD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1982880" y="411408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9" name=""/>
            <p:cNvSpPr/>
            <p:nvPr/>
          </p:nvSpPr>
          <p:spPr>
            <a:xfrm>
              <a:off x="2592720" y="47235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2592720" y="43426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e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/>
          <p:nvPr/>
        </p:nvSpPr>
        <p:spPr>
          <a:xfrm>
            <a:off x="304920" y="3581280"/>
            <a:ext cx="8305560" cy="20574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80880" y="1066680"/>
            <a:ext cx="8305920" cy="20574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838188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Elementos de armazenamento: Flip-Flop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22080" y="1523160"/>
            <a:ext cx="137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Flip-Flop 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36600" y="4037760"/>
            <a:ext cx="150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Flip-Flop J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6" name=""/>
          <p:cNvGrpSpPr/>
          <p:nvPr/>
        </p:nvGrpSpPr>
        <p:grpSpPr>
          <a:xfrm>
            <a:off x="2438280" y="1447920"/>
            <a:ext cx="1523880" cy="865800"/>
            <a:chOff x="2438280" y="1447920"/>
            <a:chExt cx="1523880" cy="865800"/>
          </a:xfrm>
        </p:grpSpPr>
        <p:sp>
          <p:nvSpPr>
            <p:cNvPr id="457" name=""/>
            <p:cNvSpPr/>
            <p:nvPr/>
          </p:nvSpPr>
          <p:spPr>
            <a:xfrm>
              <a:off x="2438280" y="167796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2438280" y="205920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2741400" y="1447920"/>
              <a:ext cx="839880" cy="839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2711520" y="1525680"/>
              <a:ext cx="30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2792160" y="2006640"/>
              <a:ext cx="398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C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3268440" y="1525680"/>
              <a:ext cx="319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3191760" y="1906560"/>
              <a:ext cx="423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~Q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2742840" y="1982880"/>
              <a:ext cx="131760" cy="152280"/>
            </a:xfrm>
            <a:custGeom>
              <a:avLst/>
              <a:gdLst/>
              <a:ahLst/>
              <a:rect l="l" t="t" r="r" b="b"/>
              <a:pathLst>
                <a:path w="288" h="332">
                  <a:moveTo>
                    <a:pt x="0" y="0"/>
                  </a:moveTo>
                  <a:lnTo>
                    <a:pt x="288" y="166"/>
                  </a:lnTo>
                  <a:lnTo>
                    <a:pt x="0" y="33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5" name=""/>
          <p:cNvGrpSpPr/>
          <p:nvPr/>
        </p:nvGrpSpPr>
        <p:grpSpPr>
          <a:xfrm>
            <a:off x="2590920" y="4191120"/>
            <a:ext cx="1523880" cy="914400"/>
            <a:chOff x="2590920" y="4191120"/>
            <a:chExt cx="1523880" cy="914400"/>
          </a:xfrm>
        </p:grpSpPr>
        <p:sp>
          <p:nvSpPr>
            <p:cNvPr id="466" name=""/>
            <p:cNvSpPr/>
            <p:nvPr/>
          </p:nvSpPr>
          <p:spPr>
            <a:xfrm flipV="1">
              <a:off x="2590920" y="4875480"/>
              <a:ext cx="1523880" cy="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2590920" y="442116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 flipV="1">
              <a:off x="2590920" y="4648320"/>
              <a:ext cx="838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2894040" y="4191120"/>
              <a:ext cx="91548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2863080" y="426888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J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2972880" y="4510080"/>
              <a:ext cx="398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C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506400" y="4268880"/>
              <a:ext cx="319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3429720" y="4649760"/>
              <a:ext cx="423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~Q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2895480" y="4572000"/>
              <a:ext cx="131400" cy="152640"/>
            </a:xfrm>
            <a:custGeom>
              <a:avLst/>
              <a:gdLst/>
              <a:ahLst/>
              <a:rect l="l" t="t" r="r" b="b"/>
              <a:pathLst>
                <a:path w="288" h="332">
                  <a:moveTo>
                    <a:pt x="0" y="0"/>
                  </a:moveTo>
                  <a:lnTo>
                    <a:pt x="288" y="166"/>
                  </a:lnTo>
                  <a:lnTo>
                    <a:pt x="0" y="33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2896920" y="4724640"/>
              <a:ext cx="29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6" name=""/>
          <p:cNvSpPr/>
          <p:nvPr/>
        </p:nvSpPr>
        <p:spPr>
          <a:xfrm>
            <a:off x="4615920" y="1752120"/>
            <a:ext cx="231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 CK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ntão D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ensível à bord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4520520" y="373320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 CK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nt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8" name=""/>
          <p:cNvGraphicFramePr/>
          <p:nvPr/>
        </p:nvGraphicFramePr>
        <p:xfrm>
          <a:off x="5349960" y="3505320"/>
          <a:ext cx="3794040" cy="2682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49960" y="3505320"/>
                    <a:ext cx="3794040" cy="26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e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228600" y="914400"/>
            <a:ext cx="8686800" cy="2590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3059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Latch (transparente) versus Flip-Flop (borda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2" name=""/>
          <p:cNvGrpSpPr/>
          <p:nvPr/>
        </p:nvGrpSpPr>
        <p:grpSpPr>
          <a:xfrm>
            <a:off x="3962520" y="990720"/>
            <a:ext cx="533160" cy="838080"/>
            <a:chOff x="3962520" y="990720"/>
            <a:chExt cx="533160" cy="838080"/>
          </a:xfrm>
        </p:grpSpPr>
        <p:sp>
          <p:nvSpPr>
            <p:cNvPr id="483" name=""/>
            <p:cNvSpPr/>
            <p:nvPr/>
          </p:nvSpPr>
          <p:spPr>
            <a:xfrm>
              <a:off x="3962520" y="990720"/>
              <a:ext cx="533160" cy="83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3962520" y="1223280"/>
              <a:ext cx="533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4495680" y="1223280"/>
              <a:ext cx="0" cy="372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3962520" y="1223280"/>
              <a:ext cx="0" cy="372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7" name=""/>
          <p:cNvGrpSpPr/>
          <p:nvPr/>
        </p:nvGrpSpPr>
        <p:grpSpPr>
          <a:xfrm>
            <a:off x="4495680" y="1004400"/>
            <a:ext cx="609480" cy="838440"/>
            <a:chOff x="4495680" y="1004400"/>
            <a:chExt cx="609480" cy="838440"/>
          </a:xfrm>
        </p:grpSpPr>
        <p:sp>
          <p:nvSpPr>
            <p:cNvPr id="488" name=""/>
            <p:cNvSpPr/>
            <p:nvPr/>
          </p:nvSpPr>
          <p:spPr>
            <a:xfrm flipV="1">
              <a:off x="4495680" y="1004040"/>
              <a:ext cx="609480" cy="838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495680" y="1610280"/>
              <a:ext cx="6094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 flipV="1">
              <a:off x="5105160" y="1237320"/>
              <a:ext cx="0" cy="372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 flipV="1">
              <a:off x="4495680" y="1237320"/>
              <a:ext cx="0" cy="372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2" name=""/>
          <p:cNvGrpSpPr/>
          <p:nvPr/>
        </p:nvGrpSpPr>
        <p:grpSpPr>
          <a:xfrm>
            <a:off x="5105520" y="990720"/>
            <a:ext cx="609480" cy="838080"/>
            <a:chOff x="5105520" y="990720"/>
            <a:chExt cx="609480" cy="838080"/>
          </a:xfrm>
        </p:grpSpPr>
        <p:sp>
          <p:nvSpPr>
            <p:cNvPr id="493" name=""/>
            <p:cNvSpPr/>
            <p:nvPr/>
          </p:nvSpPr>
          <p:spPr>
            <a:xfrm>
              <a:off x="5105520" y="990720"/>
              <a:ext cx="609480" cy="83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5105520" y="1223280"/>
              <a:ext cx="6094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715000" y="1223280"/>
              <a:ext cx="0" cy="372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5105520" y="1223280"/>
              <a:ext cx="0" cy="372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"/>
          <p:cNvGrpSpPr/>
          <p:nvPr/>
        </p:nvGrpSpPr>
        <p:grpSpPr>
          <a:xfrm>
            <a:off x="2971800" y="990720"/>
            <a:ext cx="990360" cy="838080"/>
            <a:chOff x="2971800" y="990720"/>
            <a:chExt cx="990360" cy="838080"/>
          </a:xfrm>
        </p:grpSpPr>
        <p:sp>
          <p:nvSpPr>
            <p:cNvPr id="498" name=""/>
            <p:cNvSpPr/>
            <p:nvPr/>
          </p:nvSpPr>
          <p:spPr>
            <a:xfrm flipV="1">
              <a:off x="2971800" y="990720"/>
              <a:ext cx="990360" cy="83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2971800" y="1595880"/>
              <a:ext cx="990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 flipV="1">
              <a:off x="3962160" y="1223280"/>
              <a:ext cx="0" cy="372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 flipV="1">
              <a:off x="2971800" y="1223280"/>
              <a:ext cx="0" cy="372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2" name=""/>
          <p:cNvGrpSpPr/>
          <p:nvPr/>
        </p:nvGrpSpPr>
        <p:grpSpPr>
          <a:xfrm>
            <a:off x="5715000" y="990720"/>
            <a:ext cx="380880" cy="838080"/>
            <a:chOff x="5715000" y="990720"/>
            <a:chExt cx="380880" cy="838080"/>
          </a:xfrm>
        </p:grpSpPr>
        <p:sp>
          <p:nvSpPr>
            <p:cNvPr id="503" name=""/>
            <p:cNvSpPr/>
            <p:nvPr/>
          </p:nvSpPr>
          <p:spPr>
            <a:xfrm flipV="1">
              <a:off x="5715000" y="990720"/>
              <a:ext cx="380880" cy="83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5715000" y="1595880"/>
              <a:ext cx="3808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 flipV="1">
              <a:off x="6095880" y="1223280"/>
              <a:ext cx="0" cy="372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 flipV="1">
              <a:off x="5715000" y="1223280"/>
              <a:ext cx="0" cy="372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7" name=""/>
          <p:cNvGrpSpPr/>
          <p:nvPr/>
        </p:nvGrpSpPr>
        <p:grpSpPr>
          <a:xfrm>
            <a:off x="2362320" y="990720"/>
            <a:ext cx="609480" cy="838080"/>
            <a:chOff x="2362320" y="990720"/>
            <a:chExt cx="609480" cy="838080"/>
          </a:xfrm>
        </p:grpSpPr>
        <p:sp>
          <p:nvSpPr>
            <p:cNvPr id="508" name=""/>
            <p:cNvSpPr/>
            <p:nvPr/>
          </p:nvSpPr>
          <p:spPr>
            <a:xfrm>
              <a:off x="2362320" y="990720"/>
              <a:ext cx="609480" cy="83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2362320" y="1224000"/>
              <a:ext cx="6094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2971800" y="1224000"/>
              <a:ext cx="0" cy="371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1" name=""/>
          <p:cNvGrpSpPr/>
          <p:nvPr/>
        </p:nvGrpSpPr>
        <p:grpSpPr>
          <a:xfrm>
            <a:off x="7315200" y="990720"/>
            <a:ext cx="609480" cy="838080"/>
            <a:chOff x="7315200" y="990720"/>
            <a:chExt cx="609480" cy="838080"/>
          </a:xfrm>
        </p:grpSpPr>
        <p:sp>
          <p:nvSpPr>
            <p:cNvPr id="512" name=""/>
            <p:cNvSpPr/>
            <p:nvPr/>
          </p:nvSpPr>
          <p:spPr>
            <a:xfrm>
              <a:off x="7315200" y="990720"/>
              <a:ext cx="609480" cy="83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7315200" y="1223280"/>
              <a:ext cx="6094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7924680" y="1223280"/>
              <a:ext cx="0" cy="372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7315200" y="1223280"/>
              <a:ext cx="0" cy="372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6" name=""/>
          <p:cNvGrpSpPr/>
          <p:nvPr/>
        </p:nvGrpSpPr>
        <p:grpSpPr>
          <a:xfrm>
            <a:off x="7924680" y="990720"/>
            <a:ext cx="609840" cy="838080"/>
            <a:chOff x="7924680" y="990720"/>
            <a:chExt cx="609840" cy="838080"/>
          </a:xfrm>
        </p:grpSpPr>
        <p:sp>
          <p:nvSpPr>
            <p:cNvPr id="517" name=""/>
            <p:cNvSpPr/>
            <p:nvPr/>
          </p:nvSpPr>
          <p:spPr>
            <a:xfrm flipV="1">
              <a:off x="7924680" y="990720"/>
              <a:ext cx="609840" cy="83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7924680" y="1595520"/>
              <a:ext cx="609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 flipV="1">
              <a:off x="7924680" y="1224000"/>
              <a:ext cx="0" cy="371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0" name=""/>
          <p:cNvGrpSpPr/>
          <p:nvPr/>
        </p:nvGrpSpPr>
        <p:grpSpPr>
          <a:xfrm>
            <a:off x="6705720" y="990720"/>
            <a:ext cx="609480" cy="838080"/>
            <a:chOff x="6705720" y="990720"/>
            <a:chExt cx="609480" cy="838080"/>
          </a:xfrm>
        </p:grpSpPr>
        <p:sp>
          <p:nvSpPr>
            <p:cNvPr id="521" name=""/>
            <p:cNvSpPr/>
            <p:nvPr/>
          </p:nvSpPr>
          <p:spPr>
            <a:xfrm flipV="1">
              <a:off x="6705720" y="990720"/>
              <a:ext cx="609480" cy="83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6705720" y="1595880"/>
              <a:ext cx="6094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 flipV="1">
              <a:off x="7315200" y="1223280"/>
              <a:ext cx="0" cy="372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 flipV="1">
              <a:off x="6705720" y="1223280"/>
              <a:ext cx="0" cy="372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5" name=""/>
          <p:cNvGrpSpPr/>
          <p:nvPr/>
        </p:nvGrpSpPr>
        <p:grpSpPr>
          <a:xfrm>
            <a:off x="6095880" y="990720"/>
            <a:ext cx="609480" cy="838080"/>
            <a:chOff x="6095880" y="990720"/>
            <a:chExt cx="609480" cy="838080"/>
          </a:xfrm>
        </p:grpSpPr>
        <p:sp>
          <p:nvSpPr>
            <p:cNvPr id="526" name=""/>
            <p:cNvSpPr/>
            <p:nvPr/>
          </p:nvSpPr>
          <p:spPr>
            <a:xfrm>
              <a:off x="6095880" y="990720"/>
              <a:ext cx="609480" cy="83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095880" y="1223280"/>
              <a:ext cx="6094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705360" y="1223280"/>
              <a:ext cx="0" cy="372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6095880" y="1223280"/>
              <a:ext cx="0" cy="372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0" name=""/>
          <p:cNvSpPr/>
          <p:nvPr/>
        </p:nvSpPr>
        <p:spPr>
          <a:xfrm>
            <a:off x="230400" y="1065960"/>
            <a:ext cx="7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Lat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1906920" y="10659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1754640" y="2056680"/>
            <a:ext cx="4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3581280" y="1662120"/>
            <a:ext cx="1295640" cy="838080"/>
            <a:chOff x="3581280" y="1662120"/>
            <a:chExt cx="1295640" cy="838080"/>
          </a:xfrm>
        </p:grpSpPr>
        <p:sp>
          <p:nvSpPr>
            <p:cNvPr id="534" name=""/>
            <p:cNvSpPr/>
            <p:nvPr/>
          </p:nvSpPr>
          <p:spPr>
            <a:xfrm>
              <a:off x="3581280" y="1662120"/>
              <a:ext cx="1295640" cy="83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81280" y="1894680"/>
              <a:ext cx="1295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4876920" y="1894680"/>
              <a:ext cx="0" cy="372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581280" y="1894680"/>
              <a:ext cx="0" cy="372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4876920" y="1676520"/>
            <a:ext cx="1599480" cy="838080"/>
            <a:chOff x="4876920" y="1676520"/>
            <a:chExt cx="1599480" cy="838080"/>
          </a:xfrm>
        </p:grpSpPr>
        <p:sp>
          <p:nvSpPr>
            <p:cNvPr id="539" name=""/>
            <p:cNvSpPr/>
            <p:nvPr/>
          </p:nvSpPr>
          <p:spPr>
            <a:xfrm flipV="1">
              <a:off x="4876920" y="1676520"/>
              <a:ext cx="1599480" cy="83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4876920" y="2281680"/>
              <a:ext cx="15994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 flipV="1">
              <a:off x="6476400" y="1909080"/>
              <a:ext cx="0" cy="372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 flipV="1">
              <a:off x="4876920" y="1909080"/>
              <a:ext cx="0" cy="372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3" name=""/>
          <p:cNvGrpSpPr/>
          <p:nvPr/>
        </p:nvGrpSpPr>
        <p:grpSpPr>
          <a:xfrm>
            <a:off x="6477120" y="1662120"/>
            <a:ext cx="1218600" cy="838080"/>
            <a:chOff x="6477120" y="1662120"/>
            <a:chExt cx="1218600" cy="838080"/>
          </a:xfrm>
        </p:grpSpPr>
        <p:sp>
          <p:nvSpPr>
            <p:cNvPr id="544" name=""/>
            <p:cNvSpPr/>
            <p:nvPr/>
          </p:nvSpPr>
          <p:spPr>
            <a:xfrm>
              <a:off x="6477120" y="1662120"/>
              <a:ext cx="1218600" cy="83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6477120" y="189468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7695720" y="1894680"/>
              <a:ext cx="0" cy="372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6477120" y="1894680"/>
              <a:ext cx="0" cy="372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8" name=""/>
          <p:cNvSpPr/>
          <p:nvPr/>
        </p:nvSpPr>
        <p:spPr>
          <a:xfrm flipV="1">
            <a:off x="3581280" y="1895400"/>
            <a:ext cx="0" cy="371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9" name=""/>
          <p:cNvGrpSpPr/>
          <p:nvPr/>
        </p:nvGrpSpPr>
        <p:grpSpPr>
          <a:xfrm>
            <a:off x="2362320" y="1662120"/>
            <a:ext cx="1218600" cy="838080"/>
            <a:chOff x="2362320" y="1662120"/>
            <a:chExt cx="1218600" cy="838080"/>
          </a:xfrm>
        </p:grpSpPr>
        <p:sp>
          <p:nvSpPr>
            <p:cNvPr id="550" name=""/>
            <p:cNvSpPr/>
            <p:nvPr/>
          </p:nvSpPr>
          <p:spPr>
            <a:xfrm flipV="1">
              <a:off x="2362320" y="1662120"/>
              <a:ext cx="1218600" cy="83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362320" y="22665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 flipV="1">
              <a:off x="3580920" y="1895400"/>
              <a:ext cx="0" cy="370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3" name=""/>
          <p:cNvGrpSpPr/>
          <p:nvPr/>
        </p:nvGrpSpPr>
        <p:grpSpPr>
          <a:xfrm>
            <a:off x="7696080" y="1662120"/>
            <a:ext cx="609840" cy="838080"/>
            <a:chOff x="7696080" y="1662120"/>
            <a:chExt cx="609840" cy="838080"/>
          </a:xfrm>
        </p:grpSpPr>
        <p:sp>
          <p:nvSpPr>
            <p:cNvPr id="554" name=""/>
            <p:cNvSpPr/>
            <p:nvPr/>
          </p:nvSpPr>
          <p:spPr>
            <a:xfrm flipV="1">
              <a:off x="7696080" y="1662120"/>
              <a:ext cx="609840" cy="83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696080" y="2266920"/>
              <a:ext cx="609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 flipV="1">
              <a:off x="7696080" y="1895400"/>
              <a:ext cx="0" cy="371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7" name=""/>
          <p:cNvGrpSpPr/>
          <p:nvPr/>
        </p:nvGrpSpPr>
        <p:grpSpPr>
          <a:xfrm>
            <a:off x="3962520" y="2514600"/>
            <a:ext cx="533160" cy="838080"/>
            <a:chOff x="3962520" y="2514600"/>
            <a:chExt cx="533160" cy="838080"/>
          </a:xfrm>
        </p:grpSpPr>
        <p:sp>
          <p:nvSpPr>
            <p:cNvPr id="558" name=""/>
            <p:cNvSpPr/>
            <p:nvPr/>
          </p:nvSpPr>
          <p:spPr>
            <a:xfrm>
              <a:off x="3962520" y="2514600"/>
              <a:ext cx="533160" cy="83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962520" y="2747160"/>
              <a:ext cx="533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495680" y="2747160"/>
              <a:ext cx="0" cy="372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3962520" y="2747160"/>
              <a:ext cx="0" cy="372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2" name=""/>
          <p:cNvGrpSpPr/>
          <p:nvPr/>
        </p:nvGrpSpPr>
        <p:grpSpPr>
          <a:xfrm>
            <a:off x="4495680" y="2529000"/>
            <a:ext cx="1980360" cy="838080"/>
            <a:chOff x="4495680" y="2529000"/>
            <a:chExt cx="1980360" cy="838080"/>
          </a:xfrm>
        </p:grpSpPr>
        <p:sp>
          <p:nvSpPr>
            <p:cNvPr id="563" name=""/>
            <p:cNvSpPr/>
            <p:nvPr/>
          </p:nvSpPr>
          <p:spPr>
            <a:xfrm flipV="1">
              <a:off x="4495680" y="2529000"/>
              <a:ext cx="1980360" cy="83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4495680" y="3134160"/>
              <a:ext cx="1980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 flipV="1">
              <a:off x="6476040" y="2761560"/>
              <a:ext cx="0" cy="372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 flipV="1">
              <a:off x="4495680" y="2761560"/>
              <a:ext cx="0" cy="372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7" name=""/>
          <p:cNvGrpSpPr/>
          <p:nvPr/>
        </p:nvGrpSpPr>
        <p:grpSpPr>
          <a:xfrm>
            <a:off x="3581280" y="2514600"/>
            <a:ext cx="381240" cy="838080"/>
            <a:chOff x="3581280" y="2514600"/>
            <a:chExt cx="381240" cy="838080"/>
          </a:xfrm>
        </p:grpSpPr>
        <p:sp>
          <p:nvSpPr>
            <p:cNvPr id="568" name=""/>
            <p:cNvSpPr/>
            <p:nvPr/>
          </p:nvSpPr>
          <p:spPr>
            <a:xfrm flipV="1">
              <a:off x="3581280" y="2514600"/>
              <a:ext cx="381240" cy="83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581280" y="3119760"/>
              <a:ext cx="3812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 flipV="1">
              <a:off x="3962520" y="2747160"/>
              <a:ext cx="0" cy="372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 flipV="1">
              <a:off x="3581280" y="2747160"/>
              <a:ext cx="0" cy="372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2" name=""/>
          <p:cNvGrpSpPr/>
          <p:nvPr/>
        </p:nvGrpSpPr>
        <p:grpSpPr>
          <a:xfrm>
            <a:off x="2362320" y="2514600"/>
            <a:ext cx="1218600" cy="838080"/>
            <a:chOff x="2362320" y="2514600"/>
            <a:chExt cx="1218600" cy="838080"/>
          </a:xfrm>
        </p:grpSpPr>
        <p:sp>
          <p:nvSpPr>
            <p:cNvPr id="573" name=""/>
            <p:cNvSpPr/>
            <p:nvPr/>
          </p:nvSpPr>
          <p:spPr>
            <a:xfrm>
              <a:off x="2362320" y="2514600"/>
              <a:ext cx="1218600" cy="83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362320" y="274788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3580920" y="2747880"/>
              <a:ext cx="0" cy="371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6" name=""/>
          <p:cNvGrpSpPr/>
          <p:nvPr/>
        </p:nvGrpSpPr>
        <p:grpSpPr>
          <a:xfrm>
            <a:off x="6705720" y="2514600"/>
            <a:ext cx="609480" cy="838080"/>
            <a:chOff x="6705720" y="2514600"/>
            <a:chExt cx="609480" cy="838080"/>
          </a:xfrm>
        </p:grpSpPr>
        <p:sp>
          <p:nvSpPr>
            <p:cNvPr id="577" name=""/>
            <p:cNvSpPr/>
            <p:nvPr/>
          </p:nvSpPr>
          <p:spPr>
            <a:xfrm flipV="1">
              <a:off x="6705720" y="2514600"/>
              <a:ext cx="609480" cy="83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6705720" y="3119760"/>
              <a:ext cx="6094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 flipV="1">
              <a:off x="7315200" y="2747160"/>
              <a:ext cx="0" cy="372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 flipV="1">
              <a:off x="6705720" y="2747160"/>
              <a:ext cx="0" cy="372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1" name=""/>
          <p:cNvGrpSpPr/>
          <p:nvPr/>
        </p:nvGrpSpPr>
        <p:grpSpPr>
          <a:xfrm>
            <a:off x="6477120" y="2514600"/>
            <a:ext cx="228600" cy="838080"/>
            <a:chOff x="6477120" y="2514600"/>
            <a:chExt cx="228600" cy="838080"/>
          </a:xfrm>
        </p:grpSpPr>
        <p:sp>
          <p:nvSpPr>
            <p:cNvPr id="582" name=""/>
            <p:cNvSpPr/>
            <p:nvPr/>
          </p:nvSpPr>
          <p:spPr>
            <a:xfrm>
              <a:off x="6477120" y="2514600"/>
              <a:ext cx="228600" cy="83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6477120" y="2747160"/>
              <a:ext cx="22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6705720" y="2747160"/>
              <a:ext cx="0" cy="372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477120" y="2747160"/>
              <a:ext cx="0" cy="372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6" name=""/>
          <p:cNvSpPr/>
          <p:nvPr/>
        </p:nvSpPr>
        <p:spPr>
          <a:xfrm>
            <a:off x="1828800" y="2585520"/>
            <a:ext cx="733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Arial"/>
              </a:rPr>
              <a:t>Lat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7" name=""/>
          <p:cNvGrpSpPr/>
          <p:nvPr/>
        </p:nvGrpSpPr>
        <p:grpSpPr>
          <a:xfrm>
            <a:off x="7315200" y="2514600"/>
            <a:ext cx="1066320" cy="838080"/>
            <a:chOff x="7315200" y="2514600"/>
            <a:chExt cx="1066320" cy="838080"/>
          </a:xfrm>
        </p:grpSpPr>
        <p:sp>
          <p:nvSpPr>
            <p:cNvPr id="588" name=""/>
            <p:cNvSpPr/>
            <p:nvPr/>
          </p:nvSpPr>
          <p:spPr>
            <a:xfrm>
              <a:off x="7315200" y="2514600"/>
              <a:ext cx="1066320" cy="83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7315200" y="2747880"/>
              <a:ext cx="1066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7315200" y="2747880"/>
              <a:ext cx="0" cy="371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1" name=""/>
          <p:cNvGrpSpPr/>
          <p:nvPr/>
        </p:nvGrpSpPr>
        <p:grpSpPr>
          <a:xfrm>
            <a:off x="3581280" y="990720"/>
            <a:ext cx="4114800" cy="2552760"/>
            <a:chOff x="3581280" y="990720"/>
            <a:chExt cx="4114800" cy="2552760"/>
          </a:xfrm>
        </p:grpSpPr>
        <p:sp>
          <p:nvSpPr>
            <p:cNvPr id="592" name=""/>
            <p:cNvSpPr/>
            <p:nvPr/>
          </p:nvSpPr>
          <p:spPr>
            <a:xfrm>
              <a:off x="3581280" y="990720"/>
              <a:ext cx="0" cy="255276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76920" y="990720"/>
              <a:ext cx="0" cy="255276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6477120" y="990720"/>
              <a:ext cx="0" cy="255276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7696080" y="990720"/>
              <a:ext cx="0" cy="255276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6" name=""/>
          <p:cNvSpPr/>
          <p:nvPr/>
        </p:nvSpPr>
        <p:spPr>
          <a:xfrm>
            <a:off x="228600" y="3886200"/>
            <a:ext cx="8686800" cy="2590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7" name=""/>
          <p:cNvGrpSpPr/>
          <p:nvPr/>
        </p:nvGrpSpPr>
        <p:grpSpPr>
          <a:xfrm>
            <a:off x="3962520" y="3962520"/>
            <a:ext cx="533160" cy="838080"/>
            <a:chOff x="3962520" y="3962520"/>
            <a:chExt cx="533160" cy="838080"/>
          </a:xfrm>
        </p:grpSpPr>
        <p:sp>
          <p:nvSpPr>
            <p:cNvPr id="598" name=""/>
            <p:cNvSpPr/>
            <p:nvPr/>
          </p:nvSpPr>
          <p:spPr>
            <a:xfrm>
              <a:off x="3962520" y="3962520"/>
              <a:ext cx="533160" cy="83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3962520" y="4195080"/>
              <a:ext cx="533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4495680" y="4195080"/>
              <a:ext cx="0" cy="372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3962520" y="4195080"/>
              <a:ext cx="0" cy="372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2" name=""/>
          <p:cNvGrpSpPr/>
          <p:nvPr/>
        </p:nvGrpSpPr>
        <p:grpSpPr>
          <a:xfrm>
            <a:off x="4495680" y="3976200"/>
            <a:ext cx="609480" cy="838440"/>
            <a:chOff x="4495680" y="3976200"/>
            <a:chExt cx="609480" cy="838440"/>
          </a:xfrm>
        </p:grpSpPr>
        <p:sp>
          <p:nvSpPr>
            <p:cNvPr id="603" name=""/>
            <p:cNvSpPr/>
            <p:nvPr/>
          </p:nvSpPr>
          <p:spPr>
            <a:xfrm flipV="1">
              <a:off x="4495680" y="3975840"/>
              <a:ext cx="609480" cy="838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4495680" y="4582080"/>
              <a:ext cx="6094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 flipV="1">
              <a:off x="5105160" y="4209120"/>
              <a:ext cx="0" cy="372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 flipV="1">
              <a:off x="4495680" y="4209120"/>
              <a:ext cx="0" cy="372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7" name=""/>
          <p:cNvGrpSpPr/>
          <p:nvPr/>
        </p:nvGrpSpPr>
        <p:grpSpPr>
          <a:xfrm>
            <a:off x="5105520" y="3962520"/>
            <a:ext cx="609480" cy="838080"/>
            <a:chOff x="5105520" y="3962520"/>
            <a:chExt cx="609480" cy="838080"/>
          </a:xfrm>
        </p:grpSpPr>
        <p:sp>
          <p:nvSpPr>
            <p:cNvPr id="608" name=""/>
            <p:cNvSpPr/>
            <p:nvPr/>
          </p:nvSpPr>
          <p:spPr>
            <a:xfrm>
              <a:off x="5105520" y="3962520"/>
              <a:ext cx="609480" cy="83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5105520" y="4195080"/>
              <a:ext cx="6094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5715000" y="4195080"/>
              <a:ext cx="0" cy="372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105520" y="4195080"/>
              <a:ext cx="0" cy="372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2" name=""/>
          <p:cNvGrpSpPr/>
          <p:nvPr/>
        </p:nvGrpSpPr>
        <p:grpSpPr>
          <a:xfrm>
            <a:off x="2971800" y="3962520"/>
            <a:ext cx="990360" cy="838080"/>
            <a:chOff x="2971800" y="3962520"/>
            <a:chExt cx="990360" cy="838080"/>
          </a:xfrm>
        </p:grpSpPr>
        <p:sp>
          <p:nvSpPr>
            <p:cNvPr id="613" name=""/>
            <p:cNvSpPr/>
            <p:nvPr/>
          </p:nvSpPr>
          <p:spPr>
            <a:xfrm flipV="1">
              <a:off x="2971800" y="3962520"/>
              <a:ext cx="990360" cy="83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2971800" y="4567680"/>
              <a:ext cx="990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 flipV="1">
              <a:off x="3962160" y="4195080"/>
              <a:ext cx="0" cy="372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 flipV="1">
              <a:off x="2971800" y="4195080"/>
              <a:ext cx="0" cy="372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7" name=""/>
          <p:cNvGrpSpPr/>
          <p:nvPr/>
        </p:nvGrpSpPr>
        <p:grpSpPr>
          <a:xfrm>
            <a:off x="5715000" y="3962520"/>
            <a:ext cx="380880" cy="838080"/>
            <a:chOff x="5715000" y="3962520"/>
            <a:chExt cx="380880" cy="838080"/>
          </a:xfrm>
        </p:grpSpPr>
        <p:sp>
          <p:nvSpPr>
            <p:cNvPr id="618" name=""/>
            <p:cNvSpPr/>
            <p:nvPr/>
          </p:nvSpPr>
          <p:spPr>
            <a:xfrm flipV="1">
              <a:off x="5715000" y="3962520"/>
              <a:ext cx="380880" cy="83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715000" y="4567680"/>
              <a:ext cx="3808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 flipV="1">
              <a:off x="6095880" y="4195080"/>
              <a:ext cx="0" cy="372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 flipV="1">
              <a:off x="5715000" y="4195080"/>
              <a:ext cx="0" cy="372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2" name=""/>
          <p:cNvGrpSpPr/>
          <p:nvPr/>
        </p:nvGrpSpPr>
        <p:grpSpPr>
          <a:xfrm>
            <a:off x="2362320" y="3962520"/>
            <a:ext cx="609480" cy="838080"/>
            <a:chOff x="2362320" y="3962520"/>
            <a:chExt cx="609480" cy="838080"/>
          </a:xfrm>
        </p:grpSpPr>
        <p:sp>
          <p:nvSpPr>
            <p:cNvPr id="623" name=""/>
            <p:cNvSpPr/>
            <p:nvPr/>
          </p:nvSpPr>
          <p:spPr>
            <a:xfrm>
              <a:off x="2362320" y="3962520"/>
              <a:ext cx="609480" cy="83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2362320" y="4195800"/>
              <a:ext cx="6094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2971800" y="4195800"/>
              <a:ext cx="0" cy="371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6" name=""/>
          <p:cNvGrpSpPr/>
          <p:nvPr/>
        </p:nvGrpSpPr>
        <p:grpSpPr>
          <a:xfrm>
            <a:off x="7315200" y="3962520"/>
            <a:ext cx="609480" cy="838080"/>
            <a:chOff x="7315200" y="3962520"/>
            <a:chExt cx="609480" cy="838080"/>
          </a:xfrm>
        </p:grpSpPr>
        <p:sp>
          <p:nvSpPr>
            <p:cNvPr id="627" name=""/>
            <p:cNvSpPr/>
            <p:nvPr/>
          </p:nvSpPr>
          <p:spPr>
            <a:xfrm>
              <a:off x="7315200" y="3962520"/>
              <a:ext cx="609480" cy="83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7315200" y="4195080"/>
              <a:ext cx="6094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7924680" y="4195080"/>
              <a:ext cx="0" cy="372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7315200" y="4195080"/>
              <a:ext cx="0" cy="372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1" name=""/>
          <p:cNvGrpSpPr/>
          <p:nvPr/>
        </p:nvGrpSpPr>
        <p:grpSpPr>
          <a:xfrm>
            <a:off x="7924680" y="3962520"/>
            <a:ext cx="609840" cy="838080"/>
            <a:chOff x="7924680" y="3962520"/>
            <a:chExt cx="609840" cy="838080"/>
          </a:xfrm>
        </p:grpSpPr>
        <p:sp>
          <p:nvSpPr>
            <p:cNvPr id="632" name=""/>
            <p:cNvSpPr/>
            <p:nvPr/>
          </p:nvSpPr>
          <p:spPr>
            <a:xfrm flipV="1">
              <a:off x="7924680" y="3962520"/>
              <a:ext cx="609840" cy="83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7924680" y="4567320"/>
              <a:ext cx="609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 flipV="1">
              <a:off x="7924680" y="4195800"/>
              <a:ext cx="0" cy="371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5" name=""/>
          <p:cNvGrpSpPr/>
          <p:nvPr/>
        </p:nvGrpSpPr>
        <p:grpSpPr>
          <a:xfrm>
            <a:off x="6705720" y="3962520"/>
            <a:ext cx="609480" cy="838080"/>
            <a:chOff x="6705720" y="3962520"/>
            <a:chExt cx="609480" cy="838080"/>
          </a:xfrm>
        </p:grpSpPr>
        <p:sp>
          <p:nvSpPr>
            <p:cNvPr id="636" name=""/>
            <p:cNvSpPr/>
            <p:nvPr/>
          </p:nvSpPr>
          <p:spPr>
            <a:xfrm flipV="1">
              <a:off x="6705720" y="3962520"/>
              <a:ext cx="609480" cy="83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6705720" y="4567680"/>
              <a:ext cx="6094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 flipV="1">
              <a:off x="7315200" y="4195080"/>
              <a:ext cx="0" cy="372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 flipV="1">
              <a:off x="6705720" y="4195080"/>
              <a:ext cx="0" cy="372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6095880" y="3962520"/>
            <a:ext cx="609480" cy="838080"/>
            <a:chOff x="6095880" y="3962520"/>
            <a:chExt cx="609480" cy="838080"/>
          </a:xfrm>
        </p:grpSpPr>
        <p:sp>
          <p:nvSpPr>
            <p:cNvPr id="641" name=""/>
            <p:cNvSpPr/>
            <p:nvPr/>
          </p:nvSpPr>
          <p:spPr>
            <a:xfrm>
              <a:off x="6095880" y="3962520"/>
              <a:ext cx="609480" cy="83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095880" y="4195080"/>
              <a:ext cx="6094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6705360" y="4195080"/>
              <a:ext cx="0" cy="372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6095880" y="4195080"/>
              <a:ext cx="0" cy="372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5" name=""/>
          <p:cNvSpPr/>
          <p:nvPr/>
        </p:nvSpPr>
        <p:spPr>
          <a:xfrm>
            <a:off x="298440" y="4037760"/>
            <a:ext cx="114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Flip-Fl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1906920" y="40377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1741680" y="5028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8" name=""/>
          <p:cNvGrpSpPr/>
          <p:nvPr/>
        </p:nvGrpSpPr>
        <p:grpSpPr>
          <a:xfrm>
            <a:off x="3581280" y="4633920"/>
            <a:ext cx="1295640" cy="838080"/>
            <a:chOff x="3581280" y="4633920"/>
            <a:chExt cx="1295640" cy="838080"/>
          </a:xfrm>
        </p:grpSpPr>
        <p:sp>
          <p:nvSpPr>
            <p:cNvPr id="649" name=""/>
            <p:cNvSpPr/>
            <p:nvPr/>
          </p:nvSpPr>
          <p:spPr>
            <a:xfrm>
              <a:off x="3581280" y="4633920"/>
              <a:ext cx="1295640" cy="83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81280" y="4866480"/>
              <a:ext cx="1295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4876920" y="4866480"/>
              <a:ext cx="0" cy="372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3581280" y="4866480"/>
              <a:ext cx="0" cy="372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"/>
          <p:cNvGrpSpPr/>
          <p:nvPr/>
        </p:nvGrpSpPr>
        <p:grpSpPr>
          <a:xfrm>
            <a:off x="4876920" y="4648320"/>
            <a:ext cx="1599480" cy="838080"/>
            <a:chOff x="4876920" y="4648320"/>
            <a:chExt cx="1599480" cy="838080"/>
          </a:xfrm>
        </p:grpSpPr>
        <p:sp>
          <p:nvSpPr>
            <p:cNvPr id="654" name=""/>
            <p:cNvSpPr/>
            <p:nvPr/>
          </p:nvSpPr>
          <p:spPr>
            <a:xfrm flipV="1">
              <a:off x="4876920" y="4648320"/>
              <a:ext cx="1599480" cy="83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4876920" y="5253480"/>
              <a:ext cx="15994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 flipV="1">
              <a:off x="6476400" y="4880880"/>
              <a:ext cx="0" cy="372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 flipV="1">
              <a:off x="4876920" y="4880880"/>
              <a:ext cx="0" cy="372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8" name=""/>
          <p:cNvGrpSpPr/>
          <p:nvPr/>
        </p:nvGrpSpPr>
        <p:grpSpPr>
          <a:xfrm>
            <a:off x="6477120" y="4633920"/>
            <a:ext cx="1218600" cy="838080"/>
            <a:chOff x="6477120" y="4633920"/>
            <a:chExt cx="1218600" cy="838080"/>
          </a:xfrm>
        </p:grpSpPr>
        <p:sp>
          <p:nvSpPr>
            <p:cNvPr id="659" name=""/>
            <p:cNvSpPr/>
            <p:nvPr/>
          </p:nvSpPr>
          <p:spPr>
            <a:xfrm>
              <a:off x="6477120" y="4633920"/>
              <a:ext cx="1218600" cy="83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6477120" y="486648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695720" y="4866480"/>
              <a:ext cx="0" cy="372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6477120" y="4866480"/>
              <a:ext cx="0" cy="372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3" name=""/>
          <p:cNvSpPr/>
          <p:nvPr/>
        </p:nvSpPr>
        <p:spPr>
          <a:xfrm flipV="1">
            <a:off x="3581280" y="4867200"/>
            <a:ext cx="0" cy="371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4" name=""/>
          <p:cNvGrpSpPr/>
          <p:nvPr/>
        </p:nvGrpSpPr>
        <p:grpSpPr>
          <a:xfrm>
            <a:off x="2362320" y="4633920"/>
            <a:ext cx="1218600" cy="838080"/>
            <a:chOff x="2362320" y="4633920"/>
            <a:chExt cx="1218600" cy="838080"/>
          </a:xfrm>
        </p:grpSpPr>
        <p:sp>
          <p:nvSpPr>
            <p:cNvPr id="665" name=""/>
            <p:cNvSpPr/>
            <p:nvPr/>
          </p:nvSpPr>
          <p:spPr>
            <a:xfrm flipV="1">
              <a:off x="2362320" y="4633920"/>
              <a:ext cx="1218600" cy="83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2362320" y="52383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 flipV="1">
              <a:off x="3580920" y="4867200"/>
              <a:ext cx="0" cy="370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8" name=""/>
          <p:cNvGrpSpPr/>
          <p:nvPr/>
        </p:nvGrpSpPr>
        <p:grpSpPr>
          <a:xfrm>
            <a:off x="7696080" y="4633920"/>
            <a:ext cx="609840" cy="838080"/>
            <a:chOff x="7696080" y="4633920"/>
            <a:chExt cx="609840" cy="838080"/>
          </a:xfrm>
        </p:grpSpPr>
        <p:sp>
          <p:nvSpPr>
            <p:cNvPr id="669" name=""/>
            <p:cNvSpPr/>
            <p:nvPr/>
          </p:nvSpPr>
          <p:spPr>
            <a:xfrm flipV="1">
              <a:off x="7696080" y="4633920"/>
              <a:ext cx="609840" cy="83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7696080" y="5238720"/>
              <a:ext cx="609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 flipV="1">
              <a:off x="7696080" y="4867200"/>
              <a:ext cx="0" cy="371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2" name=""/>
          <p:cNvGrpSpPr/>
          <p:nvPr/>
        </p:nvGrpSpPr>
        <p:grpSpPr>
          <a:xfrm>
            <a:off x="3581280" y="5500800"/>
            <a:ext cx="2894400" cy="838080"/>
            <a:chOff x="3581280" y="5500800"/>
            <a:chExt cx="2894400" cy="838080"/>
          </a:xfrm>
        </p:grpSpPr>
        <p:sp>
          <p:nvSpPr>
            <p:cNvPr id="673" name=""/>
            <p:cNvSpPr/>
            <p:nvPr/>
          </p:nvSpPr>
          <p:spPr>
            <a:xfrm flipV="1">
              <a:off x="3581280" y="5500800"/>
              <a:ext cx="2894400" cy="83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3581280" y="6105960"/>
              <a:ext cx="289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 flipV="1">
              <a:off x="6475680" y="5733360"/>
              <a:ext cx="0" cy="372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 flipV="1">
              <a:off x="3581280" y="5733360"/>
              <a:ext cx="0" cy="372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7" name=""/>
          <p:cNvGrpSpPr/>
          <p:nvPr/>
        </p:nvGrpSpPr>
        <p:grpSpPr>
          <a:xfrm>
            <a:off x="2362320" y="5486400"/>
            <a:ext cx="1218600" cy="838080"/>
            <a:chOff x="2362320" y="5486400"/>
            <a:chExt cx="1218600" cy="838080"/>
          </a:xfrm>
        </p:grpSpPr>
        <p:sp>
          <p:nvSpPr>
            <p:cNvPr id="678" name=""/>
            <p:cNvSpPr/>
            <p:nvPr/>
          </p:nvSpPr>
          <p:spPr>
            <a:xfrm>
              <a:off x="2362320" y="5486400"/>
              <a:ext cx="1218600" cy="83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2362320" y="571968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3580920" y="5719680"/>
              <a:ext cx="0" cy="371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1" name=""/>
          <p:cNvSpPr/>
          <p:nvPr/>
        </p:nvSpPr>
        <p:spPr>
          <a:xfrm>
            <a:off x="1676520" y="5481360"/>
            <a:ext cx="733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F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2" name=""/>
          <p:cNvGrpSpPr/>
          <p:nvPr/>
        </p:nvGrpSpPr>
        <p:grpSpPr>
          <a:xfrm>
            <a:off x="6477120" y="5486400"/>
            <a:ext cx="1903680" cy="838080"/>
            <a:chOff x="6477120" y="5486400"/>
            <a:chExt cx="1903680" cy="838080"/>
          </a:xfrm>
        </p:grpSpPr>
        <p:sp>
          <p:nvSpPr>
            <p:cNvPr id="683" name=""/>
            <p:cNvSpPr/>
            <p:nvPr/>
          </p:nvSpPr>
          <p:spPr>
            <a:xfrm>
              <a:off x="6477120" y="5486400"/>
              <a:ext cx="1903680" cy="83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6477120" y="5719680"/>
              <a:ext cx="19036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477120" y="5719680"/>
              <a:ext cx="0" cy="371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6" name=""/>
          <p:cNvGrpSpPr/>
          <p:nvPr/>
        </p:nvGrpSpPr>
        <p:grpSpPr>
          <a:xfrm>
            <a:off x="3581280" y="3962520"/>
            <a:ext cx="4114800" cy="2552760"/>
            <a:chOff x="3581280" y="3962520"/>
            <a:chExt cx="4114800" cy="2552760"/>
          </a:xfrm>
        </p:grpSpPr>
        <p:sp>
          <p:nvSpPr>
            <p:cNvPr id="687" name=""/>
            <p:cNvSpPr/>
            <p:nvPr/>
          </p:nvSpPr>
          <p:spPr>
            <a:xfrm>
              <a:off x="3581280" y="3962520"/>
              <a:ext cx="0" cy="255276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4876920" y="3962520"/>
              <a:ext cx="0" cy="255276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6477120" y="3962520"/>
              <a:ext cx="0" cy="255276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7696080" y="3962520"/>
              <a:ext cx="0" cy="255276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1" name=""/>
          <p:cNvSpPr/>
          <p:nvPr/>
        </p:nvSpPr>
        <p:spPr>
          <a:xfrm flipV="1">
            <a:off x="3581280" y="4876920"/>
            <a:ext cx="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V="1">
            <a:off x="6477120" y="4876920"/>
            <a:ext cx="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3508560" y="1995120"/>
            <a:ext cx="140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transpare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6421680" y="1980720"/>
            <a:ext cx="140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transpare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e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Registradores: conjunto de latches ou FF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154800" y="1751760"/>
            <a:ext cx="33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gistrador de carga paralel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7" name=""/>
          <p:cNvGrpSpPr/>
          <p:nvPr/>
        </p:nvGrpSpPr>
        <p:grpSpPr>
          <a:xfrm>
            <a:off x="3659400" y="1371600"/>
            <a:ext cx="5027400" cy="1129680"/>
            <a:chOff x="3659400" y="1371600"/>
            <a:chExt cx="5027400" cy="1129680"/>
          </a:xfrm>
        </p:grpSpPr>
        <p:sp>
          <p:nvSpPr>
            <p:cNvPr id="698" name=""/>
            <p:cNvSpPr/>
            <p:nvPr/>
          </p:nvSpPr>
          <p:spPr>
            <a:xfrm>
              <a:off x="4114800" y="190512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4114800" y="2133720"/>
              <a:ext cx="457200" cy="304560"/>
            </a:xfrm>
            <a:custGeom>
              <a:avLst/>
              <a:gdLst/>
              <a:ahLst/>
              <a:rect l="l" t="t" r="r" b="b"/>
              <a:pathLst>
                <a:path w="288" h="384">
                  <a:moveTo>
                    <a:pt x="0" y="384"/>
                  </a:moveTo>
                  <a:lnTo>
                    <a:pt x="0" y="0"/>
                  </a:lnTo>
                  <a:lnTo>
                    <a:pt x="28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495680" y="1752480"/>
              <a:ext cx="4191120" cy="533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4495680" y="1752480"/>
              <a:ext cx="4191120" cy="533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4952880" y="1752480"/>
              <a:ext cx="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5486400" y="1752480"/>
              <a:ext cx="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6019920" y="1752480"/>
              <a:ext cx="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6553080" y="1752480"/>
              <a:ext cx="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7086600" y="1752480"/>
              <a:ext cx="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7620120" y="1752480"/>
              <a:ext cx="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8153280" y="1752480"/>
              <a:ext cx="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4724280" y="1371600"/>
              <a:ext cx="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5257800" y="1371600"/>
              <a:ext cx="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1371600"/>
              <a:ext cx="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6248520" y="1371600"/>
              <a:ext cx="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6858000" y="1371600"/>
              <a:ext cx="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7391520" y="1371600"/>
              <a:ext cx="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7848720" y="1371600"/>
              <a:ext cx="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8381880" y="1371600"/>
              <a:ext cx="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3964680" y="1523160"/>
              <a:ext cx="47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3659400" y="2133000"/>
              <a:ext cx="49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9" name=""/>
          <p:cNvSpPr/>
          <p:nvPr/>
        </p:nvSpPr>
        <p:spPr>
          <a:xfrm>
            <a:off x="879840" y="3047400"/>
            <a:ext cx="704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arga de registrador:                     Latch (LD) OK                   FF 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0" name=""/>
          <p:cNvGrpSpPr/>
          <p:nvPr/>
        </p:nvGrpSpPr>
        <p:grpSpPr>
          <a:xfrm>
            <a:off x="776880" y="4266360"/>
            <a:ext cx="2118600" cy="1511280"/>
            <a:chOff x="776880" y="4266360"/>
            <a:chExt cx="2118600" cy="1511280"/>
          </a:xfrm>
        </p:grpSpPr>
        <p:grpSp>
          <p:nvGrpSpPr>
            <p:cNvPr id="721" name=""/>
            <p:cNvGrpSpPr/>
            <p:nvPr/>
          </p:nvGrpSpPr>
          <p:grpSpPr>
            <a:xfrm>
              <a:off x="1371600" y="4267080"/>
              <a:ext cx="1523880" cy="865800"/>
              <a:chOff x="1371600" y="4267080"/>
              <a:chExt cx="1523880" cy="865800"/>
            </a:xfrm>
          </p:grpSpPr>
          <p:sp>
            <p:nvSpPr>
              <p:cNvPr id="722" name=""/>
              <p:cNvSpPr/>
              <p:nvPr/>
            </p:nvSpPr>
            <p:spPr>
              <a:xfrm>
                <a:off x="1371600" y="4497120"/>
                <a:ext cx="1523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1371600" y="4878360"/>
                <a:ext cx="1523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1674720" y="4267080"/>
                <a:ext cx="839880" cy="8398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1644840" y="434484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1725480" y="4825800"/>
                <a:ext cx="398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400" spc="-1" strike="noStrike">
                    <a:solidFill>
                      <a:srgbClr val="000000"/>
                    </a:solidFill>
                    <a:latin typeface="Arial"/>
                  </a:rPr>
                  <a:t>Ck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2201760" y="4344840"/>
                <a:ext cx="3193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Q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2125080" y="4725720"/>
                <a:ext cx="423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~Q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1676160" y="4802040"/>
                <a:ext cx="131760" cy="152280"/>
              </a:xfrm>
              <a:custGeom>
                <a:avLst/>
                <a:gdLst/>
                <a:ahLst/>
                <a:rect l="l" t="t" r="r" b="b"/>
                <a:pathLst>
                  <a:path w="288" h="332">
                    <a:moveTo>
                      <a:pt x="0" y="0"/>
                    </a:moveTo>
                    <a:lnTo>
                      <a:pt x="288" y="166"/>
                    </a:lnTo>
                    <a:lnTo>
                      <a:pt x="0" y="33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0" name=""/>
            <p:cNvSpPr/>
            <p:nvPr/>
          </p:nvSpPr>
          <p:spPr>
            <a:xfrm>
              <a:off x="916200" y="426636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776880" y="4723560"/>
              <a:ext cx="47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1525680" y="5409360"/>
              <a:ext cx="1056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Errado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!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3" name=""/>
          <p:cNvGrpSpPr/>
          <p:nvPr/>
        </p:nvGrpSpPr>
        <p:grpSpPr>
          <a:xfrm>
            <a:off x="3964320" y="3962520"/>
            <a:ext cx="3330360" cy="1677240"/>
            <a:chOff x="3964320" y="3962520"/>
            <a:chExt cx="3330360" cy="1677240"/>
          </a:xfrm>
        </p:grpSpPr>
        <p:sp>
          <p:nvSpPr>
            <p:cNvPr id="734" name=""/>
            <p:cNvSpPr/>
            <p:nvPr/>
          </p:nvSpPr>
          <p:spPr>
            <a:xfrm>
              <a:off x="4336920" y="3962520"/>
              <a:ext cx="2444760" cy="685800"/>
            </a:xfrm>
            <a:custGeom>
              <a:avLst/>
              <a:gdLst/>
              <a:ahLst/>
              <a:rect l="l" t="t" r="r" b="b"/>
              <a:pathLst>
                <a:path w="1540" h="432">
                  <a:moveTo>
                    <a:pt x="311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1540" y="0"/>
                  </a:lnTo>
                  <a:lnTo>
                    <a:pt x="1540" y="43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4946760" y="4648320"/>
              <a:ext cx="609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6935760" y="441900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 flipV="1">
              <a:off x="4797360" y="487692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4260960" y="4800600"/>
              <a:ext cx="457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 flipV="1" rot="5400000">
              <a:off x="4336920" y="4419720"/>
              <a:ext cx="990720" cy="380880"/>
            </a:xfrm>
            <a:custGeom>
              <a:avLst/>
              <a:gdLst>
                <a:gd name="textAreaLeft" fmla="*/ 217800 w 990720"/>
                <a:gd name="textAreaRight" fmla="*/ 772920 w 990720"/>
                <a:gd name="textAreaTop" fmla="*/ 83520 h 380880"/>
                <a:gd name="textAreaBottom" fmla="*/ 29736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4586760" y="5271480"/>
              <a:ext cx="47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3964320" y="466164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42" name=""/>
            <p:cNvGrpSpPr/>
            <p:nvPr/>
          </p:nvGrpSpPr>
          <p:grpSpPr>
            <a:xfrm>
              <a:off x="5410080" y="4419720"/>
              <a:ext cx="1523880" cy="865800"/>
              <a:chOff x="5410080" y="4419720"/>
              <a:chExt cx="1523880" cy="865800"/>
            </a:xfrm>
          </p:grpSpPr>
          <p:sp>
            <p:nvSpPr>
              <p:cNvPr id="743" name=""/>
              <p:cNvSpPr/>
              <p:nvPr/>
            </p:nvSpPr>
            <p:spPr>
              <a:xfrm>
                <a:off x="5410080" y="4649760"/>
                <a:ext cx="1523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5410080" y="5031000"/>
                <a:ext cx="1523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5713200" y="4419720"/>
                <a:ext cx="839880" cy="8398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5683320" y="449748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5763960" y="4978440"/>
                <a:ext cx="398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400" spc="-1" strike="noStrike">
                    <a:solidFill>
                      <a:srgbClr val="000000"/>
                    </a:solidFill>
                    <a:latin typeface="Arial"/>
                  </a:rPr>
                  <a:t>Ck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6240240" y="4497480"/>
                <a:ext cx="3193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Q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6163560" y="4878360"/>
                <a:ext cx="423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~Q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5714640" y="4954680"/>
                <a:ext cx="131760" cy="152280"/>
              </a:xfrm>
              <a:custGeom>
                <a:avLst/>
                <a:gdLst/>
                <a:ahLst/>
                <a:rect l="l" t="t" r="r" b="b"/>
                <a:pathLst>
                  <a:path w="288" h="332">
                    <a:moveTo>
                      <a:pt x="0" y="0"/>
                    </a:moveTo>
                    <a:lnTo>
                      <a:pt x="288" y="166"/>
                    </a:lnTo>
                    <a:lnTo>
                      <a:pt x="0" y="33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51" name=""/>
          <p:cNvSpPr/>
          <p:nvPr/>
        </p:nvSpPr>
        <p:spPr>
          <a:xfrm>
            <a:off x="4574520" y="5637960"/>
            <a:ext cx="212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CERTO (74LS377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e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gistrador de deslocament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3" name=""/>
          <p:cNvGrpSpPr/>
          <p:nvPr/>
        </p:nvGrpSpPr>
        <p:grpSpPr>
          <a:xfrm>
            <a:off x="1068120" y="1792440"/>
            <a:ext cx="6437160" cy="1135440"/>
            <a:chOff x="1068120" y="1792440"/>
            <a:chExt cx="6437160" cy="1135440"/>
          </a:xfrm>
        </p:grpSpPr>
        <p:sp>
          <p:nvSpPr>
            <p:cNvPr id="754" name=""/>
            <p:cNvSpPr/>
            <p:nvPr/>
          </p:nvSpPr>
          <p:spPr>
            <a:xfrm>
              <a:off x="1752480" y="2743200"/>
              <a:ext cx="457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5" name=""/>
            <p:cNvGrpSpPr/>
            <p:nvPr/>
          </p:nvGrpSpPr>
          <p:grpSpPr>
            <a:xfrm>
              <a:off x="2133720" y="1792440"/>
              <a:ext cx="1143000" cy="950760"/>
              <a:chOff x="2133720" y="1792440"/>
              <a:chExt cx="1143000" cy="950760"/>
            </a:xfrm>
          </p:grpSpPr>
          <p:sp>
            <p:nvSpPr>
              <p:cNvPr id="756" name=""/>
              <p:cNvSpPr/>
              <p:nvPr/>
            </p:nvSpPr>
            <p:spPr>
              <a:xfrm>
                <a:off x="2133720" y="1976400"/>
                <a:ext cx="1143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2133720" y="228132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2360520" y="1792440"/>
                <a:ext cx="630360" cy="6714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2338560" y="185436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2706480" y="1854360"/>
                <a:ext cx="3193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Q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2362320" y="2219400"/>
                <a:ext cx="98280" cy="122040"/>
              </a:xfrm>
              <a:custGeom>
                <a:avLst/>
                <a:gdLst/>
                <a:ahLst/>
                <a:rect l="l" t="t" r="r" b="b"/>
                <a:pathLst>
                  <a:path w="288" h="332">
                    <a:moveTo>
                      <a:pt x="0" y="0"/>
                    </a:moveTo>
                    <a:lnTo>
                      <a:pt x="288" y="166"/>
                    </a:lnTo>
                    <a:lnTo>
                      <a:pt x="0" y="33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2133720" y="2286000"/>
                <a:ext cx="0" cy="45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3" name=""/>
            <p:cNvGrpSpPr/>
            <p:nvPr/>
          </p:nvGrpSpPr>
          <p:grpSpPr>
            <a:xfrm>
              <a:off x="3200400" y="1792440"/>
              <a:ext cx="1143000" cy="950760"/>
              <a:chOff x="3200400" y="1792440"/>
              <a:chExt cx="1143000" cy="950760"/>
            </a:xfrm>
          </p:grpSpPr>
          <p:sp>
            <p:nvSpPr>
              <p:cNvPr id="764" name=""/>
              <p:cNvSpPr/>
              <p:nvPr/>
            </p:nvSpPr>
            <p:spPr>
              <a:xfrm>
                <a:off x="3200400" y="1976400"/>
                <a:ext cx="1143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3200400" y="228132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3427200" y="1792440"/>
                <a:ext cx="630360" cy="6714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3405240" y="185436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3773160" y="1854360"/>
                <a:ext cx="3193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Q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429000" y="2219400"/>
                <a:ext cx="98280" cy="122040"/>
              </a:xfrm>
              <a:custGeom>
                <a:avLst/>
                <a:gdLst/>
                <a:ahLst/>
                <a:rect l="l" t="t" r="r" b="b"/>
                <a:pathLst>
                  <a:path w="288" h="332">
                    <a:moveTo>
                      <a:pt x="0" y="0"/>
                    </a:moveTo>
                    <a:lnTo>
                      <a:pt x="288" y="166"/>
                    </a:lnTo>
                    <a:lnTo>
                      <a:pt x="0" y="33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3200400" y="2286000"/>
                <a:ext cx="0" cy="45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1" name=""/>
            <p:cNvGrpSpPr/>
            <p:nvPr/>
          </p:nvGrpSpPr>
          <p:grpSpPr>
            <a:xfrm>
              <a:off x="4267080" y="1792440"/>
              <a:ext cx="1143000" cy="950760"/>
              <a:chOff x="4267080" y="1792440"/>
              <a:chExt cx="1143000" cy="950760"/>
            </a:xfrm>
          </p:grpSpPr>
          <p:sp>
            <p:nvSpPr>
              <p:cNvPr id="772" name=""/>
              <p:cNvSpPr/>
              <p:nvPr/>
            </p:nvSpPr>
            <p:spPr>
              <a:xfrm>
                <a:off x="4267080" y="1976400"/>
                <a:ext cx="1143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267080" y="228132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4493880" y="1792440"/>
                <a:ext cx="630360" cy="6714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4471920" y="185436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4839840" y="1854360"/>
                <a:ext cx="3193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Q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4495680" y="2219400"/>
                <a:ext cx="98280" cy="122040"/>
              </a:xfrm>
              <a:custGeom>
                <a:avLst/>
                <a:gdLst/>
                <a:ahLst/>
                <a:rect l="l" t="t" r="r" b="b"/>
                <a:pathLst>
                  <a:path w="288" h="332">
                    <a:moveTo>
                      <a:pt x="0" y="0"/>
                    </a:moveTo>
                    <a:lnTo>
                      <a:pt x="288" y="166"/>
                    </a:lnTo>
                    <a:lnTo>
                      <a:pt x="0" y="33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4267080" y="2286000"/>
                <a:ext cx="0" cy="45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9" name=""/>
            <p:cNvGrpSpPr/>
            <p:nvPr/>
          </p:nvGrpSpPr>
          <p:grpSpPr>
            <a:xfrm>
              <a:off x="5334120" y="1792440"/>
              <a:ext cx="1143000" cy="950760"/>
              <a:chOff x="5334120" y="1792440"/>
              <a:chExt cx="1143000" cy="950760"/>
            </a:xfrm>
          </p:grpSpPr>
          <p:sp>
            <p:nvSpPr>
              <p:cNvPr id="780" name=""/>
              <p:cNvSpPr/>
              <p:nvPr/>
            </p:nvSpPr>
            <p:spPr>
              <a:xfrm>
                <a:off x="5334120" y="1976400"/>
                <a:ext cx="1143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5334120" y="228132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5560920" y="1792440"/>
                <a:ext cx="630360" cy="6714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5538960" y="185436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5906880" y="1854360"/>
                <a:ext cx="3193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Q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5562720" y="2219400"/>
                <a:ext cx="98280" cy="122040"/>
              </a:xfrm>
              <a:custGeom>
                <a:avLst/>
                <a:gdLst/>
                <a:ahLst/>
                <a:rect l="l" t="t" r="r" b="b"/>
                <a:pathLst>
                  <a:path w="288" h="332">
                    <a:moveTo>
                      <a:pt x="0" y="0"/>
                    </a:moveTo>
                    <a:lnTo>
                      <a:pt x="288" y="166"/>
                    </a:lnTo>
                    <a:lnTo>
                      <a:pt x="0" y="33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5334120" y="2286000"/>
                <a:ext cx="0" cy="45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87" name=""/>
            <p:cNvSpPr/>
            <p:nvPr/>
          </p:nvSpPr>
          <p:spPr>
            <a:xfrm>
              <a:off x="1676520" y="1981080"/>
              <a:ext cx="533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248520" y="1981080"/>
              <a:ext cx="533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1068120" y="1828440"/>
              <a:ext cx="519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D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885720" y="1828440"/>
              <a:ext cx="619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D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1172520" y="2590560"/>
              <a:ext cx="46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2" name=""/>
          <p:cNvSpPr/>
          <p:nvPr/>
        </p:nvSpPr>
        <p:spPr>
          <a:xfrm>
            <a:off x="1751040" y="3809160"/>
            <a:ext cx="230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Latch ou Flip-Flop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920880" y="4723920"/>
            <a:ext cx="6994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plicaçõ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ULAs têm registradores de deslocamento (esquerda, direita, ane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onversão série </a:t>
            </a:r>
            <a:r>
              <a:rPr b="0" lang="pt-BR" sz="18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paralel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e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ópico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lnSpc>
                <a:spcPct val="11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ircuitos combinacionai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1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multiplexador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1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somadores / subtrator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1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decodificador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1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barramentos 3-state e conexão ponto-a-pont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ircuitos sequenciai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1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latches &amp; FlipFlop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1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registrador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1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ontador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1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máquina de estados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e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Contadores: exemplo toggle count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1143000" y="3733920"/>
            <a:ext cx="3048120" cy="160020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609480" y="2895480"/>
            <a:ext cx="390600" cy="1371600"/>
          </a:xfrm>
          <a:custGeom>
            <a:avLst/>
            <a:gdLst/>
            <a:ahLst/>
            <a:rect l="l" t="t" r="r" b="b"/>
            <a:pathLst>
              <a:path w="246" h="864">
                <a:moveTo>
                  <a:pt x="246" y="0"/>
                </a:moveTo>
                <a:cubicBezTo>
                  <a:pt x="211" y="42"/>
                  <a:pt x="70" y="152"/>
                  <a:pt x="35" y="250"/>
                </a:cubicBezTo>
                <a:cubicBezTo>
                  <a:pt x="0" y="348"/>
                  <a:pt x="0" y="483"/>
                  <a:pt x="35" y="585"/>
                </a:cubicBezTo>
                <a:cubicBezTo>
                  <a:pt x="70" y="687"/>
                  <a:pt x="202" y="806"/>
                  <a:pt x="246" y="864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7" name=""/>
          <p:cNvGrpSpPr/>
          <p:nvPr/>
        </p:nvGrpSpPr>
        <p:grpSpPr>
          <a:xfrm>
            <a:off x="1219320" y="3733560"/>
            <a:ext cx="2971800" cy="1404000"/>
            <a:chOff x="1219320" y="3733560"/>
            <a:chExt cx="2971800" cy="1404000"/>
          </a:xfrm>
        </p:grpSpPr>
        <p:sp>
          <p:nvSpPr>
            <p:cNvPr id="798" name=""/>
            <p:cNvSpPr/>
            <p:nvPr/>
          </p:nvSpPr>
          <p:spPr>
            <a:xfrm>
              <a:off x="1676520" y="414648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1676520" y="445140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1903680" y="3962160"/>
              <a:ext cx="630000" cy="671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1881000" y="4024080"/>
              <a:ext cx="289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2270160" y="4038480"/>
              <a:ext cx="319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1905120" y="4389480"/>
              <a:ext cx="98280" cy="121680"/>
            </a:xfrm>
            <a:custGeom>
              <a:avLst/>
              <a:gdLst/>
              <a:ahLst/>
              <a:rect l="l" t="t" r="r" b="b"/>
              <a:pathLst>
                <a:path w="288" h="332">
                  <a:moveTo>
                    <a:pt x="0" y="0"/>
                  </a:moveTo>
                  <a:lnTo>
                    <a:pt x="288" y="166"/>
                  </a:lnTo>
                  <a:lnTo>
                    <a:pt x="0" y="33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676520" y="4456080"/>
              <a:ext cx="0" cy="456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1219320" y="415116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2703600" y="4723920"/>
              <a:ext cx="420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Q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2743200" y="4138200"/>
              <a:ext cx="0" cy="737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1589040" y="3805200"/>
              <a:ext cx="1536840" cy="309240"/>
            </a:xfrm>
            <a:custGeom>
              <a:avLst/>
              <a:gdLst/>
              <a:ahLst/>
              <a:rect l="l" t="t" r="r" b="b"/>
              <a:pathLst>
                <a:path w="968" h="195">
                  <a:moveTo>
                    <a:pt x="7" y="195"/>
                  </a:moveTo>
                  <a:lnTo>
                    <a:pt x="0" y="3"/>
                  </a:lnTo>
                  <a:lnTo>
                    <a:pt x="754" y="0"/>
                  </a:lnTo>
                  <a:lnTo>
                    <a:pt x="754" y="103"/>
                  </a:lnTo>
                  <a:lnTo>
                    <a:pt x="968" y="103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3124440" y="4038480"/>
              <a:ext cx="533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3429000" y="3733560"/>
              <a:ext cx="762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1296720" y="4800240"/>
              <a:ext cx="46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2971800" y="3886200"/>
              <a:ext cx="304920" cy="304200"/>
            </a:xfrm>
            <a:prstGeom prst="flowChartDelay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3" name=""/>
          <p:cNvGrpSpPr/>
          <p:nvPr/>
        </p:nvGrpSpPr>
        <p:grpSpPr>
          <a:xfrm>
            <a:off x="320040" y="1523880"/>
            <a:ext cx="6780960" cy="1905120"/>
            <a:chOff x="320040" y="1523880"/>
            <a:chExt cx="6780960" cy="1905120"/>
          </a:xfrm>
        </p:grpSpPr>
        <p:sp>
          <p:nvSpPr>
            <p:cNvPr id="814" name=""/>
            <p:cNvSpPr/>
            <p:nvPr/>
          </p:nvSpPr>
          <p:spPr>
            <a:xfrm>
              <a:off x="976320" y="2550960"/>
              <a:ext cx="6124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396360" y="2398320"/>
              <a:ext cx="46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1357200" y="1784520"/>
              <a:ext cx="129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900000" y="178920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18" name=""/>
            <p:cNvGrpSpPr/>
            <p:nvPr/>
          </p:nvGrpSpPr>
          <p:grpSpPr>
            <a:xfrm>
              <a:off x="1357200" y="1600200"/>
              <a:ext cx="1121040" cy="1573200"/>
              <a:chOff x="1357200" y="1600200"/>
              <a:chExt cx="1121040" cy="1573200"/>
            </a:xfrm>
          </p:grpSpPr>
          <p:sp>
            <p:nvSpPr>
              <p:cNvPr id="819" name=""/>
              <p:cNvSpPr/>
              <p:nvPr/>
            </p:nvSpPr>
            <p:spPr>
              <a:xfrm>
                <a:off x="1357200" y="2089080"/>
                <a:ext cx="1067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1584360" y="1600200"/>
                <a:ext cx="630360" cy="6714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1562400" y="166212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1845000" y="1676520"/>
                <a:ext cx="4276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E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1585800" y="2027160"/>
                <a:ext cx="98640" cy="122400"/>
              </a:xfrm>
              <a:custGeom>
                <a:avLst/>
                <a:gdLst/>
                <a:ahLst/>
                <a:rect l="l" t="t" r="r" b="b"/>
                <a:pathLst>
                  <a:path w="288" h="332">
                    <a:moveTo>
                      <a:pt x="0" y="0"/>
                    </a:moveTo>
                    <a:lnTo>
                      <a:pt x="288" y="166"/>
                    </a:lnTo>
                    <a:lnTo>
                      <a:pt x="0" y="33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1357200" y="2093760"/>
                <a:ext cx="0" cy="45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2057400" y="2802600"/>
                <a:ext cx="42084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Q</a:t>
                </a:r>
                <a:r>
                  <a:rPr b="0" lang="en-US" sz="1600" spc="-1" strike="noStrike" baseline="-25000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1954080" y="1952640"/>
                <a:ext cx="3193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Q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 flipV="1">
                <a:off x="2424240" y="2085840"/>
                <a:ext cx="0" cy="1067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8" name=""/>
            <p:cNvGrpSpPr/>
            <p:nvPr/>
          </p:nvGrpSpPr>
          <p:grpSpPr>
            <a:xfrm>
              <a:off x="2271600" y="1600200"/>
              <a:ext cx="1890720" cy="1671480"/>
              <a:chOff x="2271600" y="1600200"/>
              <a:chExt cx="1890720" cy="1671480"/>
            </a:xfrm>
          </p:grpSpPr>
          <p:sp>
            <p:nvSpPr>
              <p:cNvPr id="829" name=""/>
              <p:cNvSpPr/>
              <p:nvPr/>
            </p:nvSpPr>
            <p:spPr>
              <a:xfrm>
                <a:off x="2728800" y="1784520"/>
                <a:ext cx="1295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2728800" y="2089080"/>
                <a:ext cx="1066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2955600" y="1600200"/>
                <a:ext cx="630360" cy="6714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2933640" y="166212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3216240" y="1676520"/>
                <a:ext cx="4276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E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2957400" y="2027160"/>
                <a:ext cx="98280" cy="122400"/>
              </a:xfrm>
              <a:custGeom>
                <a:avLst/>
                <a:gdLst/>
                <a:ahLst/>
                <a:rect l="l" t="t" r="r" b="b"/>
                <a:pathLst>
                  <a:path w="288" h="332">
                    <a:moveTo>
                      <a:pt x="0" y="0"/>
                    </a:moveTo>
                    <a:lnTo>
                      <a:pt x="288" y="166"/>
                    </a:lnTo>
                    <a:lnTo>
                      <a:pt x="0" y="33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2728800" y="2093760"/>
                <a:ext cx="0" cy="45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2271600" y="1789200"/>
                <a:ext cx="533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3741480" y="2900880"/>
                <a:ext cx="42084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Q</a:t>
                </a:r>
                <a:r>
                  <a:rPr b="0" lang="en-US" sz="16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3325320" y="1952640"/>
                <a:ext cx="3193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Q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 flipV="1">
                <a:off x="3795480" y="2085840"/>
                <a:ext cx="0" cy="1067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40" name=""/>
            <p:cNvSpPr/>
            <p:nvPr/>
          </p:nvSpPr>
          <p:spPr>
            <a:xfrm>
              <a:off x="3567240" y="1789200"/>
              <a:ext cx="533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41" name=""/>
            <p:cNvGrpSpPr/>
            <p:nvPr/>
          </p:nvGrpSpPr>
          <p:grpSpPr>
            <a:xfrm>
              <a:off x="4024440" y="1600200"/>
              <a:ext cx="1433520" cy="1649160"/>
              <a:chOff x="4024440" y="1600200"/>
              <a:chExt cx="1433520" cy="1649160"/>
            </a:xfrm>
          </p:grpSpPr>
          <p:sp>
            <p:nvSpPr>
              <p:cNvPr id="842" name=""/>
              <p:cNvSpPr/>
              <p:nvPr/>
            </p:nvSpPr>
            <p:spPr>
              <a:xfrm>
                <a:off x="4024440" y="1784520"/>
                <a:ext cx="1295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4024440" y="2089080"/>
                <a:ext cx="1066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4251240" y="1600200"/>
                <a:ext cx="630360" cy="6714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4229280" y="166212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4511880" y="1676520"/>
                <a:ext cx="4276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E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4253040" y="2027160"/>
                <a:ext cx="98280" cy="122400"/>
              </a:xfrm>
              <a:custGeom>
                <a:avLst/>
                <a:gdLst/>
                <a:ahLst/>
                <a:rect l="l" t="t" r="r" b="b"/>
                <a:pathLst>
                  <a:path w="288" h="332">
                    <a:moveTo>
                      <a:pt x="0" y="0"/>
                    </a:moveTo>
                    <a:lnTo>
                      <a:pt x="288" y="166"/>
                    </a:lnTo>
                    <a:lnTo>
                      <a:pt x="0" y="33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4024440" y="2093760"/>
                <a:ext cx="0" cy="45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5037120" y="2878560"/>
                <a:ext cx="42084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Q</a:t>
                </a:r>
                <a:r>
                  <a:rPr b="0" lang="en-US" sz="16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4620960" y="1952640"/>
                <a:ext cx="3193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Q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V="1">
                <a:off x="5091120" y="2085840"/>
                <a:ext cx="0" cy="1067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2" name=""/>
            <p:cNvGrpSpPr/>
            <p:nvPr/>
          </p:nvGrpSpPr>
          <p:grpSpPr>
            <a:xfrm>
              <a:off x="4876920" y="1600200"/>
              <a:ext cx="1890720" cy="1671480"/>
              <a:chOff x="4876920" y="1600200"/>
              <a:chExt cx="1890720" cy="1671480"/>
            </a:xfrm>
          </p:grpSpPr>
          <p:sp>
            <p:nvSpPr>
              <p:cNvPr id="853" name=""/>
              <p:cNvSpPr/>
              <p:nvPr/>
            </p:nvSpPr>
            <p:spPr>
              <a:xfrm>
                <a:off x="5334120" y="1784520"/>
                <a:ext cx="1295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5334120" y="2089080"/>
                <a:ext cx="1066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5560920" y="1600200"/>
                <a:ext cx="630360" cy="6714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5538960" y="166212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5821560" y="1676520"/>
                <a:ext cx="4276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E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5562720" y="2027160"/>
                <a:ext cx="98280" cy="122400"/>
              </a:xfrm>
              <a:custGeom>
                <a:avLst/>
                <a:gdLst/>
                <a:ahLst/>
                <a:rect l="l" t="t" r="r" b="b"/>
                <a:pathLst>
                  <a:path w="288" h="332">
                    <a:moveTo>
                      <a:pt x="0" y="0"/>
                    </a:moveTo>
                    <a:lnTo>
                      <a:pt x="288" y="166"/>
                    </a:lnTo>
                    <a:lnTo>
                      <a:pt x="0" y="33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5334120" y="2093760"/>
                <a:ext cx="0" cy="45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4876920" y="1789200"/>
                <a:ext cx="533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6346800" y="2900880"/>
                <a:ext cx="42084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Q</a:t>
                </a:r>
                <a:r>
                  <a:rPr b="0" lang="en-US" sz="1600" spc="-1" strike="noStrike" baseline="-25000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5930640" y="1952640"/>
                <a:ext cx="3193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Q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 flipV="1">
                <a:off x="6400800" y="2085840"/>
                <a:ext cx="0" cy="1067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64" name=""/>
            <p:cNvSpPr/>
            <p:nvPr/>
          </p:nvSpPr>
          <p:spPr>
            <a:xfrm>
              <a:off x="320040" y="1577520"/>
              <a:ext cx="46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1066680" y="1523880"/>
              <a:ext cx="1524240" cy="1905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6" name=""/>
          <p:cNvSpPr/>
          <p:nvPr/>
        </p:nvSpPr>
        <p:spPr>
          <a:xfrm>
            <a:off x="5336280" y="4038480"/>
            <a:ext cx="26082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plicaçõ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temporizad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rogram Counter (P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Increm.  / Decre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UL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e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ercício registrado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2062080" y="1523520"/>
            <a:ext cx="4546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jetar um registrador de deslocament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querda / direita com carga paralel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pecificar os sinais de contro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9" name=""/>
          <p:cNvGrpSpPr/>
          <p:nvPr/>
        </p:nvGrpSpPr>
        <p:grpSpPr>
          <a:xfrm>
            <a:off x="1447560" y="3276720"/>
            <a:ext cx="6019920" cy="1143000"/>
            <a:chOff x="1447560" y="3276720"/>
            <a:chExt cx="6019920" cy="1143000"/>
          </a:xfrm>
        </p:grpSpPr>
        <p:sp>
          <p:nvSpPr>
            <p:cNvPr id="870" name=""/>
            <p:cNvSpPr/>
            <p:nvPr/>
          </p:nvSpPr>
          <p:spPr>
            <a:xfrm>
              <a:off x="1981080" y="3809880"/>
              <a:ext cx="838440" cy="6098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362320" y="327672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1447920" y="3962520"/>
              <a:ext cx="533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3352680" y="3809880"/>
              <a:ext cx="838440" cy="6098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3733920" y="327672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2819520" y="3962520"/>
              <a:ext cx="533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4724280" y="3809880"/>
              <a:ext cx="838440" cy="6098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5105520" y="327672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4191120" y="3962520"/>
              <a:ext cx="533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5880" y="3809880"/>
              <a:ext cx="838440" cy="6098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6477120" y="327672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5562720" y="3962520"/>
              <a:ext cx="533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 flipH="1">
              <a:off x="2819160" y="4191120"/>
              <a:ext cx="533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 flipH="1">
              <a:off x="1447560" y="4191120"/>
              <a:ext cx="533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 flipH="1">
              <a:off x="4190760" y="4191120"/>
              <a:ext cx="533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 flipH="1">
              <a:off x="5562360" y="4191120"/>
              <a:ext cx="533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 flipH="1">
              <a:off x="6933960" y="4191120"/>
              <a:ext cx="533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6934320" y="3962520"/>
              <a:ext cx="533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e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"/>
          <p:cNvSpPr/>
          <p:nvPr/>
        </p:nvSpPr>
        <p:spPr>
          <a:xfrm>
            <a:off x="4572000" y="1905120"/>
            <a:ext cx="4191120" cy="396216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228600" y="1905120"/>
            <a:ext cx="4038480" cy="396216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áquina de Estado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1904760" y="1142280"/>
            <a:ext cx="442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ircuito Sequencial Síncrono Genér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2" name=""/>
          <p:cNvGrpSpPr/>
          <p:nvPr/>
        </p:nvGrpSpPr>
        <p:grpSpPr>
          <a:xfrm>
            <a:off x="306720" y="2437560"/>
            <a:ext cx="3828600" cy="1600920"/>
            <a:chOff x="306720" y="2437560"/>
            <a:chExt cx="3828600" cy="1600920"/>
          </a:xfrm>
        </p:grpSpPr>
        <p:sp>
          <p:nvSpPr>
            <p:cNvPr id="893" name=""/>
            <p:cNvSpPr/>
            <p:nvPr/>
          </p:nvSpPr>
          <p:spPr>
            <a:xfrm>
              <a:off x="1051200" y="2590920"/>
              <a:ext cx="609480" cy="1066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94" name=""/>
            <p:cNvGrpSpPr/>
            <p:nvPr/>
          </p:nvGrpSpPr>
          <p:grpSpPr>
            <a:xfrm>
              <a:off x="2196000" y="2682360"/>
              <a:ext cx="427680" cy="975240"/>
              <a:chOff x="2196000" y="2682360"/>
              <a:chExt cx="427680" cy="975240"/>
            </a:xfrm>
          </p:grpSpPr>
          <p:sp>
            <p:nvSpPr>
              <p:cNvPr id="895" name=""/>
              <p:cNvSpPr/>
              <p:nvPr/>
            </p:nvSpPr>
            <p:spPr>
              <a:xfrm>
                <a:off x="2270160" y="2971800"/>
                <a:ext cx="228600" cy="6858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2275200" y="3048120"/>
                <a:ext cx="223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2270160" y="3124080"/>
                <a:ext cx="223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2270160" y="3200400"/>
                <a:ext cx="223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2270160" y="3276720"/>
                <a:ext cx="223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2270160" y="3505320"/>
                <a:ext cx="223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2270160" y="3581280"/>
                <a:ext cx="223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2196000" y="2682360"/>
                <a:ext cx="427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FF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03" name=""/>
            <p:cNvSpPr/>
            <p:nvPr/>
          </p:nvSpPr>
          <p:spPr>
            <a:xfrm>
              <a:off x="1660680" y="320040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2498760" y="320040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2955960" y="2867040"/>
              <a:ext cx="457200" cy="685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594000" y="3200400"/>
              <a:ext cx="2057400" cy="838080"/>
            </a:xfrm>
            <a:custGeom>
              <a:avLst/>
              <a:gdLst/>
              <a:ahLst/>
              <a:rect l="l" t="t" r="r" b="b"/>
              <a:pathLst>
                <a:path w="1488" h="720">
                  <a:moveTo>
                    <a:pt x="1488" y="0"/>
                  </a:moveTo>
                  <a:lnTo>
                    <a:pt x="1488" y="720"/>
                  </a:lnTo>
                  <a:lnTo>
                    <a:pt x="0" y="720"/>
                  </a:lnTo>
                  <a:lnTo>
                    <a:pt x="0" y="48"/>
                  </a:lnTo>
                  <a:lnTo>
                    <a:pt x="288" y="48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583720" y="2766600"/>
              <a:ext cx="3618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1675440" y="2723760"/>
              <a:ext cx="5130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i+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13160" y="3200400"/>
              <a:ext cx="533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517680" y="2743200"/>
              <a:ext cx="533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306720" y="243756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3802320" y="281880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3" name=""/>
          <p:cNvGrpSpPr/>
          <p:nvPr/>
        </p:nvGrpSpPr>
        <p:grpSpPr>
          <a:xfrm>
            <a:off x="4894560" y="2513880"/>
            <a:ext cx="2941200" cy="1600920"/>
            <a:chOff x="4894560" y="2513880"/>
            <a:chExt cx="2941200" cy="1600920"/>
          </a:xfrm>
        </p:grpSpPr>
        <p:sp>
          <p:nvSpPr>
            <p:cNvPr id="914" name=""/>
            <p:cNvSpPr/>
            <p:nvPr/>
          </p:nvSpPr>
          <p:spPr>
            <a:xfrm>
              <a:off x="5638680" y="2666880"/>
              <a:ext cx="609840" cy="10670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15" name=""/>
            <p:cNvGrpSpPr/>
            <p:nvPr/>
          </p:nvGrpSpPr>
          <p:grpSpPr>
            <a:xfrm>
              <a:off x="6783480" y="2958840"/>
              <a:ext cx="427680" cy="974520"/>
              <a:chOff x="6783480" y="2958840"/>
              <a:chExt cx="427680" cy="974520"/>
            </a:xfrm>
          </p:grpSpPr>
          <p:sp>
            <p:nvSpPr>
              <p:cNvPr id="916" name=""/>
              <p:cNvSpPr/>
              <p:nvPr/>
            </p:nvSpPr>
            <p:spPr>
              <a:xfrm>
                <a:off x="6857640" y="3247920"/>
                <a:ext cx="228600" cy="6854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6862680" y="3324240"/>
                <a:ext cx="223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6857640" y="3400200"/>
                <a:ext cx="223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6857640" y="3476520"/>
                <a:ext cx="223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6857640" y="3552840"/>
                <a:ext cx="223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6857640" y="3781440"/>
                <a:ext cx="223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6857640" y="3857400"/>
                <a:ext cx="223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6783480" y="2958840"/>
                <a:ext cx="427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FF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24" name=""/>
            <p:cNvSpPr/>
            <p:nvPr/>
          </p:nvSpPr>
          <p:spPr>
            <a:xfrm>
              <a:off x="6248520" y="347652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5105520" y="3476520"/>
              <a:ext cx="2400120" cy="638280"/>
            </a:xfrm>
            <a:custGeom>
              <a:avLst/>
              <a:gdLst/>
              <a:ahLst/>
              <a:rect l="l" t="t" r="r" b="b"/>
              <a:pathLst>
                <a:path w="1512" h="493">
                  <a:moveTo>
                    <a:pt x="1248" y="13"/>
                  </a:moveTo>
                  <a:lnTo>
                    <a:pt x="1512" y="13"/>
                  </a:lnTo>
                  <a:lnTo>
                    <a:pt x="1512" y="493"/>
                  </a:lnTo>
                  <a:lnTo>
                    <a:pt x="0" y="493"/>
                  </a:lnTo>
                  <a:lnTo>
                    <a:pt x="0" y="0"/>
                  </a:lnTo>
                  <a:lnTo>
                    <a:pt x="334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7171560" y="3090600"/>
              <a:ext cx="3618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6263280" y="3047760"/>
              <a:ext cx="5130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i+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6248520" y="2924280"/>
              <a:ext cx="1371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5105520" y="2819520"/>
              <a:ext cx="533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4894560" y="251388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7502760" y="265212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2" name=""/>
          <p:cNvSpPr/>
          <p:nvPr/>
        </p:nvSpPr>
        <p:spPr>
          <a:xfrm>
            <a:off x="1296000" y="2056680"/>
            <a:ext cx="218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Máquina de Moo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41640" y="205668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Máquina de Mea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917640" y="4800240"/>
            <a:ext cx="250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aída Y muda apenas </a:t>
            </a:r>
            <a:br>
              <a:rPr sz="1800"/>
            </a:b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na transição do c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5184720" y="4663800"/>
            <a:ext cx="2654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ída Y pode mudar em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alquer instante, em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ção da entrada 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e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6" name=""/>
          <p:cNvGraphicFramePr/>
          <p:nvPr/>
        </p:nvGraphicFramePr>
        <p:xfrm>
          <a:off x="3197160" y="993600"/>
          <a:ext cx="6122880" cy="4027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97160" y="993600"/>
                    <a:ext cx="6122880" cy="402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íntese de uma máquina de estado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9" name=""/>
          <p:cNvGrpSpPr/>
          <p:nvPr/>
        </p:nvGrpSpPr>
        <p:grpSpPr>
          <a:xfrm>
            <a:off x="609480" y="1343160"/>
            <a:ext cx="2241360" cy="2847240"/>
            <a:chOff x="609480" y="1343160"/>
            <a:chExt cx="2241360" cy="2847240"/>
          </a:xfrm>
        </p:grpSpPr>
        <p:sp>
          <p:nvSpPr>
            <p:cNvPr id="940" name=""/>
            <p:cNvSpPr/>
            <p:nvPr/>
          </p:nvSpPr>
          <p:spPr>
            <a:xfrm>
              <a:off x="1504440" y="1739880"/>
              <a:ext cx="435960" cy="4359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2415240" y="2549520"/>
              <a:ext cx="435600" cy="4356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1504440" y="3359160"/>
              <a:ext cx="435960" cy="4359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609480" y="2549520"/>
              <a:ext cx="435960" cy="4356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1979280" y="1926720"/>
              <a:ext cx="622800" cy="622800"/>
            </a:xfrm>
            <a:custGeom>
              <a:avLst/>
              <a:gdLst/>
              <a:ahLst/>
              <a:rect l="l" t="t" r="r" b="b"/>
              <a:pathLst>
                <a:path w="528" h="432">
                  <a:moveTo>
                    <a:pt x="0" y="0"/>
                  </a:moveTo>
                  <a:cubicBezTo>
                    <a:pt x="48" y="24"/>
                    <a:pt x="203" y="72"/>
                    <a:pt x="291" y="144"/>
                  </a:cubicBezTo>
                  <a:cubicBezTo>
                    <a:pt x="379" y="216"/>
                    <a:pt x="479" y="372"/>
                    <a:pt x="528" y="432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 flipH="1">
              <a:off x="858600" y="1926720"/>
              <a:ext cx="622800" cy="622800"/>
            </a:xfrm>
            <a:custGeom>
              <a:avLst/>
              <a:gdLst/>
              <a:ahLst/>
              <a:rect l="l" t="t" r="r" b="b"/>
              <a:pathLst>
                <a:path w="528" h="432">
                  <a:moveTo>
                    <a:pt x="0" y="0"/>
                  </a:moveTo>
                  <a:cubicBezTo>
                    <a:pt x="48" y="24"/>
                    <a:pt x="203" y="72"/>
                    <a:pt x="291" y="144"/>
                  </a:cubicBezTo>
                  <a:cubicBezTo>
                    <a:pt x="379" y="216"/>
                    <a:pt x="479" y="372"/>
                    <a:pt x="528" y="432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 flipH="1" flipV="1">
              <a:off x="858600" y="2985480"/>
              <a:ext cx="622800" cy="622800"/>
            </a:xfrm>
            <a:custGeom>
              <a:avLst/>
              <a:gdLst/>
              <a:ahLst/>
              <a:rect l="l" t="t" r="r" b="b"/>
              <a:pathLst>
                <a:path w="528" h="432">
                  <a:moveTo>
                    <a:pt x="0" y="0"/>
                  </a:moveTo>
                  <a:cubicBezTo>
                    <a:pt x="48" y="24"/>
                    <a:pt x="203" y="72"/>
                    <a:pt x="291" y="144"/>
                  </a:cubicBezTo>
                  <a:cubicBezTo>
                    <a:pt x="379" y="216"/>
                    <a:pt x="479" y="372"/>
                    <a:pt x="528" y="432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1917000" y="2985480"/>
              <a:ext cx="685080" cy="685080"/>
            </a:xfrm>
            <a:custGeom>
              <a:avLst/>
              <a:gdLst/>
              <a:ahLst/>
              <a:rect l="l" t="t" r="r" b="b"/>
              <a:pathLst>
                <a:path w="480" h="480">
                  <a:moveTo>
                    <a:pt x="480" y="0"/>
                  </a:moveTo>
                  <a:cubicBezTo>
                    <a:pt x="449" y="48"/>
                    <a:pt x="375" y="206"/>
                    <a:pt x="295" y="286"/>
                  </a:cubicBezTo>
                  <a:cubicBezTo>
                    <a:pt x="215" y="366"/>
                    <a:pt x="61" y="440"/>
                    <a:pt x="0" y="48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1543320" y="1343160"/>
              <a:ext cx="373320" cy="446040"/>
            </a:xfrm>
            <a:custGeom>
              <a:avLst/>
              <a:gdLst/>
              <a:ahLst/>
              <a:rect l="l" t="t" r="r" b="b"/>
              <a:pathLst>
                <a:path w="549" h="703">
                  <a:moveTo>
                    <a:pt x="75" y="703"/>
                  </a:moveTo>
                  <a:cubicBezTo>
                    <a:pt x="63" y="644"/>
                    <a:pt x="0" y="450"/>
                    <a:pt x="1" y="352"/>
                  </a:cubicBezTo>
                  <a:cubicBezTo>
                    <a:pt x="2" y="254"/>
                    <a:pt x="36" y="171"/>
                    <a:pt x="81" y="112"/>
                  </a:cubicBezTo>
                  <a:cubicBezTo>
                    <a:pt x="126" y="53"/>
                    <a:pt x="208" y="0"/>
                    <a:pt x="273" y="0"/>
                  </a:cubicBezTo>
                  <a:cubicBezTo>
                    <a:pt x="338" y="0"/>
                    <a:pt x="424" y="51"/>
                    <a:pt x="469" y="111"/>
                  </a:cubicBezTo>
                  <a:cubicBezTo>
                    <a:pt x="514" y="171"/>
                    <a:pt x="541" y="266"/>
                    <a:pt x="545" y="363"/>
                  </a:cubicBezTo>
                  <a:cubicBezTo>
                    <a:pt x="549" y="460"/>
                    <a:pt x="506" y="625"/>
                    <a:pt x="495" y="694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 flipV="1">
              <a:off x="1520280" y="3744000"/>
              <a:ext cx="373320" cy="446040"/>
            </a:xfrm>
            <a:custGeom>
              <a:avLst/>
              <a:gdLst/>
              <a:ahLst/>
              <a:rect l="l" t="t" r="r" b="b"/>
              <a:pathLst>
                <a:path w="549" h="703">
                  <a:moveTo>
                    <a:pt x="75" y="703"/>
                  </a:moveTo>
                  <a:cubicBezTo>
                    <a:pt x="63" y="644"/>
                    <a:pt x="0" y="450"/>
                    <a:pt x="1" y="352"/>
                  </a:cubicBezTo>
                  <a:cubicBezTo>
                    <a:pt x="2" y="254"/>
                    <a:pt x="36" y="171"/>
                    <a:pt x="81" y="112"/>
                  </a:cubicBezTo>
                  <a:cubicBezTo>
                    <a:pt x="126" y="53"/>
                    <a:pt x="208" y="0"/>
                    <a:pt x="273" y="0"/>
                  </a:cubicBezTo>
                  <a:cubicBezTo>
                    <a:pt x="338" y="0"/>
                    <a:pt x="424" y="51"/>
                    <a:pt x="469" y="111"/>
                  </a:cubicBezTo>
                  <a:cubicBezTo>
                    <a:pt x="514" y="171"/>
                    <a:pt x="541" y="266"/>
                    <a:pt x="545" y="363"/>
                  </a:cubicBezTo>
                  <a:cubicBezTo>
                    <a:pt x="549" y="460"/>
                    <a:pt x="506" y="625"/>
                    <a:pt x="495" y="694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1045440" y="2549520"/>
              <a:ext cx="1369800" cy="124200"/>
            </a:xfrm>
            <a:custGeom>
              <a:avLst/>
              <a:gdLst/>
              <a:ahLst/>
              <a:rect l="l" t="t" r="r" b="b"/>
              <a:pathLst>
                <a:path w="1392" h="112">
                  <a:moveTo>
                    <a:pt x="0" y="112"/>
                  </a:moveTo>
                  <a:cubicBezTo>
                    <a:pt x="164" y="72"/>
                    <a:pt x="328" y="32"/>
                    <a:pt x="480" y="16"/>
                  </a:cubicBezTo>
                  <a:cubicBezTo>
                    <a:pt x="632" y="0"/>
                    <a:pt x="760" y="0"/>
                    <a:pt x="912" y="16"/>
                  </a:cubicBezTo>
                  <a:cubicBezTo>
                    <a:pt x="1064" y="32"/>
                    <a:pt x="1312" y="96"/>
                    <a:pt x="1392" y="112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1" name=""/>
          <p:cNvSpPr/>
          <p:nvPr/>
        </p:nvSpPr>
        <p:spPr>
          <a:xfrm>
            <a:off x="78480" y="4799880"/>
            <a:ext cx="397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agrama de Transição de Esta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3402360" y="2513880"/>
            <a:ext cx="586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2212200" y="1567800"/>
            <a:ext cx="82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Moore</a:t>
            </a:r>
            <a:br>
              <a:rPr sz="1800"/>
            </a:b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nt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77760" y="1447200"/>
            <a:ext cx="132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Mealy</a:t>
            </a:r>
            <a:br>
              <a:rPr sz="1800"/>
            </a:b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ntr / saí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4731840" y="4723560"/>
            <a:ext cx="366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bela de Transição de Esta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e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56" name=""/>
          <p:cNvGraphicFramePr/>
          <p:nvPr/>
        </p:nvGraphicFramePr>
        <p:xfrm>
          <a:off x="-461880" y="530280"/>
          <a:ext cx="6122880" cy="4027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461880" y="530280"/>
                    <a:ext cx="6122880" cy="402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íntese de uma máquina de estado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>
            <a:off x="5740560" y="1572840"/>
            <a:ext cx="267336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odificação dos esta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= 00 et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1600200" y="4077720"/>
            <a:ext cx="5289480" cy="20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quações booleanas dos circuitos combinaciona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Arial"/>
              </a:rPr>
              <a:t>i+1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= f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(S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, X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Y    = f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(S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, X)       (em maq. de Moore, só 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intetizar os C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lementos de memória podem ser</a:t>
            </a:r>
            <a:br>
              <a:rPr sz="1800"/>
            </a:b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FF-D ou FF-J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e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plicações de máquina de Estado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2" name=""/>
          <p:cNvGrpSpPr/>
          <p:nvPr/>
        </p:nvGrpSpPr>
        <p:grpSpPr>
          <a:xfrm>
            <a:off x="4184640" y="1517760"/>
            <a:ext cx="4654440" cy="3816360"/>
            <a:chOff x="4184640" y="1517760"/>
            <a:chExt cx="4654440" cy="3816360"/>
          </a:xfrm>
        </p:grpSpPr>
        <p:sp>
          <p:nvSpPr>
            <p:cNvPr id="963" name=""/>
            <p:cNvSpPr/>
            <p:nvPr/>
          </p:nvSpPr>
          <p:spPr>
            <a:xfrm>
              <a:off x="5943600" y="1898640"/>
              <a:ext cx="1447920" cy="533520"/>
            </a:xfrm>
            <a:prstGeom prst="flowChartProcess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r 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struçã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4800600" y="3880080"/>
              <a:ext cx="4038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5105520" y="3880080"/>
              <a:ext cx="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4850280" y="4458600"/>
              <a:ext cx="662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D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6095880" y="3880080"/>
              <a:ext cx="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162920" y="3880080"/>
              <a:ext cx="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969" name=""/>
            <p:cNvCxnSpPr>
              <a:stCxn id="963" idx="2"/>
              <a:endCxn id="970" idx="0"/>
            </p:cNvCxnSpPr>
            <p:nvPr/>
          </p:nvCxnSpPr>
          <p:spPr>
            <a:xfrm>
              <a:off x="6667200" y="2432160"/>
              <a:ext cx="1080" cy="45792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71" name=""/>
            <p:cNvSpPr/>
            <p:nvPr/>
          </p:nvSpPr>
          <p:spPr>
            <a:xfrm>
              <a:off x="6629400" y="3041640"/>
              <a:ext cx="0" cy="83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572000" y="4260960"/>
              <a:ext cx="914400" cy="533520"/>
            </a:xfrm>
            <a:prstGeom prst="flowChartProcess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D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5638680" y="4260960"/>
              <a:ext cx="914400" cy="533520"/>
            </a:xfrm>
            <a:prstGeom prst="flowChartProcess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U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6781680" y="4260960"/>
              <a:ext cx="914400" cy="533520"/>
            </a:xfrm>
            <a:prstGeom prst="flowChartProcess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JUM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4572000" y="5327640"/>
              <a:ext cx="4114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4184640" y="1517760"/>
              <a:ext cx="2449440" cy="3816360"/>
            </a:xfrm>
            <a:custGeom>
              <a:avLst/>
              <a:gdLst/>
              <a:ahLst/>
              <a:rect l="l" t="t" r="r" b="b"/>
              <a:pathLst>
                <a:path w="1543" h="2644">
                  <a:moveTo>
                    <a:pt x="240" y="2644"/>
                  </a:moveTo>
                  <a:cubicBezTo>
                    <a:pt x="160" y="2644"/>
                    <a:pt x="80" y="2644"/>
                    <a:pt x="0" y="2644"/>
                  </a:cubicBezTo>
                  <a:lnTo>
                    <a:pt x="0" y="0"/>
                  </a:lnTo>
                  <a:lnTo>
                    <a:pt x="1540" y="0"/>
                  </a:lnTo>
                  <a:lnTo>
                    <a:pt x="1543" y="244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5105520" y="479448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6095880" y="479448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7162920" y="479448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5943600" y="2889360"/>
              <a:ext cx="1447920" cy="533520"/>
            </a:xfrm>
            <a:prstGeom prst="flowChartProcess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ecodificar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instruçã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0" name=""/>
          <p:cNvSpPr/>
          <p:nvPr/>
        </p:nvSpPr>
        <p:spPr>
          <a:xfrm>
            <a:off x="175320" y="2682720"/>
            <a:ext cx="3846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ontrole de seqüência de açõ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Unidade de controle de CP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eqüência de ações </a:t>
            </a:r>
            <a:r>
              <a:rPr b="0" lang="pt-BR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fluxogra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Mapeamento diret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fluxograma </a:t>
            </a:r>
            <a:r>
              <a:rPr b="0" lang="pt-BR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maq de esta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e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5410080" y="2971800"/>
            <a:ext cx="228600" cy="121932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1219320"/>
              <a:gd name="textAreaBottom" fmla="*/ 1204560 h 1219320"/>
            </a:gdLst>
            <a:ahLst/>
            <a:rect l="textAreaLeft" t="textAreaTop" r="textAreaRight" b="textAreaBottom"/>
            <a:pathLst>
              <a:path w="21600" h="115064">
                <a:moveTo>
                  <a:pt x="4767" y="0"/>
                </a:moveTo>
                <a:arcTo wR="4767" hR="4767" stAng="16200000" swAng="-5400000"/>
                <a:lnTo>
                  <a:pt x="0" y="110297"/>
                </a:lnTo>
                <a:arcTo wR="4767" hR="4767" stAng="10800000" swAng="-5400000"/>
                <a:lnTo>
                  <a:pt x="16833" y="115064"/>
                </a:lnTo>
                <a:arcTo wR="4767" hR="4767" stAng="5400000" swAng="-5400000"/>
                <a:lnTo>
                  <a:pt x="21600" y="4767"/>
                </a:lnTo>
                <a:arcTo wR="4767" hR="4767" stAng="0" swAng="-5400000"/>
                <a:close/>
              </a:path>
            </a:pathLst>
          </a:cu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257800" y="3273480"/>
            <a:ext cx="687240" cy="230040"/>
          </a:xfrm>
          <a:prstGeom prst="roundRect">
            <a:avLst>
              <a:gd name="adj" fmla="val 16667"/>
            </a:avLst>
          </a:prstGeom>
          <a:solidFill>
            <a:srgbClr val="ccffcc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4340160" y="2585880"/>
          <a:ext cx="3756240" cy="2271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40160" y="2585880"/>
                    <a:ext cx="3756240" cy="227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1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Circuitos Combinacionai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457200" y="2209680"/>
          <a:ext cx="3701880" cy="35928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2209680"/>
                    <a:ext cx="3701880" cy="359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1447920" y="1752480"/>
            <a:ext cx="190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ela Verd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334120" y="175248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Mapa de Karnaug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029200" y="4495680"/>
            <a:ext cx="228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ída y em função das 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mbinações de entra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e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1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Multiplexador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457200" y="3124080"/>
          <a:ext cx="2394000" cy="2055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124080"/>
                    <a:ext cx="2394000" cy="205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"/>
          <p:cNvSpPr/>
          <p:nvPr/>
        </p:nvSpPr>
        <p:spPr>
          <a:xfrm>
            <a:off x="5791320" y="1600200"/>
            <a:ext cx="914400" cy="533520"/>
          </a:xfrm>
          <a:custGeom>
            <a:avLst/>
            <a:gdLst/>
            <a:ahLst/>
            <a:rect l="l" t="t" r="r" b="b"/>
            <a:pathLst>
              <a:path w="576" h="336">
                <a:moveTo>
                  <a:pt x="0" y="0"/>
                </a:moveTo>
                <a:lnTo>
                  <a:pt x="432" y="0"/>
                </a:lnTo>
                <a:lnTo>
                  <a:pt x="432" y="336"/>
                </a:lnTo>
                <a:lnTo>
                  <a:pt x="576" y="336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791320" y="2362320"/>
            <a:ext cx="914400" cy="685800"/>
          </a:xfrm>
          <a:custGeom>
            <a:avLst/>
            <a:gdLst/>
            <a:ahLst/>
            <a:rect l="l" t="t" r="r" b="b"/>
            <a:pathLst>
              <a:path w="576" h="432">
                <a:moveTo>
                  <a:pt x="0" y="432"/>
                </a:moveTo>
                <a:lnTo>
                  <a:pt x="480" y="432"/>
                </a:lnTo>
                <a:lnTo>
                  <a:pt x="480" y="0"/>
                </a:lnTo>
                <a:lnTo>
                  <a:pt x="528" y="13"/>
                </a:lnTo>
                <a:lnTo>
                  <a:pt x="576" y="13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791320" y="2057400"/>
            <a:ext cx="1143000" cy="152280"/>
          </a:xfrm>
          <a:custGeom>
            <a:avLst/>
            <a:gdLst/>
            <a:ahLst/>
            <a:rect l="l" t="t" r="r" b="b"/>
            <a:pathLst>
              <a:path w="720" h="96">
                <a:moveTo>
                  <a:pt x="0" y="0"/>
                </a:moveTo>
                <a:lnTo>
                  <a:pt x="192" y="0"/>
                </a:lnTo>
                <a:lnTo>
                  <a:pt x="192" y="96"/>
                </a:lnTo>
                <a:lnTo>
                  <a:pt x="720" y="96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791320" y="2286000"/>
            <a:ext cx="1143000" cy="228600"/>
          </a:xfrm>
          <a:custGeom>
            <a:avLst/>
            <a:gdLst/>
            <a:ahLst/>
            <a:rect l="l" t="t" r="r" b="b"/>
            <a:pathLst>
              <a:path w="720" h="144">
                <a:moveTo>
                  <a:pt x="0" y="144"/>
                </a:moveTo>
                <a:lnTo>
                  <a:pt x="192" y="144"/>
                </a:lnTo>
                <a:lnTo>
                  <a:pt x="192" y="0"/>
                </a:lnTo>
                <a:lnTo>
                  <a:pt x="720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4114800" y="1219320"/>
            <a:ext cx="3813120" cy="28605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6553080" y="1905120"/>
            <a:ext cx="1003320" cy="752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657600" y="27432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657600" y="22096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5760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657600" y="13716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191120" y="40384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800600" y="4038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848720" y="205740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943600" y="3809880"/>
            <a:ext cx="27432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plicaçõ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roteamento de sina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transferência de da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eleção de alternativ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(barrament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457200" y="990720"/>
            <a:ext cx="2057400" cy="1752480"/>
            <a:chOff x="457200" y="990720"/>
            <a:chExt cx="2057400" cy="1752480"/>
          </a:xfrm>
        </p:grpSpPr>
        <p:grpSp>
          <p:nvGrpSpPr>
            <p:cNvPr id="74" name=""/>
            <p:cNvGrpSpPr/>
            <p:nvPr/>
          </p:nvGrpSpPr>
          <p:grpSpPr>
            <a:xfrm>
              <a:off x="1447920" y="1752480"/>
              <a:ext cx="1066680" cy="368280"/>
              <a:chOff x="1447920" y="1752480"/>
              <a:chExt cx="1066680" cy="368280"/>
            </a:xfrm>
          </p:grpSpPr>
          <p:sp>
            <p:nvSpPr>
              <p:cNvPr id="75" name=""/>
              <p:cNvSpPr/>
              <p:nvPr/>
            </p:nvSpPr>
            <p:spPr>
              <a:xfrm>
                <a:off x="1447920" y="2057040"/>
                <a:ext cx="7621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1981440" y="1752480"/>
                <a:ext cx="533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38080" y="1676520"/>
              <a:ext cx="762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57200" y="1371600"/>
              <a:ext cx="5335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38080" y="1981080"/>
              <a:ext cx="762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57200" y="1676520"/>
              <a:ext cx="5335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838080" y="2228760"/>
              <a:ext cx="762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57200" y="1924200"/>
              <a:ext cx="5335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838080" y="2514600"/>
              <a:ext cx="762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7200" y="2209680"/>
              <a:ext cx="5335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600200" y="1371600"/>
              <a:ext cx="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447920" y="1371600"/>
              <a:ext cx="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flipV="1" rot="5400000">
              <a:off x="876240" y="1866960"/>
              <a:ext cx="1295280" cy="457200"/>
            </a:xfrm>
            <a:custGeom>
              <a:avLst/>
              <a:gdLst>
                <a:gd name="textAreaLeft" fmla="*/ 280440 w 1295280"/>
                <a:gd name="textAreaRight" fmla="*/ 1014840 w 1295280"/>
                <a:gd name="textAreaTop" fmla="*/ 99000 h 457200"/>
                <a:gd name="textAreaBottom" fmla="*/ 35820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329" y="21600"/>
                  </a:lnTo>
                  <a:lnTo>
                    <a:pt x="5271" y="2160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143000" y="990720"/>
              <a:ext cx="5335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371600" y="990720"/>
              <a:ext cx="5335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123920" y="1514520"/>
              <a:ext cx="53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123920" y="1781280"/>
              <a:ext cx="53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123920" y="2057400"/>
              <a:ext cx="53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3920" y="2314440"/>
              <a:ext cx="53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e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1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Somadores / ULA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76320" y="1143000"/>
            <a:ext cx="4266720" cy="1593000"/>
            <a:chOff x="76320" y="1143000"/>
            <a:chExt cx="4266720" cy="1593000"/>
          </a:xfrm>
        </p:grpSpPr>
        <p:grpSp>
          <p:nvGrpSpPr>
            <p:cNvPr id="96" name=""/>
            <p:cNvGrpSpPr/>
            <p:nvPr/>
          </p:nvGrpSpPr>
          <p:grpSpPr>
            <a:xfrm>
              <a:off x="228240" y="1143000"/>
              <a:ext cx="4114800" cy="1593000"/>
              <a:chOff x="228240" y="1143000"/>
              <a:chExt cx="4114800" cy="1593000"/>
            </a:xfrm>
          </p:grpSpPr>
          <p:cxnSp>
            <p:nvCxnSpPr>
              <p:cNvPr id="97" name=""/>
              <p:cNvCxnSpPr>
                <a:stCxn id="98" idx="1"/>
                <a:endCxn id="99" idx="3"/>
              </p:cNvCxnSpPr>
              <p:nvPr/>
            </p:nvCxnSpPr>
            <p:spPr>
              <a:xfrm flipH="1">
                <a:off x="2926800" y="1923840"/>
                <a:ext cx="269640" cy="576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100" name=""/>
              <p:cNvCxnSpPr>
                <a:stCxn id="99" idx="1"/>
                <a:endCxn id="101" idx="3"/>
              </p:cNvCxnSpPr>
              <p:nvPr/>
            </p:nvCxnSpPr>
            <p:spPr>
              <a:xfrm flipH="1">
                <a:off x="2049480" y="1928520"/>
                <a:ext cx="337680" cy="108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102" name=""/>
              <p:cNvCxnSpPr>
                <a:stCxn id="103" idx="1"/>
                <a:endCxn id="104" idx="3"/>
              </p:cNvCxnSpPr>
              <p:nvPr/>
            </p:nvCxnSpPr>
            <p:spPr>
              <a:xfrm flipH="1">
                <a:off x="1171800" y="1904040"/>
                <a:ext cx="338040" cy="2484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  <p:grpSp>
            <p:nvGrpSpPr>
              <p:cNvPr id="105" name=""/>
              <p:cNvGrpSpPr/>
              <p:nvPr/>
            </p:nvGrpSpPr>
            <p:grpSpPr>
              <a:xfrm>
                <a:off x="3129120" y="1143000"/>
                <a:ext cx="802080" cy="1586880"/>
                <a:chOff x="3129120" y="1143000"/>
                <a:chExt cx="802080" cy="1586880"/>
              </a:xfrm>
            </p:grpSpPr>
            <p:grpSp>
              <p:nvGrpSpPr>
                <p:cNvPr id="106" name=""/>
                <p:cNvGrpSpPr/>
                <p:nvPr/>
              </p:nvGrpSpPr>
              <p:grpSpPr>
                <a:xfrm>
                  <a:off x="3129120" y="1143000"/>
                  <a:ext cx="802080" cy="1586880"/>
                  <a:chOff x="3129120" y="1143000"/>
                  <a:chExt cx="802080" cy="1586880"/>
                </a:xfrm>
              </p:grpSpPr>
              <p:sp>
                <p:nvSpPr>
                  <p:cNvPr id="98" name=""/>
                  <p:cNvSpPr/>
                  <p:nvPr/>
                </p:nvSpPr>
                <p:spPr>
                  <a:xfrm>
                    <a:off x="3196080" y="1679760"/>
                    <a:ext cx="535680" cy="48672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>
                    <a:off x="3330000" y="1436040"/>
                    <a:ext cx="0" cy="2433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>
                    <a:off x="3597840" y="1436040"/>
                    <a:ext cx="0" cy="2433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3463920" y="2166840"/>
                    <a:ext cx="0" cy="2433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>
                    <a:off x="3129120" y="1143000"/>
                    <a:ext cx="468720" cy="405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Arial"/>
                      </a:rPr>
                      <a:t>a</a:t>
                    </a:r>
                    <a:r>
                      <a:rPr b="0" lang="en-US" sz="1800" spc="-1" strike="noStrike" baseline="-25000">
                        <a:solidFill>
                          <a:srgbClr val="000000"/>
                        </a:solidFill>
                        <a:latin typeface="Arial"/>
                      </a:rPr>
                      <a:t>0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>
                    <a:off x="3304800" y="2324160"/>
                    <a:ext cx="467280" cy="405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Arial"/>
                      </a:rPr>
                      <a:t>s</a:t>
                    </a:r>
                    <a:r>
                      <a:rPr b="0" lang="en-US" sz="1800" spc="-1" strike="noStrike" baseline="-25000">
                        <a:solidFill>
                          <a:srgbClr val="000000"/>
                        </a:solidFill>
                        <a:latin typeface="Arial"/>
                      </a:rPr>
                      <a:t>0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>
                    <a:off x="3463920" y="1164240"/>
                    <a:ext cx="467280" cy="405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Arial"/>
                      </a:rPr>
                      <a:t>b</a:t>
                    </a:r>
                    <a:r>
                      <a:rPr b="0" lang="en-US" sz="1800" spc="-1" strike="noStrike" baseline="-25000">
                        <a:solidFill>
                          <a:srgbClr val="000000"/>
                        </a:solidFill>
                        <a:latin typeface="Arial"/>
                      </a:rPr>
                      <a:t>0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3" name=""/>
                <p:cNvSpPr/>
                <p:nvPr/>
              </p:nvSpPr>
              <p:spPr>
                <a:xfrm>
                  <a:off x="3197880" y="1755000"/>
                  <a:ext cx="5382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+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" name=""/>
              <p:cNvGrpSpPr/>
              <p:nvPr/>
            </p:nvGrpSpPr>
            <p:grpSpPr>
              <a:xfrm>
                <a:off x="2319480" y="1143000"/>
                <a:ext cx="808920" cy="1592640"/>
                <a:chOff x="2319480" y="1143000"/>
                <a:chExt cx="808920" cy="159264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2386440" y="1683360"/>
                  <a:ext cx="539640" cy="49068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2521800" y="1437840"/>
                  <a:ext cx="0" cy="245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2791080" y="1437840"/>
                  <a:ext cx="0" cy="245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2656440" y="2174040"/>
                  <a:ext cx="0" cy="245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2319480" y="1143000"/>
                  <a:ext cx="47160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a</a:t>
                  </a:r>
                  <a:r>
                    <a:rPr b="0" lang="en-US" sz="1800" spc="-1" strike="noStrike" baseline="-25000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2497680" y="2329920"/>
                  <a:ext cx="47052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s</a:t>
                  </a:r>
                  <a:r>
                    <a:rPr b="0" lang="en-US" sz="1800" spc="-1" strike="noStrike" baseline="-25000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2656440" y="1164600"/>
                  <a:ext cx="47196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b</a:t>
                  </a:r>
                  <a:r>
                    <a:rPr b="0" lang="en-US" sz="1800" spc="-1" strike="noStrike" baseline="-25000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2386440" y="1755000"/>
                  <a:ext cx="5396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+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2" name=""/>
              <p:cNvGrpSpPr/>
              <p:nvPr/>
            </p:nvGrpSpPr>
            <p:grpSpPr>
              <a:xfrm>
                <a:off x="1442520" y="1143000"/>
                <a:ext cx="808920" cy="1592640"/>
                <a:chOff x="1442520" y="1143000"/>
                <a:chExt cx="808920" cy="1592640"/>
              </a:xfrm>
            </p:grpSpPr>
            <p:sp>
              <p:nvSpPr>
                <p:cNvPr id="101" name=""/>
                <p:cNvSpPr/>
                <p:nvPr/>
              </p:nvSpPr>
              <p:spPr>
                <a:xfrm>
                  <a:off x="1509840" y="1683360"/>
                  <a:ext cx="539280" cy="49068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1644840" y="1437840"/>
                  <a:ext cx="0" cy="245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1914480" y="1437840"/>
                  <a:ext cx="0" cy="245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1779480" y="2174040"/>
                  <a:ext cx="0" cy="245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1442520" y="1143000"/>
                  <a:ext cx="47196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a</a:t>
                  </a:r>
                  <a:r>
                    <a:rPr b="0" lang="en-US" sz="1800" spc="-1" strike="noStrike" baseline="-25000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1619640" y="2329920"/>
                  <a:ext cx="47160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s</a:t>
                  </a:r>
                  <a:r>
                    <a:rPr b="0" lang="en-US" sz="1800" spc="-1" strike="noStrike" baseline="-25000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1779480" y="1164600"/>
                  <a:ext cx="47196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b</a:t>
                  </a:r>
                  <a:r>
                    <a:rPr b="0" lang="en-US" sz="1800" spc="-1" strike="noStrike" baseline="-25000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1511280" y="1755000"/>
                  <a:ext cx="5367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+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" name=""/>
              <p:cNvGrpSpPr/>
              <p:nvPr/>
            </p:nvGrpSpPr>
            <p:grpSpPr>
              <a:xfrm>
                <a:off x="565560" y="1143000"/>
                <a:ext cx="807480" cy="1593000"/>
                <a:chOff x="565560" y="1143000"/>
                <a:chExt cx="807480" cy="1593000"/>
              </a:xfrm>
            </p:grpSpPr>
            <p:sp>
              <p:nvSpPr>
                <p:cNvPr id="104" name=""/>
                <p:cNvSpPr/>
                <p:nvPr/>
              </p:nvSpPr>
              <p:spPr>
                <a:xfrm>
                  <a:off x="632880" y="1683720"/>
                  <a:ext cx="539280" cy="49032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767520" y="1438200"/>
                  <a:ext cx="0" cy="245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037520" y="1438200"/>
                  <a:ext cx="0" cy="245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902880" y="2174040"/>
                  <a:ext cx="0" cy="245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565560" y="1143000"/>
                  <a:ext cx="47196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a</a:t>
                  </a:r>
                  <a:r>
                    <a:rPr b="0" lang="en-US" sz="1800" spc="-1" strike="noStrike" baseline="-25000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742680" y="2330280"/>
                  <a:ext cx="47196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s</a:t>
                  </a:r>
                  <a:r>
                    <a:rPr b="0" lang="en-US" sz="1800" spc="-1" strike="noStrike" baseline="-25000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903960" y="1164600"/>
                  <a:ext cx="46908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b</a:t>
                  </a:r>
                  <a:r>
                    <a:rPr b="0" lang="en-US" sz="1800" spc="-1" strike="noStrike" baseline="-25000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632880" y="1744560"/>
                  <a:ext cx="5392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+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cxnSp>
            <p:nvCxnSpPr>
              <p:cNvPr id="137" name=""/>
              <p:cNvCxnSpPr>
                <a:stCxn id="136" idx="1"/>
              </p:cNvCxnSpPr>
              <p:nvPr/>
            </p:nvCxnSpPr>
            <p:spPr>
              <a:xfrm rot="10800000">
                <a:off x="227880" y="1889640"/>
                <a:ext cx="405360" cy="3240"/>
              </a:xfrm>
              <a:prstGeom prst="bentConnector3">
                <a:avLst>
                  <a:gd name="adj1" fmla="val 49955"/>
                </a:avLst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  <p:grpSp>
            <p:nvGrpSpPr>
              <p:cNvPr id="138" name=""/>
              <p:cNvGrpSpPr/>
              <p:nvPr/>
            </p:nvGrpSpPr>
            <p:grpSpPr>
              <a:xfrm>
                <a:off x="4140360" y="2001240"/>
                <a:ext cx="202680" cy="153360"/>
                <a:chOff x="4140360" y="2001240"/>
                <a:chExt cx="202680" cy="153360"/>
              </a:xfrm>
            </p:grpSpPr>
            <p:sp>
              <p:nvSpPr>
                <p:cNvPr id="139" name=""/>
                <p:cNvSpPr/>
                <p:nvPr/>
              </p:nvSpPr>
              <p:spPr>
                <a:xfrm>
                  <a:off x="4140720" y="2093400"/>
                  <a:ext cx="2023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 flipH="1">
                  <a:off x="4140360" y="2093400"/>
                  <a:ext cx="67320" cy="612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 flipH="1">
                  <a:off x="4173840" y="2093400"/>
                  <a:ext cx="67320" cy="612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>
                  <a:off x="4207680" y="2093400"/>
                  <a:ext cx="67320" cy="612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>
                  <a:off x="4241520" y="2093400"/>
                  <a:ext cx="67320" cy="612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 flipV="1">
                  <a:off x="4241880" y="2001240"/>
                  <a:ext cx="0" cy="91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cxnSp>
            <p:nvCxnSpPr>
              <p:cNvPr id="145" name=""/>
              <p:cNvCxnSpPr>
                <a:stCxn id="144" idx="0"/>
                <a:endCxn id="113" idx="3"/>
              </p:cNvCxnSpPr>
              <p:nvPr/>
            </p:nvCxnSpPr>
            <p:spPr>
              <a:xfrm flipV="1" rot="16200000">
                <a:off x="3939840" y="1699200"/>
                <a:ext cx="97560" cy="506160"/>
              </a:xfrm>
              <a:prstGeom prst="bentConnector2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sp>
          <p:nvSpPr>
            <p:cNvPr id="146" name=""/>
            <p:cNvSpPr/>
            <p:nvPr/>
          </p:nvSpPr>
          <p:spPr>
            <a:xfrm>
              <a:off x="3886200" y="1571760"/>
              <a:ext cx="3826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95480" y="1543320"/>
              <a:ext cx="3826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995480" y="1576440"/>
              <a:ext cx="3826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143000" y="1528920"/>
              <a:ext cx="3826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6320" y="1495440"/>
              <a:ext cx="3823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4800600" y="914400"/>
            <a:ext cx="3962520" cy="1981080"/>
            <a:chOff x="4800600" y="914400"/>
            <a:chExt cx="3962520" cy="1981080"/>
          </a:xfrm>
        </p:grpSpPr>
        <p:sp>
          <p:nvSpPr>
            <p:cNvPr id="152" name=""/>
            <p:cNvSpPr/>
            <p:nvPr/>
          </p:nvSpPr>
          <p:spPr>
            <a:xfrm>
              <a:off x="5105520" y="914400"/>
              <a:ext cx="358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rojeto convencion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867280" y="1676520"/>
              <a:ext cx="2667240" cy="1218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391520" y="1371600"/>
              <a:ext cx="0" cy="1523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715000" y="1295280"/>
              <a:ext cx="30481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3b3 a2b2 ... a0b0   c4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s3 s2 s1s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H="1">
              <a:off x="5485680" y="1709640"/>
              <a:ext cx="304920" cy="1143000"/>
            </a:xfrm>
            <a:custGeom>
              <a:avLst/>
              <a:gdLst>
                <a:gd name="textAreaLeft" fmla="*/ -360 w 304920"/>
                <a:gd name="textAreaRight" fmla="*/ 109800 w 304920"/>
                <a:gd name="textAreaTop" fmla="*/ 29520 h 1143000"/>
                <a:gd name="textAreaBottom" fmla="*/ 1113480 h 1143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800600" y="2057400"/>
              <a:ext cx="6858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56 linh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 rot="16200000">
              <a:off x="7733160" y="1485720"/>
              <a:ext cx="304920" cy="838440"/>
            </a:xfrm>
            <a:custGeom>
              <a:avLst/>
              <a:gdLst>
                <a:gd name="textAreaLeft" fmla="*/ -360 w 304920"/>
                <a:gd name="textAreaRight" fmla="*/ 109800 w 304920"/>
                <a:gd name="textAreaTop" fmla="*/ 21600 h 838440"/>
                <a:gd name="textAreaBottom" fmla="*/ 816840 h 83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 rot="16200000">
              <a:off x="6495840" y="1276200"/>
              <a:ext cx="304920" cy="1257120"/>
            </a:xfrm>
            <a:custGeom>
              <a:avLst/>
              <a:gdLst>
                <a:gd name="textAreaLeft" fmla="*/ -360 w 304920"/>
                <a:gd name="textAreaRight" fmla="*/ 109800 w 304920"/>
                <a:gd name="textAreaTop" fmla="*/ 32760 h 1257120"/>
                <a:gd name="textAreaBottom" fmla="*/ 1224360 h 125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019920" y="2133720"/>
              <a:ext cx="129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8 entrad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391520" y="2133720"/>
              <a:ext cx="91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5 saíd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2" name=""/>
          <p:cNvSpPr/>
          <p:nvPr/>
        </p:nvSpPr>
        <p:spPr>
          <a:xfrm>
            <a:off x="304920" y="297180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abordagem bit-sl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81000" y="3184560"/>
          <a:ext cx="3701880" cy="3592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1000" y="3184560"/>
                    <a:ext cx="3701880" cy="359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5" name=""/>
          <p:cNvSpPr/>
          <p:nvPr/>
        </p:nvSpPr>
        <p:spPr>
          <a:xfrm>
            <a:off x="3581280" y="3657600"/>
            <a:ext cx="5105520" cy="12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Implementar por mapa de Karnaugh o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Arial"/>
              </a:rPr>
              <a:t>i+1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= 1 se 2 ou mais 1´s </a:t>
            </a:r>
            <a:r>
              <a:rPr b="0" lang="pt-BR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a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+ a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+ b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= 1 se Nº ímpar de 1´s </a:t>
            </a:r>
            <a:r>
              <a:rPr b="0" lang="pt-BR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a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b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c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e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1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Somador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1066680" y="1523880"/>
            <a:ext cx="4422960" cy="33181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685800" y="1295280"/>
            <a:ext cx="914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295280" y="1295280"/>
            <a:ext cx="914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1295280"/>
            <a:ext cx="914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572000" y="2895480"/>
            <a:ext cx="914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Arial"/>
              </a:rPr>
              <a:t>i+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72400" y="3276720"/>
            <a:ext cx="914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6172200" y="2819520"/>
            <a:ext cx="2070000" cy="155232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5791320" y="3048120"/>
            <a:ext cx="914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791320" y="3505320"/>
            <a:ext cx="914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791320" y="3276720"/>
            <a:ext cx="914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e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1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ercício ALU de 4 bi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2884320" y="1828800"/>
          <a:ext cx="6259680" cy="2571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84320" y="1828800"/>
                    <a:ext cx="6259680" cy="257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80" name=""/>
          <p:cNvGrpSpPr/>
          <p:nvPr/>
        </p:nvGrpSpPr>
        <p:grpSpPr>
          <a:xfrm>
            <a:off x="609480" y="1371600"/>
            <a:ext cx="2590920" cy="3263760"/>
            <a:chOff x="609480" y="1371600"/>
            <a:chExt cx="2590920" cy="3263760"/>
          </a:xfrm>
        </p:grpSpPr>
        <p:sp>
          <p:nvSpPr>
            <p:cNvPr id="181" name=""/>
            <p:cNvSpPr/>
            <p:nvPr/>
          </p:nvSpPr>
          <p:spPr>
            <a:xfrm>
              <a:off x="1600200" y="2362320"/>
              <a:ext cx="1447920" cy="1371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LU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82" name=""/>
            <p:cNvCxnSpPr>
              <a:endCxn id="181" idx="1"/>
            </p:cNvCxnSpPr>
            <p:nvPr/>
          </p:nvCxnSpPr>
          <p:spPr>
            <a:xfrm>
              <a:off x="914040" y="3047760"/>
              <a:ext cx="68652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83" name=""/>
            <p:cNvSpPr/>
            <p:nvPr/>
          </p:nvSpPr>
          <p:spPr>
            <a:xfrm>
              <a:off x="2133720" y="1752480"/>
              <a:ext cx="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666880" y="1752480"/>
              <a:ext cx="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90920" y="3733920"/>
              <a:ext cx="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057400" y="3733920"/>
              <a:ext cx="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09480" y="2666880"/>
              <a:ext cx="609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Se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2133720" y="1371600"/>
              <a:ext cx="9144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523880" y="1371600"/>
              <a:ext cx="9144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286000" y="41911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600200" y="4267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Co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057400" y="1981080"/>
              <a:ext cx="152280" cy="8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805400" y="17517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643480" y="17661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514600" y="3962520"/>
              <a:ext cx="152280" cy="8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630880" y="38091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590920" y="1981080"/>
              <a:ext cx="152280" cy="8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e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533520" y="2743200"/>
            <a:ext cx="4568760" cy="342900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1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Decodificador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456840" y="1295280"/>
            <a:ext cx="2438640" cy="1320120"/>
            <a:chOff x="456840" y="1295280"/>
            <a:chExt cx="2438640" cy="1320120"/>
          </a:xfrm>
        </p:grpSpPr>
        <p:sp>
          <p:nvSpPr>
            <p:cNvPr id="201" name=""/>
            <p:cNvSpPr/>
            <p:nvPr/>
          </p:nvSpPr>
          <p:spPr>
            <a:xfrm flipH="1">
              <a:off x="685800" y="2057400"/>
              <a:ext cx="761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>
              <a:off x="685800" y="1752480"/>
              <a:ext cx="761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>
              <a:off x="456480" y="1371600"/>
              <a:ext cx="533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H="1">
              <a:off x="1523520" y="1523880"/>
              <a:ext cx="762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361960" y="1371600"/>
              <a:ext cx="5335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 flipH="1">
              <a:off x="1523520" y="1828800"/>
              <a:ext cx="762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361960" y="1676160"/>
              <a:ext cx="5335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 flipH="1">
              <a:off x="1523520" y="2076480"/>
              <a:ext cx="762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361960" y="1923840"/>
              <a:ext cx="5335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 flipH="1">
              <a:off x="1523520" y="2361960"/>
              <a:ext cx="762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361960" y="2209680"/>
              <a:ext cx="5335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H="1" flipV="1" rot="16200000">
              <a:off x="799920" y="1714320"/>
              <a:ext cx="1295280" cy="457200"/>
            </a:xfrm>
            <a:custGeom>
              <a:avLst/>
              <a:gdLst>
                <a:gd name="textAreaLeft" fmla="*/ 280440 w 1295280"/>
                <a:gd name="textAreaRight" fmla="*/ 1014840 w 1295280"/>
                <a:gd name="textAreaTop" fmla="*/ 99000 h 457200"/>
                <a:gd name="textAreaBottom" fmla="*/ 35820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329" y="21600"/>
                  </a:lnTo>
                  <a:lnTo>
                    <a:pt x="5271" y="2160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 flipH="1">
              <a:off x="456480" y="1766880"/>
              <a:ext cx="533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214" name=""/>
          <p:cNvGraphicFramePr/>
          <p:nvPr/>
        </p:nvGraphicFramePr>
        <p:xfrm>
          <a:off x="2884320" y="990720"/>
          <a:ext cx="6259680" cy="25714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884320" y="990720"/>
                    <a:ext cx="6259680" cy="257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6" name=""/>
          <p:cNvSpPr/>
          <p:nvPr/>
        </p:nvSpPr>
        <p:spPr>
          <a:xfrm>
            <a:off x="2514600" y="489096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514600" y="4281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14600" y="36576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514600" y="31240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09480" y="60199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295280" y="60199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029200" y="373392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emplo de utilizaçã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5257800" y="4495680"/>
            <a:ext cx="2743200" cy="1371240"/>
            <a:chOff x="5257800" y="4495680"/>
            <a:chExt cx="2743200" cy="1371240"/>
          </a:xfrm>
        </p:grpSpPr>
        <p:grpSp>
          <p:nvGrpSpPr>
            <p:cNvPr id="224" name=""/>
            <p:cNvGrpSpPr/>
            <p:nvPr/>
          </p:nvGrpSpPr>
          <p:grpSpPr>
            <a:xfrm>
              <a:off x="5410440" y="4800240"/>
              <a:ext cx="863640" cy="1066680"/>
              <a:chOff x="5410440" y="4800240"/>
              <a:chExt cx="863640" cy="1066680"/>
            </a:xfrm>
          </p:grpSpPr>
          <p:sp>
            <p:nvSpPr>
              <p:cNvPr id="225" name=""/>
              <p:cNvSpPr/>
              <p:nvPr/>
            </p:nvSpPr>
            <p:spPr>
              <a:xfrm flipV="1">
                <a:off x="5765400" y="4800240"/>
                <a:ext cx="0" cy="507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flipV="1">
                <a:off x="5968800" y="4800240"/>
                <a:ext cx="0" cy="507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flipV="1">
                <a:off x="6121080" y="5359320"/>
                <a:ext cx="0" cy="507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flipV="1">
                <a:off x="5918040" y="5359320"/>
                <a:ext cx="0" cy="507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flipV="1">
                <a:off x="5752800" y="5359320"/>
                <a:ext cx="0" cy="507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flipV="1">
                <a:off x="5562360" y="5359320"/>
                <a:ext cx="0" cy="507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flipH="1" flipV="1">
                <a:off x="5410080" y="5156280"/>
                <a:ext cx="863640" cy="304560"/>
              </a:xfrm>
              <a:custGeom>
                <a:avLst/>
                <a:gdLst>
                  <a:gd name="textAreaLeft" fmla="*/ 186840 w 863640"/>
                  <a:gd name="textAreaRight" fmla="*/ 676800 w 863640"/>
                  <a:gd name="textAreaTop" fmla="*/ 65880 h 304560"/>
                  <a:gd name="textAreaBottom" fmla="*/ 238680 h 304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329" y="21600"/>
                    </a:lnTo>
                    <a:lnTo>
                      <a:pt x="5271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2" name=""/>
            <p:cNvGrpSpPr/>
            <p:nvPr/>
          </p:nvGrpSpPr>
          <p:grpSpPr>
            <a:xfrm>
              <a:off x="6706080" y="4800240"/>
              <a:ext cx="863640" cy="1066680"/>
              <a:chOff x="6706080" y="4800240"/>
              <a:chExt cx="863640" cy="1066680"/>
            </a:xfrm>
          </p:grpSpPr>
          <p:sp>
            <p:nvSpPr>
              <p:cNvPr id="233" name=""/>
              <p:cNvSpPr/>
              <p:nvPr/>
            </p:nvSpPr>
            <p:spPr>
              <a:xfrm flipV="1">
                <a:off x="7061040" y="4800240"/>
                <a:ext cx="0" cy="507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flipV="1">
                <a:off x="7264440" y="4800240"/>
                <a:ext cx="0" cy="507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flipV="1">
                <a:off x="7416720" y="5359320"/>
                <a:ext cx="0" cy="507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flipV="1">
                <a:off x="7213680" y="5359320"/>
                <a:ext cx="0" cy="507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flipV="1">
                <a:off x="7048440" y="5359320"/>
                <a:ext cx="0" cy="507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flipV="1">
                <a:off x="6858000" y="5359320"/>
                <a:ext cx="0" cy="507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flipH="1" flipV="1">
                <a:off x="6705720" y="5156280"/>
                <a:ext cx="863640" cy="304560"/>
              </a:xfrm>
              <a:custGeom>
                <a:avLst/>
                <a:gdLst>
                  <a:gd name="textAreaLeft" fmla="*/ 186840 w 863640"/>
                  <a:gd name="textAreaRight" fmla="*/ 676800 w 863640"/>
                  <a:gd name="textAreaTop" fmla="*/ 65880 h 304560"/>
                  <a:gd name="textAreaBottom" fmla="*/ 238680 h 304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329" y="21600"/>
                    </a:lnTo>
                    <a:lnTo>
                      <a:pt x="5271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0" name=""/>
            <p:cNvSpPr/>
            <p:nvPr/>
          </p:nvSpPr>
          <p:spPr>
            <a:xfrm>
              <a:off x="5257800" y="4495680"/>
              <a:ext cx="1371600" cy="304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OP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629400" y="4495680"/>
              <a:ext cx="1371600" cy="304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Re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e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1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Barramentos: comunic. entre elemento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09120" y="1066680"/>
            <a:ext cx="197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) ponto a po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2382840" y="916200"/>
            <a:ext cx="5433480" cy="2053440"/>
            <a:chOff x="2382840" y="916200"/>
            <a:chExt cx="5433480" cy="2053440"/>
          </a:xfrm>
        </p:grpSpPr>
        <p:sp>
          <p:nvSpPr>
            <p:cNvPr id="245" name=""/>
            <p:cNvSpPr/>
            <p:nvPr/>
          </p:nvSpPr>
          <p:spPr>
            <a:xfrm>
              <a:off x="4711680" y="1219320"/>
              <a:ext cx="776160" cy="326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 flipV="1">
              <a:off x="4776840" y="1672560"/>
              <a:ext cx="1552320" cy="774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260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352680" y="1736640"/>
              <a:ext cx="776520" cy="327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711680" y="2319480"/>
              <a:ext cx="776160" cy="326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005520" y="1736640"/>
              <a:ext cx="776160" cy="327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454640" y="1284120"/>
              <a:ext cx="2196720" cy="774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260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H="1" flipV="1">
              <a:off x="3870360" y="1799280"/>
              <a:ext cx="1551600" cy="647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260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>
              <a:off x="3546360" y="1284120"/>
              <a:ext cx="2199600" cy="774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260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 flipV="1">
              <a:off x="4454640" y="1542600"/>
              <a:ext cx="2196720" cy="1034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260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648320" y="1413000"/>
              <a:ext cx="1809360" cy="646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260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 flipH="1" flipV="1">
              <a:off x="3483000" y="1605600"/>
              <a:ext cx="2456640" cy="1035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260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 flipH="1">
              <a:off x="3676680" y="1477800"/>
              <a:ext cx="1938960" cy="517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260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7" name=""/>
            <p:cNvGrpSpPr/>
            <p:nvPr/>
          </p:nvGrpSpPr>
          <p:grpSpPr>
            <a:xfrm>
              <a:off x="4708800" y="916200"/>
              <a:ext cx="727920" cy="2053440"/>
              <a:chOff x="4708800" y="916200"/>
              <a:chExt cx="727920" cy="2053440"/>
            </a:xfrm>
          </p:grpSpPr>
          <p:sp>
            <p:nvSpPr>
              <p:cNvPr id="258" name=""/>
              <p:cNvSpPr/>
              <p:nvPr/>
            </p:nvSpPr>
            <p:spPr>
              <a:xfrm rot="705000">
                <a:off x="4844160" y="1573200"/>
                <a:ext cx="386640" cy="1371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1260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flipH="1" flipV="1" rot="705000">
                <a:off x="4914360" y="941040"/>
                <a:ext cx="386640" cy="1371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1260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0" name=""/>
            <p:cNvSpPr/>
            <p:nvPr/>
          </p:nvSpPr>
          <p:spPr>
            <a:xfrm flipH="1">
              <a:off x="4194000" y="1801800"/>
              <a:ext cx="3622320" cy="126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260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>
              <a:off x="2382840" y="1864080"/>
              <a:ext cx="3622320" cy="129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260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2" name=""/>
          <p:cNvSpPr/>
          <p:nvPr/>
        </p:nvSpPr>
        <p:spPr>
          <a:xfrm>
            <a:off x="1222200" y="3421800"/>
            <a:ext cx="236556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Vantagens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omunicação direta </a:t>
            </a:r>
            <a:br>
              <a:rPr sz="1800"/>
            </a:b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entre elemen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aralelis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567040" y="3188520"/>
            <a:ext cx="189324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Desvantagens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implementaç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omplexid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us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scalabilid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xpansibilid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8-27T20:06:46Z</dcterms:created>
  <dc:creator>Tod Amon</dc:creator>
  <dc:description/>
  <dc:language>en-US</dc:language>
  <cp:lastModifiedBy>User</cp:lastModifiedBy>
  <cp:lastPrinted>1997-08-28T16:06:06Z</cp:lastPrinted>
  <dcterms:modified xsi:type="dcterms:W3CDTF">2002-03-14T21:34:35Z</dcterms:modified>
  <cp:revision>85</cp:revision>
  <dc:subject/>
  <dc:title>Lectures for 2nd Edition</dc:title>
</cp:coreProperties>
</file>