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A-</a:t>
            </a:r>
            <a:fld id="{7A828E85-1605-4995-8100-63122BD13AAA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190520" y="1965240"/>
            <a:ext cx="6715800" cy="2904480"/>
            <a:chOff x="1190520" y="1965240"/>
            <a:chExt cx="6715800" cy="2904480"/>
          </a:xfrm>
        </p:grpSpPr>
        <p:sp>
          <p:nvSpPr>
            <p:cNvPr id="732" name=""/>
            <p:cNvSpPr/>
            <p:nvPr/>
          </p:nvSpPr>
          <p:spPr>
            <a:xfrm flipH="1">
              <a:off x="5046120" y="2612520"/>
              <a:ext cx="81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94960" y="3456360"/>
              <a:ext cx="99360" cy="10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240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45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554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5304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05960" y="29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78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66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928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42560" y="29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8144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77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94960" y="2260800"/>
              <a:ext cx="99360" cy="1029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4960" y="405432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37558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29480" y="25660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94960" y="2859120"/>
              <a:ext cx="99360" cy="1022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956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17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5840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64240" y="3092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0744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06800" y="3092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29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74920" y="3092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3828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90800" y="3291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400" y="3291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49280" y="32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89240" y="329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2160" y="32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57360" y="3291840"/>
              <a:ext cx="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04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59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7080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766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26320" y="3493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2604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184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8732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10080" y="2395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020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660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12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86720" y="23950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945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0468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1628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6956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7792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73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10080" y="3593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6020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660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12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86720" y="35931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45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0468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1628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6956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7792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373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0080" y="209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337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4928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69960" y="20955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9044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596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080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76640" y="2298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6320" y="229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2604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184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732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248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548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0080" y="2693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337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928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551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9960" y="26938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044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596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080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76640" y="2896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26320" y="2896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2604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8184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8732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248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1548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59440" y="2313720"/>
              <a:ext cx="369360" cy="1195200"/>
            </a:xfrm>
            <a:custGeom>
              <a:avLst/>
              <a:gdLst/>
              <a:ahLst/>
              <a:rect l="l" t="t" r="r" b="b"/>
              <a:pathLst>
                <a:path w="119" h="384">
                  <a:moveTo>
                    <a:pt x="119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1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59440" y="2912040"/>
              <a:ext cx="369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3210480"/>
              <a:ext cx="116892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59440" y="3468960"/>
              <a:ext cx="5272920" cy="1400760"/>
            </a:xfrm>
            <a:custGeom>
              <a:avLst/>
              <a:gdLst/>
              <a:ahLst/>
              <a:rect l="l" t="t" r="r" b="b"/>
              <a:pathLst>
                <a:path w="1696" h="450">
                  <a:moveTo>
                    <a:pt x="1552" y="0"/>
                  </a:moveTo>
                  <a:lnTo>
                    <a:pt x="1696" y="2"/>
                  </a:lnTo>
                  <a:lnTo>
                    <a:pt x="1696" y="450"/>
                  </a:lnTo>
                  <a:lnTo>
                    <a:pt x="0" y="450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90800" y="3886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3400" y="388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9280" y="388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240" y="388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42160" y="388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57360" y="388620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8936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600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1120" y="40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7052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46120" y="3808800"/>
              <a:ext cx="807840" cy="2520"/>
            </a:xfrm>
            <a:custGeom>
              <a:avLst/>
              <a:gdLst/>
              <a:ahLst/>
              <a:rect l="l" t="t" r="r" b="b"/>
              <a:pathLst>
                <a:path w="260" h="0">
                  <a:moveTo>
                    <a:pt x="0" y="0"/>
                  </a:moveTo>
                  <a:lnTo>
                    <a:pt x="8" y="0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92" y="0"/>
                  </a:lnTo>
                  <a:lnTo>
                    <a:pt x="131" y="0"/>
                  </a:lnTo>
                  <a:lnTo>
                    <a:pt x="169" y="0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1240" y="3151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05520" y="3151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18200" y="3151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60040" y="315144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15360" y="335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8124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89600" y="3351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580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04880" y="3351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50960" y="335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98840" y="3092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3024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4724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12280" y="2865240"/>
              <a:ext cx="102600" cy="957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12280" y="3164040"/>
              <a:ext cx="102600" cy="92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27520" y="2936520"/>
              <a:ext cx="37080" cy="25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427160" y="2936520"/>
              <a:ext cx="3708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91000" y="2936520"/>
              <a:ext cx="26136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59000" y="2805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888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91920" y="280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5780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3798720" y="4400280"/>
              <a:ext cx="6120" cy="279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00960" y="448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446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56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5280" y="44899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54280" y="4489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20160" y="4489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63360" y="4489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15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526080" y="2026800"/>
              <a:ext cx="5400" cy="448200"/>
            </a:xfrm>
            <a:prstGeom prst="line">
              <a:avLst/>
            </a:prstGeom>
            <a:ln w="190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4812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780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5720" y="1965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936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887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03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094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040" y="1965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818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9528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51440" y="1965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982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0660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39880" y="207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5080" y="2176920"/>
              <a:ext cx="158400" cy="16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ência a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84360" y="274464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76760" y="2033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76760" y="298116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94080" y="17971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94080" y="2270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3080" y="3292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37480" y="3600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34200" y="27097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84360" y="3218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89280" y="4170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51560" y="26305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590400" y="1677960"/>
            <a:ext cx="7944120" cy="3486240"/>
            <a:chOff x="590400" y="1677960"/>
            <a:chExt cx="7944120" cy="3486240"/>
          </a:xfrm>
        </p:grpSpPr>
        <p:sp>
          <p:nvSpPr>
            <p:cNvPr id="906" name=""/>
            <p:cNvSpPr/>
            <p:nvPr/>
          </p:nvSpPr>
          <p:spPr>
            <a:xfrm flipV="1">
              <a:off x="5006880" y="1735200"/>
              <a:ext cx="1800" cy="350640"/>
            </a:xfrm>
            <a:prstGeom prst="line">
              <a:avLst/>
            </a:prstGeom>
            <a:ln w="237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17800" y="3156120"/>
              <a:ext cx="2519640" cy="617400"/>
            </a:xfrm>
            <a:custGeom>
              <a:avLst/>
              <a:gdLst/>
              <a:ahLst/>
              <a:rect l="l" t="t" r="r" b="b"/>
              <a:pathLst>
                <a:path w="1022" h="250">
                  <a:moveTo>
                    <a:pt x="1022" y="250"/>
                  </a:moveTo>
                  <a:lnTo>
                    <a:pt x="98" y="250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12720" y="1967040"/>
              <a:ext cx="1641600" cy="2387520"/>
            </a:xfrm>
            <a:custGeom>
              <a:avLst/>
              <a:gdLst/>
              <a:ahLst/>
              <a:rect l="l" t="t" r="r" b="b"/>
              <a:pathLst>
                <a:path w="666" h="968">
                  <a:moveTo>
                    <a:pt x="186" y="0"/>
                  </a:moveTo>
                  <a:lnTo>
                    <a:pt x="0" y="2"/>
                  </a:lnTo>
                  <a:lnTo>
                    <a:pt x="0" y="968"/>
                  </a:lnTo>
                  <a:lnTo>
                    <a:pt x="666" y="968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3822840" y="2203560"/>
              <a:ext cx="6998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54080" y="287640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2904840" y="4251240"/>
              <a:ext cx="114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600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92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632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876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20160" y="2452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272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5804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3904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82240" y="2452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86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0428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54080" y="1930320"/>
              <a:ext cx="795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54080" y="3351240"/>
              <a:ext cx="79560" cy="81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00720" y="3114720"/>
              <a:ext cx="7920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00720" y="2166840"/>
              <a:ext cx="7920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3320" y="373392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37040" y="4313160"/>
              <a:ext cx="83880" cy="795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488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200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936960" y="4251240"/>
              <a:ext cx="1173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4935240" y="1820880"/>
              <a:ext cx="142920" cy="185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0312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8736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4080" y="240336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lnTo>
                    <a:pt x="718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92360" y="2625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1080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9648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85760" y="2625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1708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980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092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26600" y="262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84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14640" y="27446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61520" y="2744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14440" y="2744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50440" y="2744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1840" y="274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1392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6468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216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41440" y="2898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4200" y="2898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53400" y="2898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8696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95520" y="2033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0928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0000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8712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156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9048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7724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190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1080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22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95520" y="298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928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0000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8712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0156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9048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7724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190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1080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22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14640" y="1797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266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1408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030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1392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6468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21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41440" y="1952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74200" y="1952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340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9804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8696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3916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805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14640" y="2270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266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1408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30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392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6468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521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1440" y="2425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4200" y="242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340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804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8696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3916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805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517400" y="2914560"/>
              <a:ext cx="463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9296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052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93840" y="3292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384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7848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1132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060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3380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17680" y="3481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1680" y="3481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73880" y="3600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0760" y="360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71880" y="360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09680" y="360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54320" y="360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316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5884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47760" y="3757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9240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58000" y="2709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703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5456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449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0372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89084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79400" y="2870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2116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17760" y="2440080"/>
              <a:ext cx="46836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3320" y="284328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75320" y="2882880"/>
              <a:ext cx="7477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0400" y="2678040"/>
              <a:ext cx="922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50000" y="2435400"/>
              <a:ext cx="81000" cy="824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75320" y="2475000"/>
              <a:ext cx="298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92360" y="2887560"/>
              <a:ext cx="6842160" cy="2276640"/>
            </a:xfrm>
            <a:custGeom>
              <a:avLst/>
              <a:gdLst/>
              <a:ahLst/>
              <a:rect l="l" t="t" r="r" b="b"/>
              <a:pathLst>
                <a:path w="2775" h="923">
                  <a:moveTo>
                    <a:pt x="2631" y="0"/>
                  </a:moveTo>
                  <a:lnTo>
                    <a:pt x="2775" y="0"/>
                  </a:lnTo>
                  <a:lnTo>
                    <a:pt x="2775" y="923"/>
                  </a:lnTo>
                  <a:lnTo>
                    <a:pt x="0" y="921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4640" y="32180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61520" y="321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14440" y="321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50440" y="321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91840" y="321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3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9960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8520" y="3373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9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22840" y="3156120"/>
              <a:ext cx="695160" cy="1198440"/>
            </a:xfrm>
            <a:custGeom>
              <a:avLst/>
              <a:gdLst/>
              <a:ahLst/>
              <a:rect l="l" t="t" r="r" b="b"/>
              <a:pathLst>
                <a:path w="282" h="486">
                  <a:moveTo>
                    <a:pt x="0" y="484"/>
                  </a:moveTo>
                  <a:lnTo>
                    <a:pt x="167" y="48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8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73200" y="4170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82640" y="4170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1432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000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918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3640" y="4357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61400" y="4357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060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9028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824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48080" y="263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1040" y="2630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37080" y="2630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2388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764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26176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4312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27360" y="279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63360" y="279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09920" y="2384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316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90640" y="2384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4788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4120" y="2585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6720" y="2585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84920" y="258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76360" y="240336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76360" y="287640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76360" y="263988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8560" y="2790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8440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668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5900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0976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93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74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307280" y="4098600"/>
              <a:ext cx="1440" cy="3538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07280" y="1887480"/>
              <a:ext cx="1440" cy="3556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8324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1608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9888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32800" y="4181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8465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3692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211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8324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1608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9888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32800" y="19717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8616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937280" y="1971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68600" y="197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1144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844720" y="360972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55680" y="3662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6944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6016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44760" y="3662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96320" y="3662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49240" y="3662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80560" y="3662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2988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97240" y="16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0020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89480" y="167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046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478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303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224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06360" y="1677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6216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492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91040" y="1677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02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45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12840" y="174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93760" y="963720"/>
            <a:ext cx="6745320" cy="4920120"/>
            <a:chOff x="1193760" y="963720"/>
            <a:chExt cx="6745320" cy="4920120"/>
          </a:xfrm>
        </p:grpSpPr>
        <p:grpSp>
          <p:nvGrpSpPr>
            <p:cNvPr id="1137" name=""/>
            <p:cNvGrpSpPr/>
            <p:nvPr/>
          </p:nvGrpSpPr>
          <p:grpSpPr>
            <a:xfrm>
              <a:off x="1193760" y="963720"/>
              <a:ext cx="6745320" cy="4920120"/>
              <a:chOff x="1193760" y="963720"/>
              <a:chExt cx="6745320" cy="4920120"/>
            </a:xfrm>
          </p:grpSpPr>
          <p:sp>
            <p:nvSpPr>
              <p:cNvPr id="1138" name=""/>
              <p:cNvSpPr/>
              <p:nvPr/>
            </p:nvSpPr>
            <p:spPr>
              <a:xfrm flipV="1">
                <a:off x="6004440" y="2640600"/>
                <a:ext cx="4680" cy="369360"/>
              </a:xfrm>
              <a:prstGeom prst="line">
                <a:avLst/>
              </a:prstGeom>
              <a:ln w="237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119680" y="2872440"/>
                <a:ext cx="1462680" cy="2383920"/>
              </a:xfrm>
              <a:custGeom>
                <a:avLst/>
                <a:gdLst/>
                <a:ahLst/>
                <a:rect l="l" t="t" r="r" b="b"/>
                <a:pathLst>
                  <a:path w="594" h="968">
                    <a:moveTo>
                      <a:pt x="185" y="0"/>
                    </a:moveTo>
                    <a:lnTo>
                      <a:pt x="0" y="2"/>
                    </a:lnTo>
                    <a:lnTo>
                      <a:pt x="0" y="968"/>
                    </a:lnTo>
                    <a:lnTo>
                      <a:pt x="594" y="9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424760" y="3113640"/>
                <a:ext cx="10789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425120" y="4054680"/>
                <a:ext cx="109152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3331440" y="5152320"/>
                <a:ext cx="11304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560680" y="283536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79920" y="40179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479920" y="30718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63280" y="5214600"/>
                <a:ext cx="80640" cy="78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2" y="32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29436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7788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63920" y="5152320"/>
                <a:ext cx="11808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5952600" y="2711880"/>
                <a:ext cx="118080" cy="2041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3286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150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60680" y="330840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  <a:lnTo>
                      <a:pt x="720" y="7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19680" y="3345480"/>
                <a:ext cx="47016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27400" y="35449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48400" y="3581640"/>
                <a:ext cx="303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  <a:lnTo>
                      <a:pt x="119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794760" y="5066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02400" y="50666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3732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02048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12280" y="50666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105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93320" y="525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525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91716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0824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921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84080" y="34905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236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36948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2024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68640" y="34905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708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6448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553440" y="1756440"/>
                <a:ext cx="3175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27400" y="17146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2" y="33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79920" y="12423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79920" y="218772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797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8236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373440" y="166320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5213520" y="1281240"/>
                <a:ext cx="29088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20120" y="20448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5960" y="2044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15960" y="20448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487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1955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38000" y="20448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97800" y="2234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3452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2056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623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091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5160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440" y="33966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801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8680" y="339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108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99360" y="33966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512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76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30480" y="3396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075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96440" y="33966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8580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6284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5176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3744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82440" y="3586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342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2392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920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9916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358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2480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71084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504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861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08768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952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302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15920" y="1663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3954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865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3048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704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5936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108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7986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8879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72800" y="1190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976480" y="11901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8916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136680" y="1190160"/>
                <a:ext cx="10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2704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695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35988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2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4448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959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87400" y="119016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7195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76236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940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8512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958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00860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60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14360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246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6744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3066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905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80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5234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6094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698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7401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8312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915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058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479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733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16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0184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8068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523160" y="28868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577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6500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7467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788840" y="28868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2124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1232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193760" y="3108600"/>
                <a:ext cx="9259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87000" y="1658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9032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8176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9824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3112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4027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486240" y="34905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52044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01800" y="3490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439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3284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8396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15480" y="364824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68120" y="36482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19960" y="36482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0920" y="364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95920" y="3648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85200" y="36482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1548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76912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5804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44440" y="38034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980800" y="38034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62160" y="38034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0428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18816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03560" y="2938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1660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0048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29192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76160" y="293868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9074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9938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204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2668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21020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5736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03560" y="38844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660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0048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29192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76160" y="38844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9074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938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8204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2668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21020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25736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15480" y="2702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82852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9196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060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95280" y="270252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271548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6948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580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44440" y="285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80800" y="2858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6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046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8852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4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8932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15480" y="3175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2852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196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60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95280" y="31752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548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6948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580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44440" y="333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0800" y="333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046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8852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4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8932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15480" y="4121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68120" y="412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9960" y="4121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51280" y="4121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996280" y="412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85200" y="412128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1512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8062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889720" y="427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394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82960" y="3308760"/>
              <a:ext cx="75960" cy="80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82960" y="3071880"/>
              <a:ext cx="75960" cy="813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31600" y="2229840"/>
              <a:ext cx="1674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50520" y="2229840"/>
              <a:ext cx="529560" cy="3026880"/>
            </a:xfrm>
            <a:custGeom>
              <a:avLst/>
              <a:gdLst/>
              <a:ahLst/>
              <a:rect l="l" t="t" r="r" b="b"/>
              <a:pathLst>
                <a:path w="215" h="1229">
                  <a:moveTo>
                    <a:pt x="215" y="0"/>
                  </a:moveTo>
                  <a:lnTo>
                    <a:pt x="167" y="0"/>
                  </a:lnTo>
                  <a:lnTo>
                    <a:pt x="167" y="1229"/>
                  </a:lnTo>
                  <a:lnTo>
                    <a:pt x="0" y="122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755600" y="2187720"/>
              <a:ext cx="81360" cy="81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3516480" y="4527360"/>
              <a:ext cx="4680" cy="2289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58400" y="456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144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625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47480" y="45640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99400" y="456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0880" y="4564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82560" y="4564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297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0200" y="258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0352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93520" y="258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0512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4976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3364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50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8600" y="258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654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85116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893280" y="2584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328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01640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29120" y="2687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the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ultiplexors to stitch them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26880" y="1631880"/>
            <a:ext cx="8452080" cy="4354920"/>
            <a:chOff x="326880" y="1631880"/>
            <a:chExt cx="8452080" cy="4354920"/>
          </a:xfrm>
        </p:grpSpPr>
        <p:grpSp>
          <p:nvGrpSpPr>
            <p:cNvPr id="1404" name=""/>
            <p:cNvGrpSpPr/>
            <p:nvPr/>
          </p:nvGrpSpPr>
          <p:grpSpPr>
            <a:xfrm>
              <a:off x="496800" y="1701720"/>
              <a:ext cx="8067960" cy="4285080"/>
              <a:chOff x="496800" y="1701720"/>
              <a:chExt cx="8067960" cy="4285080"/>
            </a:xfrm>
          </p:grpSpPr>
          <p:sp>
            <p:nvSpPr>
              <p:cNvPr id="1405" name=""/>
              <p:cNvSpPr/>
              <p:nvPr/>
            </p:nvSpPr>
            <p:spPr>
              <a:xfrm flipV="1">
                <a:off x="7155360" y="1701720"/>
                <a:ext cx="2520" cy="232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110560" y="3748320"/>
                <a:ext cx="2160" cy="412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3594240" y="490068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323960" y="3841200"/>
                <a:ext cx="10818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644720" y="4784040"/>
                <a:ext cx="274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324320" y="4352400"/>
                <a:ext cx="599040" cy="252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324320" y="4774320"/>
                <a:ext cx="305640" cy="625680"/>
              </a:xfrm>
              <a:custGeom>
                <a:avLst/>
                <a:gdLst/>
                <a:ahLst/>
                <a:rect l="l" t="t" r="r" b="b"/>
                <a:pathLst>
                  <a:path w="126" h="258">
                    <a:moveTo>
                      <a:pt x="0" y="256"/>
                    </a:moveTo>
                    <a:lnTo>
                      <a:pt x="126" y="258"/>
                    </a:lnTo>
                    <a:lnTo>
                      <a:pt x="126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3477240" y="5331960"/>
                <a:ext cx="82440" cy="1429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9920" y="3651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6480" y="3651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  <a:lnTo>
                      <a:pt x="531" y="5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3740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3827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641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4476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87960" y="443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3620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233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80432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847880" y="443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7884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659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51280" y="4432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44180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6564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5672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78416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872000" y="4595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919520" y="4595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148400" y="359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2589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4460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3208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517760" y="35910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14840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2308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2048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03640" y="375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4540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436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6210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2216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66500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4816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8284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872000" y="407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988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0700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876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31560" y="4078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16216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4964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960320" y="4333320"/>
                <a:ext cx="17964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935640" y="1995480"/>
                <a:ext cx="533520" cy="1757880"/>
              </a:xfrm>
              <a:custGeom>
                <a:avLst/>
                <a:gdLst/>
                <a:ahLst/>
                <a:rect l="l" t="t" r="r" b="b"/>
                <a:pathLst>
                  <a:path w="220" h="725">
                    <a:moveTo>
                      <a:pt x="220" y="0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1297080" y="2682000"/>
                <a:ext cx="1720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226840" y="4529520"/>
                <a:ext cx="193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496400" y="4352400"/>
                <a:ext cx="2105640" cy="625680"/>
              </a:xfrm>
              <a:custGeom>
                <a:avLst/>
                <a:gdLst/>
                <a:ahLst/>
                <a:rect l="l" t="t" r="r" b="b"/>
                <a:pathLst>
                  <a:path w="868" h="258">
                    <a:moveTo>
                      <a:pt x="868" y="256"/>
                    </a:moveTo>
                    <a:lnTo>
                      <a:pt x="0" y="258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332760" y="2682000"/>
                <a:ext cx="63576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9560" y="3753720"/>
                <a:ext cx="2131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648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51360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 flipV="1">
                <a:off x="4406400" y="5322600"/>
                <a:ext cx="84600" cy="147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755680" y="3534840"/>
                <a:ext cx="120960" cy="1162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35420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44024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8400" y="255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5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4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24600" y="2534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131160" y="253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16120" y="2534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328440" y="25340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03640" y="2645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5908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43680" y="2645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2144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06760" y="2645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2040" y="2645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099200" y="2143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225920" y="214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18640" y="225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206480" y="22550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265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09920" y="2041920"/>
                <a:ext cx="2667960" cy="300240"/>
              </a:xfrm>
              <a:custGeom>
                <a:avLst/>
                <a:gdLst/>
                <a:ahLst/>
                <a:rect l="l" t="t" r="r" b="b"/>
                <a:pathLst>
                  <a:path w="1100" h="124">
                    <a:moveTo>
                      <a:pt x="1100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2012400" y="2337480"/>
                <a:ext cx="3422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  <a:lnTo>
                      <a:pt x="556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542760" y="3280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65400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74148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29320" y="3280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136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38760" y="3280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97944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7280" y="3280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11984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1920" y="42044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79160" y="420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30280" y="4204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64120" y="4204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3048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30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03120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08196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944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254760" y="433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291120" y="433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66000" y="433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1172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9992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31920" y="45565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79160" y="4556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30280" y="4556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64120" y="4556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04800" y="455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93000" y="455652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30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1832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03640" y="4691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923640" y="368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3524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12020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0768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295160" y="36810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304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392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428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446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3280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7348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13920" y="4204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5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101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1976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2858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2176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0420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420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3524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12308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16628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30840" y="345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60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284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3148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405240" y="34578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3120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8196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694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254760" y="3591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91120" y="3591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6600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117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9992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4816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888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021480" y="3799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3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2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480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93000" y="3799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021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074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61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247200" y="3935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280680" y="3935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3566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403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48732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370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577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777040" y="4587840"/>
                <a:ext cx="5787720" cy="1398960"/>
              </a:xfrm>
              <a:custGeom>
                <a:avLst/>
                <a:gdLst/>
                <a:ahLst/>
                <a:rect l="l" t="t" r="r" b="b"/>
                <a:pathLst>
                  <a:path w="2386" h="577">
                    <a:moveTo>
                      <a:pt x="2332" y="0"/>
                    </a:moveTo>
                    <a:lnTo>
                      <a:pt x="2386" y="0"/>
                    </a:lnTo>
                    <a:lnTo>
                      <a:pt x="2386" y="575"/>
                    </a:lnTo>
                    <a:lnTo>
                      <a:pt x="0" y="577"/>
                    </a:lnTo>
                    <a:lnTo>
                      <a:pt x="0" y="54"/>
                    </a:lnTo>
                    <a:lnTo>
                      <a:pt x="46" y="54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2651040" y="4374360"/>
                <a:ext cx="2419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00520" y="4321080"/>
                <a:ext cx="101520" cy="1188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0" y="5"/>
                    </a:lnTo>
                    <a:lnTo>
                      <a:pt x="42" y="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490440" y="4333320"/>
                <a:ext cx="9720" cy="2160"/>
              </a:xfrm>
              <a:prstGeom prst="line">
                <a:avLst/>
              </a:prstGeom>
              <a:ln w="158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646000" y="4032360"/>
                <a:ext cx="2422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197400" y="4333320"/>
                <a:ext cx="2880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85760" y="4333320"/>
                <a:ext cx="1663920" cy="1437840"/>
              </a:xfrm>
              <a:custGeom>
                <a:avLst/>
                <a:gdLst/>
                <a:ahLst/>
                <a:rect l="l" t="t" r="r" b="b"/>
                <a:pathLst>
                  <a:path w="686" h="593">
                    <a:moveTo>
                      <a:pt x="686" y="211"/>
                    </a:moveTo>
                    <a:lnTo>
                      <a:pt x="644" y="213"/>
                    </a:lnTo>
                    <a:lnTo>
                      <a:pt x="644" y="593"/>
                    </a:lnTo>
                    <a:lnTo>
                      <a:pt x="0" y="593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  <a:lnTo>
                      <a:pt x="107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386440" y="4185360"/>
                <a:ext cx="25956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918320" y="283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20200" y="283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105520" y="283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418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832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27200" y="28346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7080" y="3021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928040" y="30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010840" y="302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6880" y="1631880"/>
              <a:ext cx="8452080" cy="4229280"/>
              <a:chOff x="326880" y="1631880"/>
              <a:chExt cx="8452080" cy="4229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50594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008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141520" y="3021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46000" y="3671280"/>
                <a:ext cx="984600" cy="1733760"/>
              </a:xfrm>
              <a:custGeom>
                <a:avLst/>
                <a:gdLst/>
                <a:ahLst/>
                <a:rect l="l" t="t" r="r" b="b"/>
                <a:pathLst>
                  <a:path w="406" h="715">
                    <a:moveTo>
                      <a:pt x="113" y="0"/>
                    </a:moveTo>
                    <a:lnTo>
                      <a:pt x="0" y="0"/>
                    </a:lnTo>
                    <a:lnTo>
                      <a:pt x="0" y="715"/>
                    </a:lnTo>
                    <a:lnTo>
                      <a:pt x="406" y="71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66680" y="400860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08640" y="4037760"/>
                <a:ext cx="177120" cy="21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880" y="1631880"/>
                <a:ext cx="7071120" cy="2121840"/>
              </a:xfrm>
              <a:custGeom>
                <a:avLst/>
                <a:gdLst/>
                <a:ahLst/>
                <a:rect l="l" t="t" r="r" b="b"/>
                <a:pathLst>
                  <a:path w="2915" h="875">
                    <a:moveTo>
                      <a:pt x="46" y="875"/>
                    </a:moveTo>
                    <a:lnTo>
                      <a:pt x="0" y="875"/>
                    </a:lnTo>
                    <a:lnTo>
                      <a:pt x="0" y="0"/>
                    </a:lnTo>
                    <a:lnTo>
                      <a:pt x="2915" y="0"/>
                    </a:lnTo>
                    <a:lnTo>
                      <a:pt x="2915" y="301"/>
                    </a:lnTo>
                    <a:lnTo>
                      <a:pt x="2863" y="30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58480" y="257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050440" y="431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76080" y="43113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71320" y="442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161680" y="44229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70960" y="4539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630320" y="3031200"/>
                <a:ext cx="116280" cy="1752840"/>
              </a:xfrm>
              <a:custGeom>
                <a:avLst/>
                <a:gdLst/>
                <a:ahLst/>
                <a:rect l="l" t="t" r="r" b="b"/>
                <a:pathLst>
                  <a:path w="48" h="723">
                    <a:moveTo>
                      <a:pt x="0" y="723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329080" y="3026160"/>
                <a:ext cx="8244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8317800" y="400860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811480" y="3433680"/>
                <a:ext cx="2520" cy="3492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00760" y="3382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00768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090120" y="338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20208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4276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324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4152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505200" y="338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556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4380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4840" y="338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1832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058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63904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323120" y="5196960"/>
                <a:ext cx="2160" cy="3945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72000" y="3460320"/>
                <a:ext cx="2160" cy="353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48400" y="4920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05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14604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29920" y="49201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80760" y="4920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31520" y="4920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463560" y="4920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0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5934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71832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8058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937200" y="5342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04844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3088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22196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4328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47036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55496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684200" y="3467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29640" y="3467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81120" y="346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17120" y="3467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6032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70356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05800" y="1736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1704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19640" y="17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70760" y="17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85784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959720" y="356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050440" y="3569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6096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63200" y="3569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313240" y="3569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01864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4968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23932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68560" y="381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0924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94200" y="381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60580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9292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983200" y="4122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85080" y="4122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175800" y="4122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87400" y="412236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63680" y="4268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91300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003360" y="4268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07536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167160" y="4268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98840" y="4268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964840" y="39211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63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146280" y="3921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198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408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40560" y="408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26600" y="40881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47600" y="459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46172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545960" y="459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58700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79520" y="45954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38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6992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454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58196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69800" y="4758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720200" y="4758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723000" y="4231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8252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0768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97680" y="423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484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13628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21152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291080" y="4231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723360" y="43426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724080" y="48135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66640" y="48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17760" y="4813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56640" y="481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997320" y="48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80480" y="48135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7230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058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97240" y="498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792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67200" y="41734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777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7641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4908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36560" y="41734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6122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69932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783560" y="4335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8246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57320" y="4371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390520" y="4371840"/>
                <a:ext cx="36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285400" y="448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368560" y="448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285760" y="46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838680" y="5226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943800" y="5226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97476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06188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147200" y="522612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515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36160" y="5403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14640" y="5403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5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04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2740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44760" y="1758240"/>
                <a:ext cx="462960" cy="1156320"/>
              </a:xfrm>
              <a:custGeom>
                <a:avLst/>
                <a:gdLst/>
                <a:ahLst/>
                <a:rect l="l" t="t" r="r" b="b"/>
                <a:pathLst>
                  <a:path w="191" h="477">
                    <a:moveTo>
                      <a:pt x="0" y="0"/>
                    </a:moveTo>
                    <a:lnTo>
                      <a:pt x="2" y="193"/>
                    </a:lnTo>
                    <a:lnTo>
                      <a:pt x="61" y="239"/>
                    </a:lnTo>
                    <a:lnTo>
                      <a:pt x="2" y="285"/>
                    </a:lnTo>
                    <a:lnTo>
                      <a:pt x="2" y="477"/>
                    </a:lnTo>
                    <a:lnTo>
                      <a:pt x="191" y="331"/>
                    </a:lnTo>
                    <a:lnTo>
                      <a:pt x="191" y="14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96680" y="2238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9856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8820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01440" y="2337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01440" y="229644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50080" y="1995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50080" y="19544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55120" y="267696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50080" y="2640960"/>
                <a:ext cx="8460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0332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98280" y="371772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0428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4280" y="371772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963840" y="204192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963840" y="200556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963840" y="268200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963840" y="2640960"/>
                <a:ext cx="8028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714920" y="302616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714920" y="298728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399280" y="302616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399280" y="298728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0" y="33"/>
                    </a:lnTo>
                    <a:lnTo>
                      <a:pt x="34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68880" y="230112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91720" y="371268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8" y="32"/>
                    </a:moveTo>
                    <a:lnTo>
                      <a:pt x="20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5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83600" y="366624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78560" y="36280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883600" y="402768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878560" y="399132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0" y="0"/>
                    </a:moveTo>
                    <a:lnTo>
                      <a:pt x="2" y="32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883600" y="437472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78560" y="4333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83600" y="471888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878560" y="467784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604600" y="414936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17" y="30"/>
                    </a:moveTo>
                    <a:lnTo>
                      <a:pt x="19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919040" y="431136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0"/>
                    </a:moveTo>
                    <a:lnTo>
                      <a:pt x="2" y="34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19040" y="47480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394600" y="380484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394600" y="4486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53200" y="43164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583320" y="4292280"/>
                <a:ext cx="84600" cy="79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583320" y="4932360"/>
                <a:ext cx="84600" cy="84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2" y="35"/>
                    </a:lnTo>
                    <a:lnTo>
                      <a:pt x="35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123760" y="429228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49400" y="4297320"/>
                <a:ext cx="77400" cy="824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130600" y="480636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593960" y="47430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04600" y="43333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33"/>
                    </a:moveTo>
                    <a:lnTo>
                      <a:pt x="19" y="33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604960" y="3986640"/>
              <a:ext cx="82440" cy="77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589560" y="5405760"/>
              <a:ext cx="2664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584520" y="5364360"/>
              <a:ext cx="8496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2" y="35"/>
                  </a:lnTo>
                  <a:lnTo>
                    <a:pt x="35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s e 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genérica:   R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2 op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instrução: 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de desvio: PC + SignExt (ShiftLeft (Offset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segundo operand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xt (Offse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o que será carregado no 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SignExt (ShiftLeft (Offset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qual é a origem do dado a ser escrito n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do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do da operaçã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operations to perform (ALU, read/write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ing the flow of data (multiplexor inpu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comes from the 32 bits of th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 $8, $17, $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orma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m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un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's operation based on instruction type and functio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1301760" y="3816360"/>
            <a:ext cx="5549760" cy="977760"/>
            <a:chOff x="1301760" y="3816360"/>
            <a:chExt cx="5549760" cy="977760"/>
          </a:xfrm>
        </p:grpSpPr>
        <p:grpSp>
          <p:nvGrpSpPr>
            <p:cNvPr id="1814" name=""/>
            <p:cNvGrpSpPr/>
            <p:nvPr/>
          </p:nvGrpSpPr>
          <p:grpSpPr>
            <a:xfrm>
              <a:off x="1301760" y="3816360"/>
              <a:ext cx="5549760" cy="368280"/>
              <a:chOff x="1301760" y="3816360"/>
              <a:chExt cx="5549760" cy="368280"/>
            </a:xfrm>
          </p:grpSpPr>
          <p:sp>
            <p:nvSpPr>
              <p:cNvPr id="1815" name=""/>
              <p:cNvSpPr/>
              <p:nvPr/>
            </p:nvSpPr>
            <p:spPr>
              <a:xfrm>
                <a:off x="1301760" y="381636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2924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2068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212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356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9500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301760" y="4425840"/>
              <a:ext cx="5549760" cy="368280"/>
              <a:chOff x="1301760" y="4425840"/>
              <a:chExt cx="5549760" cy="368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1301760" y="442584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2924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2068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1212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356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9500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what should the ALU do with this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lw $1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0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6 bit off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control inpu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ra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-on-less-th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is the code for subtract 110 and not 01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923760" y="2122560"/>
            <a:ext cx="6088320" cy="1015920"/>
            <a:chOff x="923760" y="2122560"/>
            <a:chExt cx="6088320" cy="1015920"/>
          </a:xfrm>
        </p:grpSpPr>
        <p:sp>
          <p:nvSpPr>
            <p:cNvPr id="1831" name=""/>
            <p:cNvSpPr/>
            <p:nvPr/>
          </p:nvSpPr>
          <p:spPr>
            <a:xfrm>
              <a:off x="92376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3824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5272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2376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3824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67200" y="2800440"/>
              <a:ext cx="30448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967200" y="2122560"/>
              <a:ext cx="30448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990720" y="609480"/>
          <a:ext cx="7468920" cy="22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46892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4" name=""/>
          <p:cNvGrpSpPr/>
          <p:nvPr/>
        </p:nvGrpSpPr>
        <p:grpSpPr>
          <a:xfrm>
            <a:off x="747720" y="2362320"/>
            <a:ext cx="6643080" cy="1776600"/>
            <a:chOff x="747720" y="2362320"/>
            <a:chExt cx="6643080" cy="1776600"/>
          </a:xfrm>
        </p:grpSpPr>
        <p:sp>
          <p:nvSpPr>
            <p:cNvPr id="1845" name=""/>
            <p:cNvSpPr/>
            <p:nvPr/>
          </p:nvSpPr>
          <p:spPr>
            <a:xfrm>
              <a:off x="5083200" y="243864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11600" y="2743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97400" y="3124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912720" y="2972160"/>
              <a:ext cx="478080" cy="1028520"/>
              <a:chOff x="6912720" y="2972160"/>
              <a:chExt cx="478080" cy="1028520"/>
            </a:xfrm>
          </p:grpSpPr>
          <p:sp>
            <p:nvSpPr>
              <p:cNvPr id="1849" name=""/>
              <p:cNvSpPr/>
              <p:nvPr/>
            </p:nvSpPr>
            <p:spPr>
              <a:xfrm>
                <a:off x="6978600" y="2972160"/>
                <a:ext cx="349200" cy="1028520"/>
              </a:xfrm>
              <a:custGeom>
                <a:avLst/>
                <a:gdLst/>
                <a:ahLst/>
                <a:rect l="l" t="t" r="r" b="b"/>
                <a:pathLst>
                  <a:path w="400" h="1177">
                    <a:moveTo>
                      <a:pt x="1" y="0"/>
                    </a:moveTo>
                    <a:lnTo>
                      <a:pt x="0" y="436"/>
                    </a:lnTo>
                    <a:lnTo>
                      <a:pt x="112" y="548"/>
                    </a:lnTo>
                    <a:lnTo>
                      <a:pt x="3" y="645"/>
                    </a:lnTo>
                    <a:lnTo>
                      <a:pt x="3" y="1177"/>
                    </a:lnTo>
                    <a:lnTo>
                      <a:pt x="400" y="820"/>
                    </a:lnTo>
                    <a:lnTo>
                      <a:pt x="400" y="3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720" y="316260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1" name=""/>
            <p:cNvCxnSpPr>
              <a:stCxn id="1845" idx="3"/>
              <a:endCxn id="1850" idx="0"/>
            </p:cNvCxnSpPr>
            <p:nvPr/>
          </p:nvCxnSpPr>
          <p:spPr>
            <a:xfrm>
              <a:off x="6149520" y="2895480"/>
              <a:ext cx="1002600" cy="267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2" name=""/>
            <p:cNvSpPr/>
            <p:nvPr/>
          </p:nvSpPr>
          <p:spPr>
            <a:xfrm flipH="1">
              <a:off x="4614480" y="2667240"/>
              <a:ext cx="8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626000" y="30481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531120" y="28195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551120" y="23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475160" y="289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08520" y="2667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3920" y="243864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04920" y="28195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644920" y="251496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ar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59120" y="281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2176560" y="2743560"/>
              <a:ext cx="87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12840" y="2438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046520" y="251496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2560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41632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2564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9248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8284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4500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59120" y="281952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397400" y="3124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720" y="377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4" name=""/>
          <p:cNvGraphicFramePr/>
          <p:nvPr/>
        </p:nvGraphicFramePr>
        <p:xfrm>
          <a:off x="838080" y="4267080"/>
          <a:ext cx="4980240" cy="23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267080"/>
                    <a:ext cx="49802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6" name=""/>
          <p:cNvSpPr/>
          <p:nvPr/>
        </p:nvSpPr>
        <p:spPr>
          <a:xfrm>
            <a:off x="5944680" y="42670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v - 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5362560" y="4748040"/>
          <a:ext cx="3197160" cy="2953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2560" y="4748040"/>
                    <a:ext cx="3197160" cy="29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gica de 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838080" y="4110120"/>
          <a:ext cx="498024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0120"/>
                    <a:ext cx="49802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5362560" y="4591080"/>
          <a:ext cx="3197160" cy="295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4591080"/>
                    <a:ext cx="3197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1679400" y="1001880"/>
            <a:ext cx="53308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os da instrução e MUX adi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480960" y="3757680"/>
            <a:ext cx="818208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egistradores a serem lidos em todos os tip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os rs (25-21) e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para beq, lw e s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-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 de destino (write register) em dois luga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e sw: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R: rd (15-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ário MUX controlado por RegisterDestination: RegD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685800" y="885960"/>
          <a:ext cx="67597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85960"/>
                    <a:ext cx="67597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52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1040" y="1329480"/>
            <a:ext cx="80852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re ready to look at an implementation of the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to contain on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, s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-logical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, sub, and, or, s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,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implementadas: mult, div, jal,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Implemen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program counter (PC) to supply instructio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instruction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ruction to decide exactly what to 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use the ALU after reading the regist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(sw lw), arithmetic,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 Datapath &amp;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851040" y="4952880"/>
          <a:ext cx="745488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495288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3" name="" descr=""/>
          <p:cNvPicPr/>
          <p:nvPr/>
        </p:nvPicPr>
        <p:blipFill>
          <a:blip r:embed="rId3"/>
          <a:stretch/>
        </p:blipFill>
        <p:spPr>
          <a:xfrm>
            <a:off x="1325520" y="1066680"/>
            <a:ext cx="650736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940200" cy="415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6" name=""/>
          <p:cNvGraphicFramePr/>
          <p:nvPr/>
        </p:nvGraphicFramePr>
        <p:xfrm>
          <a:off x="533520" y="914400"/>
          <a:ext cx="7454880" cy="145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1440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"/>
          <p:cNvSpPr/>
          <p:nvPr/>
        </p:nvSpPr>
        <p:spPr>
          <a:xfrm>
            <a:off x="609120" y="3581280"/>
            <a:ext cx="23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o R: 00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              100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:              101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            000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logic is combi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it for everything to settle down, and the right thing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might not produce “right answer” right a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write signals along with clock to determine when to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 determined by length of the long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imple Control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894600" y="5997600"/>
            <a:ext cx="532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e are ignoring some details like setup and hold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2764080" y="3867120"/>
            <a:ext cx="3587400" cy="1346040"/>
            <a:chOff x="2764080" y="3867120"/>
            <a:chExt cx="3587400" cy="1346040"/>
          </a:xfrm>
        </p:grpSpPr>
        <p:sp>
          <p:nvSpPr>
            <p:cNvPr id="1904" name=""/>
            <p:cNvSpPr/>
            <p:nvPr/>
          </p:nvSpPr>
          <p:spPr>
            <a:xfrm>
              <a:off x="3287880" y="4861080"/>
              <a:ext cx="3063600" cy="30132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4080" y="5091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3428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5804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1456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53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17160" y="5091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0445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9708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14460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9644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1696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9156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599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8840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427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264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06840" y="39942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296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868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408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46536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551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075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6648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670200" y="411624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8048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235320" y="3943440"/>
              <a:ext cx="50148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84640" y="41482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736800" y="417672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241880" y="3867120"/>
              <a:ext cx="1015920" cy="62064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339080" y="411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089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654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51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60584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32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854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444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71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916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8520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04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6332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842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14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0360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93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72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70320" y="411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713560" y="414828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257440" y="4176720"/>
              <a:ext cx="47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770440" y="3943440"/>
              <a:ext cx="50004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2848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9364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2028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07788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0596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138720" y="399420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64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92056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443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990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840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412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970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02440" y="411624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01560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yc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ycle time assuming negligible delays excep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(2ns), ALU and adders (2ns), register file access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262160" y="2398680"/>
            <a:ext cx="6625080" cy="3232080"/>
            <a:chOff x="1262160" y="2398680"/>
            <a:chExt cx="6625080" cy="3232080"/>
          </a:xfrm>
        </p:grpSpPr>
        <p:grpSp>
          <p:nvGrpSpPr>
            <p:cNvPr id="1975" name=""/>
            <p:cNvGrpSpPr/>
            <p:nvPr/>
          </p:nvGrpSpPr>
          <p:grpSpPr>
            <a:xfrm>
              <a:off x="1262160" y="2398680"/>
              <a:ext cx="6625080" cy="3168360"/>
              <a:chOff x="1262160" y="2398680"/>
              <a:chExt cx="6625080" cy="3168360"/>
            </a:xfrm>
          </p:grpSpPr>
          <p:sp>
            <p:nvSpPr>
              <p:cNvPr id="1976" name=""/>
              <p:cNvSpPr/>
              <p:nvPr/>
            </p:nvSpPr>
            <p:spPr>
              <a:xfrm>
                <a:off x="7620120" y="3983040"/>
                <a:ext cx="1440" cy="146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8900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47324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53156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14720" y="3852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428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701480" y="385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77168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8300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6896160" y="4780080"/>
                <a:ext cx="3240" cy="133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69492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77628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83496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21720" y="492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9919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0477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0640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896160" y="3813120"/>
                <a:ext cx="6120" cy="874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67116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7525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81084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901560" y="369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91560" y="369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23600" y="369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49520" y="369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747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559480" y="5341680"/>
                <a:ext cx="324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34920" y="544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0296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61280" y="544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34360" y="5445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1248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81520" y="4417920"/>
                <a:ext cx="112680" cy="588960"/>
              </a:xfrm>
              <a:custGeom>
                <a:avLst/>
                <a:gdLst/>
                <a:ahLst/>
                <a:rect l="l" t="t" r="r" b="b"/>
                <a:pathLst>
                  <a:path w="71" h="371">
                    <a:moveTo>
                      <a:pt x="69" y="0"/>
                    </a:moveTo>
                    <a:lnTo>
                      <a:pt x="71" y="371"/>
                    </a:lnTo>
                    <a:lnTo>
                      <a:pt x="0" y="371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29160" y="3979800"/>
                <a:ext cx="3240" cy="88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9200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360040" y="38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18360" y="386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036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58040" y="386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90800" y="386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6436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63456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69144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5012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822480" y="462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871440" y="46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72320" y="2541600"/>
                <a:ext cx="144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476600" y="3378240"/>
                <a:ext cx="180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3763800" y="4551120"/>
                <a:ext cx="180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2765520" y="4438800"/>
                <a:ext cx="8856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979800" y="4894200"/>
                <a:ext cx="6159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530520" y="3963960"/>
                <a:ext cx="120600" cy="13824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6" y="87"/>
                    </a:move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441324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26680" y="3753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95800" y="375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6632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96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5092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0276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130840" y="4257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16288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22228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27124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301120" y="4257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320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38032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413080" y="4257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03256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11680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17548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5648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16600" y="4368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346840" y="436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35640" y="371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0584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96452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01996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57400" y="371304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327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92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946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007000" y="3816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03760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0937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1459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14560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17224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23164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28204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310120" y="396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34360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40156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45052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477160" y="396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49948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55636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592360" y="39625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2200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34864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040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46132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5372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9344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7319520" y="4199040"/>
                <a:ext cx="2034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219640" y="33228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27"/>
                    </a:lnTo>
                    <a:lnTo>
                      <a:pt x="27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23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1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0952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958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986200" y="380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2148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800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128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155040" y="380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17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3424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90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202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346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4027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59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53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594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64896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23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51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90952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958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986200" y="3548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02148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07800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128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155040" y="3548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7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23424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290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3202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346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4027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459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53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94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4896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652760" y="2666880"/>
                <a:ext cx="434880" cy="1154160"/>
              </a:xfrm>
              <a:custGeom>
                <a:avLst/>
                <a:gdLst/>
                <a:ahLst/>
                <a:rect l="l" t="t" r="r" b="b"/>
                <a:pathLst>
                  <a:path w="274" h="727">
                    <a:moveTo>
                      <a:pt x="274" y="0"/>
                    </a:moveTo>
                    <a:lnTo>
                      <a:pt x="0" y="0"/>
                    </a:lnTo>
                    <a:lnTo>
                      <a:pt x="0" y="7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>
                <a:off x="1950840" y="3116160"/>
                <a:ext cx="136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124000" y="2514600"/>
                <a:ext cx="385920" cy="754200"/>
              </a:xfrm>
              <a:custGeom>
                <a:avLst/>
                <a:gdLst/>
                <a:ahLst/>
                <a:rect l="l" t="t" r="r" b="b"/>
                <a:pathLst>
                  <a:path w="243" h="475">
                    <a:moveTo>
                      <a:pt x="0" y="0"/>
                    </a:moveTo>
                    <a:lnTo>
                      <a:pt x="0" y="192"/>
                    </a:lnTo>
                    <a:lnTo>
                      <a:pt x="63" y="238"/>
                    </a:lnTo>
                    <a:lnTo>
                      <a:pt x="0" y="283"/>
                    </a:lnTo>
                    <a:lnTo>
                      <a:pt x="0" y="475"/>
                    </a:lnTo>
                    <a:lnTo>
                      <a:pt x="243" y="329"/>
                    </a:lnTo>
                    <a:lnTo>
                      <a:pt x="243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64760" y="2822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3100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38824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502240" y="4325760"/>
                <a:ext cx="1303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024520" y="4159080"/>
                <a:ext cx="1476360" cy="525600"/>
              </a:xfrm>
              <a:custGeom>
                <a:avLst/>
                <a:gdLst/>
                <a:ahLst/>
                <a:rect l="l" t="t" r="r" b="b"/>
                <a:pathLst>
                  <a:path w="930" h="331">
                    <a:moveTo>
                      <a:pt x="930" y="331"/>
                    </a:moveTo>
                    <a:lnTo>
                      <a:pt x="0" y="331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  <a:lnTo>
                      <a:pt x="105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0381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69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12416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1760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204080" y="5195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23612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29408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34268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372560" y="5195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93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44888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507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534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561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202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96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7538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79800" y="4894200"/>
                <a:ext cx="1363680" cy="447840"/>
              </a:xfrm>
              <a:custGeom>
                <a:avLst/>
                <a:gdLst/>
                <a:ahLst/>
                <a:rect l="l" t="t" r="r" b="b"/>
                <a:pathLst>
                  <a:path w="859" h="282">
                    <a:moveTo>
                      <a:pt x="0" y="0"/>
                    </a:moveTo>
                    <a:lnTo>
                      <a:pt x="2" y="282"/>
                    </a:lnTo>
                    <a:lnTo>
                      <a:pt x="823" y="282"/>
                    </a:lnTo>
                    <a:lnTo>
                      <a:pt x="823" y="71"/>
                    </a:lnTo>
                    <a:lnTo>
                      <a:pt x="859" y="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300920" y="3251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37112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42800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490280" y="3251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581720" y="325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614120" y="325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637880" y="325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66308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630440" y="3800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25"/>
                    </a:moveTo>
                    <a:lnTo>
                      <a:pt x="16" y="27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44640" y="393048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25"/>
                    </a:move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744640" y="44211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2" y="25"/>
                    </a:move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80280" y="304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165360" y="3119400"/>
                <a:ext cx="490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262160" y="2398680"/>
                <a:ext cx="5664240" cy="1422360"/>
              </a:xfrm>
              <a:custGeom>
                <a:avLst/>
                <a:gdLst/>
                <a:ahLst/>
                <a:rect l="l" t="t" r="r" b="b"/>
                <a:pathLst>
                  <a:path w="3568" h="896">
                    <a:moveTo>
                      <a:pt x="39" y="895"/>
                    </a:moveTo>
                    <a:lnTo>
                      <a:pt x="0" y="896"/>
                    </a:lnTo>
                    <a:lnTo>
                      <a:pt x="0" y="0"/>
                    </a:lnTo>
                    <a:lnTo>
                      <a:pt x="3568" y="0"/>
                    </a:lnTo>
                    <a:lnTo>
                      <a:pt x="3568" y="322"/>
                    </a:lnTo>
                    <a:lnTo>
                      <a:pt x="3515" y="3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566720" y="3819600"/>
                <a:ext cx="1652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586400" y="4876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  <a:lnTo>
                      <a:pt x="133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3851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4409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flipV="1">
                <a:off x="506412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516040" y="2630520"/>
              <a:ext cx="5262840" cy="3000240"/>
              <a:chOff x="2516040" y="2630520"/>
              <a:chExt cx="5262840" cy="3000240"/>
            </a:xfrm>
          </p:grpSpPr>
          <p:sp>
            <p:nvSpPr>
              <p:cNvPr id="2177" name=""/>
              <p:cNvSpPr/>
              <p:nvPr/>
            </p:nvSpPr>
            <p:spPr>
              <a:xfrm>
                <a:off x="5015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069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23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51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90952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958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986200" y="4756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02148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7800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128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155040" y="4756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7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23424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290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202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346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027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5960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53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9496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6143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902120" y="2697120"/>
                <a:ext cx="1757520" cy="196920"/>
              </a:xfrm>
              <a:custGeom>
                <a:avLst/>
                <a:gdLst/>
                <a:ahLst/>
                <a:rect l="l" t="t" r="r" b="b"/>
                <a:pathLst>
                  <a:path w="1107" h="124">
                    <a:moveTo>
                      <a:pt x="1107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2516040" y="2892600"/>
                <a:ext cx="315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881600" y="2873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3530160" y="3949560"/>
                <a:ext cx="4446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  <a:lnTo>
                      <a:pt x="571" y="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422960" y="4387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49352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55184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607640" y="4387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63212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681080" y="4387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70916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767480" y="438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80024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61520" y="40957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151520" y="4095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186800" y="4095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209480" y="40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234680" y="40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272120" y="4095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5792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8852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14720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02640" y="4195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27120" y="4195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276080" y="419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0128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36284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61520" y="432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151520" y="432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186800" y="432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209480" y="432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234680" y="432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272120" y="432108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5684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122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69880" y="442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950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580800" y="45543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72600" y="4554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04640" y="4554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728760" y="455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55400" y="455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9600" y="45543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576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30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89160" y="4654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71580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672440" y="3679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4264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8013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5676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894200" y="36799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61088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6663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72392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7491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80960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83624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72440" y="4005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4264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80132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85676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94200" y="4005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61088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6663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72392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491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80960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83624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057920" y="357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12812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18536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4224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78240" y="35766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5792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0885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4720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02640" y="3679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227120" y="3679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27608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3012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36284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39524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4218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7920" y="3816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2812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1853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24224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278240" y="3816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05792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08852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4720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202640" y="3916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27120" y="3916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27608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3012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36284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39524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4218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02040" y="4371840"/>
                <a:ext cx="3873600" cy="1258920"/>
              </a:xfrm>
              <a:custGeom>
                <a:avLst/>
                <a:gdLst/>
                <a:ahLst/>
                <a:rect l="l" t="t" r="r" b="b"/>
                <a:pathLst>
                  <a:path w="2440" h="793">
                    <a:moveTo>
                      <a:pt x="2388" y="0"/>
                    </a:moveTo>
                    <a:lnTo>
                      <a:pt x="2440" y="0"/>
                    </a:lnTo>
                    <a:lnTo>
                      <a:pt x="2440" y="793"/>
                    </a:lnTo>
                    <a:lnTo>
                      <a:pt x="0" y="793"/>
                    </a:lnTo>
                    <a:lnTo>
                      <a:pt x="0" y="46"/>
                    </a:lnTo>
                    <a:lnTo>
                      <a:pt x="36" y="4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3839760" y="4202280"/>
                <a:ext cx="135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65520" y="4105440"/>
                <a:ext cx="1214280" cy="788760"/>
              </a:xfrm>
              <a:custGeom>
                <a:avLst/>
                <a:gdLst/>
                <a:ahLst/>
                <a:rect l="l" t="t" r="r" b="b"/>
                <a:pathLst>
                  <a:path w="765" h="497">
                    <a:moveTo>
                      <a:pt x="765" y="497"/>
                    </a:moveTo>
                    <a:lnTo>
                      <a:pt x="0" y="49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747880" y="442116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664880" y="47433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734720" y="4743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75668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81392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848120" y="4743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6094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663080" y="4859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717440" y="4859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7426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02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56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5191200" y="4494240"/>
                <a:ext cx="12528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948200" y="4497480"/>
                <a:ext cx="243000" cy="396720"/>
              </a:xfrm>
              <a:custGeom>
                <a:avLst/>
                <a:gdLst/>
                <a:ahLst/>
                <a:rect l="l" t="t" r="r" b="b"/>
                <a:pathLst>
                  <a:path w="153" h="250">
                    <a:moveTo>
                      <a:pt x="0" y="250"/>
                    </a:moveTo>
                    <a:lnTo>
                      <a:pt x="153" y="250"/>
                    </a:lnTo>
                    <a:lnTo>
                      <a:pt x="15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173560" y="4475160"/>
                <a:ext cx="3996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4917960" y="3824280"/>
                <a:ext cx="7128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135120" y="4048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202800" y="4048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258240" y="4048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08640" y="40482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058080" y="4135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088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144840" y="413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96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250680" y="4135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76240" y="413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111000" y="39258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16968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28000" y="392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6184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88680" y="4514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05888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119360" y="4514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1445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182000" y="451476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1740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99840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05708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14132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99640" y="4621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30240" y="4621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576480" y="413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644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698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758280" y="413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78888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4828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9760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083720" y="4092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153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07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26804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0800" y="409248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11252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16508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225560" y="4199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25076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596720" y="4254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656480" y="425448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11120" y="433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48560" y="43308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09680" y="440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1120" y="4129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765120" y="303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44240" y="2779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08680" y="27795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761880" y="285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799320" y="285264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60080" y="292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6758640" y="26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400" y="4457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04320" y="41958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68760" y="41958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20160" y="427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56160" y="427212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720" y="434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20160" y="407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758040" y="440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740760" y="41511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03760" y="41511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758040" y="422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792600" y="4226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756600" y="42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75516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2765160" y="3949560"/>
              <a:ext cx="765000" cy="32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23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51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90952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58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86200" y="4287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02148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07800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128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155040" y="4287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17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3424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290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3202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346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027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9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53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594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4896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911840" y="4159080"/>
              <a:ext cx="4111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415200" y="4199040"/>
              <a:ext cx="1108080" cy="637920"/>
            </a:xfrm>
            <a:custGeom>
              <a:avLst/>
              <a:gdLst/>
              <a:ahLst/>
              <a:rect l="l" t="t" r="r" b="b"/>
              <a:pathLst>
                <a:path w="698" h="402">
                  <a:moveTo>
                    <a:pt x="698" y="237"/>
                  </a:moveTo>
                  <a:lnTo>
                    <a:pt x="660" y="237"/>
                  </a:lnTo>
                  <a:lnTo>
                    <a:pt x="660" y="402"/>
                  </a:lnTo>
                  <a:lnTo>
                    <a:pt x="0" y="402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96840" y="4896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63080" y="489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21760" y="489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72160" y="4896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33840" y="4998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792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53932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93680" y="499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24640" y="4998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556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712480" y="4998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5840" y="4102200"/>
              <a:ext cx="1396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747880" y="40831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11440" y="392760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11440" y="393048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173560" y="44784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397560" y="4176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47880" y="39337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57160" y="321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26640" y="321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80640" y="3218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0800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53356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38960" y="3218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40960" y="3338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36328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2232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50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77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0620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00800" y="41799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763720" y="3687840"/>
              <a:ext cx="1204920" cy="417600"/>
            </a:xfrm>
            <a:custGeom>
              <a:avLst/>
              <a:gdLst/>
              <a:ahLst/>
              <a:rect l="l" t="t" r="r" b="b"/>
              <a:pathLst>
                <a:path w="759" h="263">
                  <a:moveTo>
                    <a:pt x="0" y="263"/>
                  </a:moveTo>
                  <a:lnTo>
                    <a:pt x="1" y="0"/>
                  </a:lnTo>
                  <a:lnTo>
                    <a:pt x="75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65892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726600" y="241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80184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69520" y="241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03720" y="241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397560" y="39862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32400" y="40035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22280" y="4049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88520" y="404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948640" y="404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191200" y="3344760"/>
              <a:ext cx="39600" cy="1149480"/>
            </a:xfrm>
            <a:custGeom>
              <a:avLst/>
              <a:gdLst/>
              <a:ahLst/>
              <a:rect l="l" t="t" r="r" b="b"/>
              <a:pathLst>
                <a:path w="25" h="724">
                  <a:moveTo>
                    <a:pt x="0" y="724"/>
                  </a:move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21400" y="3344760"/>
              <a:ext cx="57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335280" y="4199040"/>
              <a:ext cx="1587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6040" y="3062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122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9680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15420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204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0560" y="30114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30960" y="30114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75720" y="3111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10632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163920" y="311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1396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73000" y="31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93880" y="3111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3520" y="33447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3520" y="33177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648400" y="3341520"/>
              <a:ext cx="1908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648400" y="3314880"/>
              <a:ext cx="5220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648400" y="2892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48400" y="28670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647040" y="269712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47040" y="2670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47040" y="31161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647040" y="3092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302080" y="41590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02080" y="4132440"/>
              <a:ext cx="5112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97520" y="413244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56040" y="48672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67440" y="44686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4497480"/>
              <a:ext cx="1728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99200" y="447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338800" y="500688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35560" y="4979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" y="34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618160" y="4325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618160" y="4299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618160" y="382752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618160" y="38005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470640" y="41990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67400" y="417204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93040" y="41990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93040" y="417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496280" y="45752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493040" y="454824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2" y="35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67400" y="46846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67400" y="465768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94320" y="4175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43440" y="368460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41640" y="366084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1" y="33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943440" y="394668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41640" y="392256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943440" y="41990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941640" y="41752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3840" y="41022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33840" y="407340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0" y="35"/>
                  </a:lnTo>
                  <a:lnTo>
                    <a:pt x="32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33840" y="44355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3840" y="440856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943440" y="443880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41640" y="441468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50208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20" y="32"/>
                  </a:lnTo>
                  <a:lnTo>
                    <a:pt x="22" y="32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4176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41760" y="441468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41760" y="407340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716120" y="3819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16120" y="379404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314360" y="3819600"/>
              <a:ext cx="1764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11120" y="379404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22520" y="37940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60640" y="26640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60640" y="263700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0" y="34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60640" y="31161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60640" y="308916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0" y="33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878360" y="286704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icionando a instrução j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776160" y="1165320"/>
            <a:ext cx="7763040" cy="4597200"/>
            <a:chOff x="776160" y="1165320"/>
            <a:chExt cx="7763040" cy="4597200"/>
          </a:xfrm>
        </p:grpSpPr>
        <p:grpSp>
          <p:nvGrpSpPr>
            <p:cNvPr id="2540" name=""/>
            <p:cNvGrpSpPr/>
            <p:nvPr/>
          </p:nvGrpSpPr>
          <p:grpSpPr>
            <a:xfrm>
              <a:off x="911160" y="1319040"/>
              <a:ext cx="7628040" cy="4443480"/>
              <a:chOff x="911160" y="1319040"/>
              <a:chExt cx="7628040" cy="4443480"/>
            </a:xfrm>
          </p:grpSpPr>
          <p:sp>
            <p:nvSpPr>
              <p:cNvPr id="2541" name=""/>
              <p:cNvSpPr/>
              <p:nvPr/>
            </p:nvSpPr>
            <p:spPr>
              <a:xfrm>
                <a:off x="3973680" y="3308400"/>
                <a:ext cx="1752480" cy="752400"/>
              </a:xfrm>
              <a:custGeom>
                <a:avLst/>
                <a:gdLst/>
                <a:ahLst/>
                <a:rect l="l" t="t" r="r" b="b"/>
                <a:pathLst>
                  <a:path w="1104" h="474">
                    <a:moveTo>
                      <a:pt x="0" y="0"/>
                    </a:moveTo>
                    <a:lnTo>
                      <a:pt x="1104" y="0"/>
                    </a:lnTo>
                    <a:lnTo>
                      <a:pt x="1104" y="47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032360" y="3036960"/>
                <a:ext cx="1820880" cy="2622600"/>
              </a:xfrm>
              <a:custGeom>
                <a:avLst/>
                <a:gdLst/>
                <a:ahLst/>
                <a:rect l="l" t="t" r="r" b="b"/>
                <a:pathLst>
                  <a:path w="1147" h="1652">
                    <a:moveTo>
                      <a:pt x="0" y="0"/>
                    </a:moveTo>
                    <a:lnTo>
                      <a:pt x="820" y="0"/>
                    </a:lnTo>
                    <a:lnTo>
                      <a:pt x="823" y="1652"/>
                    </a:lnTo>
                    <a:lnTo>
                      <a:pt x="1147" y="1652"/>
                    </a:lnTo>
                    <a:lnTo>
                      <a:pt x="1147" y="156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013280" y="2631960"/>
                <a:ext cx="2571840" cy="3240"/>
              </a:xfrm>
              <a:prstGeom prst="line">
                <a:avLst/>
              </a:prstGeom>
              <a:ln w="11160">
                <a:solidFill>
                  <a:srgbClr val="f3aa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602080" y="2200320"/>
                <a:ext cx="1430280" cy="2468520"/>
              </a:xfrm>
              <a:custGeom>
                <a:avLst/>
                <a:gdLst/>
                <a:ahLst/>
                <a:rect l="l" t="t" r="r" b="b"/>
                <a:pathLst>
                  <a:path w="901" h="1555">
                    <a:moveTo>
                      <a:pt x="825" y="101"/>
                    </a:moveTo>
                    <a:lnTo>
                      <a:pt x="901" y="101"/>
                    </a:lnTo>
                    <a:lnTo>
                      <a:pt x="901" y="0"/>
                    </a:lnTo>
                    <a:lnTo>
                      <a:pt x="0" y="0"/>
                    </a:lnTo>
                    <a:lnTo>
                      <a:pt x="0" y="1555"/>
                    </a:lnTo>
                    <a:lnTo>
                      <a:pt x="710" y="1555"/>
                    </a:lnTo>
                    <a:lnTo>
                      <a:pt x="710" y="149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021360" y="4456080"/>
                <a:ext cx="139680" cy="709560"/>
              </a:xfrm>
              <a:custGeom>
                <a:avLst/>
                <a:gdLst/>
                <a:ahLst/>
                <a:rect l="l" t="t" r="r" b="b"/>
                <a:pathLst>
                  <a:path w="88" h="447">
                    <a:moveTo>
                      <a:pt x="86" y="0"/>
                    </a:moveTo>
                    <a:lnTo>
                      <a:pt x="88" y="447"/>
                    </a:lnTo>
                    <a:lnTo>
                      <a:pt x="0" y="44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73960" y="2631960"/>
                <a:ext cx="271440" cy="1327320"/>
              </a:xfrm>
              <a:custGeom>
                <a:avLst/>
                <a:gdLst/>
                <a:ahLst/>
                <a:rect l="l" t="t" r="r" b="b"/>
                <a:pathLst>
                  <a:path w="171" h="836">
                    <a:moveTo>
                      <a:pt x="0" y="836"/>
                    </a:moveTo>
                    <a:lnTo>
                      <a:pt x="88" y="836"/>
                    </a:lnTo>
                    <a:lnTo>
                      <a:pt x="88" y="0"/>
                    </a:lnTo>
                    <a:lnTo>
                      <a:pt x="171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78640" y="2481120"/>
                <a:ext cx="270000" cy="150840"/>
              </a:xfrm>
              <a:custGeom>
                <a:avLst/>
                <a:gdLst/>
                <a:ahLst/>
                <a:rect l="l" t="t" r="r" b="b"/>
                <a:pathLst>
                  <a:path w="170" h="95">
                    <a:moveTo>
                      <a:pt x="0" y="95"/>
                    </a:moveTo>
                    <a:lnTo>
                      <a:pt x="0" y="0"/>
                    </a:lnTo>
                    <a:lnTo>
                      <a:pt x="170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040280" y="2901960"/>
                <a:ext cx="4209840" cy="1206360"/>
              </a:xfrm>
              <a:custGeom>
                <a:avLst/>
                <a:gdLst/>
                <a:ahLst/>
                <a:rect l="l" t="t" r="r" b="b"/>
                <a:pathLst>
                  <a:path w="2652" h="760">
                    <a:moveTo>
                      <a:pt x="0" y="0"/>
                    </a:moveTo>
                    <a:lnTo>
                      <a:pt x="2652" y="0"/>
                    </a:lnTo>
                    <a:lnTo>
                      <a:pt x="2652" y="76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035600" y="2766960"/>
                <a:ext cx="4503600" cy="2260800"/>
              </a:xfrm>
              <a:custGeom>
                <a:avLst/>
                <a:gdLst/>
                <a:ahLst/>
                <a:rect l="l" t="t" r="r" b="b"/>
                <a:pathLst>
                  <a:path w="2837" h="1424">
                    <a:moveTo>
                      <a:pt x="0" y="0"/>
                    </a:moveTo>
                    <a:lnTo>
                      <a:pt x="2837" y="0"/>
                    </a:lnTo>
                    <a:lnTo>
                      <a:pt x="2837" y="1424"/>
                    </a:lnTo>
                    <a:lnTo>
                      <a:pt x="2155" y="1424"/>
                    </a:lnTo>
                    <a:lnTo>
                      <a:pt x="2155" y="13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013280" y="3173400"/>
                <a:ext cx="3443040" cy="657360"/>
              </a:xfrm>
              <a:custGeom>
                <a:avLst/>
                <a:gdLst/>
                <a:ahLst/>
                <a:rect l="l" t="t" r="r" b="b"/>
                <a:pathLst>
                  <a:path w="2169" h="414">
                    <a:moveTo>
                      <a:pt x="0" y="0"/>
                    </a:moveTo>
                    <a:lnTo>
                      <a:pt x="2169" y="0"/>
                    </a:lnTo>
                    <a:lnTo>
                      <a:pt x="2169" y="41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71800" y="3443400"/>
                <a:ext cx="720720" cy="102960"/>
              </a:xfrm>
              <a:custGeom>
                <a:avLst/>
                <a:gdLst/>
                <a:ahLst/>
                <a:rect l="l" t="t" r="r" b="b"/>
                <a:pathLst>
                  <a:path w="454" h="65">
                    <a:moveTo>
                      <a:pt x="0" y="0"/>
                    </a:moveTo>
                    <a:lnTo>
                      <a:pt x="454" y="0"/>
                    </a:lnTo>
                    <a:lnTo>
                      <a:pt x="454" y="65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87720" y="1319040"/>
                <a:ext cx="3921120" cy="1176480"/>
              </a:xfrm>
              <a:custGeom>
                <a:avLst/>
                <a:gdLst/>
                <a:ahLst/>
                <a:rect l="l" t="t" r="r" b="b"/>
                <a:pathLst>
                  <a:path w="2470" h="741">
                    <a:moveTo>
                      <a:pt x="0" y="741"/>
                    </a:moveTo>
                    <a:lnTo>
                      <a:pt x="528" y="741"/>
                    </a:lnTo>
                    <a:lnTo>
                      <a:pt x="528" y="0"/>
                    </a:lnTo>
                    <a:lnTo>
                      <a:pt x="2470" y="0"/>
                    </a:lnTo>
                    <a:lnTo>
                      <a:pt x="2470" y="11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134120" y="2181240"/>
                <a:ext cx="201600" cy="37764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27" y="0"/>
                    </a:moveTo>
                    <a:lnTo>
                      <a:pt x="127" y="238"/>
                    </a:lnTo>
                    <a:lnTo>
                      <a:pt x="0" y="2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041560" y="1592280"/>
                <a:ext cx="5180040" cy="566640"/>
              </a:xfrm>
              <a:custGeom>
                <a:avLst/>
                <a:gdLst/>
                <a:ahLst/>
                <a:rect l="l" t="t" r="r" b="b"/>
                <a:pathLst>
                  <a:path w="3263" h="357">
                    <a:moveTo>
                      <a:pt x="0" y="355"/>
                    </a:moveTo>
                    <a:lnTo>
                      <a:pt x="2077" y="357"/>
                    </a:lnTo>
                    <a:lnTo>
                      <a:pt x="2077" y="0"/>
                    </a:lnTo>
                    <a:lnTo>
                      <a:pt x="326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82960" y="4394160"/>
                <a:ext cx="4552920" cy="1368360"/>
              </a:xfrm>
              <a:custGeom>
                <a:avLst/>
                <a:gdLst/>
                <a:ahLst/>
                <a:rect l="l" t="t" r="r" b="b"/>
                <a:pathLst>
                  <a:path w="2868" h="862">
                    <a:moveTo>
                      <a:pt x="2804" y="0"/>
                    </a:moveTo>
                    <a:lnTo>
                      <a:pt x="2868" y="0"/>
                    </a:lnTo>
                    <a:lnTo>
                      <a:pt x="2868" y="862"/>
                    </a:lnTo>
                    <a:lnTo>
                      <a:pt x="0" y="862"/>
                    </a:lnTo>
                    <a:lnTo>
                      <a:pt x="0" y="55"/>
                    </a:lnTo>
                    <a:lnTo>
                      <a:pt x="105" y="5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81600" y="5030640"/>
                <a:ext cx="7380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  <a:lnTo>
                      <a:pt x="88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668200" y="226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730840" y="22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776920" y="2265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796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823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824440" y="2265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653080" y="2371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6728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22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749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7751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8006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00480" y="2371680"/>
                <a:ext cx="457200" cy="2658960"/>
              </a:xfrm>
              <a:custGeom>
                <a:avLst/>
                <a:gdLst/>
                <a:ahLst/>
                <a:rect l="l" t="t" r="r" b="b"/>
                <a:pathLst>
                  <a:path w="288" h="1675">
                    <a:moveTo>
                      <a:pt x="0" y="1675"/>
                    </a:moveTo>
                    <a:lnTo>
                      <a:pt x="212" y="1675"/>
                    </a:lnTo>
                    <a:lnTo>
                      <a:pt x="212" y="0"/>
                    </a:lnTo>
                    <a:lnTo>
                      <a:pt x="288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705040" y="4079880"/>
                <a:ext cx="1276560" cy="950760"/>
              </a:xfrm>
              <a:custGeom>
                <a:avLst/>
                <a:gdLst/>
                <a:ahLst/>
                <a:rect l="l" t="t" r="r" b="b"/>
                <a:pathLst>
                  <a:path w="804" h="599">
                    <a:moveTo>
                      <a:pt x="804" y="599"/>
                    </a:moveTo>
                    <a:lnTo>
                      <a:pt x="0" y="59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13640" y="4192560"/>
                <a:ext cx="1422360" cy="768240"/>
              </a:xfrm>
              <a:custGeom>
                <a:avLst/>
                <a:gdLst/>
                <a:ahLst/>
                <a:rect l="l" t="t" r="r" b="b"/>
                <a:pathLst>
                  <a:path w="896" h="484">
                    <a:moveTo>
                      <a:pt x="896" y="254"/>
                    </a:moveTo>
                    <a:lnTo>
                      <a:pt x="829" y="256"/>
                    </a:lnTo>
                    <a:lnTo>
                      <a:pt x="829" y="484"/>
                    </a:lnTo>
                    <a:lnTo>
                      <a:pt x="0" y="48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589200" y="4054320"/>
                <a:ext cx="4788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2" y="28"/>
                    </a:lnTo>
                    <a:lnTo>
                      <a:pt x="3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440160" y="3940200"/>
                <a:ext cx="171360" cy="136440"/>
              </a:xfrm>
              <a:custGeom>
                <a:avLst/>
                <a:gdLst/>
                <a:ahLst/>
                <a:rect l="l" t="t" r="r" b="b"/>
                <a:pathLst>
                  <a:path w="108" h="86">
                    <a:moveTo>
                      <a:pt x="108" y="86"/>
                    </a:move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589200" y="4460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2705040" y="4481640"/>
                <a:ext cx="9064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032360" y="4189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>
                <a:off x="3813120" y="421164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H="1">
                <a:off x="6578640" y="419256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4573080" y="4971600"/>
                <a:ext cx="6516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3263760" y="1387440"/>
                <a:ext cx="6696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3687480" y="1387440"/>
                <a:ext cx="6660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964440" y="3684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21680" y="3684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397240" y="4076640"/>
                <a:ext cx="307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  <a:lnTo>
                      <a:pt x="638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46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495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54440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5904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61244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647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69344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73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76040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784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3816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9040" y="4200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53360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60236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65744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72944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775880" y="4307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809360" y="4307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450440" y="3637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51056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56132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61604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639800" y="36370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4486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4983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5494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98040" y="3728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6279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67940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72368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92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9476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99836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3976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064960" y="3976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4740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9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4720" y="3976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2392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29212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313000" y="39765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0764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636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5712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20500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27484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3176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41640" y="44276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0464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1800" y="442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67772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704000" y="4427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7720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5064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60608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67448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724160" y="45291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754400" y="4529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749360" y="4094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80948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86024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1532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39080" y="40942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7752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8238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870680" y="418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89696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018920" y="46022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095600" y="46022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22960" y="46022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46720" y="4602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173000" y="4602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96040" y="4602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149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0635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110360" y="469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13664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lnTo>
                      <a:pt x="639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423680" y="4021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4884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5385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584600" y="4021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60980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653000" y="4021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6789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728600" y="4021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75884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5476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231800" y="41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259160" y="41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282920" y="41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309200" y="41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332240" y="41133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4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177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230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27356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9876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34160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67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41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54760" y="43830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231800" y="438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259160" y="4383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282920" y="4383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309200" y="438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332240" y="43830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5116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19652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246560" y="4471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27248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880880" y="3706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94568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99644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04972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070600" y="3706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3048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87584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92588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536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00364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0292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80880" y="4043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94568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9644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04972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070600" y="40435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3048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7584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2588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536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00364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0292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50440" y="357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138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6168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146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340160" y="357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4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17744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23072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273560" y="36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1179360" y="1819440"/>
              <a:ext cx="6978960" cy="3705120"/>
              <a:chOff x="1179360" y="1819440"/>
              <a:chExt cx="6978960" cy="3705120"/>
            </a:xfrm>
          </p:grpSpPr>
          <p:sp>
            <p:nvSpPr>
              <p:cNvPr id="2742" name=""/>
              <p:cNvSpPr/>
              <p:nvPr/>
            </p:nvSpPr>
            <p:spPr>
              <a:xfrm>
                <a:off x="4298760" y="36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4160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36788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41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44816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47660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150440" y="384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42138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26168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3146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340160" y="384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4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17744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23072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273560" y="393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298760" y="393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34160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6788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41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44816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7660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32360" y="391968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2705040" y="3940200"/>
                <a:ext cx="134136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32360" y="364824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>
                <a:off x="2705040" y="3670200"/>
                <a:ext cx="134136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032360" y="4460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716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8000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84616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8922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14200" y="434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509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9700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4308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67200" y="434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08664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1417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8600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21156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24000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29076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3415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4081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4588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50352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716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8000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84616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8922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14200" y="380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509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00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04308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067200" y="380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08664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1417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18600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21156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4000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29076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415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4081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4588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50352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716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8000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4616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922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14200" y="353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509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9700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4308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67200" y="3538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8664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17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8600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21156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4000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9076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3415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081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4588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50352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179360" y="2001960"/>
                <a:ext cx="525600" cy="1738080"/>
              </a:xfrm>
              <a:custGeom>
                <a:avLst/>
                <a:gdLst/>
                <a:ahLst/>
                <a:rect l="l" t="t" r="r" b="b"/>
                <a:pathLst>
                  <a:path w="331" h="1095">
                    <a:moveTo>
                      <a:pt x="331" y="0"/>
                    </a:moveTo>
                    <a:lnTo>
                      <a:pt x="0" y="3"/>
                    </a:lnTo>
                    <a:lnTo>
                      <a:pt x="0" y="109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1541520" y="2543040"/>
                <a:ext cx="1634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743120" y="1819440"/>
                <a:ext cx="295200" cy="911160"/>
              </a:xfrm>
              <a:custGeom>
                <a:avLst/>
                <a:gdLst/>
                <a:ahLst/>
                <a:rect l="l" t="t" r="r" b="b"/>
                <a:pathLst>
                  <a:path w="186" h="574">
                    <a:moveTo>
                      <a:pt x="0" y="0"/>
                    </a:moveTo>
                    <a:lnTo>
                      <a:pt x="0" y="233"/>
                    </a:lnTo>
                    <a:lnTo>
                      <a:pt x="59" y="288"/>
                    </a:lnTo>
                    <a:lnTo>
                      <a:pt x="0" y="343"/>
                    </a:lnTo>
                    <a:lnTo>
                      <a:pt x="0" y="574"/>
                    </a:lnTo>
                    <a:lnTo>
                      <a:pt x="186" y="399"/>
                    </a:lnTo>
                    <a:lnTo>
                      <a:pt x="186" y="17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885320" y="2222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94472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99548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586480" y="41194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586480" y="45259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5436720" y="4548240"/>
                <a:ext cx="1717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959440" y="4324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5810040" y="4346640"/>
                <a:ext cx="16812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5100480" y="3805200"/>
                <a:ext cx="8748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>
                <a:off x="5100480" y="4141800"/>
                <a:ext cx="5083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959440" y="378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14480" y="4046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473880" y="4046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23920" y="4046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564240" y="40464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341400" y="413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37272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424200" y="413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46884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16720" y="4138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535800" y="4138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391800" y="39085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44580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495480" y="3908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52536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691320" y="417204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113680" y="416736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7961040" y="4192560"/>
                <a:ext cx="17460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113680" y="4573440"/>
                <a:ext cx="44640" cy="4788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896160" y="4676760"/>
                <a:ext cx="4752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0"/>
                    </a:moveTo>
                    <a:lnTo>
                      <a:pt x="0" y="29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480" y="4145040"/>
                <a:ext cx="1675080" cy="557280"/>
              </a:xfrm>
              <a:custGeom>
                <a:avLst/>
                <a:gdLst/>
                <a:ahLst/>
                <a:rect l="l" t="t" r="r" b="b"/>
                <a:pathLst>
                  <a:path w="1055" h="351">
                    <a:moveTo>
                      <a:pt x="1055" y="348"/>
                    </a:moveTo>
                    <a:lnTo>
                      <a:pt x="0" y="35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59280" y="50086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0482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766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270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688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5080" y="536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2274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2764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3196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343400" y="536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3678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41792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4654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4910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5194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56696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63680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68468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981600" y="5030640"/>
                <a:ext cx="1666800" cy="460440"/>
              </a:xfrm>
              <a:custGeom>
                <a:avLst/>
                <a:gdLst/>
                <a:ahLst/>
                <a:rect l="l" t="t" r="r" b="b"/>
                <a:pathLst>
                  <a:path w="1050" h="290">
                    <a:moveTo>
                      <a:pt x="0" y="0"/>
                    </a:moveTo>
                    <a:lnTo>
                      <a:pt x="2" y="290"/>
                    </a:lnTo>
                    <a:lnTo>
                      <a:pt x="988" y="290"/>
                    </a:lnTo>
                    <a:lnTo>
                      <a:pt x="988" y="85"/>
                    </a:lnTo>
                    <a:lnTo>
                      <a:pt x="1050" y="8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634000" y="5140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10400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1742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2928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97320" y="2781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3236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76160" y="2781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44096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4910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102920" y="2916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608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12360" y="291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78240" y="2916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3480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10400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17420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2928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304160" y="305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384080" y="305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413240" y="305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432320" y="305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45824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102920" y="3322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16304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1632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70680" y="332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347720" y="332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376880" y="332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400640" y="332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42656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10400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1742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2928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99840" y="264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36464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4154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46868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02920" y="251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157280" y="2511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18860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415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90840" y="251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3369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101840" y="2374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14648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00840" y="2374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7176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09500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5512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0840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6024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323960" y="22734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367160" y="2273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1029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160880" y="3187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12360" y="3187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775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333320" y="3187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365360" y="318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716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2" name=""/>
            <p:cNvGrpSpPr/>
            <p:nvPr/>
          </p:nvGrpSpPr>
          <p:grpSpPr>
            <a:xfrm>
              <a:off x="776160" y="1165320"/>
              <a:ext cx="7631280" cy="4227480"/>
              <a:chOff x="776160" y="1165320"/>
              <a:chExt cx="7631280" cy="4227480"/>
            </a:xfrm>
          </p:grpSpPr>
          <p:sp>
            <p:nvSpPr>
              <p:cNvPr id="2943" name=""/>
              <p:cNvSpPr/>
              <p:nvPr/>
            </p:nvSpPr>
            <p:spPr>
              <a:xfrm>
                <a:off x="28000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616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922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914200" y="2711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509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9700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04308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067200" y="271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08664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417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8600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21156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24000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9076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3415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4081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588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0352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1574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3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90560" y="198108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90560" y="25225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476360" y="249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5338440" y="1827360"/>
                <a:ext cx="631800" cy="28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6578280" y="2097000"/>
                <a:ext cx="63972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96040" y="1571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96040" y="20750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419960" y="2097000"/>
                <a:ext cx="37296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770960" y="1571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960" y="2075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896600" y="1701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42320" y="17017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10280" y="1793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35840" y="17938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07040" y="188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11800" y="1808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9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6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368960" y="1457280"/>
                <a:ext cx="3423960" cy="135000"/>
              </a:xfrm>
              <a:custGeom>
                <a:avLst/>
                <a:gdLst/>
                <a:ahLst/>
                <a:rect l="l" t="t" r="r" b="b"/>
                <a:pathLst>
                  <a:path w="2157" h="85">
                    <a:moveTo>
                      <a:pt x="2157" y="85"/>
                    </a:moveTo>
                    <a:lnTo>
                      <a:pt x="2048" y="85"/>
                    </a:lnTo>
                    <a:lnTo>
                      <a:pt x="20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500200" y="1457280"/>
                <a:ext cx="1868760" cy="2619360"/>
              </a:xfrm>
              <a:custGeom>
                <a:avLst/>
                <a:gdLst/>
                <a:ahLst/>
                <a:rect l="l" t="t" r="r" b="b"/>
                <a:pathLst>
                  <a:path w="1177" h="1650">
                    <a:moveTo>
                      <a:pt x="1177" y="0"/>
                    </a:moveTo>
                    <a:lnTo>
                      <a:pt x="0" y="0"/>
                    </a:lnTo>
                    <a:lnTo>
                      <a:pt x="0" y="165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478240" y="405432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53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5668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61252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6589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683800" y="132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7162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6660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0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32120" y="132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5336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9066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541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7648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00492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05748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082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734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2272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25800" y="1457280"/>
                <a:ext cx="180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03840" y="14349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854440" y="2138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73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94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72320" y="1319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4648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911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217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2717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32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66800" y="131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4013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44924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95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640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9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640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926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7606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8052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015720" y="17398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074400" y="17398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39920" y="17398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924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4000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655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294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4152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940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4588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510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5589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76160" y="1165320"/>
                <a:ext cx="7320240" cy="2574720"/>
              </a:xfrm>
              <a:custGeom>
                <a:avLst/>
                <a:gdLst/>
                <a:ahLst/>
                <a:rect l="l" t="t" r="r" b="b"/>
                <a:pathLst>
                  <a:path w="4611" h="1622">
                    <a:moveTo>
                      <a:pt x="62" y="1619"/>
                    </a:moveTo>
                    <a:lnTo>
                      <a:pt x="0" y="1622"/>
                    </a:lnTo>
                    <a:lnTo>
                      <a:pt x="0" y="0"/>
                    </a:lnTo>
                    <a:lnTo>
                      <a:pt x="4611" y="0"/>
                    </a:lnTo>
                    <a:lnTo>
                      <a:pt x="4611" y="431"/>
                    </a:lnTo>
                    <a:lnTo>
                      <a:pt x="4549" y="43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79640" y="3735360"/>
                <a:ext cx="27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3320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57160" y="37148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708440" y="500868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  <a:lnTo>
                      <a:pt x="104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866480" y="4927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924440" y="4927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94820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99896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22720" y="492768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8139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63600" y="5030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908600" y="5030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9345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98780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4036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781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628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flipV="1">
                <a:off x="5165280" y="4971600"/>
                <a:ext cx="6660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703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222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7716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80008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84616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922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14200" y="4902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509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700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4308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067200" y="4902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08664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1417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18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1156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000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9076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3415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4081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5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964120" y="180504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964120" y="234648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5880240" y="2368440"/>
                <a:ext cx="9504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85080" y="153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236440" y="4251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286840" y="4251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251560" y="434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275680" y="43401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248320" y="4430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22456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224560" y="4545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12120" y="4203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59280" y="420372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727600" y="429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751360" y="4292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724000" y="438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702040" y="40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702040" y="4497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715200" y="4135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760920" y="41353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730680" y="422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754440" y="42260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727080" y="4313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7036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70368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799960" y="5059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859360" y="5059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09400" y="5059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948280" y="50594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736960" y="516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7908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338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81680" y="5165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906520" y="51656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9364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86440" y="51656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707640" y="2792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77100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82572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868560" y="2792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95200" y="2792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92508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973680" y="2792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564000" y="28177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417840" y="39196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82720" y="4460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415120" y="452592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4" y="28"/>
                    </a:moveTo>
                    <a:lnTo>
                      <a:pt x="16" y="30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213520" y="4124160"/>
                <a:ext cx="44280" cy="43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54200" y="2046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21324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26400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414480" y="2001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476760" y="200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523920" y="2001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564240" y="20019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41400" y="2090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372720" y="209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3" name=""/>
            <p:cNvSpPr/>
            <p:nvPr/>
          </p:nvSpPr>
          <p:spPr>
            <a:xfrm>
              <a:off x="6424200" y="2090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468840" y="2090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516720" y="20908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535800" y="2090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322040" y="1701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367760" y="170172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337160" y="1793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361280" y="17938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333920" y="188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310160" y="153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31016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88508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00360" y="2843280"/>
              <a:ext cx="874800" cy="1236600"/>
            </a:xfrm>
            <a:custGeom>
              <a:avLst/>
              <a:gdLst/>
              <a:ahLst/>
              <a:rect l="l" t="t" r="r" b="b"/>
              <a:pathLst>
                <a:path w="551" h="779">
                  <a:moveTo>
                    <a:pt x="0" y="779"/>
                  </a:moveTo>
                  <a:lnTo>
                    <a:pt x="3" y="0"/>
                  </a:lnTo>
                  <a:lnTo>
                    <a:pt x="5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682720" y="364824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682720" y="39196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82720" y="405432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200" y="4021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213240" y="4021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263640" y="4021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546880" y="2346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469680" y="13510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528720" y="135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75160" y="13510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59424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62088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622680" y="13510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451320" y="1457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475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521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548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5733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601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344760" y="14349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0"/>
                  </a:moveTo>
                  <a:lnTo>
                    <a:pt x="2" y="28"/>
                  </a:lnTo>
                  <a:lnTo>
                    <a:pt x="3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76400" y="1720800"/>
              <a:ext cx="1057320" cy="420840"/>
            </a:xfrm>
            <a:custGeom>
              <a:avLst/>
              <a:gdLst/>
              <a:ahLst/>
              <a:rect l="l" t="t" r="r" b="b"/>
              <a:pathLst>
                <a:path w="666" h="265">
                  <a:moveTo>
                    <a:pt x="0" y="265"/>
                  </a:moveTo>
                  <a:lnTo>
                    <a:pt x="0" y="0"/>
                  </a:lnTo>
                  <a:lnTo>
                    <a:pt x="6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2734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2100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1952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7702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705720" y="4192560"/>
              <a:ext cx="193680" cy="144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88968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006680" y="41353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57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11648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165440" y="4135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1953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24644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29108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57200" y="6019920"/>
            <a:ext cx="6019920" cy="535680"/>
            <a:chOff x="457200" y="6019920"/>
            <a:chExt cx="6019920" cy="535680"/>
          </a:xfrm>
        </p:grpSpPr>
        <p:sp>
          <p:nvSpPr>
            <p:cNvPr id="3193" name=""/>
            <p:cNvSpPr/>
            <p:nvPr/>
          </p:nvSpPr>
          <p:spPr>
            <a:xfrm>
              <a:off x="1295280" y="6019920"/>
              <a:ext cx="51818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200" y="60199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33520" y="6248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-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62880" y="6248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a alternativa de ciclo ún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378720" y="11412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m”: CPI =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unidades em uso: Memória (2ns), ALU (2ns), Registr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9" name=""/>
          <p:cNvGraphicFramePr/>
          <p:nvPr/>
        </p:nvGraphicFramePr>
        <p:xfrm>
          <a:off x="1143000" y="2057400"/>
          <a:ext cx="67975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975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1" name=""/>
          <p:cNvGraphicFramePr/>
          <p:nvPr/>
        </p:nvGraphicFramePr>
        <p:xfrm>
          <a:off x="228600" y="4152960"/>
          <a:ext cx="8871120" cy="28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52960"/>
                    <a:ext cx="88711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o ciclo único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31360" y="1293480"/>
            <a:ext cx="808128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K = caminho crítico = 8 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limitada pelo pior c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r clock com freqüência variável (muito custoso e complic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ar” a instrução em pequenas funções e executá-las em vários ciclos de clock, uma (ou mais) por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vez de duração variável de ciclo, númer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 do multicicl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: ciclo limitado pela “operação” mais lenta e não pela “instrução” mais le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mais simples executam mais rapid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apenas 1: ALU, memória,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r uma vez todos esses, por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locked vs. Clo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used in synchronous log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hould an element that contains state be upda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32000" y="2635200"/>
            <a:ext cx="6210360" cy="2193840"/>
            <a:chOff x="1332000" y="2635200"/>
            <a:chExt cx="6210360" cy="2193840"/>
          </a:xfrm>
        </p:grpSpPr>
        <p:grpSp>
          <p:nvGrpSpPr>
            <p:cNvPr id="49" name=""/>
            <p:cNvGrpSpPr/>
            <p:nvPr/>
          </p:nvGrpSpPr>
          <p:grpSpPr>
            <a:xfrm>
              <a:off x="1332000" y="3174480"/>
              <a:ext cx="6210360" cy="551160"/>
              <a:chOff x="1332000" y="3174480"/>
              <a:chExt cx="6210360" cy="551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1730520" y="3174480"/>
                <a:ext cx="0" cy="55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82720" y="3224160"/>
                <a:ext cx="911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44640" y="3276720"/>
                <a:ext cx="0" cy="34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97200" y="3675240"/>
                <a:ext cx="347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195720" y="3174480"/>
                <a:ext cx="1415880" cy="551160"/>
                <a:chOff x="3195720" y="3174480"/>
                <a:chExt cx="1415880" cy="551160"/>
              </a:xfrm>
            </p:grpSpPr>
            <p:sp>
              <p:nvSpPr>
                <p:cNvPr id="55" name=""/>
                <p:cNvSpPr/>
                <p:nvPr/>
              </p:nvSpPr>
              <p:spPr>
                <a:xfrm flipV="1">
                  <a:off x="31957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247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1020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62400" y="3675240"/>
                  <a:ext cx="349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4662360" y="3174480"/>
                <a:ext cx="1414440" cy="551160"/>
                <a:chOff x="4662360" y="3174480"/>
                <a:chExt cx="1414440" cy="55116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466236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14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768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29400" y="3675240"/>
                  <a:ext cx="347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127920" y="3174480"/>
                <a:ext cx="1414440" cy="551160"/>
                <a:chOff x="6127920" y="3174480"/>
                <a:chExt cx="1414440" cy="551160"/>
              </a:xfrm>
            </p:grpSpPr>
            <p:sp>
              <p:nvSpPr>
                <p:cNvPr id="65" name=""/>
                <p:cNvSpPr/>
                <p:nvPr/>
              </p:nvSpPr>
              <p:spPr>
                <a:xfrm flipV="1">
                  <a:off x="61279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1801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420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94600" y="3675240"/>
                  <a:ext cx="347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332000" y="3675240"/>
                <a:ext cx="34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744560" y="412596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8480" y="4102200"/>
              <a:ext cx="1090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cl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2800" y="3463920"/>
              <a:ext cx="988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440" y="4440240"/>
              <a:ext cx="1541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s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24240" y="2761920"/>
              <a:ext cx="7635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1560" y="2635200"/>
              <a:ext cx="15289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ll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dge triggered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exec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contents of some state element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values through some combinational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results to one or more stat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87840" y="4062240"/>
            <a:ext cx="3587400" cy="1346040"/>
            <a:chOff x="2787840" y="4062240"/>
            <a:chExt cx="3587400" cy="1346040"/>
          </a:xfrm>
        </p:grpSpPr>
        <p:sp>
          <p:nvSpPr>
            <p:cNvPr id="80" name=""/>
            <p:cNvSpPr/>
            <p:nvPr/>
          </p:nvSpPr>
          <p:spPr>
            <a:xfrm>
              <a:off x="3311640" y="5056200"/>
              <a:ext cx="3063600" cy="30168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87840" y="528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5804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8180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3832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890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0920" y="528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82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084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836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020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72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568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408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1216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6652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640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060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34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06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8912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5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85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93960" y="431172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24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9080" y="4138560"/>
              <a:ext cx="50184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08400" y="4343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60560" y="4371840"/>
              <a:ext cx="471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5640" y="4062240"/>
              <a:ext cx="1015920" cy="62100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2840" y="43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3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892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5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996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69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91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82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4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53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58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8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708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79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7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8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7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710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4080" y="431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7320" y="434340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81200" y="4371840"/>
              <a:ext cx="47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4200" y="4138560"/>
              <a:ext cx="50040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224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776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4404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0164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008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284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8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432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808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228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77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50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08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6200" y="43117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936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5360" y="312840"/>
            <a:ext cx="2092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File (e Memóri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6600" y="2239920"/>
            <a:ext cx="3419280" cy="239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771920" cy="1543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3120" y="1179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out D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sso Mem[add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2666880"/>
            <a:ext cx="2743200" cy="2286000"/>
            <a:chOff x="5334120" y="2666880"/>
            <a:chExt cx="2743200" cy="2286000"/>
          </a:xfrm>
        </p:grpSpPr>
        <p:sp>
          <p:nvSpPr>
            <p:cNvPr id="155" name=""/>
            <p:cNvSpPr/>
            <p:nvPr/>
          </p:nvSpPr>
          <p:spPr>
            <a:xfrm>
              <a:off x="6016680" y="2971800"/>
              <a:ext cx="2060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30840" y="2924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   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21720" y="3505320"/>
              <a:ext cx="122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44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4572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visão simplific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880" y="2890800"/>
            <a:ext cx="8306640" cy="3510360"/>
            <a:chOff x="227880" y="2890800"/>
            <a:chExt cx="8306640" cy="3510360"/>
          </a:xfrm>
        </p:grpSpPr>
        <p:sp>
          <p:nvSpPr>
            <p:cNvPr id="164" name=""/>
            <p:cNvSpPr/>
            <p:nvPr/>
          </p:nvSpPr>
          <p:spPr>
            <a:xfrm>
              <a:off x="3200400" y="3119400"/>
              <a:ext cx="167652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1000"/>
              <a:ext cx="1981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R2+off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4491000"/>
              <a:ext cx="1600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405400"/>
              <a:ext cx="1524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2&lt;R3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024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=R2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4" idx="2"/>
              <a:endCxn id="165" idx="0"/>
            </p:cNvCxnSpPr>
            <p:nvPr/>
          </p:nvCxnSpPr>
          <p:spPr>
            <a:xfrm rot="5400000">
              <a:off x="2323800" y="2776680"/>
              <a:ext cx="762480" cy="26672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3371400" y="3823920"/>
              <a:ext cx="762480" cy="5720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0" idx="0"/>
              <a:endCxn id="164" idx="2"/>
            </p:cNvCxnSpPr>
            <p:nvPr/>
          </p:nvCxnSpPr>
          <p:spPr>
            <a:xfrm flipV="1" rot="16200000">
              <a:off x="4285800" y="3480840"/>
              <a:ext cx="762480" cy="125820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71" idx="0"/>
              <a:endCxn id="164" idx="2"/>
            </p:cNvCxnSpPr>
            <p:nvPr/>
          </p:nvCxnSpPr>
          <p:spPr>
            <a:xfrm flipV="1" rot="16200000">
              <a:off x="5178960" y="2587680"/>
              <a:ext cx="762480" cy="304416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71" idx="2"/>
              <a:endCxn id="169" idx="0"/>
            </p:cNvCxnSpPr>
            <p:nvPr/>
          </p:nvCxnSpPr>
          <p:spPr>
            <a:xfrm flipH="1" rot="16200000">
              <a:off x="6892920" y="5212440"/>
              <a:ext cx="381600" cy="54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7" idx="0"/>
              <a:endCxn id="170" idx="1"/>
            </p:cNvCxnSpPr>
            <p:nvPr/>
          </p:nvCxnSpPr>
          <p:spPr>
            <a:xfrm flipH="1" flipV="1" rot="5400000">
              <a:off x="4304880" y="4985640"/>
              <a:ext cx="648360" cy="191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0" idx="2"/>
              <a:endCxn id="168" idx="0"/>
            </p:cNvCxnSpPr>
            <p:nvPr/>
          </p:nvCxnSpPr>
          <p:spPr>
            <a:xfrm flipH="1" rot="16200000">
              <a:off x="5295960" y="5024160"/>
              <a:ext cx="381600" cy="3816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64" idx="0"/>
              <a:endCxn id="180" idx="0"/>
            </p:cNvCxnSpPr>
            <p:nvPr/>
          </p:nvCxnSpPr>
          <p:spPr>
            <a:xfrm rot="5400000">
              <a:off x="494280" y="2852640"/>
              <a:ext cx="3277440" cy="3810600"/>
            </a:xfrm>
            <a:prstGeom prst="bentConnector3">
              <a:avLst>
                <a:gd name="adj1" fmla="val -6975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228600" y="63961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1" idx="3"/>
            </p:cNvCxnSpPr>
            <p:nvPr/>
          </p:nvCxnSpPr>
          <p:spPr>
            <a:xfrm>
              <a:off x="7653240" y="4757760"/>
              <a:ext cx="424800" cy="1643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336680" y="3805200"/>
              <a:ext cx="61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w, sw                    arit                     slt                         b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3440" y="4915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7480" y="446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8400" y="494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920" y="4415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0640" y="319572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 ou 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06960" y="102708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lw, s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: add, sub, ..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: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io: b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4160" y="104760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1, 100($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t1, $t2,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5360" y="312840"/>
            <a:ext cx="420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ira abordagem: 1 período de clock por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/ Simplified View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functional un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operate on data values (combina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contain state (sequenti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Implementation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490680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1749600"/>
            <a:ext cx="4263840" cy="231480"/>
          </a:xfrm>
          <a:custGeom>
            <a:avLst/>
            <a:gdLst/>
            <a:ahLst/>
            <a:rect l="l" t="t" r="r" b="b"/>
            <a:pathLst>
              <a:path w="2686" h="146">
                <a:moveTo>
                  <a:pt x="0" y="146"/>
                </a:moveTo>
                <a:lnTo>
                  <a:pt x="336" y="146"/>
                </a:lnTo>
                <a:lnTo>
                  <a:pt x="336" y="2"/>
                </a:lnTo>
                <a:lnTo>
                  <a:pt x="1200" y="2"/>
                </a:lnTo>
                <a:lnTo>
                  <a:pt x="1200" y="146"/>
                </a:lnTo>
                <a:lnTo>
                  <a:pt x="2160" y="146"/>
                </a:lnTo>
                <a:lnTo>
                  <a:pt x="2160" y="0"/>
                </a:lnTo>
                <a:lnTo>
                  <a:pt x="26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286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3080" y="19810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e uma 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828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3412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the functional units we need for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9840" y="4778280"/>
            <a:ext cx="27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 we need this stu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63520" y="1622520"/>
            <a:ext cx="4268880" cy="1437840"/>
            <a:chOff x="263520" y="1622520"/>
            <a:chExt cx="4268880" cy="1437840"/>
          </a:xfrm>
        </p:grpSpPr>
        <p:sp>
          <p:nvSpPr>
            <p:cNvPr id="211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  <a:lnTo>
                    <a:pt x="119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2160" y="203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1640" y="2039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7880" y="2097000"/>
              <a:ext cx="19836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27520" y="20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325600" y="2097000"/>
              <a:ext cx="19368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2000" y="2073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  <a:lnTo>
                    <a:pt x="717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0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12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28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2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200" y="235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804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76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16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9800" y="235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450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08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6800" y="23544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56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52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24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8020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473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2720" y="2473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92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7200" y="172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28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20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940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6040" y="172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656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704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8000" y="172548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412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5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680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680" y="182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9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6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8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87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720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19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11480" y="2152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5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48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368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0320" y="21528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0084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1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3520" y="18334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560" y="18097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440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212920"/>
              <a:ext cx="189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604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3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452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8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272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348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1560" y="2938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753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25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88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428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006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5396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58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1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10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7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628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5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7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32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56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36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832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36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82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28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2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4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027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312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8628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4760" y="1882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4760" y="2490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680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1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45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708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692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9840" y="2154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38360" y="19098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5146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5240" y="2212920"/>
              <a:ext cx="19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164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2896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9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6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624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10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2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7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2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9480" y="3957480"/>
            <a:ext cx="4102920" cy="1741320"/>
            <a:chOff x="429480" y="3957480"/>
            <a:chExt cx="4102920" cy="1741320"/>
          </a:xfrm>
        </p:grpSpPr>
        <p:grpSp>
          <p:nvGrpSpPr>
            <p:cNvPr id="335" name=""/>
            <p:cNvGrpSpPr/>
            <p:nvPr/>
          </p:nvGrpSpPr>
          <p:grpSpPr>
            <a:xfrm>
              <a:off x="429480" y="3957480"/>
              <a:ext cx="4102920" cy="1741320"/>
              <a:chOff x="429480" y="3957480"/>
              <a:chExt cx="4102920" cy="17413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3894120" y="3994200"/>
                <a:ext cx="3240" cy="22392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75840" y="3957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4568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0760" y="3957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7132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01920" y="395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5052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0920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6356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91280" y="3957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56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0560" y="3957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784520" y="5213520"/>
                <a:ext cx="1440" cy="226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59400" y="5267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292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850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46960" y="5267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36960" y="5267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0800" y="5267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94920" y="5267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156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55840" y="4316400"/>
                <a:ext cx="193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54160" y="47466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54160" y="414036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54160" y="504828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32240" y="48974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32240" y="429084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4160" y="444348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  <a:lnTo>
                      <a:pt x="717" y="7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264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62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16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75520" y="45608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676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4896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756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33920" y="4560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6668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83400" y="4660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78080" y="4660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10480" y="4660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31360" y="4660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58000" y="4660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95440" y="46609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7980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11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052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4520" y="4761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800" y="4761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7960" y="476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27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8472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105280" y="4206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7548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34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8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5600" y="420696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422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0096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5532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8484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100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690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05280" y="4813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7548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34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8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5600" y="481320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422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0096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5532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8484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100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690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81600" y="4056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5144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1048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6412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01920" y="40561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980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11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7052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4520" y="4156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50800" y="4156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9796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7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472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712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4520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1600" y="4357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5144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1048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6412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1920" y="43578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7980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11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7052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24520" y="4457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50800" y="4457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9796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7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8472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1712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4520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980640" y="4770360"/>
                <a:ext cx="1954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77760" y="4164120"/>
                <a:ext cx="1922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77760" y="446724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77760" y="507348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83400" y="496404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78080" y="49640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410480" y="49640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31360" y="496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58000" y="4964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95440" y="496404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872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37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91760" y="5064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18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55840" y="4921200"/>
                <a:ext cx="189000" cy="3240"/>
              </a:xfrm>
              <a:custGeom>
                <a:avLst/>
                <a:gdLst/>
                <a:ahLst/>
                <a:rect l="l" t="t" r="r" b="b"/>
                <a:pathLst>
                  <a:path w="119" h="2">
                    <a:moveTo>
                      <a:pt x="0" y="0"/>
                    </a:moveTo>
                    <a:lnTo>
                      <a:pt x="4" y="2"/>
                    </a:lnTo>
                    <a:lnTo>
                      <a:pt x="13" y="2"/>
                    </a:lnTo>
                    <a:lnTo>
                      <a:pt x="27" y="2"/>
                    </a:lnTo>
                    <a:lnTo>
                      <a:pt x="42" y="2"/>
                    </a:lnTo>
                    <a:lnTo>
                      <a:pt x="59" y="2"/>
                    </a:lnTo>
                    <a:lnTo>
                      <a:pt x="76" y="2"/>
                    </a:lnTo>
                    <a:lnTo>
                      <a:pt x="94" y="2"/>
                    </a:lnTo>
                    <a:lnTo>
                      <a:pt x="107" y="2"/>
                    </a:lnTo>
                    <a:lnTo>
                      <a:pt x="115" y="2"/>
                    </a:lnTo>
                    <a:lnTo>
                      <a:pt x="11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441240" y="4316400"/>
                <a:ext cx="190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8000" y="48974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18000" y="42908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81640" y="4660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2000" y="4684680"/>
                <a:ext cx="1936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3440" y="4586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1840" y="458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0160" y="4586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99120" y="45864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45320" y="4686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7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35320" y="4686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85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0800" y="4686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3480" y="4686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26800" y="4560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934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172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4560" y="4051440"/>
                <a:ext cx="103320" cy="833400"/>
              </a:xfrm>
              <a:custGeom>
                <a:avLst/>
                <a:gdLst/>
                <a:ahLst/>
                <a:rect l="l" t="t" r="r" b="b"/>
                <a:pathLst>
                  <a:path w="65" h="525">
                    <a:moveTo>
                      <a:pt x="65" y="0"/>
                    </a:moveTo>
                    <a:lnTo>
                      <a:pt x="61" y="0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6"/>
                    </a:lnTo>
                    <a:lnTo>
                      <a:pt x="42" y="10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4" y="23"/>
                    </a:lnTo>
                    <a:lnTo>
                      <a:pt x="34" y="27"/>
                    </a:lnTo>
                    <a:lnTo>
                      <a:pt x="32" y="33"/>
                    </a:lnTo>
                    <a:lnTo>
                      <a:pt x="32" y="231"/>
                    </a:lnTo>
                    <a:lnTo>
                      <a:pt x="32" y="235"/>
                    </a:lnTo>
                    <a:lnTo>
                      <a:pt x="30" y="241"/>
                    </a:lnTo>
                    <a:lnTo>
                      <a:pt x="29" y="247"/>
                    </a:lnTo>
                    <a:lnTo>
                      <a:pt x="27" y="251"/>
                    </a:lnTo>
                    <a:lnTo>
                      <a:pt x="23" y="254"/>
                    </a:lnTo>
                    <a:lnTo>
                      <a:pt x="19" y="256"/>
                    </a:lnTo>
                    <a:lnTo>
                      <a:pt x="15" y="260"/>
                    </a:lnTo>
                    <a:lnTo>
                      <a:pt x="11" y="262"/>
                    </a:lnTo>
                    <a:lnTo>
                      <a:pt x="6" y="264"/>
                    </a:lnTo>
                    <a:lnTo>
                      <a:pt x="0" y="264"/>
                    </a:lnTo>
                    <a:lnTo>
                      <a:pt x="6" y="264"/>
                    </a:lnTo>
                    <a:lnTo>
                      <a:pt x="11" y="266"/>
                    </a:lnTo>
                    <a:lnTo>
                      <a:pt x="15" y="268"/>
                    </a:lnTo>
                    <a:lnTo>
                      <a:pt x="19" y="270"/>
                    </a:lnTo>
                    <a:lnTo>
                      <a:pt x="23" y="273"/>
                    </a:lnTo>
                    <a:lnTo>
                      <a:pt x="27" y="277"/>
                    </a:lnTo>
                    <a:lnTo>
                      <a:pt x="29" y="281"/>
                    </a:lnTo>
                    <a:lnTo>
                      <a:pt x="30" y="285"/>
                    </a:lnTo>
                    <a:lnTo>
                      <a:pt x="32" y="291"/>
                    </a:lnTo>
                    <a:lnTo>
                      <a:pt x="32" y="296"/>
                    </a:lnTo>
                    <a:lnTo>
                      <a:pt x="32" y="493"/>
                    </a:lnTo>
                    <a:lnTo>
                      <a:pt x="34" y="499"/>
                    </a:lnTo>
                    <a:lnTo>
                      <a:pt x="34" y="504"/>
                    </a:lnTo>
                    <a:lnTo>
                      <a:pt x="36" y="508"/>
                    </a:lnTo>
                    <a:lnTo>
                      <a:pt x="40" y="512"/>
                    </a:lnTo>
                    <a:lnTo>
                      <a:pt x="42" y="516"/>
                    </a:lnTo>
                    <a:lnTo>
                      <a:pt x="46" y="520"/>
                    </a:lnTo>
                    <a:lnTo>
                      <a:pt x="51" y="522"/>
                    </a:lnTo>
                    <a:lnTo>
                      <a:pt x="55" y="523"/>
                    </a:lnTo>
                    <a:lnTo>
                      <a:pt x="61" y="525"/>
                    </a:lnTo>
                    <a:lnTo>
                      <a:pt x="65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4560" y="4921200"/>
                <a:ext cx="103320" cy="30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65" y="0"/>
                    </a:moveTo>
                    <a:lnTo>
                      <a:pt x="61" y="2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8"/>
                    </a:lnTo>
                    <a:lnTo>
                      <a:pt x="42" y="12"/>
                    </a:lnTo>
                    <a:lnTo>
                      <a:pt x="40" y="16"/>
                    </a:lnTo>
                    <a:lnTo>
                      <a:pt x="36" y="19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65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5" y="94"/>
                    </a:lnTo>
                    <a:lnTo>
                      <a:pt x="11" y="96"/>
                    </a:lnTo>
                    <a:lnTo>
                      <a:pt x="6" y="98"/>
                    </a:lnTo>
                    <a:lnTo>
                      <a:pt x="0" y="98"/>
                    </a:lnTo>
                    <a:lnTo>
                      <a:pt x="6" y="98"/>
                    </a:lnTo>
                    <a:lnTo>
                      <a:pt x="11" y="100"/>
                    </a:lnTo>
                    <a:lnTo>
                      <a:pt x="15" y="101"/>
                    </a:lnTo>
                    <a:lnTo>
                      <a:pt x="19" y="103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9" y="115"/>
                    </a:lnTo>
                    <a:lnTo>
                      <a:pt x="30" y="119"/>
                    </a:lnTo>
                    <a:lnTo>
                      <a:pt x="32" y="124"/>
                    </a:lnTo>
                    <a:lnTo>
                      <a:pt x="32" y="130"/>
                    </a:lnTo>
                    <a:lnTo>
                      <a:pt x="32" y="161"/>
                    </a:lnTo>
                    <a:lnTo>
                      <a:pt x="34" y="164"/>
                    </a:lnTo>
                    <a:lnTo>
                      <a:pt x="34" y="170"/>
                    </a:lnTo>
                    <a:lnTo>
                      <a:pt x="36" y="176"/>
                    </a:lnTo>
                    <a:lnTo>
                      <a:pt x="40" y="180"/>
                    </a:lnTo>
                    <a:lnTo>
                      <a:pt x="42" y="184"/>
                    </a:lnTo>
                    <a:lnTo>
                      <a:pt x="46" y="185"/>
                    </a:lnTo>
                    <a:lnTo>
                      <a:pt x="51" y="189"/>
                    </a:lnTo>
                    <a:lnTo>
                      <a:pt x="55" y="191"/>
                    </a:lnTo>
                    <a:lnTo>
                      <a:pt x="61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9840" y="501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004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400" y="5016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8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19360" y="4203720"/>
                <a:ext cx="104760" cy="833400"/>
              </a:xfrm>
              <a:custGeom>
                <a:avLst/>
                <a:gdLst/>
                <a:ahLst/>
                <a:rect l="l" t="t" r="r" b="b"/>
                <a:pathLst>
                  <a:path w="66" h="525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3" y="9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3"/>
                    </a:lnTo>
                    <a:lnTo>
                      <a:pt x="33" y="27"/>
                    </a:lnTo>
                    <a:lnTo>
                      <a:pt x="33" y="32"/>
                    </a:lnTo>
                    <a:lnTo>
                      <a:pt x="33" y="231"/>
                    </a:lnTo>
                    <a:lnTo>
                      <a:pt x="35" y="235"/>
                    </a:lnTo>
                    <a:lnTo>
                      <a:pt x="35" y="240"/>
                    </a:lnTo>
                    <a:lnTo>
                      <a:pt x="37" y="246"/>
                    </a:lnTo>
                    <a:lnTo>
                      <a:pt x="41" y="250"/>
                    </a:lnTo>
                    <a:lnTo>
                      <a:pt x="43" y="254"/>
                    </a:lnTo>
                    <a:lnTo>
                      <a:pt x="46" y="256"/>
                    </a:lnTo>
                    <a:lnTo>
                      <a:pt x="52" y="260"/>
                    </a:lnTo>
                    <a:lnTo>
                      <a:pt x="56" y="261"/>
                    </a:lnTo>
                    <a:lnTo>
                      <a:pt x="62" y="263"/>
                    </a:lnTo>
                    <a:lnTo>
                      <a:pt x="66" y="263"/>
                    </a:lnTo>
                    <a:lnTo>
                      <a:pt x="62" y="263"/>
                    </a:lnTo>
                    <a:lnTo>
                      <a:pt x="56" y="265"/>
                    </a:lnTo>
                    <a:lnTo>
                      <a:pt x="52" y="267"/>
                    </a:lnTo>
                    <a:lnTo>
                      <a:pt x="46" y="269"/>
                    </a:lnTo>
                    <a:lnTo>
                      <a:pt x="43" y="273"/>
                    </a:lnTo>
                    <a:lnTo>
                      <a:pt x="41" y="277"/>
                    </a:lnTo>
                    <a:lnTo>
                      <a:pt x="37" y="281"/>
                    </a:lnTo>
                    <a:lnTo>
                      <a:pt x="35" y="284"/>
                    </a:lnTo>
                    <a:lnTo>
                      <a:pt x="35" y="290"/>
                    </a:lnTo>
                    <a:lnTo>
                      <a:pt x="33" y="296"/>
                    </a:lnTo>
                    <a:lnTo>
                      <a:pt x="33" y="492"/>
                    </a:lnTo>
                    <a:lnTo>
                      <a:pt x="33" y="498"/>
                    </a:lnTo>
                    <a:lnTo>
                      <a:pt x="31" y="504"/>
                    </a:lnTo>
                    <a:lnTo>
                      <a:pt x="29" y="508"/>
                    </a:lnTo>
                    <a:lnTo>
                      <a:pt x="27" y="511"/>
                    </a:lnTo>
                    <a:lnTo>
                      <a:pt x="23" y="515"/>
                    </a:lnTo>
                    <a:lnTo>
                      <a:pt x="20" y="519"/>
                    </a:lnTo>
                    <a:lnTo>
                      <a:pt x="16" y="521"/>
                    </a:lnTo>
                    <a:lnTo>
                      <a:pt x="12" y="523"/>
                    </a:lnTo>
                    <a:lnTo>
                      <a:pt x="6" y="525"/>
                    </a:lnTo>
                    <a:lnTo>
                      <a:pt x="0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9900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692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2500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5488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0560" y="4349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0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4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3440" y="434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4680" y="434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880" y="434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352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840" y="434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2640" y="434988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48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12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9640" y="4467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460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04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8360" y="4467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1120" y="4467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37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596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23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5276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22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80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36000" y="5576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6012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0908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8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94040" y="5576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860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1240" y="4921200"/>
                <a:ext cx="190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646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22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49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77640" y="5576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4568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0400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3160" y="4518000"/>
                <a:ext cx="149400" cy="1440"/>
              </a:xfrm>
              <a:custGeom>
                <a:avLst/>
                <a:gdLst/>
                <a:ahLst/>
                <a:rect l="l" t="t" r="r" b="b"/>
                <a:pathLst>
                  <a:path w="94" h="0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13160" y="4518000"/>
                <a:ext cx="149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06160" y="4443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448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4600" y="4443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5664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38240" y="4424400"/>
                <a:ext cx="85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7120" y="43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035000" y="473076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7120" y="463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412128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77120" y="402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80124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4520" y="4067280"/>
              <a:ext cx="85680" cy="82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78240" y="2479680"/>
            <a:ext cx="3076920" cy="1900080"/>
            <a:chOff x="5178240" y="2479680"/>
            <a:chExt cx="3076920" cy="1900080"/>
          </a:xfrm>
        </p:grpSpPr>
        <p:sp>
          <p:nvSpPr>
            <p:cNvPr id="539" name=""/>
            <p:cNvSpPr/>
            <p:nvPr/>
          </p:nvSpPr>
          <p:spPr>
            <a:xfrm flipV="1">
              <a:off x="5979960" y="389520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2479680"/>
              <a:ext cx="1800" cy="2271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36000" y="3301920"/>
              <a:ext cx="263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33860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360" y="327492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500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9044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802764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25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79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27920" y="3301920"/>
              <a:ext cx="265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560" y="3182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27040" y="3182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4936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624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0800" y="31827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17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4680" y="330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9760" y="330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34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5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9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80280" y="3274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10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382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7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4040" y="425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602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40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39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16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87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831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67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619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2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7680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864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477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7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6220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9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475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0476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56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980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3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272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8760" y="3951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9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47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344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980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33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82360" y="25336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4160" y="2533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6200" y="25336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7080" y="2533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555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51640" y="3110040"/>
              <a:ext cx="20016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  <a:lnTo>
                    <a:pt x="71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78240" y="3079800"/>
              <a:ext cx="190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54640" y="305280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27680" y="308628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51400" y="34862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78240" y="3511440"/>
              <a:ext cx="1904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66360" y="3375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656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97040" y="3375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2224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59680" y="3375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436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7608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3404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1900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75520" y="3492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34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0640" y="34020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0640" y="3402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03040" y="340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28600" y="340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3800" y="34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91240" y="3402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7596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852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89000" y="35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1420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1080" y="30020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7128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2852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396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21400" y="300204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98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856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2920" y="3102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6812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50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0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33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4600" y="4257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348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172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0364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871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656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6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840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79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99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53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108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33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308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932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9656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53440" y="3011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840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434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956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64000" y="1774800"/>
            <a:ext cx="3812760" cy="3314520"/>
            <a:chOff x="2664000" y="1774800"/>
            <a:chExt cx="3812760" cy="3314520"/>
          </a:xfrm>
        </p:grpSpPr>
        <p:sp>
          <p:nvSpPr>
            <p:cNvPr id="667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  <a:lnTo>
                    <a:pt x="11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31480" y="3578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28320" y="3578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632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66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8512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03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00320" y="4427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485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3424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05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0520" y="4427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07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64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5280" y="44272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6316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8340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800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9184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71040" y="4598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21440" y="4598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30680" y="350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652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1788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996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2040" y="35013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0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1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9340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74400" y="3649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2444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616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88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848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2348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041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7720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19320" y="4133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686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07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272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7720" y="4133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012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8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30360" y="2235600"/>
              <a:ext cx="2274480" cy="1428120"/>
            </a:xfrm>
            <a:custGeom>
              <a:avLst/>
              <a:gdLst/>
              <a:ahLst/>
              <a:rect l="l" t="t" r="r" b="b"/>
              <a:pathLst>
                <a:path w="983" h="617">
                  <a:moveTo>
                    <a:pt x="983" y="0"/>
                  </a:moveTo>
                  <a:lnTo>
                    <a:pt x="0" y="2"/>
                  </a:lnTo>
                  <a:lnTo>
                    <a:pt x="0" y="61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329080" y="3124080"/>
              <a:ext cx="27540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78920" y="2200680"/>
              <a:ext cx="7632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78920" y="308952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1160" y="3663720"/>
              <a:ext cx="444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9840" y="362628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64000" y="1774800"/>
              <a:ext cx="3812760" cy="1888920"/>
            </a:xfrm>
            <a:custGeom>
              <a:avLst/>
              <a:gdLst/>
              <a:ahLst/>
              <a:rect l="l" t="t" r="r" b="b"/>
              <a:pathLst>
                <a:path w="1648" h="816">
                  <a:moveTo>
                    <a:pt x="71" y="816"/>
                  </a:moveTo>
                  <a:lnTo>
                    <a:pt x="0" y="816"/>
                  </a:lnTo>
                  <a:lnTo>
                    <a:pt x="0" y="0"/>
                  </a:lnTo>
                  <a:lnTo>
                    <a:pt x="1648" y="0"/>
                  </a:lnTo>
                  <a:lnTo>
                    <a:pt x="1648" y="391"/>
                  </a:lnTo>
                  <a:lnTo>
                    <a:pt x="1506" y="39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02960" y="3626280"/>
              <a:ext cx="7596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81840" y="3038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440" y="1934640"/>
              <a:ext cx="485640" cy="1492560"/>
            </a:xfrm>
            <a:custGeom>
              <a:avLst/>
              <a:gdLst/>
              <a:ahLst/>
              <a:rect l="l" t="t" r="r" b="b"/>
              <a:pathLst>
                <a:path w="210" h="645">
                  <a:moveTo>
                    <a:pt x="0" y="0"/>
                  </a:moveTo>
                  <a:lnTo>
                    <a:pt x="0" y="261"/>
                  </a:lnTo>
                  <a:lnTo>
                    <a:pt x="68" y="324"/>
                  </a:lnTo>
                  <a:lnTo>
                    <a:pt x="0" y="386"/>
                  </a:lnTo>
                  <a:lnTo>
                    <a:pt x="0" y="645"/>
                  </a:lnTo>
                  <a:lnTo>
                    <a:pt x="210" y="449"/>
                  </a:lnTo>
                  <a:lnTo>
                    <a:pt x="210" y="20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54320" y="2594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5008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3144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95440" y="3626280"/>
              <a:ext cx="71640" cy="76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67440" y="4182480"/>
              <a:ext cx="7596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29440" y="4219200"/>
              <a:ext cx="756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4-27T10:51:46Z</dcterms:modified>
  <cp:revision>25</cp:revision>
  <dc:subject/>
  <dc:title>Chapter Five</dc:title>
</cp:coreProperties>
</file>