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3800" y="6647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38120" y="6583320"/>
            <a:ext cx="321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ario Côrtes - MO401 - IC/Unicamp- 2002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725240" y="6477120"/>
            <a:ext cx="1545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h6-</a:t>
            </a:r>
            <a:fld id="{2928E789-A072-47F8-AF59-1D5CC945DF9A}" type="slidenum">
              <a:rPr b="0" lang="pt-BR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7" name="F0623" descr=""/>
          <p:cNvPicPr/>
          <p:nvPr/>
        </p:nvPicPr>
        <p:blipFill>
          <a:blip r:embed="rId1"/>
          <a:stretch/>
        </p:blipFill>
        <p:spPr>
          <a:xfrm>
            <a:off x="3171960" y="297000"/>
            <a:ext cx="5057640" cy="6264000"/>
          </a:xfrm>
          <a:prstGeom prst="rect">
            <a:avLst/>
          </a:prstGeom>
          <a:ln w="0">
            <a:noFill/>
          </a:ln>
        </p:spPr>
      </p:pic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-360" y="1218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28240" y="159984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0" name="F0624" descr=""/>
          <p:cNvPicPr/>
          <p:nvPr/>
        </p:nvPicPr>
        <p:blipFill>
          <a:blip r:embed="rId1"/>
          <a:stretch/>
        </p:blipFill>
        <p:spPr>
          <a:xfrm>
            <a:off x="3108240" y="449280"/>
            <a:ext cx="550224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ly Representing Pip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elp with answering questions lik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cycles does it take to execute this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LU doing during cycle 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is representation to help understand data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3" name=""/>
          <p:cNvGrpSpPr/>
          <p:nvPr/>
        </p:nvGrpSpPr>
        <p:grpSpPr>
          <a:xfrm>
            <a:off x="919440" y="958680"/>
            <a:ext cx="7290360" cy="2640960"/>
            <a:chOff x="919440" y="958680"/>
            <a:chExt cx="7290360" cy="2640960"/>
          </a:xfrm>
        </p:grpSpPr>
        <p:grpSp>
          <p:nvGrpSpPr>
            <p:cNvPr id="2114" name=""/>
            <p:cNvGrpSpPr/>
            <p:nvPr/>
          </p:nvGrpSpPr>
          <p:grpSpPr>
            <a:xfrm>
              <a:off x="919440" y="958680"/>
              <a:ext cx="7280640" cy="2640960"/>
              <a:chOff x="919440" y="958680"/>
              <a:chExt cx="7280640" cy="2640960"/>
            </a:xfrm>
          </p:grpSpPr>
          <p:sp>
            <p:nvSpPr>
              <p:cNvPr id="2115" name=""/>
              <p:cNvSpPr/>
              <p:nvPr/>
            </p:nvSpPr>
            <p:spPr>
              <a:xfrm>
                <a:off x="4953600" y="303264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953600" y="3259080"/>
                <a:ext cx="68328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979960" y="3144960"/>
                <a:ext cx="6854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665400" y="1894320"/>
                <a:ext cx="22536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V="1">
                <a:off x="7120080" y="1884960"/>
                <a:ext cx="1800" cy="47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>
                <a:off x="6883560" y="1894320"/>
                <a:ext cx="23580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>
                <a:off x="6883560" y="2349720"/>
                <a:ext cx="2358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63960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410640" y="1894320"/>
                <a:ext cx="24264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410640" y="2349720"/>
                <a:ext cx="2426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558520" y="1894320"/>
                <a:ext cx="22824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329920" y="1894320"/>
                <a:ext cx="228600" cy="455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47464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51784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351504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36248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370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806080" y="1894320"/>
                <a:ext cx="232920" cy="45504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581800" y="1894320"/>
                <a:ext cx="228240" cy="45504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6959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805360" y="2032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76476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8745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6960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787120" y="212328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867840" y="200880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898880" y="2123280"/>
                <a:ext cx="6829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6034320" y="2123280"/>
                <a:ext cx="6310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867840" y="2235240"/>
                <a:ext cx="6832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296520" y="2008800"/>
                <a:ext cx="113760" cy="11448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2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465160" y="2123280"/>
                <a:ext cx="802080" cy="340200"/>
              </a:xfrm>
              <a:custGeom>
                <a:avLst/>
                <a:gdLst/>
                <a:ahLst/>
                <a:rect l="l" t="t" r="r" b="b"/>
                <a:pathLst>
                  <a:path w="337" h="143">
                    <a:moveTo>
                      <a:pt x="0" y="0"/>
                    </a:moveTo>
                    <a:lnTo>
                      <a:pt x="2" y="143"/>
                    </a:lnTo>
                    <a:lnTo>
                      <a:pt x="289" y="143"/>
                    </a:lnTo>
                    <a:lnTo>
                      <a:pt x="289" y="47"/>
                    </a:lnTo>
                    <a:lnTo>
                      <a:pt x="337" y="4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  <a:lnTo>
                      <a:pt x="94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750440" y="2918880"/>
                <a:ext cx="226080" cy="454680"/>
              </a:xfrm>
              <a:custGeom>
                <a:avLst/>
                <a:gdLst/>
                <a:ahLst/>
                <a:rect l="l" t="t" r="r" b="b"/>
                <a:pathLst>
                  <a:path w="95" h="191">
                    <a:moveTo>
                      <a:pt x="94" y="191"/>
                    </a:moveTo>
                    <a:lnTo>
                      <a:pt x="0" y="191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7969320" y="291888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7969320" y="3373560"/>
                <a:ext cx="2307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  <a:lnTo>
                      <a:pt x="0" y="19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639600" y="2918880"/>
                <a:ext cx="232920" cy="454680"/>
              </a:xfrm>
              <a:custGeom>
                <a:avLst/>
                <a:gdLst/>
                <a:ahLst/>
                <a:rect l="l" t="t" r="r" b="b"/>
                <a:pathLst>
                  <a:path w="98" h="191">
                    <a:moveTo>
                      <a:pt x="0" y="191"/>
                    </a:moveTo>
                    <a:lnTo>
                      <a:pt x="98" y="191"/>
                    </a:lnTo>
                    <a:lnTo>
                      <a:pt x="98" y="0"/>
                    </a:lnTo>
                    <a:lnTo>
                      <a:pt x="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415320" y="2918880"/>
                <a:ext cx="228600" cy="454680"/>
              </a:xfrm>
              <a:custGeom>
                <a:avLst/>
                <a:gdLst/>
                <a:ahLst/>
                <a:rect l="l" t="t" r="r" b="b"/>
                <a:pathLst>
                  <a:path w="96" h="191">
                    <a:moveTo>
                      <a:pt x="94" y="0"/>
                    </a:moveTo>
                    <a:lnTo>
                      <a:pt x="0" y="0"/>
                    </a:lnTo>
                    <a:lnTo>
                      <a:pt x="0" y="191"/>
                    </a:lnTo>
                    <a:lnTo>
                      <a:pt x="96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5582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360324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725000" y="2918880"/>
                <a:ext cx="228240" cy="454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4496400" y="291888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496400" y="3373560"/>
                <a:ext cx="23796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5957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47044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7926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577120" y="2689920"/>
                <a:ext cx="480960" cy="905040"/>
              </a:xfrm>
              <a:custGeom>
                <a:avLst/>
                <a:gdLst/>
                <a:ahLst/>
                <a:rect l="l" t="t" r="r" b="b"/>
                <a:pathLst>
                  <a:path w="202" h="380">
                    <a:moveTo>
                      <a:pt x="0" y="0"/>
                    </a:moveTo>
                    <a:lnTo>
                      <a:pt x="0" y="155"/>
                    </a:lnTo>
                    <a:lnTo>
                      <a:pt x="46" y="191"/>
                    </a:lnTo>
                    <a:lnTo>
                      <a:pt x="0" y="228"/>
                    </a:lnTo>
                    <a:lnTo>
                      <a:pt x="0" y="380"/>
                    </a:lnTo>
                    <a:lnTo>
                      <a:pt x="202" y="268"/>
                    </a:lnTo>
                    <a:lnTo>
                      <a:pt x="202" y="12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6665400" y="2918880"/>
                <a:ext cx="454320" cy="454680"/>
              </a:xfrm>
              <a:custGeom>
                <a:avLst/>
                <a:gdLst/>
                <a:ahLst/>
                <a:rect l="l" t="t" r="r" b="b"/>
                <a:pathLst>
                  <a:path w="191" h="191">
                    <a:moveTo>
                      <a:pt x="191" y="191"/>
                    </a:moveTo>
                    <a:lnTo>
                      <a:pt x="191" y="0"/>
                    </a:lnTo>
                    <a:lnTo>
                      <a:pt x="0" y="0"/>
                    </a:lnTo>
                    <a:lnTo>
                      <a:pt x="0" y="191"/>
                    </a:lnTo>
                    <a:lnTo>
                      <a:pt x="191" y="191"/>
                    </a:lnTo>
                    <a:lnTo>
                      <a:pt x="191" y="19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677664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6886080" y="305424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7850160" y="3054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959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0409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867840" y="3144960"/>
                <a:ext cx="6282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120080" y="3144960"/>
                <a:ext cx="626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382280" y="3032640"/>
                <a:ext cx="113760" cy="11232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47"/>
                    </a:moveTo>
                    <a:lnTo>
                      <a:pt x="0" y="0"/>
                    </a:lnTo>
                    <a:lnTo>
                      <a:pt x="4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6550920" y="3144960"/>
                <a:ext cx="797040" cy="342720"/>
              </a:xfrm>
              <a:custGeom>
                <a:avLst/>
                <a:gdLst/>
                <a:ahLst/>
                <a:rect l="l" t="t" r="r" b="b"/>
                <a:pathLst>
                  <a:path w="335" h="144">
                    <a:moveTo>
                      <a:pt x="0" y="0"/>
                    </a:moveTo>
                    <a:lnTo>
                      <a:pt x="0" y="144"/>
                    </a:lnTo>
                    <a:lnTo>
                      <a:pt x="287" y="144"/>
                    </a:lnTo>
                    <a:lnTo>
                      <a:pt x="287" y="48"/>
                    </a:lnTo>
                    <a:lnTo>
                      <a:pt x="335" y="4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3936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5030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61288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6524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4794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5888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6986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73932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5601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6695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77936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81860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64588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75532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6512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90436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7266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83604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694584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98868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781236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7921800" y="1299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031600" y="1299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8074440" y="1299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329560" y="958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41992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453040" y="9586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5808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66796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70792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75796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79180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87748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9178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9962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302652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311544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319140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3264840" y="9586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3055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338436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46032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3534480" y="9586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3569040" y="958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3653280" y="95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729960" y="958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189080" y="20325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224720" y="20325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133452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13766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4572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54548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63188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672200" y="20325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171216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80000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188172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9310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019240" y="2032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100960" y="2032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961200" y="1968480"/>
                <a:ext cx="1800" cy="1345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925560" y="3294720"/>
                <a:ext cx="75960" cy="7884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1" y="0"/>
                    </a:moveTo>
                    <a:lnTo>
                      <a:pt x="0" y="0"/>
                    </a:lnTo>
                    <a:lnTo>
                      <a:pt x="15" y="3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920520" y="121356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102492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107424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15740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1243800" y="12135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293120" y="1213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1377360" y="12135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1503720" y="121356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91944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100620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108360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1165320" y="1394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1243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1327320" y="13942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1372320" y="13942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40256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486080" y="1394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572840" y="139428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91944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00584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5516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143000" y="1573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224720" y="15732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275480" y="1573200"/>
                <a:ext cx="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92052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97020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0051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08936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13472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1642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2535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2732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680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42164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50336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582200" y="175392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1622880" y="17539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165492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1740600" y="1753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1822320" y="175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900800" y="1753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822480" y="1044360"/>
                <a:ext cx="3552120" cy="4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358040" y="10087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0" y="0"/>
                    </a:moveTo>
                    <a:lnTo>
                      <a:pt x="0" y="32"/>
                    </a:lnTo>
                    <a:lnTo>
                      <a:pt x="3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189080" y="3054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266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34784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4371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4763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562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64556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73232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77264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81440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9000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98216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2029680" y="30542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2069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2150280" y="30542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  <a:lnTo>
                      <a:pt x="70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3015360" y="1668240"/>
                <a:ext cx="171360" cy="909720"/>
              </a:xfrm>
              <a:custGeom>
                <a:avLst/>
                <a:gdLst/>
                <a:ahLst/>
                <a:rect l="l" t="t" r="r" b="b"/>
                <a:pathLst>
                  <a:path w="72" h="382">
                    <a:moveTo>
                      <a:pt x="70" y="382"/>
                    </a:moveTo>
                    <a:lnTo>
                      <a:pt x="72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2" y="382"/>
                    </a:lnTo>
                    <a:lnTo>
                      <a:pt x="72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410112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181840" y="166824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67600" y="166824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410112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18184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67600" y="2689920"/>
                <a:ext cx="168840" cy="909720"/>
              </a:xfrm>
              <a:custGeom>
                <a:avLst/>
                <a:gdLst/>
                <a:ahLst/>
                <a:rect l="l" t="t" r="r" b="b"/>
                <a:pathLst>
                  <a:path w="71" h="382">
                    <a:moveTo>
                      <a:pt x="71" y="382"/>
                    </a:moveTo>
                    <a:lnTo>
                      <a:pt x="71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1" y="382"/>
                    </a:lnTo>
                    <a:lnTo>
                      <a:pt x="7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  <a:lnTo>
                      <a:pt x="71" y="38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48320" y="2689920"/>
                <a:ext cx="173520" cy="909720"/>
              </a:xfrm>
              <a:custGeom>
                <a:avLst/>
                <a:gdLst/>
                <a:ahLst/>
                <a:rect l="l" t="t" r="r" b="b"/>
                <a:pathLst>
                  <a:path w="73" h="382">
                    <a:moveTo>
                      <a:pt x="71" y="382"/>
                    </a:moveTo>
                    <a:lnTo>
                      <a:pt x="73" y="0"/>
                    </a:lnTo>
                    <a:lnTo>
                      <a:pt x="0" y="0"/>
                    </a:lnTo>
                    <a:lnTo>
                      <a:pt x="0" y="382"/>
                    </a:lnTo>
                    <a:lnTo>
                      <a:pt x="73" y="382"/>
                    </a:lnTo>
                    <a:lnTo>
                      <a:pt x="73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4491360" y="1663920"/>
                <a:ext cx="480960" cy="900000"/>
              </a:xfrm>
              <a:custGeom>
                <a:avLst/>
                <a:gdLst/>
                <a:ahLst/>
                <a:rect l="l" t="t" r="r" b="b"/>
                <a:pathLst>
                  <a:path w="202" h="378">
                    <a:moveTo>
                      <a:pt x="0" y="0"/>
                    </a:moveTo>
                    <a:lnTo>
                      <a:pt x="2" y="153"/>
                    </a:lnTo>
                    <a:lnTo>
                      <a:pt x="48" y="189"/>
                    </a:lnTo>
                    <a:lnTo>
                      <a:pt x="2" y="225"/>
                    </a:lnTo>
                    <a:lnTo>
                      <a:pt x="2" y="378"/>
                    </a:lnTo>
                    <a:lnTo>
                      <a:pt x="202" y="265"/>
                    </a:lnTo>
                    <a:lnTo>
                      <a:pt x="202" y="118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4491360" y="1663920"/>
              <a:ext cx="480960" cy="900000"/>
            </a:xfrm>
            <a:custGeom>
              <a:avLst/>
              <a:gdLst/>
              <a:ahLst/>
              <a:rect l="l" t="t" r="r" b="b"/>
              <a:pathLst>
                <a:path w="202" h="378">
                  <a:moveTo>
                    <a:pt x="0" y="0"/>
                  </a:moveTo>
                  <a:lnTo>
                    <a:pt x="2" y="153"/>
                  </a:lnTo>
                  <a:lnTo>
                    <a:pt x="48" y="189"/>
                  </a:lnTo>
                  <a:lnTo>
                    <a:pt x="2" y="225"/>
                  </a:lnTo>
                  <a:lnTo>
                    <a:pt x="2" y="378"/>
                  </a:lnTo>
                  <a:lnTo>
                    <a:pt x="202" y="265"/>
                  </a:lnTo>
                  <a:lnTo>
                    <a:pt x="202" y="118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650840" y="203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752360" y="203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838760" y="2032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737680" y="3064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837760" y="3064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24520" y="30643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8205840" y="2908800"/>
              <a:ext cx="396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4491360" y="2908800"/>
              <a:ext cx="2520" cy="46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410640" y="1885320"/>
              <a:ext cx="2520" cy="47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: analogia com linha de produçã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1760" y="3664800"/>
            <a:ext cx="8214840" cy="21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fabricação de um carro: C+M+C+P+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a de produção (carros/h): medido na saí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depende do número de estágios e do balanceame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tivo do pipelin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ir e balancear o tempo em cada estág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imizar o uso de HW dos estágios (taxa de ocupaçã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mo: aumentar a velocidade e diminuir o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028880"/>
          <a:ext cx="8696160" cy="232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28880"/>
                    <a:ext cx="8696160" cy="23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084040" y="83808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4920" y="838800"/>
            <a:ext cx="822852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perfomance by increasing instruction throughpu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 de execução de uma instrução: 8 ns e 9 ns (com ou sem pip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: 1 instr / 8ns (sem pipeline) ou 1 instr / 2 ns (co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 de estágios = 5; ganho de 4:1; para obter 5:1 ?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54320" y="3460680"/>
            <a:ext cx="663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13320" y="1219320"/>
            <a:ext cx="7471440" cy="4246200"/>
            <a:chOff x="913320" y="1219320"/>
            <a:chExt cx="7471440" cy="4246200"/>
          </a:xfrm>
        </p:grpSpPr>
        <p:sp>
          <p:nvSpPr>
            <p:cNvPr id="52" name=""/>
            <p:cNvSpPr/>
            <p:nvPr/>
          </p:nvSpPr>
          <p:spPr>
            <a:xfrm>
              <a:off x="22496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34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260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524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1240" y="18511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8904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62840" y="1851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080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56800" y="185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856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508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2456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9976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32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06680" y="198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4052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006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03040" y="2247120"/>
              <a:ext cx="71280" cy="676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2" y="0"/>
                  </a:lnTo>
                  <a:lnTo>
                    <a:pt x="32" y="18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1940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1312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070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751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62720" y="179172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0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91920" y="191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7868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4528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84200" y="179172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0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2560" y="1851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0400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71320" y="185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05520" y="185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78600" y="18511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992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168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816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5040" y="198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1344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74280" y="198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25360" y="179172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19440" y="1916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23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80720" y="191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68680" y="179172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0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79160" y="228024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28040" y="2247120"/>
              <a:ext cx="6912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80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40880" y="2315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78680" y="231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58960" y="23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89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24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156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845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0200" y="2243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5800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31800" y="2243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76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25760" y="22431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348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2404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9136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6872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0076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76000" y="2380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98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696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2360" y="2641320"/>
              <a:ext cx="71640" cy="655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2"/>
                  </a:moveTo>
                  <a:lnTo>
                    <a:pt x="2" y="0"/>
                  </a:lnTo>
                  <a:lnTo>
                    <a:pt x="32" y="17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13480" y="3025440"/>
              <a:ext cx="71280" cy="67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0" y="33"/>
                  </a:moveTo>
                  <a:lnTo>
                    <a:pt x="0" y="0"/>
                  </a:lnTo>
                  <a:lnTo>
                    <a:pt x="32" y="18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836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208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7640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455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31680" y="2185920"/>
              <a:ext cx="318960" cy="391680"/>
            </a:xfrm>
            <a:custGeom>
              <a:avLst/>
              <a:gdLst/>
              <a:ahLst/>
              <a:rect l="l" t="t" r="r" b="b"/>
              <a:pathLst>
                <a:path w="143" h="191">
                  <a:moveTo>
                    <a:pt x="142" y="189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3" y="191"/>
                  </a:lnTo>
                  <a:lnTo>
                    <a:pt x="143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59800" y="23108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4764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1460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1000" y="21859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89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1520" y="22431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733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40640" y="2243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75920" y="224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8280" y="22431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1924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656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5100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15800" y="2380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312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43240" y="2380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94320" y="218592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6" y="189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86240" y="2310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8272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49680" y="2310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5840" y="21859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89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848120" y="2672280"/>
              <a:ext cx="245268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97000" y="2641320"/>
              <a:ext cx="69120" cy="6552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31" y="32"/>
                  </a:moveTo>
                  <a:lnTo>
                    <a:pt x="31" y="0"/>
                  </a:lnTo>
                  <a:lnTo>
                    <a:pt x="0" y="17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70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7680" y="270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47640" y="2709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28640" y="270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8828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20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9124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5352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89880" y="2637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732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01120" y="2637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59440" y="2637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794720" y="2637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2388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91560" y="2637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0680" y="26373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3804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7116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45320" y="2774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78800" y="2774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37480" y="277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57320" y="257760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0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417800" y="3066480"/>
              <a:ext cx="471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8235360" y="3066480"/>
              <a:ext cx="9360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66320" y="3033360"/>
              <a:ext cx="68760" cy="6768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31" y="33"/>
                  </a:moveTo>
                  <a:lnTo>
                    <a:pt x="31" y="0"/>
                  </a:lnTo>
                  <a:lnTo>
                    <a:pt x="0" y="18"/>
                  </a:lnTo>
                  <a:lnTo>
                    <a:pt x="31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8744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256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06960" y="309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46200" y="3097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22520" y="309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65440" y="14713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50040" y="1471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1720" y="1471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0520" y="147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14920" y="1910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4080" y="1910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466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48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6728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432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87880" y="191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60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92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844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6544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224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0000" y="1910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71000" y="191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14920" y="230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4080" y="2305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466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848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6728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432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87880" y="2305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60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92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44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6544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1224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90000" y="230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71000" y="2305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14920" y="2696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4080" y="2696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466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848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6728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4432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87880" y="26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260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92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844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6544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224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90000" y="26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71000" y="2696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70560" y="1923480"/>
              <a:ext cx="3960" cy="1062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34560" y="2904120"/>
              <a:ext cx="7380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0"/>
                  </a:moveTo>
                  <a:lnTo>
                    <a:pt x="0" y="0"/>
                  </a:lnTo>
                  <a:lnTo>
                    <a:pt x="18" y="33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28040" y="1553760"/>
              <a:ext cx="6033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44360" y="1520640"/>
              <a:ext cx="73440" cy="676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0"/>
                  </a:moveTo>
                  <a:lnTo>
                    <a:pt x="0" y="33"/>
                  </a:lnTo>
                  <a:lnTo>
                    <a:pt x="3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84436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01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8768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4304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129200" y="1555200"/>
              <a:ext cx="43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849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77252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60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414040" y="1555200"/>
              <a:ext cx="396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28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075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05736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95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0519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27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787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8916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332480" y="1555200"/>
              <a:ext cx="252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974000" y="1555200"/>
              <a:ext cx="1800" cy="63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4428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312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7536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57800" y="1348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60760" y="3710520"/>
              <a:ext cx="73440" cy="6588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0"/>
                  </a:moveTo>
                  <a:lnTo>
                    <a:pt x="0" y="32"/>
                  </a:lnTo>
                  <a:lnTo>
                    <a:pt x="33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28040" y="3745440"/>
              <a:ext cx="4950360" cy="3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84436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01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48768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4304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29200" y="3753720"/>
              <a:ext cx="432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849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77252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2608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414040" y="3753720"/>
              <a:ext cx="396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283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075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605736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685200" y="3753720"/>
              <a:ext cx="1800" cy="61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6952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51960" y="3546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0276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78720" y="3542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9596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5608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14400" y="289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13320" y="1219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1268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7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364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7160" y="1219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4680" y="1219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41360" y="121932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1960" y="121932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40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432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812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44080" y="137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64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93840" y="137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36320" y="13730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728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43240" y="137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6760" y="13730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140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9468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4112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22840" y="1529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00600" y="1529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47040" y="152928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60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43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724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492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440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22688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938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3416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8528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6160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35040" y="1686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72840" y="1686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092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84440" y="168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60760" y="168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34920" y="168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5900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910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6160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2424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60240" y="4030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69320" y="4030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448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70120" y="40305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94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626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3572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130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451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15680" y="4172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4916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1396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88560" y="443340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804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3496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231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9120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9104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7080" y="410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0556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7612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12520" y="397332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42680" y="4030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3124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06120" y="4030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39600" y="4030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09440" y="403056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829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5240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1252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73720" y="4172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442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09080" y="4172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56200" y="3973320"/>
              <a:ext cx="64080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52440" y="410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406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010840" y="410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97000" y="397332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92840" y="446400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37040" y="443340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50400" y="36550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37160" y="36550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71000" y="36550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6560" y="3655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4280" y="40924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2720" y="4092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6036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98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748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5692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95080" y="409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336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1568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9344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7444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1980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1160" y="409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980000" y="40924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24280" y="44845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52720" y="4484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6036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8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3748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5692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95080" y="4484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336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1568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344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7444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1980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1160" y="4484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80000" y="4484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24280" y="4876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52720" y="48762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6036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8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3748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5692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95080" y="4876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6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1568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344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7444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980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01160" y="48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80000" y="4876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77040" y="4106880"/>
              <a:ext cx="1800" cy="99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43560" y="5085720"/>
              <a:ext cx="73440" cy="6552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0"/>
                  </a:moveTo>
                  <a:lnTo>
                    <a:pt x="0" y="0"/>
                  </a:lnTo>
                  <a:lnTo>
                    <a:pt x="15" y="3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0732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84360" y="4496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26840" y="449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04960" y="4496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99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332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0276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6756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01400" y="4424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420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13000" y="44247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7780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11280" y="4424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3756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0488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7940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5424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8628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57200" y="456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9068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55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32240" y="4825080"/>
              <a:ext cx="71280" cy="637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31"/>
                  </a:moveTo>
                  <a:lnTo>
                    <a:pt x="0" y="0"/>
                  </a:lnTo>
                  <a:lnTo>
                    <a:pt x="32" y="16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71360" y="4365360"/>
              <a:ext cx="64116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7612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6432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348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34360" y="4365360"/>
              <a:ext cx="321480" cy="39420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142" y="192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4" y="192"/>
                  </a:lnTo>
                  <a:lnTo>
                    <a:pt x="144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68240" y="4494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5068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194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6200" y="4365360"/>
              <a:ext cx="640800" cy="394200"/>
            </a:xfrm>
            <a:custGeom>
              <a:avLst/>
              <a:gdLst/>
              <a:ahLst/>
              <a:rect l="l" t="t" r="r" b="b"/>
              <a:pathLst>
                <a:path w="287" h="192">
                  <a:moveTo>
                    <a:pt x="285" y="192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7" y="192"/>
                  </a:lnTo>
                  <a:lnTo>
                    <a:pt x="287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4200" y="44247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7600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7640" y="442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1840" y="4424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50960" y="442476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2624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932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404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18120" y="456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1858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250600" y="456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97000" y="4365360"/>
              <a:ext cx="643320" cy="39420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6" y="192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288" y="192"/>
                  </a:lnTo>
                  <a:lnTo>
                    <a:pt x="288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93240" y="4494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8540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52360" y="4494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40320" y="4365360"/>
              <a:ext cx="319320" cy="39420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141" y="192"/>
                  </a:moveTo>
                  <a:lnTo>
                    <a:pt x="143" y="0"/>
                  </a:lnTo>
                  <a:lnTo>
                    <a:pt x="0" y="0"/>
                  </a:lnTo>
                  <a:lnTo>
                    <a:pt x="0" y="192"/>
                  </a:lnTo>
                  <a:lnTo>
                    <a:pt x="143" y="192"/>
                  </a:lnTo>
                  <a:lnTo>
                    <a:pt x="143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934000" y="4857840"/>
              <a:ext cx="52272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78200" y="4825080"/>
              <a:ext cx="73440" cy="637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1" y="31"/>
                  </a:moveTo>
                  <a:lnTo>
                    <a:pt x="33" y="0"/>
                  </a:lnTo>
                  <a:lnTo>
                    <a:pt x="0" y="16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127680" y="488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6872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6480" y="4888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348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57588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4608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0944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44720" y="4816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8684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800" y="481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1860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4600" y="4816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7872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67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2020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9756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310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00520" y="495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400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9844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1252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944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090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604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7516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10120" y="4888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914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6060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97000" y="4759560"/>
              <a:ext cx="643320" cy="39168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6" y="191"/>
                  </a:moveTo>
                  <a:lnTo>
                    <a:pt x="288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8" y="191"/>
                  </a:lnTo>
                  <a:lnTo>
                    <a:pt x="288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27520" y="4816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716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90960" y="4816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3000" y="4816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94280" y="48168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6632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65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9736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58200" y="495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291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93920" y="4958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40320" y="4759560"/>
              <a:ext cx="641160" cy="391680"/>
            </a:xfrm>
            <a:custGeom>
              <a:avLst/>
              <a:gdLst/>
              <a:ahLst/>
              <a:rect l="l" t="t" r="r" b="b"/>
              <a:pathLst>
                <a:path w="287" h="191">
                  <a:moveTo>
                    <a:pt x="285" y="191"/>
                  </a:moveTo>
                  <a:lnTo>
                    <a:pt x="287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287" y="191"/>
                  </a:lnTo>
                  <a:lnTo>
                    <a:pt x="287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6560" y="4888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656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95680" y="4888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81840" y="4759560"/>
              <a:ext cx="321480" cy="391680"/>
            </a:xfrm>
            <a:custGeom>
              <a:avLst/>
              <a:gdLst/>
              <a:ahLst/>
              <a:rect l="l" t="t" r="r" b="b"/>
              <a:pathLst>
                <a:path w="144" h="191">
                  <a:moveTo>
                    <a:pt x="142" y="191"/>
                  </a:moveTo>
                  <a:lnTo>
                    <a:pt x="144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44" y="191"/>
                  </a:lnTo>
                  <a:lnTo>
                    <a:pt x="144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7340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5776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2188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93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6992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0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898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0772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2" y="0"/>
                  </a:lnTo>
                  <a:lnTo>
                    <a:pt x="32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4211280" y="5250240"/>
              <a:ext cx="524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0520" y="5219280"/>
              <a:ext cx="66600" cy="612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30"/>
                  </a:moveTo>
                  <a:lnTo>
                    <a:pt x="30" y="0"/>
                  </a:lnTo>
                  <a:lnTo>
                    <a:pt x="0" y="15"/>
                  </a:lnTo>
                  <a:lnTo>
                    <a:pt x="30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2972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07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460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266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4456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484848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93040" y="5219280"/>
              <a:ext cx="7344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30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33" y="30"/>
                  </a:lnTo>
                  <a:lnTo>
                    <a:pt x="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6296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4468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82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6528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83560" y="5219280"/>
              <a:ext cx="73800" cy="6120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0" y="30"/>
                  </a:moveTo>
                  <a:lnTo>
                    <a:pt x="0" y="0"/>
                  </a:lnTo>
                  <a:lnTo>
                    <a:pt x="33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5487480" y="5250240"/>
              <a:ext cx="5205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43168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0" y="30"/>
                  </a:moveTo>
                  <a:lnTo>
                    <a:pt x="32" y="0"/>
                  </a:lnTo>
                  <a:lnTo>
                    <a:pt x="0" y="15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60124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7900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214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79960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22200" y="5219280"/>
              <a:ext cx="71280" cy="6120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0" y="30"/>
                  </a:moveTo>
                  <a:lnTo>
                    <a:pt x="0" y="0"/>
                  </a:lnTo>
                  <a:lnTo>
                    <a:pt x="32" y="15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124320" y="5250240"/>
              <a:ext cx="522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68520" y="5219280"/>
              <a:ext cx="68760" cy="61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1" y="30"/>
                  </a:moveTo>
                  <a:lnTo>
                    <a:pt x="31" y="0"/>
                  </a:lnTo>
                  <a:lnTo>
                    <a:pt x="0" y="15"/>
                  </a:lnTo>
                  <a:lnTo>
                    <a:pt x="31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3988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5840" y="5282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55800" y="5282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436440" y="5282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46360" y="421560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18720" y="34232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1700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6236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394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22920" y="3423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69000" y="342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45320" y="34232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66280" y="3423240"/>
              <a:ext cx="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836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90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724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48400" y="3581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2220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98520" y="358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41000" y="3581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088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52240" y="358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30720" y="358164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836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9828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4580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8240" y="3733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204920" y="3733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251720" y="3733200"/>
              <a:ext cx="3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1872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702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9756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771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1960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84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2312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9852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4136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8600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6556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39360" y="3893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77520" y="38934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6052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8040" y="3893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69400" y="3893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39240" y="3893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are the same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a few instruction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operands appear only in loads and sto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har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hazards:   suppose we had only on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hazards:  need to worry about branc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hazards:  an instruction depends on a previous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uild a simple pipeline and look at these iss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talk about modern processors and what really makes it h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ing to improve performance with out-of-order execu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do we need to add to actually split the datapath into stag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73200" y="1195560"/>
            <a:ext cx="7790400" cy="4473360"/>
            <a:chOff x="673200" y="1195560"/>
            <a:chExt cx="7790400" cy="4473360"/>
          </a:xfrm>
        </p:grpSpPr>
        <p:sp>
          <p:nvSpPr>
            <p:cNvPr id="583" name=""/>
            <p:cNvSpPr/>
            <p:nvPr/>
          </p:nvSpPr>
          <p:spPr>
            <a:xfrm>
              <a:off x="2706840" y="4162320"/>
              <a:ext cx="5184720" cy="1179720"/>
            </a:xfrm>
            <a:custGeom>
              <a:avLst/>
              <a:gdLst/>
              <a:ahLst/>
              <a:rect l="l" t="t" r="r" b="b"/>
              <a:pathLst>
                <a:path w="2272" h="517">
                  <a:moveTo>
                    <a:pt x="67" y="34"/>
                  </a:moveTo>
                  <a:lnTo>
                    <a:pt x="0" y="34"/>
                  </a:lnTo>
                  <a:lnTo>
                    <a:pt x="0" y="517"/>
                  </a:lnTo>
                  <a:lnTo>
                    <a:pt x="2272" y="517"/>
                  </a:lnTo>
                  <a:lnTo>
                    <a:pt x="2272" y="0"/>
                  </a:lnTo>
                  <a:lnTo>
                    <a:pt x="2231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98680" y="1968480"/>
              <a:ext cx="57240" cy="554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0" y="24"/>
                  </a:lnTo>
                  <a:lnTo>
                    <a:pt x="25" y="1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28880" y="4214880"/>
              <a:ext cx="57240" cy="572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43280" y="3973680"/>
              <a:ext cx="428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57440" y="399564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3817440" y="3933720"/>
              <a:ext cx="6858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48280" y="3978360"/>
              <a:ext cx="1666800" cy="758880"/>
            </a:xfrm>
            <a:custGeom>
              <a:avLst/>
              <a:gdLst/>
              <a:ahLst/>
              <a:rect l="l" t="t" r="r" b="b"/>
              <a:pathLst>
                <a:path w="730" h="333">
                  <a:moveTo>
                    <a:pt x="730" y="161"/>
                  </a:moveTo>
                  <a:lnTo>
                    <a:pt x="690" y="161"/>
                  </a:lnTo>
                  <a:lnTo>
                    <a:pt x="690" y="333"/>
                  </a:ln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21160" y="3767040"/>
              <a:ext cx="6224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35680" y="37465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5600" y="1994040"/>
              <a:ext cx="4933800" cy="944280"/>
            </a:xfrm>
            <a:custGeom>
              <a:avLst/>
              <a:gdLst/>
              <a:ahLst/>
              <a:rect l="l" t="t" r="r" b="b"/>
              <a:pathLst>
                <a:path w="2162" h="414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4"/>
                  </a:lnTo>
                  <a:lnTo>
                    <a:pt x="1642" y="414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97040" y="3352680"/>
              <a:ext cx="152280" cy="428760"/>
            </a:xfrm>
            <a:custGeom>
              <a:avLst/>
              <a:gdLst/>
              <a:ahLst/>
              <a:rect l="l" t="t" r="r" b="b"/>
              <a:pathLst>
                <a:path w="67" h="188">
                  <a:moveTo>
                    <a:pt x="67" y="188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8"/>
                  </a:lnTo>
                  <a:lnTo>
                    <a:pt x="67" y="188"/>
                  </a:lnTo>
                  <a:lnTo>
                    <a:pt x="67" y="1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65320" y="3389400"/>
              <a:ext cx="461880" cy="965160"/>
            </a:xfrm>
            <a:custGeom>
              <a:avLst/>
              <a:gdLst/>
              <a:ahLst/>
              <a:rect l="l" t="t" r="r" b="b"/>
              <a:pathLst>
                <a:path w="202" h="423">
                  <a:moveTo>
                    <a:pt x="202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2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7200" y="3394080"/>
              <a:ext cx="463680" cy="960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25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457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49328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24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55560" y="4014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8544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631160" y="4014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669680" y="40147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94880" y="40147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1216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56800" y="40147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05040" y="401472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8104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4728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595520" y="411480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59960" y="4114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9280" y="41148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35920" y="41148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01320" y="35114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549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9816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45680" y="351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2680" y="3511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202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459800" y="351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61040" y="3651120"/>
              <a:ext cx="460440" cy="965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21480" y="365112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3280" y="3484440"/>
              <a:ext cx="42840" cy="399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39680" y="2443320"/>
              <a:ext cx="420840" cy="11239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307880" y="2938320"/>
              <a:ext cx="1522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90760" y="2276640"/>
              <a:ext cx="266760" cy="82692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8"/>
                  </a:lnTo>
                  <a:lnTo>
                    <a:pt x="39" y="182"/>
                  </a:lnTo>
                  <a:lnTo>
                    <a:pt x="0" y="217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81640" y="3913200"/>
              <a:ext cx="46080" cy="442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81640" y="4278240"/>
              <a:ext cx="46080" cy="446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0"/>
                  </a:moveTo>
                  <a:lnTo>
                    <a:pt x="0" y="19"/>
                  </a:lnTo>
                  <a:lnTo>
                    <a:pt x="20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62440" y="4095720"/>
              <a:ext cx="38160" cy="446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2440" y="3605040"/>
              <a:ext cx="38160" cy="460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0" y="2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96360" y="3957480"/>
              <a:ext cx="4428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96360" y="4322880"/>
              <a:ext cx="44280" cy="442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13520" y="4421160"/>
              <a:ext cx="41040" cy="3816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0" y="17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41440" y="2427120"/>
              <a:ext cx="446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41440" y="2916360"/>
              <a:ext cx="4464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2184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757520" y="2692440"/>
              <a:ext cx="2860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57680" y="2529000"/>
              <a:ext cx="511200" cy="823680"/>
            </a:xfrm>
            <a:custGeom>
              <a:avLst/>
              <a:gdLst/>
              <a:ahLst/>
              <a:rect l="l" t="t" r="r" b="b"/>
              <a:pathLst>
                <a:path w="224" h="361">
                  <a:moveTo>
                    <a:pt x="0" y="0"/>
                  </a:moveTo>
                  <a:lnTo>
                    <a:pt x="0" y="145"/>
                  </a:lnTo>
                  <a:lnTo>
                    <a:pt x="38" y="180"/>
                  </a:lnTo>
                  <a:lnTo>
                    <a:pt x="0" y="214"/>
                  </a:lnTo>
                  <a:lnTo>
                    <a:pt x="0" y="361"/>
                  </a:lnTo>
                  <a:lnTo>
                    <a:pt x="224" y="250"/>
                  </a:lnTo>
                  <a:lnTo>
                    <a:pt x="224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49320" y="3562200"/>
              <a:ext cx="1825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117440" y="3546360"/>
              <a:ext cx="4608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0" y="17"/>
                  </a:lnTo>
                  <a:lnTo>
                    <a:pt x="2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46280" y="3546360"/>
              <a:ext cx="45720" cy="381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68520" y="4716360"/>
              <a:ext cx="42840" cy="446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21080" y="4416480"/>
              <a:ext cx="304920" cy="64908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6" y="283"/>
                  </a:lnTo>
                  <a:lnTo>
                    <a:pt x="88" y="277"/>
                  </a:lnTo>
                  <a:lnTo>
                    <a:pt x="97" y="270"/>
                  </a:lnTo>
                  <a:lnTo>
                    <a:pt x="105" y="258"/>
                  </a:lnTo>
                  <a:lnTo>
                    <a:pt x="115" y="243"/>
                  </a:lnTo>
                  <a:lnTo>
                    <a:pt x="120" y="228"/>
                  </a:lnTo>
                  <a:lnTo>
                    <a:pt x="126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6" y="76"/>
                  </a:lnTo>
                  <a:lnTo>
                    <a:pt x="120" y="57"/>
                  </a:lnTo>
                  <a:lnTo>
                    <a:pt x="115" y="42"/>
                  </a:lnTo>
                  <a:lnTo>
                    <a:pt x="105" y="26"/>
                  </a:lnTo>
                  <a:lnTo>
                    <a:pt x="97" y="15"/>
                  </a:lnTo>
                  <a:lnTo>
                    <a:pt x="88" y="5"/>
                  </a:lnTo>
                  <a:lnTo>
                    <a:pt x="76" y="2"/>
                  </a:lnTo>
                  <a:lnTo>
                    <a:pt x="67" y="0"/>
                  </a:lnTo>
                  <a:lnTo>
                    <a:pt x="55" y="2"/>
                  </a:lnTo>
                  <a:lnTo>
                    <a:pt x="46" y="5"/>
                  </a:lnTo>
                  <a:lnTo>
                    <a:pt x="36" y="15"/>
                  </a:lnTo>
                  <a:lnTo>
                    <a:pt x="26" y="26"/>
                  </a:lnTo>
                  <a:lnTo>
                    <a:pt x="19" y="42"/>
                  </a:lnTo>
                  <a:lnTo>
                    <a:pt x="11" y="57"/>
                  </a:lnTo>
                  <a:lnTo>
                    <a:pt x="5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5" y="208"/>
                  </a:lnTo>
                  <a:lnTo>
                    <a:pt x="11" y="228"/>
                  </a:lnTo>
                  <a:lnTo>
                    <a:pt x="19" y="243"/>
                  </a:lnTo>
                  <a:lnTo>
                    <a:pt x="26" y="258"/>
                  </a:lnTo>
                  <a:lnTo>
                    <a:pt x="36" y="270"/>
                  </a:lnTo>
                  <a:lnTo>
                    <a:pt x="46" y="277"/>
                  </a:lnTo>
                  <a:lnTo>
                    <a:pt x="55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648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0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613400" y="2671920"/>
              <a:ext cx="3960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13400" y="3160800"/>
              <a:ext cx="39600" cy="428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3880" y="3905280"/>
              <a:ext cx="154080" cy="51912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5" y="23"/>
                  </a:lnTo>
                  <a:lnTo>
                    <a:pt x="67" y="26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4" y="208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8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08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29160" y="3860640"/>
              <a:ext cx="155520" cy="519120"/>
            </a:xfrm>
            <a:custGeom>
              <a:avLst/>
              <a:gdLst/>
              <a:ahLst/>
              <a:rect l="l" t="t" r="r" b="b"/>
              <a:pathLst>
                <a:path w="68" h="227">
                  <a:moveTo>
                    <a:pt x="0" y="32"/>
                  </a:moveTo>
                  <a:lnTo>
                    <a:pt x="2" y="26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2" y="9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4" y="17"/>
                  </a:lnTo>
                  <a:lnTo>
                    <a:pt x="68" y="23"/>
                  </a:lnTo>
                  <a:lnTo>
                    <a:pt x="68" y="26"/>
                  </a:lnTo>
                  <a:lnTo>
                    <a:pt x="68" y="32"/>
                  </a:lnTo>
                  <a:lnTo>
                    <a:pt x="68" y="193"/>
                  </a:lnTo>
                  <a:lnTo>
                    <a:pt x="68" y="199"/>
                  </a:lnTo>
                  <a:lnTo>
                    <a:pt x="68" y="204"/>
                  </a:lnTo>
                  <a:lnTo>
                    <a:pt x="64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5" y="225"/>
                  </a:lnTo>
                  <a:lnTo>
                    <a:pt x="41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4" y="225"/>
                  </a:lnTo>
                  <a:lnTo>
                    <a:pt x="20" y="224"/>
                  </a:lnTo>
                  <a:lnTo>
                    <a:pt x="16" y="222"/>
                  </a:lnTo>
                  <a:lnTo>
                    <a:pt x="12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60480" y="38847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763880" y="2886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207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62160" y="2886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03640" y="2847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6052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05160" y="2847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54480" y="28479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938480" y="29304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224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07960" y="2930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51160" y="2930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97600" y="29304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13080" y="2930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43280" y="3728880"/>
              <a:ext cx="42840" cy="43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90800" y="3389400"/>
              <a:ext cx="463680" cy="96516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201" y="0"/>
                  </a:moveTo>
                  <a:lnTo>
                    <a:pt x="0" y="2"/>
                  </a:lnTo>
                  <a:lnTo>
                    <a:pt x="0" y="423"/>
                  </a:lnTo>
                  <a:lnTo>
                    <a:pt x="203" y="4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49800" y="3394080"/>
              <a:ext cx="463320" cy="9604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0" y="421"/>
                  </a:moveTo>
                  <a:lnTo>
                    <a:pt x="203" y="421"/>
                  </a:lnTo>
                  <a:lnTo>
                    <a:pt x="203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5280" y="3457440"/>
              <a:ext cx="515880" cy="825480"/>
            </a:xfrm>
            <a:custGeom>
              <a:avLst/>
              <a:gdLst/>
              <a:ahLst/>
              <a:rect l="l" t="t" r="r" b="b"/>
              <a:pathLst>
                <a:path w="226" h="362">
                  <a:moveTo>
                    <a:pt x="0" y="0"/>
                  </a:moveTo>
                  <a:lnTo>
                    <a:pt x="2" y="148"/>
                  </a:lnTo>
                  <a:lnTo>
                    <a:pt x="39" y="182"/>
                  </a:lnTo>
                  <a:lnTo>
                    <a:pt x="2" y="217"/>
                  </a:lnTo>
                  <a:lnTo>
                    <a:pt x="2" y="362"/>
                  </a:lnTo>
                  <a:lnTo>
                    <a:pt x="226" y="253"/>
                  </a:lnTo>
                  <a:lnTo>
                    <a:pt x="226" y="113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  <a:lnTo>
                    <a:pt x="56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281480" y="2982960"/>
              <a:ext cx="252360" cy="40644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6" y="176"/>
                  </a:moveTo>
                  <a:lnTo>
                    <a:pt x="65" y="176"/>
                  </a:lnTo>
                  <a:lnTo>
                    <a:pt x="73" y="172"/>
                  </a:lnTo>
                  <a:lnTo>
                    <a:pt x="83" y="168"/>
                  </a:lnTo>
                  <a:lnTo>
                    <a:pt x="88" y="161"/>
                  </a:lnTo>
                  <a:lnTo>
                    <a:pt x="96" y="151"/>
                  </a:lnTo>
                  <a:lnTo>
                    <a:pt x="102" y="141"/>
                  </a:lnTo>
                  <a:lnTo>
                    <a:pt x="106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4"/>
                  </a:lnTo>
                  <a:lnTo>
                    <a:pt x="109" y="61"/>
                  </a:lnTo>
                  <a:lnTo>
                    <a:pt x="106" y="48"/>
                  </a:lnTo>
                  <a:lnTo>
                    <a:pt x="102" y="36"/>
                  </a:lnTo>
                  <a:lnTo>
                    <a:pt x="96" y="27"/>
                  </a:lnTo>
                  <a:lnTo>
                    <a:pt x="88" y="17"/>
                  </a:lnTo>
                  <a:lnTo>
                    <a:pt x="83" y="11"/>
                  </a:lnTo>
                  <a:lnTo>
                    <a:pt x="73" y="5"/>
                  </a:lnTo>
                  <a:lnTo>
                    <a:pt x="65" y="2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9" y="5"/>
                  </a:lnTo>
                  <a:lnTo>
                    <a:pt x="31" y="11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2" y="36"/>
                  </a:lnTo>
                  <a:lnTo>
                    <a:pt x="8" y="48"/>
                  </a:lnTo>
                  <a:lnTo>
                    <a:pt x="4" y="61"/>
                  </a:lnTo>
                  <a:lnTo>
                    <a:pt x="2" y="74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4" y="117"/>
                  </a:lnTo>
                  <a:lnTo>
                    <a:pt x="8" y="130"/>
                  </a:lnTo>
                  <a:lnTo>
                    <a:pt x="12" y="141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1" y="168"/>
                  </a:lnTo>
                  <a:lnTo>
                    <a:pt x="39" y="172"/>
                  </a:lnTo>
                  <a:lnTo>
                    <a:pt x="48" y="176"/>
                  </a:lnTo>
                  <a:lnTo>
                    <a:pt x="56" y="178"/>
                  </a:lnTo>
                  <a:lnTo>
                    <a:pt x="56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40160" y="385272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540160" y="37288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21080" y="30877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77960" y="308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2960" y="30877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3844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66880" y="30877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87760" y="30877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12800" y="31878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2864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7472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9380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422240" y="3187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42760" y="31878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08560" y="3384720"/>
              <a:ext cx="3240" cy="91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4533840" y="3182760"/>
              <a:ext cx="842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317840" y="3933720"/>
              <a:ext cx="1805040" cy="506520"/>
            </a:xfrm>
            <a:custGeom>
              <a:avLst/>
              <a:gdLst/>
              <a:ahLst/>
              <a:rect l="l" t="t" r="r" b="b"/>
              <a:pathLst>
                <a:path w="791" h="222">
                  <a:moveTo>
                    <a:pt x="791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085160" y="3978360"/>
              <a:ext cx="529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98680" y="1606680"/>
              <a:ext cx="44280" cy="428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332000" y="1627200"/>
              <a:ext cx="557280" cy="1065240"/>
            </a:xfrm>
            <a:custGeom>
              <a:avLst/>
              <a:gdLst/>
              <a:ahLst/>
              <a:rect l="l" t="t" r="r" b="b"/>
              <a:pathLst>
                <a:path w="244" h="467">
                  <a:moveTo>
                    <a:pt x="83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4" y="262"/>
                  </a:lnTo>
                  <a:lnTo>
                    <a:pt x="244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3200" y="1492200"/>
              <a:ext cx="1120680" cy="2075040"/>
            </a:xfrm>
            <a:custGeom>
              <a:avLst/>
              <a:gdLst/>
              <a:ahLst/>
              <a:rect l="l" t="t" r="r" b="b"/>
              <a:pathLst>
                <a:path w="491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1" y="0"/>
                  </a:lnTo>
                  <a:lnTo>
                    <a:pt x="491" y="142"/>
                  </a:lnTo>
                  <a:lnTo>
                    <a:pt x="450" y="1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7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948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060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841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80468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83132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878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1880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94112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9569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0448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47640" y="1554120"/>
              <a:ext cx="152640" cy="5176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1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40" y="227"/>
                  </a:lnTo>
                  <a:lnTo>
                    <a:pt x="35" y="227"/>
                  </a:lnTo>
                  <a:lnTo>
                    <a:pt x="29" y="227"/>
                  </a:lnTo>
                  <a:lnTo>
                    <a:pt x="23" y="226"/>
                  </a:lnTo>
                  <a:lnTo>
                    <a:pt x="19" y="224"/>
                  </a:lnTo>
                  <a:lnTo>
                    <a:pt x="16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2" y="201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586160" y="16812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57440" y="1681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99840" y="176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47720" y="17636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99480" y="18414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79320" y="1576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579320" y="19461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595160" y="264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736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95240" y="264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0440" y="35164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73000" y="35164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78080" y="4297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97040" y="43480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70120" y="434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97120" y="43480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8000" y="4348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43200" y="434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86400" y="43480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9704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3988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86320" y="4429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12960" y="44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88160" y="4032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51880" y="4032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98960" y="4110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742160" y="41101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698600" y="41940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6780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7304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3460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7924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26760" y="38228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40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84360" y="38228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077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54200" y="38228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0840" y="38228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593880" y="35323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5076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997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41120" y="3532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794040" y="35323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4096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90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349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6012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03320" y="3616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25280" y="361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93880" y="3843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65076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6997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741120" y="3843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794040" y="384336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4096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90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634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60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033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2528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25360" y="34113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869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3012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080880" y="3411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21200" y="341136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92536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95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988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044160" y="34941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60000" y="3494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10464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12516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69800" y="3494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201480" y="3494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222000" y="34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925360" y="3660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9869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03012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0880" y="3660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21200" y="366084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2536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95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9988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044160" y="3738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060000" y="3738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10464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2516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69800" y="3738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01480" y="3738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22000" y="3738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2668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69520" y="4578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89120" y="4643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541320" y="4643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6328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07920" y="4643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651120" y="464328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44124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88760" y="4745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530160" y="4745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506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59820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44280" y="4745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94080" y="3916440"/>
              <a:ext cx="44640" cy="41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0" y="18"/>
                  </a:move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25360" y="3905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04920" y="3905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30120" y="3905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47760" y="3905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67920" y="3905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117960" y="3905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2536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5200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99988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44160" y="398952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60000" y="3989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04640" y="3989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125160" y="39895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169800" y="3989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925360" y="4148280"/>
              <a:ext cx="109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04920" y="4148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30120" y="414828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47760" y="4148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67920" y="4148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17960" y="4148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2536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728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15720" y="42339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39480" y="42339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60880" y="388620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92244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96852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011360" y="3886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059600" y="388620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9076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93360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980040" y="3970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04880" y="3970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113520" y="3957480"/>
              <a:ext cx="41040" cy="432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5320800" y="3978360"/>
              <a:ext cx="801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97400" y="392760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2492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2971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4320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7020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4159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45732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532200" y="406728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58908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640200" y="40672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66216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70860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7532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54156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589800" y="416736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657480" y="41673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703560" y="41673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33440" y="41673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560480" y="4254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149440" y="38480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06320" y="3848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48080" y="3848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311800" y="384804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87520" y="3927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11272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157000" y="39276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01640" y="3927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243040" y="39276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63920" y="39276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570560" y="39895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38600" y="39895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584240" y="4067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633920" y="406728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583880" y="4148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909680" y="382284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66560" y="38228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11560" y="38228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128920" y="371808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7788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27200" y="3718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254200" y="3718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4689000" y="4119480"/>
              <a:ext cx="87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408560" y="4302000"/>
              <a:ext cx="95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3817800" y="3624120"/>
              <a:ext cx="959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735360" y="4302000"/>
              <a:ext cx="673200" cy="435240"/>
            </a:xfrm>
            <a:custGeom>
              <a:avLst/>
              <a:gdLst/>
              <a:ahLst/>
              <a:rect l="l" t="t" r="r" b="b"/>
              <a:pathLst>
                <a:path w="295" h="191">
                  <a:moveTo>
                    <a:pt x="295" y="0"/>
                  </a:moveTo>
                  <a:lnTo>
                    <a:pt x="295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32497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787920" y="4684320"/>
              <a:ext cx="56880" cy="104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57440" y="3751200"/>
              <a:ext cx="301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85840" y="3871800"/>
              <a:ext cx="4716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22400" y="354636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6960" y="2671920"/>
              <a:ext cx="38160" cy="442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7440" y="3503520"/>
              <a:ext cx="822240" cy="123372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1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90920" y="4282920"/>
              <a:ext cx="38160" cy="399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25960" y="3962520"/>
              <a:ext cx="38160" cy="38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40160" y="3973680"/>
              <a:ext cx="41040" cy="428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8" y="18"/>
                  </a:move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290680" y="1195560"/>
              <a:ext cx="32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1418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576900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7348680" y="1195560"/>
              <a:ext cx="1440" cy="447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697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07560" y="120960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9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36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792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117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1980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271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3107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3600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407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1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559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85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69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47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935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31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09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235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77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19280" y="1209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236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618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64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44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825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9001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93796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679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1446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18312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14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9832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3746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16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4984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582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650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736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12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9002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9369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9532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44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252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0700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937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01104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524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3344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827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2236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6412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92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27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0812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4491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98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7804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604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4500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6432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7430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77972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211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9143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9906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0713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4476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272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266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7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389560" y="1209600"/>
              <a:ext cx="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3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4193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953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81360" y="1378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6270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109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7936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852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8938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9669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04828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081040" y="1378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15412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23404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6680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347800" y="13780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389560" y="137808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42556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503680" y="1378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85504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97852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7392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74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384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8200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004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80360" y="12096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0528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8304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3344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068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450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271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0002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073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15752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2556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46964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00680" y="1209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69896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4180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783920" y="12096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18200" y="1209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66080" y="120960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0208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03880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123040" y="1209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1626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241840" y="1209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2428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98800" y="120960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"/>
          <p:cNvGrpSpPr/>
          <p:nvPr/>
        </p:nvGrpSpPr>
        <p:grpSpPr>
          <a:xfrm>
            <a:off x="461880" y="919080"/>
            <a:ext cx="7968240" cy="3992760"/>
            <a:chOff x="461880" y="919080"/>
            <a:chExt cx="7968240" cy="3992760"/>
          </a:xfrm>
        </p:grpSpPr>
        <p:grpSp>
          <p:nvGrpSpPr>
            <p:cNvPr id="1043" name=""/>
            <p:cNvGrpSpPr/>
            <p:nvPr/>
          </p:nvGrpSpPr>
          <p:grpSpPr>
            <a:xfrm>
              <a:off x="461880" y="919080"/>
              <a:ext cx="7968240" cy="3992760"/>
              <a:chOff x="461880" y="919080"/>
              <a:chExt cx="7968240" cy="3992760"/>
            </a:xfrm>
          </p:grpSpPr>
          <p:sp>
            <p:nvSpPr>
              <p:cNvPr id="1044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30840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24852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81840" y="3043080"/>
                <a:ext cx="24588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7472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7218360" y="3043080"/>
                <a:ext cx="254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7218360" y="3533760"/>
                <a:ext cx="254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063960" y="3043080"/>
                <a:ext cx="488880" cy="49068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8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54760" y="3189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30264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287960" y="3043080"/>
                <a:ext cx="244440" cy="490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043520" y="30337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043520" y="3043080"/>
                <a:ext cx="253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043520" y="3533760"/>
                <a:ext cx="253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18896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3038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39560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081760" y="279720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1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002280" y="3043080"/>
                <a:ext cx="490680" cy="49068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9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16248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280920" y="318924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127640" y="31892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2421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335720" y="3189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552840" y="3287880"/>
                <a:ext cx="490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32400" y="316548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532480" y="3287880"/>
                <a:ext cx="4698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488280" y="3287880"/>
                <a:ext cx="493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532400" y="3409920"/>
                <a:ext cx="549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921120" y="316548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77"/>
                    </a:moveTo>
                    <a:lnTo>
                      <a:pt x="0" y="0"/>
                    </a:lnTo>
                    <a:lnTo>
                      <a:pt x="77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80240" y="3287880"/>
                <a:ext cx="857160" cy="368280"/>
              </a:xfrm>
              <a:custGeom>
                <a:avLst/>
                <a:gdLst/>
                <a:ahLst/>
                <a:rect l="l" t="t" r="r" b="b"/>
                <a:pathLst>
                  <a:path w="540" h="232">
                    <a:moveTo>
                      <a:pt x="0" y="0"/>
                    </a:moveTo>
                    <a:lnTo>
                      <a:pt x="0" y="232"/>
                    </a:lnTo>
                    <a:lnTo>
                      <a:pt x="463" y="232"/>
                    </a:lnTo>
                    <a:lnTo>
                      <a:pt x="463" y="77"/>
                    </a:lnTo>
                    <a:lnTo>
                      <a:pt x="54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266800" y="317484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374440" y="31748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466960" y="317484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25448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192800" y="4137120"/>
                <a:ext cx="24948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  <a:lnTo>
                      <a:pt x="151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32600" y="4137120"/>
                <a:ext cx="244440" cy="490320"/>
              </a:xfrm>
              <a:custGeom>
                <a:avLst/>
                <a:gdLst/>
                <a:ahLst/>
                <a:rect l="l" t="t" r="r" b="b"/>
                <a:pathLst>
                  <a:path w="154" h="309">
                    <a:moveTo>
                      <a:pt x="151" y="309"/>
                    </a:moveTo>
                    <a:lnTo>
                      <a:pt x="0" y="309"/>
                    </a:lnTo>
                    <a:lnTo>
                      <a:pt x="0" y="0"/>
                    </a:lnTo>
                    <a:lnTo>
                      <a:pt x="15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8418600" y="4127400"/>
                <a:ext cx="46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8167320" y="4137120"/>
                <a:ext cx="2509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8167320" y="4627440"/>
                <a:ext cx="2509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013280" y="4137120"/>
                <a:ext cx="490320" cy="490320"/>
              </a:xfrm>
              <a:custGeom>
                <a:avLst/>
                <a:gdLst/>
                <a:ahLst/>
                <a:rect l="l" t="t" r="r" b="b"/>
                <a:pathLst>
                  <a:path w="309" h="309">
                    <a:moveTo>
                      <a:pt x="306" y="309"/>
                    </a:moveTo>
                    <a:lnTo>
                      <a:pt x="309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9" y="309"/>
                    </a:lnTo>
                    <a:lnTo>
                      <a:pt x="309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2008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25376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  <a:lnTo>
                      <a:pt x="0" y="30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34040" y="4137120"/>
                <a:ext cx="249120" cy="490320"/>
              </a:xfrm>
              <a:custGeom>
                <a:avLst/>
                <a:gdLst/>
                <a:ahLst/>
                <a:rect l="l" t="t" r="r" b="b"/>
                <a:pathLst>
                  <a:path w="157" h="309">
                    <a:moveTo>
                      <a:pt x="0" y="309"/>
                    </a:moveTo>
                    <a:lnTo>
                      <a:pt x="157" y="309"/>
                    </a:lnTo>
                    <a:lnTo>
                      <a:pt x="157" y="0"/>
                    </a:lnTo>
                    <a:lnTo>
                      <a:pt x="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87800" y="4127400"/>
                <a:ext cx="648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987800" y="4137120"/>
                <a:ext cx="260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987800" y="4627440"/>
                <a:ext cx="2606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13828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2531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3416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032520" y="3890880"/>
                <a:ext cx="450720" cy="976320"/>
              </a:xfrm>
              <a:custGeom>
                <a:avLst/>
                <a:gdLst/>
                <a:ahLst/>
                <a:rect l="l" t="t" r="r" b="b"/>
                <a:pathLst>
                  <a:path w="284" h="615">
                    <a:moveTo>
                      <a:pt x="0" y="0"/>
                    </a:moveTo>
                    <a:lnTo>
                      <a:pt x="0" y="250"/>
                    </a:lnTo>
                    <a:lnTo>
                      <a:pt x="74" y="309"/>
                    </a:lnTo>
                    <a:lnTo>
                      <a:pt x="0" y="368"/>
                    </a:lnTo>
                    <a:lnTo>
                      <a:pt x="0" y="615"/>
                    </a:lnTo>
                    <a:lnTo>
                      <a:pt x="284" y="427"/>
                    </a:lnTo>
                    <a:lnTo>
                      <a:pt x="284" y="189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53400" y="4137120"/>
                <a:ext cx="488880" cy="490320"/>
              </a:xfrm>
              <a:custGeom>
                <a:avLst/>
                <a:gdLst/>
                <a:ahLst/>
                <a:rect l="l" t="t" r="r" b="b"/>
                <a:pathLst>
                  <a:path w="308" h="309">
                    <a:moveTo>
                      <a:pt x="305" y="309"/>
                    </a:moveTo>
                    <a:lnTo>
                      <a:pt x="308" y="0"/>
                    </a:lnTo>
                    <a:lnTo>
                      <a:pt x="0" y="0"/>
                    </a:lnTo>
                    <a:lnTo>
                      <a:pt x="0" y="309"/>
                    </a:lnTo>
                    <a:lnTo>
                      <a:pt x="308" y="309"/>
                    </a:lnTo>
                    <a:lnTo>
                      <a:pt x="308" y="30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11324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231680" y="42829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0784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19288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828180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498920" y="4381560"/>
                <a:ext cx="4953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478480" y="425916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83240" y="4381560"/>
                <a:ext cx="470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437600" y="4381560"/>
                <a:ext cx="495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78480" y="4503600"/>
                <a:ext cx="55404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865760" y="4259160"/>
                <a:ext cx="128520" cy="122400"/>
              </a:xfrm>
              <a:custGeom>
                <a:avLst/>
                <a:gdLst/>
                <a:ahLst/>
                <a:rect l="l" t="t" r="r" b="b"/>
                <a:pathLst>
                  <a:path w="81" h="77">
                    <a:moveTo>
                      <a:pt x="0" y="77"/>
                    </a:moveTo>
                    <a:lnTo>
                      <a:pt x="3" y="0"/>
                    </a:lnTo>
                    <a:lnTo>
                      <a:pt x="8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826320" y="4381560"/>
                <a:ext cx="861840" cy="368280"/>
              </a:xfrm>
              <a:custGeom>
                <a:avLst/>
                <a:gdLst/>
                <a:ahLst/>
                <a:rect l="l" t="t" r="r" b="b"/>
                <a:pathLst>
                  <a:path w="543" h="232">
                    <a:moveTo>
                      <a:pt x="0" y="0"/>
                    </a:moveTo>
                    <a:lnTo>
                      <a:pt x="3" y="232"/>
                    </a:lnTo>
                    <a:lnTo>
                      <a:pt x="466" y="232"/>
                    </a:lnTo>
                    <a:lnTo>
                      <a:pt x="466" y="77"/>
                    </a:lnTo>
                    <a:lnTo>
                      <a:pt x="54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16120" y="426888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23760" y="4268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413040" y="4268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80836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787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76892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48480" y="1262160"/>
                <a:ext cx="144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72768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707240" y="1262160"/>
                <a:ext cx="1800" cy="36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1808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2982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1344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58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1604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2778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39300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43908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14000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2573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3725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41864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1195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2369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35176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982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09876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164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331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37740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078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19568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31232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356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05932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8177040" y="128736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8291880" y="128736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8337960" y="12873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110680" y="91908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20680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241000" y="91908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37816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47212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51532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5689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0568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9748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74212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8245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85732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9530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03084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13640" y="9190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593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24216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32640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402360" y="9190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41600" y="9190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530880" y="91908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614040" y="9190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240" y="317988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19000" y="317988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93852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9849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07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16424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213200" y="317988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578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3467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036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52640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58652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675440" y="317988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766160" y="317988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86240" y="428292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19000" y="4282920"/>
                <a:ext cx="119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93852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9849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7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16424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213200" y="428292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2578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3467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44036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52640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58652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$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675440" y="42829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66160" y="42829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01480" y="2008080"/>
                <a:ext cx="1800" cy="255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1880" y="4543560"/>
                <a:ext cx="8424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49" y="0"/>
                    </a:moveTo>
                    <a:lnTo>
                      <a:pt x="0" y="0"/>
                    </a:lnTo>
                    <a:lnTo>
                      <a:pt x="25" y="53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94640" y="1193760"/>
                <a:ext cx="11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552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5880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459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40600" y="119376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93520" y="11937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982080" y="119376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84320" y="119376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921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536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6816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9240" y="138420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8420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929160" y="138420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978120" y="138420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01124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102320" y="138420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57400" y="138420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44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3972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31880" y="158112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21520" y="15811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39880" y="1581120"/>
                <a:ext cx="2016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9284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4648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7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735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225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924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85140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92916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972360" y="177624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0324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21040" y="1776240"/>
                <a:ext cx="83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202040" y="1776240"/>
                <a:ext cx="46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246320" y="1776240"/>
                <a:ext cx="37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280880" y="177624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1375200" y="17762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464120" y="177624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545480" y="177624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670200" y="1012680"/>
              <a:ext cx="299412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43800" y="9730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0" y="0"/>
                  </a:moveTo>
                  <a:lnTo>
                    <a:pt x="0" y="53"/>
                  </a:lnTo>
                  <a:lnTo>
                    <a:pt x="5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86240" y="2076480"/>
              <a:ext cx="37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190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93852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9849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07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1642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320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578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467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44036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52640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8652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67544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766160" y="20764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31948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25780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92920" y="1928880"/>
              <a:ext cx="24444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6483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227640" y="1928880"/>
              <a:ext cx="255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6227640" y="2419200"/>
              <a:ext cx="2556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73240" y="1928880"/>
              <a:ext cx="490680" cy="490320"/>
            </a:xfrm>
            <a:custGeom>
              <a:avLst/>
              <a:gdLst/>
              <a:ahLst/>
              <a:rect l="l" t="t" r="r" b="b"/>
              <a:pathLst>
                <a:path w="309" h="309">
                  <a:moveTo>
                    <a:pt x="309" y="309"/>
                  </a:moveTo>
                  <a:lnTo>
                    <a:pt x="309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9" y="309"/>
                  </a:lnTo>
                  <a:lnTo>
                    <a:pt x="309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65840" y="2076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1372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98680" y="1928880"/>
              <a:ext cx="244800" cy="490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3054240" y="1919160"/>
              <a:ext cx="1800" cy="51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054240" y="1928880"/>
              <a:ext cx="254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054240" y="2419200"/>
              <a:ext cx="254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1986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130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40668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092480" y="1684440"/>
              <a:ext cx="451080" cy="976320"/>
            </a:xfrm>
            <a:custGeom>
              <a:avLst/>
              <a:gdLst/>
              <a:ahLst/>
              <a:rect l="l" t="t" r="r" b="b"/>
              <a:pathLst>
                <a:path w="284" h="615">
                  <a:moveTo>
                    <a:pt x="0" y="0"/>
                  </a:moveTo>
                  <a:lnTo>
                    <a:pt x="0" y="250"/>
                  </a:lnTo>
                  <a:lnTo>
                    <a:pt x="74" y="309"/>
                  </a:lnTo>
                  <a:lnTo>
                    <a:pt x="0" y="368"/>
                  </a:lnTo>
                  <a:lnTo>
                    <a:pt x="0" y="615"/>
                  </a:lnTo>
                  <a:lnTo>
                    <a:pt x="284" y="426"/>
                  </a:lnTo>
                  <a:lnTo>
                    <a:pt x="284" y="188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013360" y="1928880"/>
              <a:ext cx="488880" cy="490320"/>
            </a:xfrm>
            <a:custGeom>
              <a:avLst/>
              <a:gdLst/>
              <a:ahLst/>
              <a:rect l="l" t="t" r="r" b="b"/>
              <a:pathLst>
                <a:path w="308" h="309">
                  <a:moveTo>
                    <a:pt x="308" y="309"/>
                  </a:moveTo>
                  <a:lnTo>
                    <a:pt x="308" y="0"/>
                  </a:lnTo>
                  <a:lnTo>
                    <a:pt x="0" y="0"/>
                  </a:lnTo>
                  <a:lnTo>
                    <a:pt x="0" y="309"/>
                  </a:lnTo>
                  <a:lnTo>
                    <a:pt x="308" y="309"/>
                  </a:lnTo>
                  <a:lnTo>
                    <a:pt x="308" y="30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17320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292000" y="2076480"/>
              <a:ext cx="13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138720" y="20764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532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346800" y="2076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563920" y="2174760"/>
              <a:ext cx="49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543480" y="205272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543560" y="2174760"/>
              <a:ext cx="469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497560" y="2174760"/>
              <a:ext cx="495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43480" y="2297160"/>
              <a:ext cx="549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30400" y="2052720"/>
              <a:ext cx="123840" cy="1220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0" y="77"/>
                  </a:moveTo>
                  <a:lnTo>
                    <a:pt x="0" y="0"/>
                  </a:lnTo>
                  <a:lnTo>
                    <a:pt x="7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890960" y="2174760"/>
              <a:ext cx="857520" cy="368280"/>
            </a:xfrm>
            <a:custGeom>
              <a:avLst/>
              <a:gdLst/>
              <a:ahLst/>
              <a:rect l="l" t="t" r="r" b="b"/>
              <a:pathLst>
                <a:path w="540" h="232">
                  <a:moveTo>
                    <a:pt x="0" y="0"/>
                  </a:moveTo>
                  <a:lnTo>
                    <a:pt x="0" y="232"/>
                  </a:lnTo>
                  <a:lnTo>
                    <a:pt x="463" y="232"/>
                  </a:lnTo>
                  <a:lnTo>
                    <a:pt x="463" y="77"/>
                  </a:lnTo>
                  <a:lnTo>
                    <a:pt x="54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76080" y="206208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383720" y="2062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473360" y="2062080"/>
              <a:ext cx="119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a representação para o pip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62880" y="5087160"/>
            <a:ext cx="8265240" cy="148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churado representa “atividade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ção alternativa: imaginando que cada instrução tenha a sua própria via de d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ra representação: foto no temp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 txBox="1"/>
          <p:nvPr/>
        </p:nvSpPr>
        <p:spPr>
          <a:xfrm>
            <a:off x="378720" y="98856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que é produzido em cada estágio é armazenado em um registrador de pipeline para uso pelo próximo estág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as com o endereço do registrador de escrita?? Caminhando para esquerd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523800" y="870120"/>
            <a:ext cx="8086320" cy="4310640"/>
            <a:chOff x="523800" y="870120"/>
            <a:chExt cx="8086320" cy="4310640"/>
          </a:xfrm>
        </p:grpSpPr>
        <p:grpSp>
          <p:nvGrpSpPr>
            <p:cNvPr id="1306" name=""/>
            <p:cNvGrpSpPr/>
            <p:nvPr/>
          </p:nvGrpSpPr>
          <p:grpSpPr>
            <a:xfrm>
              <a:off x="523800" y="870120"/>
              <a:ext cx="7980480" cy="4171680"/>
              <a:chOff x="523800" y="870120"/>
              <a:chExt cx="7980480" cy="4171680"/>
            </a:xfrm>
          </p:grpSpPr>
          <p:sp>
            <p:nvSpPr>
              <p:cNvPr id="1307" name=""/>
              <p:cNvSpPr/>
              <p:nvPr/>
            </p:nvSpPr>
            <p:spPr>
              <a:xfrm>
                <a:off x="2952720" y="36489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9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635560" y="3672000"/>
                <a:ext cx="338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>
                <a:off x="4502880" y="3603240"/>
                <a:ext cx="3117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428160" y="3656520"/>
                <a:ext cx="1439640" cy="848520"/>
              </a:xfrm>
              <a:custGeom>
                <a:avLst/>
                <a:gdLst/>
                <a:ahLst/>
                <a:rect l="l" t="t" r="r" b="b"/>
                <a:pathLst>
                  <a:path w="563" h="332">
                    <a:moveTo>
                      <a:pt x="563" y="332"/>
                    </a:moveTo>
                    <a:lnTo>
                      <a:pt x="0" y="332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092800" y="4062960"/>
                <a:ext cx="207000" cy="442080"/>
              </a:xfrm>
              <a:custGeom>
                <a:avLst/>
                <a:gdLst/>
                <a:ahLst/>
                <a:rect l="l" t="t" r="r" b="b"/>
                <a:pathLst>
                  <a:path w="81" h="173">
                    <a:moveTo>
                      <a:pt x="81" y="0"/>
                    </a:moveTo>
                    <a:lnTo>
                      <a:pt x="41" y="2"/>
                    </a:lnTo>
                    <a:lnTo>
                      <a:pt x="41" y="173"/>
                    </a:lnTo>
                    <a:lnTo>
                      <a:pt x="0" y="17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325920" y="3418560"/>
                <a:ext cx="10188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417720" y="33933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365120" y="1437480"/>
                <a:ext cx="5528520" cy="1055520"/>
              </a:xfrm>
              <a:custGeom>
                <a:avLst/>
                <a:gdLst/>
                <a:ahLst/>
                <a:rect l="l" t="t" r="r" b="b"/>
                <a:pathLst>
                  <a:path w="2162" h="413">
                    <a:moveTo>
                      <a:pt x="42" y="0"/>
                    </a:moveTo>
                    <a:lnTo>
                      <a:pt x="0" y="0"/>
                    </a:lnTo>
                    <a:lnTo>
                      <a:pt x="0" y="61"/>
                    </a:lnTo>
                    <a:lnTo>
                      <a:pt x="2162" y="61"/>
                    </a:lnTo>
                    <a:lnTo>
                      <a:pt x="2162" y="413"/>
                    </a:lnTo>
                    <a:lnTo>
                      <a:pt x="1940" y="41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727600" y="3418560"/>
                <a:ext cx="370440" cy="2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90480" y="3393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59160" y="2953800"/>
                <a:ext cx="171000" cy="477720"/>
              </a:xfrm>
              <a:custGeom>
                <a:avLst/>
                <a:gdLst/>
                <a:ahLst/>
                <a:rect l="l" t="t" r="r" b="b"/>
                <a:pathLst>
                  <a:path w="67" h="187">
                    <a:moveTo>
                      <a:pt x="67" y="187"/>
                    </a:moveTo>
                    <a:lnTo>
                      <a:pt x="67" y="0"/>
                    </a:lnTo>
                    <a:lnTo>
                      <a:pt x="0" y="0"/>
                    </a:lnTo>
                    <a:lnTo>
                      <a:pt x="0" y="187"/>
                    </a:lnTo>
                    <a:lnTo>
                      <a:pt x="67" y="187"/>
                    </a:lnTo>
                    <a:lnTo>
                      <a:pt x="67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76400" y="2997360"/>
                <a:ext cx="51372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590120" y="2997360"/>
                <a:ext cx="52128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3651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38960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44396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48752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513440" y="34239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54548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594800" y="3423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641240" y="34239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668600" y="34239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6887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737360" y="3423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791720" y="342396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42776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50192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557000" y="3536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630080" y="3536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684440" y="35362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712520" y="3536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116360" y="31298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1746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22328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278000" y="31298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05000" y="3129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5936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405800" y="3129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673320" y="3286080"/>
                <a:ext cx="514080" cy="1081080"/>
              </a:xfrm>
              <a:custGeom>
                <a:avLst/>
                <a:gdLst/>
                <a:ahLst/>
                <a:rect l="l" t="t" r="r" b="b"/>
                <a:pathLst>
                  <a:path w="201" h="423">
                    <a:moveTo>
                      <a:pt x="201" y="0"/>
                    </a:moveTo>
                    <a:lnTo>
                      <a:pt x="0" y="2"/>
                    </a:lnTo>
                    <a:lnTo>
                      <a:pt x="0" y="423"/>
                    </a:lnTo>
                    <a:lnTo>
                      <a:pt x="201" y="4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187760" y="3291120"/>
                <a:ext cx="518760" cy="10760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952720" y="30992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952720" y="392760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935280" y="1940760"/>
                <a:ext cx="470160" cy="1252800"/>
              </a:xfrm>
              <a:custGeom>
                <a:avLst/>
                <a:gdLst/>
                <a:ahLst/>
                <a:rect l="l" t="t" r="r" b="b"/>
                <a:pathLst>
                  <a:path w="184" h="490">
                    <a:moveTo>
                      <a:pt x="184" y="0"/>
                    </a:moveTo>
                    <a:lnTo>
                      <a:pt x="0" y="0"/>
                    </a:lnTo>
                    <a:lnTo>
                      <a:pt x="0" y="4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1234080" y="2487960"/>
                <a:ext cx="171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439280" y="1754640"/>
                <a:ext cx="299160" cy="925200"/>
              </a:xfrm>
              <a:custGeom>
                <a:avLst/>
                <a:gdLst/>
                <a:ahLst/>
                <a:rect l="l" t="t" r="r" b="b"/>
                <a:pathLst>
                  <a:path w="117" h="362">
                    <a:moveTo>
                      <a:pt x="0" y="0"/>
                    </a:moveTo>
                    <a:lnTo>
                      <a:pt x="0" y="145"/>
                    </a:lnTo>
                    <a:lnTo>
                      <a:pt x="38" y="180"/>
                    </a:lnTo>
                    <a:lnTo>
                      <a:pt x="0" y="214"/>
                    </a:lnTo>
                    <a:lnTo>
                      <a:pt x="0" y="362"/>
                    </a:lnTo>
                    <a:lnTo>
                      <a:pt x="117" y="251"/>
                    </a:lnTo>
                    <a:lnTo>
                      <a:pt x="117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791600" y="35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91600" y="3993840"/>
                <a:ext cx="48600" cy="4608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103720" y="3789720"/>
                <a:ext cx="4572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103720" y="3237120"/>
                <a:ext cx="4572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279640" y="3628440"/>
                <a:ext cx="4788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279640" y="4045320"/>
                <a:ext cx="4788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620040" y="414756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85280" y="191520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3852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13904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4502880" y="2214360"/>
                <a:ext cx="4392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986000" y="2027880"/>
                <a:ext cx="574920" cy="925920"/>
              </a:xfrm>
              <a:custGeom>
                <a:avLst/>
                <a:gdLst/>
                <a:ahLst/>
                <a:rect l="l" t="t" r="r" b="b"/>
                <a:pathLst>
                  <a:path w="225" h="362">
                    <a:moveTo>
                      <a:pt x="0" y="0"/>
                    </a:moveTo>
                    <a:lnTo>
                      <a:pt x="0" y="146"/>
                    </a:lnTo>
                    <a:lnTo>
                      <a:pt x="39" y="182"/>
                    </a:lnTo>
                    <a:lnTo>
                      <a:pt x="0" y="216"/>
                    </a:lnTo>
                    <a:lnTo>
                      <a:pt x="0" y="362"/>
                    </a:lnTo>
                    <a:lnTo>
                      <a:pt x="225" y="251"/>
                    </a:lnTo>
                    <a:lnTo>
                      <a:pt x="225" y="11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5566320" y="2487960"/>
                <a:ext cx="54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90480" y="246492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30520" y="3193920"/>
                <a:ext cx="2070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102240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05520" y="31683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2" y="19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540600" y="448488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2" y="17"/>
                    </a:lnTo>
                    <a:lnTo>
                      <a:pt x="19" y="9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  <a:lnTo>
                      <a:pt x="65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600000" y="4142160"/>
                <a:ext cx="342360" cy="728640"/>
              </a:xfrm>
              <a:custGeom>
                <a:avLst/>
                <a:gdLst/>
                <a:ahLst/>
                <a:rect l="l" t="t" r="r" b="b"/>
                <a:pathLst>
                  <a:path w="134" h="285">
                    <a:moveTo>
                      <a:pt x="65" y="285"/>
                    </a:moveTo>
                    <a:lnTo>
                      <a:pt x="77" y="283"/>
                    </a:lnTo>
                    <a:lnTo>
                      <a:pt x="88" y="279"/>
                    </a:lnTo>
                    <a:lnTo>
                      <a:pt x="98" y="270"/>
                    </a:lnTo>
                    <a:lnTo>
                      <a:pt x="106" y="258"/>
                    </a:lnTo>
                    <a:lnTo>
                      <a:pt x="115" y="243"/>
                    </a:lnTo>
                    <a:lnTo>
                      <a:pt x="121" y="228"/>
                    </a:lnTo>
                    <a:lnTo>
                      <a:pt x="127" y="208"/>
                    </a:lnTo>
                    <a:lnTo>
                      <a:pt x="130" y="187"/>
                    </a:lnTo>
                    <a:lnTo>
                      <a:pt x="132" y="166"/>
                    </a:lnTo>
                    <a:lnTo>
                      <a:pt x="134" y="143"/>
                    </a:lnTo>
                    <a:lnTo>
                      <a:pt x="132" y="120"/>
                    </a:lnTo>
                    <a:lnTo>
                      <a:pt x="130" y="98"/>
                    </a:lnTo>
                    <a:lnTo>
                      <a:pt x="127" y="76"/>
                    </a:lnTo>
                    <a:lnTo>
                      <a:pt x="121" y="59"/>
                    </a:lnTo>
                    <a:lnTo>
                      <a:pt x="115" y="42"/>
                    </a:lnTo>
                    <a:lnTo>
                      <a:pt x="106" y="27"/>
                    </a:lnTo>
                    <a:lnTo>
                      <a:pt x="98" y="15"/>
                    </a:lnTo>
                    <a:lnTo>
                      <a:pt x="88" y="8"/>
                    </a:lnTo>
                    <a:lnTo>
                      <a:pt x="77" y="2"/>
                    </a:lnTo>
                    <a:lnTo>
                      <a:pt x="67" y="0"/>
                    </a:lnTo>
                    <a:lnTo>
                      <a:pt x="56" y="2"/>
                    </a:lnTo>
                    <a:lnTo>
                      <a:pt x="46" y="8"/>
                    </a:lnTo>
                    <a:lnTo>
                      <a:pt x="37" y="15"/>
                    </a:lnTo>
                    <a:lnTo>
                      <a:pt x="27" y="27"/>
                    </a:lnTo>
                    <a:lnTo>
                      <a:pt x="19" y="42"/>
                    </a:lnTo>
                    <a:lnTo>
                      <a:pt x="12" y="59"/>
                    </a:lnTo>
                    <a:lnTo>
                      <a:pt x="6" y="76"/>
                    </a:lnTo>
                    <a:lnTo>
                      <a:pt x="2" y="98"/>
                    </a:lnTo>
                    <a:lnTo>
                      <a:pt x="0" y="120"/>
                    </a:lnTo>
                    <a:lnTo>
                      <a:pt x="0" y="143"/>
                    </a:lnTo>
                    <a:lnTo>
                      <a:pt x="0" y="166"/>
                    </a:lnTo>
                    <a:lnTo>
                      <a:pt x="2" y="187"/>
                    </a:lnTo>
                    <a:lnTo>
                      <a:pt x="6" y="208"/>
                    </a:lnTo>
                    <a:lnTo>
                      <a:pt x="12" y="228"/>
                    </a:lnTo>
                    <a:lnTo>
                      <a:pt x="19" y="243"/>
                    </a:lnTo>
                    <a:lnTo>
                      <a:pt x="27" y="258"/>
                    </a:lnTo>
                    <a:lnTo>
                      <a:pt x="37" y="270"/>
                    </a:lnTo>
                    <a:lnTo>
                      <a:pt x="46" y="279"/>
                    </a:lnTo>
                    <a:lnTo>
                      <a:pt x="56" y="283"/>
                    </a:lnTo>
                    <a:lnTo>
                      <a:pt x="67" y="285"/>
                    </a:lnTo>
                    <a:lnTo>
                      <a:pt x="67" y="28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98772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035960" y="432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37040" y="2188800"/>
                <a:ext cx="46080" cy="4860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0" y="0"/>
                    </a:moveTo>
                    <a:lnTo>
                      <a:pt x="0" y="19"/>
                    </a:lnTo>
                    <a:lnTo>
                      <a:pt x="18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937040" y="2743920"/>
                <a:ext cx="46080" cy="432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0" y="17"/>
                    </a:lnTo>
                    <a:lnTo>
                      <a:pt x="18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332920" y="3569400"/>
                <a:ext cx="17136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0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6" y="13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8" y="10"/>
                    </a:lnTo>
                    <a:lnTo>
                      <a:pt x="62" y="13"/>
                    </a:lnTo>
                    <a:lnTo>
                      <a:pt x="63" y="17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2" y="214"/>
                    </a:lnTo>
                    <a:lnTo>
                      <a:pt x="58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39" y="228"/>
                    </a:lnTo>
                    <a:lnTo>
                      <a:pt x="35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7" y="224"/>
                    </a:lnTo>
                    <a:lnTo>
                      <a:pt x="14" y="222"/>
                    </a:lnTo>
                    <a:lnTo>
                      <a:pt x="10" y="218"/>
                    </a:lnTo>
                    <a:lnTo>
                      <a:pt x="6" y="214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44880" y="3521160"/>
                <a:ext cx="171360" cy="58248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2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6"/>
                    </a:lnTo>
                    <a:lnTo>
                      <a:pt x="57" y="9"/>
                    </a:lnTo>
                    <a:lnTo>
                      <a:pt x="61" y="13"/>
                    </a:lnTo>
                    <a:lnTo>
                      <a:pt x="63" y="17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7" y="34"/>
                    </a:lnTo>
                    <a:lnTo>
                      <a:pt x="67" y="195"/>
                    </a:lnTo>
                    <a:lnTo>
                      <a:pt x="67" y="201"/>
                    </a:lnTo>
                    <a:lnTo>
                      <a:pt x="67" y="205"/>
                    </a:lnTo>
                    <a:lnTo>
                      <a:pt x="63" y="210"/>
                    </a:lnTo>
                    <a:lnTo>
                      <a:pt x="61" y="214"/>
                    </a:lnTo>
                    <a:lnTo>
                      <a:pt x="57" y="218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6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6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1" y="218"/>
                    </a:lnTo>
                    <a:lnTo>
                      <a:pt x="8" y="214"/>
                    </a:lnTo>
                    <a:lnTo>
                      <a:pt x="4" y="210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77640" y="3552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103360" y="243432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16672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14960" y="2434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74440" y="23860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374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86040" y="238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540760" y="23860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300280" y="2480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3301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379120" y="2480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427360" y="2480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476320" y="248076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497200" y="24807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52720" y="3372840"/>
                <a:ext cx="48600" cy="5076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0" y="0"/>
                    </a:moveTo>
                    <a:lnTo>
                      <a:pt x="2" y="20"/>
                    </a:lnTo>
                    <a:lnTo>
                      <a:pt x="19" y="1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006720" y="2997360"/>
                <a:ext cx="518760" cy="1076040"/>
              </a:xfrm>
              <a:custGeom>
                <a:avLst/>
                <a:gdLst/>
                <a:ahLst/>
                <a:rect l="l" t="t" r="r" b="b"/>
                <a:pathLst>
                  <a:path w="203" h="421">
                    <a:moveTo>
                      <a:pt x="201" y="0"/>
                    </a:moveTo>
                    <a:lnTo>
                      <a:pt x="0" y="0"/>
                    </a:lnTo>
                    <a:lnTo>
                      <a:pt x="0" y="421"/>
                    </a:lnTo>
                    <a:lnTo>
                      <a:pt x="203" y="42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  <a:lnTo>
                      <a:pt x="0" y="4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520440" y="2997360"/>
                <a:ext cx="521640" cy="1076040"/>
              </a:xfrm>
              <a:custGeom>
                <a:avLst/>
                <a:gdLst/>
                <a:ahLst/>
                <a:rect l="l" t="t" r="r" b="b"/>
                <a:pathLst>
                  <a:path w="204" h="421">
                    <a:moveTo>
                      <a:pt x="0" y="421"/>
                    </a:moveTo>
                    <a:lnTo>
                      <a:pt x="204" y="421"/>
                    </a:lnTo>
                    <a:lnTo>
                      <a:pt x="204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154480" y="3076200"/>
                <a:ext cx="577800" cy="922680"/>
              </a:xfrm>
              <a:custGeom>
                <a:avLst/>
                <a:gdLst/>
                <a:ahLst/>
                <a:rect l="l" t="t" r="r" b="b"/>
                <a:pathLst>
                  <a:path w="226" h="361">
                    <a:moveTo>
                      <a:pt x="0" y="0"/>
                    </a:moveTo>
                    <a:lnTo>
                      <a:pt x="1" y="145"/>
                    </a:lnTo>
                    <a:lnTo>
                      <a:pt x="38" y="180"/>
                    </a:lnTo>
                    <a:lnTo>
                      <a:pt x="1" y="216"/>
                    </a:lnTo>
                    <a:lnTo>
                      <a:pt x="1" y="361"/>
                    </a:lnTo>
                    <a:lnTo>
                      <a:pt x="226" y="250"/>
                    </a:lnTo>
                    <a:lnTo>
                      <a:pt x="226" y="11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267440" y="35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566600" y="2541960"/>
                <a:ext cx="283320" cy="449640"/>
              </a:xfrm>
              <a:custGeom>
                <a:avLst/>
                <a:gdLst/>
                <a:ahLst/>
                <a:rect l="l" t="t" r="r" b="b"/>
                <a:pathLst>
                  <a:path w="111" h="176">
                    <a:moveTo>
                      <a:pt x="55" y="176"/>
                    </a:moveTo>
                    <a:lnTo>
                      <a:pt x="65" y="174"/>
                    </a:lnTo>
                    <a:lnTo>
                      <a:pt x="72" y="172"/>
                    </a:lnTo>
                    <a:lnTo>
                      <a:pt x="82" y="167"/>
                    </a:lnTo>
                    <a:lnTo>
                      <a:pt x="88" y="159"/>
                    </a:lnTo>
                    <a:lnTo>
                      <a:pt x="95" y="151"/>
                    </a:lnTo>
                    <a:lnTo>
                      <a:pt x="101" y="140"/>
                    </a:lnTo>
                    <a:lnTo>
                      <a:pt x="105" y="128"/>
                    </a:lnTo>
                    <a:lnTo>
                      <a:pt x="109" y="115"/>
                    </a:lnTo>
                    <a:lnTo>
                      <a:pt x="111" y="102"/>
                    </a:lnTo>
                    <a:lnTo>
                      <a:pt x="111" y="88"/>
                    </a:lnTo>
                    <a:lnTo>
                      <a:pt x="111" y="73"/>
                    </a:lnTo>
                    <a:lnTo>
                      <a:pt x="109" y="59"/>
                    </a:lnTo>
                    <a:lnTo>
                      <a:pt x="105" y="48"/>
                    </a:lnTo>
                    <a:lnTo>
                      <a:pt x="101" y="36"/>
                    </a:lnTo>
                    <a:lnTo>
                      <a:pt x="95" y="25"/>
                    </a:lnTo>
                    <a:lnTo>
                      <a:pt x="88" y="17"/>
                    </a:lnTo>
                    <a:lnTo>
                      <a:pt x="82" y="10"/>
                    </a:lnTo>
                    <a:lnTo>
                      <a:pt x="72" y="4"/>
                    </a:lnTo>
                    <a:lnTo>
                      <a:pt x="65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38" y="4"/>
                    </a:lnTo>
                    <a:lnTo>
                      <a:pt x="30" y="10"/>
                    </a:lnTo>
                    <a:lnTo>
                      <a:pt x="23" y="17"/>
                    </a:lnTo>
                    <a:lnTo>
                      <a:pt x="17" y="25"/>
                    </a:lnTo>
                    <a:lnTo>
                      <a:pt x="11" y="36"/>
                    </a:lnTo>
                    <a:lnTo>
                      <a:pt x="7" y="48"/>
                    </a:lnTo>
                    <a:lnTo>
                      <a:pt x="3" y="59"/>
                    </a:lnTo>
                    <a:lnTo>
                      <a:pt x="2" y="73"/>
                    </a:lnTo>
                    <a:lnTo>
                      <a:pt x="0" y="88"/>
                    </a:lnTo>
                    <a:lnTo>
                      <a:pt x="2" y="102"/>
                    </a:lnTo>
                    <a:lnTo>
                      <a:pt x="3" y="115"/>
                    </a:lnTo>
                    <a:lnTo>
                      <a:pt x="7" y="128"/>
                    </a:lnTo>
                    <a:lnTo>
                      <a:pt x="11" y="140"/>
                    </a:lnTo>
                    <a:lnTo>
                      <a:pt x="17" y="151"/>
                    </a:lnTo>
                    <a:lnTo>
                      <a:pt x="23" y="159"/>
                    </a:lnTo>
                    <a:lnTo>
                      <a:pt x="30" y="167"/>
                    </a:lnTo>
                    <a:lnTo>
                      <a:pt x="38" y="172"/>
                    </a:lnTo>
                    <a:lnTo>
                      <a:pt x="48" y="174"/>
                    </a:lnTo>
                    <a:lnTo>
                      <a:pt x="55" y="176"/>
                    </a:lnTo>
                    <a:lnTo>
                      <a:pt x="55" y="17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615400" y="3516120"/>
                <a:ext cx="43200" cy="43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8" y="17"/>
                    </a:moveTo>
                    <a:lnTo>
                      <a:pt x="10" y="17"/>
                    </a:lnTo>
                    <a:lnTo>
                      <a:pt x="11" y="17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615400" y="3372840"/>
                <a:ext cx="43200" cy="5076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8" y="18"/>
                    </a:moveTo>
                    <a:lnTo>
                      <a:pt x="10" y="20"/>
                    </a:lnTo>
                    <a:lnTo>
                      <a:pt x="11" y="20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2"/>
                    </a:lnTo>
                    <a:lnTo>
                      <a:pt x="17" y="10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608720" y="265680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673160" y="2656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721760" y="265680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74300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771440" y="26568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796640" y="265680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599000" y="27694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6191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66740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6918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722480" y="27694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46960" y="27694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707000" y="2991960"/>
                <a:ext cx="2880" cy="102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4850280" y="2761920"/>
                <a:ext cx="9216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193840" y="35107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106720" y="353628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67440" y="323712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267440" y="447984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2674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090480" y="363384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0" y="17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6325560" y="3654000"/>
                <a:ext cx="10188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090480" y="414756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6325920" y="4170600"/>
                <a:ext cx="30672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604760" y="3608280"/>
                <a:ext cx="1492920" cy="562320"/>
              </a:xfrm>
              <a:custGeom>
                <a:avLst/>
                <a:gdLst/>
                <a:ahLst/>
                <a:rect l="l" t="t" r="r" b="b"/>
                <a:pathLst>
                  <a:path w="584" h="220">
                    <a:moveTo>
                      <a:pt x="584" y="220"/>
                    </a:moveTo>
                    <a:lnTo>
                      <a:pt x="0" y="22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857360" y="36284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8092440" y="3654000"/>
                <a:ext cx="20700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857360" y="4479840"/>
                <a:ext cx="48600" cy="4860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193840" y="2188800"/>
                <a:ext cx="43200" cy="4860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9"/>
                    </a:lnTo>
                    <a:lnTo>
                      <a:pt x="17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2428200" y="2214360"/>
                <a:ext cx="184860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1738080" y="2214360"/>
                <a:ext cx="4647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449000" y="1000440"/>
                <a:ext cx="48600" cy="4572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0" y="0"/>
                    </a:moveTo>
                    <a:lnTo>
                      <a:pt x="0" y="18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49000" y="1411920"/>
                <a:ext cx="48600" cy="47880"/>
              </a:xfrm>
              <a:custGeom>
                <a:avLst/>
                <a:gdLst/>
                <a:ahLst/>
                <a:rect l="l" t="t" r="r" b="b"/>
                <a:pathLst>
                  <a:path w="19" h="19">
                    <a:moveTo>
                      <a:pt x="0" y="0"/>
                    </a:moveTo>
                    <a:lnTo>
                      <a:pt x="0" y="19"/>
                    </a:lnTo>
                    <a:lnTo>
                      <a:pt x="19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262520" y="1020600"/>
                <a:ext cx="621360" cy="1193760"/>
              </a:xfrm>
              <a:custGeom>
                <a:avLst/>
                <a:gdLst/>
                <a:ahLst/>
                <a:rect l="l" t="t" r="r" b="b"/>
                <a:pathLst>
                  <a:path w="243" h="467">
                    <a:moveTo>
                      <a:pt x="82" y="0"/>
                    </a:moveTo>
                    <a:lnTo>
                      <a:pt x="0" y="2"/>
                    </a:lnTo>
                    <a:lnTo>
                      <a:pt x="0" y="264"/>
                    </a:lnTo>
                    <a:lnTo>
                      <a:pt x="243" y="264"/>
                    </a:lnTo>
                    <a:lnTo>
                      <a:pt x="243" y="46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3800" y="870120"/>
                <a:ext cx="1252800" cy="2323800"/>
              </a:xfrm>
              <a:custGeom>
                <a:avLst/>
                <a:gdLst/>
                <a:ahLst/>
                <a:rect l="l" t="t" r="r" b="b"/>
                <a:pathLst>
                  <a:path w="490" h="909">
                    <a:moveTo>
                      <a:pt x="40" y="909"/>
                    </a:moveTo>
                    <a:lnTo>
                      <a:pt x="0" y="909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90" y="141"/>
                    </a:lnTo>
                    <a:lnTo>
                      <a:pt x="450" y="141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6200000">
                <a:off x="2541600" y="336636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6200000">
                <a:off x="2520360" y="3320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6200000">
                <a:off x="2525040" y="3278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6200000">
                <a:off x="2541600" y="323604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6200000">
                <a:off x="2538000" y="32119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6200000">
                <a:off x="2520360" y="3169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6200000">
                <a:off x="2525040" y="3120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6200000">
                <a:off x="2541600" y="309060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6200000">
                <a:off x="2546280" y="306972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6200000">
                <a:off x="2520360" y="3023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6200000">
                <a:off x="2520360" y="2977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23704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2366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261520" y="18388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31588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34036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369520" y="18388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311000" y="1841040"/>
                <a:ext cx="201600" cy="99720"/>
              </a:xfrm>
              <a:custGeom>
                <a:avLst/>
                <a:gdLst/>
                <a:ahLst/>
                <a:rect l="l" t="t" r="r" b="b"/>
                <a:pathLst>
                  <a:path w="79" h="39">
                    <a:moveTo>
                      <a:pt x="77" y="0"/>
                    </a:moveTo>
                    <a:lnTo>
                      <a:pt x="79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13404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05448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11820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17760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207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27804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439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03080" y="1841040"/>
                <a:ext cx="199440" cy="99720"/>
              </a:xfrm>
              <a:custGeom>
                <a:avLst/>
                <a:gdLst/>
                <a:ahLst/>
                <a:rect l="l" t="t" r="r" b="b"/>
                <a:pathLst>
                  <a:path w="78" h="39">
                    <a:moveTo>
                      <a:pt x="78" y="0"/>
                    </a:moveTo>
                    <a:lnTo>
                      <a:pt x="7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80912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88796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47000" y="18388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024040" y="1838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047080" y="1838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138520" y="183888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407840" y="1999800"/>
                <a:ext cx="9504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20720" y="1999800"/>
                <a:ext cx="86760" cy="3042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  <a:lnTo>
                      <a:pt x="0" y="119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231600" y="1999800"/>
                <a:ext cx="94320" cy="3042000"/>
              </a:xfrm>
              <a:custGeom>
                <a:avLst/>
                <a:gdLst/>
                <a:ahLst/>
                <a:rect l="l" t="t" r="r" b="b"/>
                <a:pathLst>
                  <a:path w="37" h="1190">
                    <a:moveTo>
                      <a:pt x="0" y="1190"/>
                    </a:moveTo>
                    <a:lnTo>
                      <a:pt x="37" y="1190"/>
                    </a:lnTo>
                    <a:lnTo>
                      <a:pt x="37" y="0"/>
                    </a:lnTo>
                    <a:lnTo>
                      <a:pt x="2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be2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144480" y="1999800"/>
                <a:ext cx="91440" cy="3042000"/>
              </a:xfrm>
              <a:custGeom>
                <a:avLst/>
                <a:gdLst/>
                <a:ahLst/>
                <a:rect l="l" t="t" r="r" b="b"/>
                <a:pathLst>
                  <a:path w="36" h="1190">
                    <a:moveTo>
                      <a:pt x="34" y="0"/>
                    </a:moveTo>
                    <a:lnTo>
                      <a:pt x="0" y="0"/>
                    </a:lnTo>
                    <a:lnTo>
                      <a:pt x="0" y="1190"/>
                    </a:lnTo>
                    <a:lnTo>
                      <a:pt x="36" y="11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503000" y="936000"/>
                <a:ext cx="171000" cy="583200"/>
              </a:xfrm>
              <a:custGeom>
                <a:avLst/>
                <a:gdLst/>
                <a:ahLst/>
                <a:rect l="l" t="t" r="r" b="b"/>
                <a:pathLst>
                  <a:path w="67" h="228">
                    <a:moveTo>
                      <a:pt x="0" y="33"/>
                    </a:moveTo>
                    <a:lnTo>
                      <a:pt x="2" y="29"/>
                    </a:lnTo>
                    <a:lnTo>
                      <a:pt x="2" y="23"/>
                    </a:lnTo>
                    <a:lnTo>
                      <a:pt x="4" y="20"/>
                    </a:lnTo>
                    <a:lnTo>
                      <a:pt x="8" y="14"/>
                    </a:lnTo>
                    <a:lnTo>
                      <a:pt x="10" y="10"/>
                    </a:lnTo>
                    <a:lnTo>
                      <a:pt x="15" y="8"/>
                    </a:lnTo>
                    <a:lnTo>
                      <a:pt x="19" y="4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4" y="2"/>
                    </a:lnTo>
                    <a:lnTo>
                      <a:pt x="50" y="4"/>
                    </a:lnTo>
                    <a:lnTo>
                      <a:pt x="54" y="8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20"/>
                    </a:lnTo>
                    <a:lnTo>
                      <a:pt x="65" y="23"/>
                    </a:lnTo>
                    <a:lnTo>
                      <a:pt x="67" y="29"/>
                    </a:lnTo>
                    <a:lnTo>
                      <a:pt x="67" y="35"/>
                    </a:lnTo>
                    <a:lnTo>
                      <a:pt x="67" y="196"/>
                    </a:lnTo>
                    <a:lnTo>
                      <a:pt x="67" y="201"/>
                    </a:lnTo>
                    <a:lnTo>
                      <a:pt x="65" y="205"/>
                    </a:lnTo>
                    <a:lnTo>
                      <a:pt x="63" y="211"/>
                    </a:lnTo>
                    <a:lnTo>
                      <a:pt x="61" y="215"/>
                    </a:lnTo>
                    <a:lnTo>
                      <a:pt x="57" y="219"/>
                    </a:lnTo>
                    <a:lnTo>
                      <a:pt x="54" y="222"/>
                    </a:lnTo>
                    <a:lnTo>
                      <a:pt x="50" y="224"/>
                    </a:lnTo>
                    <a:lnTo>
                      <a:pt x="44" y="228"/>
                    </a:lnTo>
                    <a:lnTo>
                      <a:pt x="40" y="228"/>
                    </a:lnTo>
                    <a:lnTo>
                      <a:pt x="34" y="228"/>
                    </a:lnTo>
                    <a:lnTo>
                      <a:pt x="29" y="228"/>
                    </a:lnTo>
                    <a:lnTo>
                      <a:pt x="23" y="228"/>
                    </a:lnTo>
                    <a:lnTo>
                      <a:pt x="19" y="224"/>
                    </a:lnTo>
                    <a:lnTo>
                      <a:pt x="15" y="222"/>
                    </a:lnTo>
                    <a:lnTo>
                      <a:pt x="10" y="219"/>
                    </a:lnTo>
                    <a:lnTo>
                      <a:pt x="8" y="215"/>
                    </a:lnTo>
                    <a:lnTo>
                      <a:pt x="4" y="211"/>
                    </a:lnTo>
                    <a:lnTo>
                      <a:pt x="2" y="205"/>
                    </a:lnTo>
                    <a:lnTo>
                      <a:pt x="2" y="201"/>
                    </a:lnTo>
                    <a:lnTo>
                      <a:pt x="0" y="196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545480" y="107928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626120" y="1079280"/>
                <a:ext cx="360" cy="1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560960" y="1173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615680" y="1173600"/>
                <a:ext cx="36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561680" y="1265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535400" y="9666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535400" y="1378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556640" y="21560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61460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668240" y="2156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89760" y="3135240"/>
                <a:ext cx="102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48440" y="31352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365680" y="40118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712920" y="4070880"/>
                <a:ext cx="14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796080" y="40708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823800" y="4070880"/>
                <a:ext cx="3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847200" y="4070880"/>
                <a:ext cx="43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872040" y="4070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6922080" y="4071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7114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7600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09400" y="415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39280" y="415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375760" y="371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451360" y="37130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391600" y="3805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41280" y="38052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92320" y="38944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3685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0010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9117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247120" y="2000160"/>
              <a:ext cx="94320" cy="304236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be2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336400" y="2000160"/>
              <a:ext cx="92160" cy="304236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32640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394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44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497400" y="3477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1684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61840" y="347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8380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638520" y="347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668760" y="3477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6560" y="3160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8599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91356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962520" y="316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17240" y="316080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73752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7911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3904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7036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919680" y="324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41640" y="324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96560" y="3503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599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91356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962520" y="3503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017240" y="35035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3752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911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3904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87036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19680" y="3595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941640" y="3595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047400" y="302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11328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6440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218040" y="302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267720" y="3022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0474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074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12876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177720" y="3112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198600" y="311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246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7168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21000" y="3112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54840" y="311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379320" y="311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47400" y="3296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1328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16440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18040" y="3296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267720" y="329652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0474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74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12876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177720" y="33912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198600" y="3391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246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27168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21000" y="33912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54840" y="3391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79320" y="339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843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432960" y="432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679200" y="4398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37520" y="4398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6020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811320" y="439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61000" y="4398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24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79200" y="4510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23120" y="4510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4760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8012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49840" y="4510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579560" y="3585240"/>
              <a:ext cx="50760" cy="432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7706880" y="3654360"/>
              <a:ext cx="155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047040" y="356976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134520" y="3569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64760" y="35697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182040" y="3569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07960" y="356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62680" y="356976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0474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74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12876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177720" y="3664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198600" y="3664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246840" y="3664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271680" y="366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321000" y="3664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7040" y="38462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134520" y="3846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164760" y="38462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182040" y="3846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207960" y="384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262680" y="38462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046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0068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150000" y="3938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71960" y="393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02240" y="3864240"/>
              <a:ext cx="5807880" cy="1316520"/>
            </a:xfrm>
            <a:custGeom>
              <a:avLst/>
              <a:gdLst/>
              <a:ahLst/>
              <a:rect l="l" t="t" r="r" b="b"/>
              <a:pathLst>
                <a:path w="2271" h="515">
                  <a:moveTo>
                    <a:pt x="67" y="32"/>
                  </a:moveTo>
                  <a:lnTo>
                    <a:pt x="0" y="34"/>
                  </a:lnTo>
                  <a:lnTo>
                    <a:pt x="0" y="515"/>
                  </a:lnTo>
                  <a:lnTo>
                    <a:pt x="2271" y="515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56320" y="3552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5247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733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621920" y="3552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676280" y="35521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62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53480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589520" y="3643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614360" y="364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877640" y="396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35720" y="350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599080" y="3508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648400" y="3508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17520" y="350892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66960" y="36003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964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46160" y="360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593680" y="360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643000" y="360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64240" y="360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89160" y="36648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68000" y="3664800"/>
              <a:ext cx="36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903200" y="3756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957560" y="3756240"/>
              <a:ext cx="3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903920" y="38462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72200" y="3477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333040" y="3477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85240" y="3477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15920" y="3360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681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625360" y="3360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652720" y="3360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5021640" y="3810240"/>
              <a:ext cx="968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4707000" y="4015080"/>
              <a:ext cx="1076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4502880" y="3260520"/>
              <a:ext cx="615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5733000" y="3654360"/>
              <a:ext cx="365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502880" y="4015080"/>
              <a:ext cx="204120" cy="493200"/>
            </a:xfrm>
            <a:custGeom>
              <a:avLst/>
              <a:gdLst/>
              <a:ahLst/>
              <a:rect l="l" t="t" r="r" b="b"/>
              <a:pathLst>
                <a:path w="80" h="193">
                  <a:moveTo>
                    <a:pt x="80" y="0"/>
                  </a:moveTo>
                  <a:lnTo>
                    <a:pt x="80" y="193"/>
                  </a:lnTo>
                  <a:lnTo>
                    <a:pt x="0" y="1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29048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316040" y="1838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385160" y="1838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40784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466880" y="18388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flipV="1">
              <a:off x="340776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4011480" y="4447080"/>
              <a:ext cx="63720" cy="11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42720" y="4505400"/>
              <a:ext cx="3344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35560" y="3398760"/>
              <a:ext cx="338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4042080" y="3603240"/>
              <a:ext cx="2300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428560" y="3536640"/>
              <a:ext cx="2070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4042080" y="3260520"/>
              <a:ext cx="2300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15120" y="3168360"/>
              <a:ext cx="43200" cy="4860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860840" y="219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9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9" y="17"/>
                  </a:lnTo>
                  <a:lnTo>
                    <a:pt x="9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635560" y="3124800"/>
              <a:ext cx="920880" cy="1383480"/>
            </a:xfrm>
            <a:custGeom>
              <a:avLst/>
              <a:gdLst/>
              <a:ahLst/>
              <a:rect l="l" t="t" r="r" b="b"/>
              <a:pathLst>
                <a:path w="360" h="541">
                  <a:moveTo>
                    <a:pt x="132" y="0"/>
                  </a:moveTo>
                  <a:lnTo>
                    <a:pt x="0" y="0"/>
                  </a:lnTo>
                  <a:lnTo>
                    <a:pt x="0" y="541"/>
                  </a:lnTo>
                  <a:lnTo>
                    <a:pt x="36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689360" y="3994200"/>
              <a:ext cx="43200" cy="460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408000" y="363420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615400" y="3654360"/>
              <a:ext cx="43200" cy="432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1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085520" y="3761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1514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203240" y="3761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225200" y="3761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279560" y="3761640"/>
              <a:ext cx="36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2216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9236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147440" y="38739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220520" y="3873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275240" y="3873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05480" y="3873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6333480" y="3654360"/>
              <a:ext cx="3042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615000" y="3634200"/>
              <a:ext cx="48600" cy="432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27320" y="3590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78564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83928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888960" y="3590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915960" y="359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97032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016400" y="3590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447840" y="1174680"/>
            <a:ext cx="8238240" cy="4495320"/>
            <a:chOff x="447840" y="1174680"/>
            <a:chExt cx="8238240" cy="4495320"/>
          </a:xfrm>
        </p:grpSpPr>
        <p:sp>
          <p:nvSpPr>
            <p:cNvPr id="1704" name=""/>
            <p:cNvSpPr/>
            <p:nvPr/>
          </p:nvSpPr>
          <p:spPr>
            <a:xfrm>
              <a:off x="4262040" y="531864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599560" y="4877640"/>
              <a:ext cx="1667880" cy="463680"/>
            </a:xfrm>
            <a:custGeom>
              <a:avLst/>
              <a:gdLst/>
              <a:ahLst/>
              <a:rect l="l" t="t" r="r" b="b"/>
              <a:pathLst>
                <a:path w="640" h="178">
                  <a:moveTo>
                    <a:pt x="0" y="0"/>
                  </a:moveTo>
                  <a:lnTo>
                    <a:pt x="0" y="178"/>
                  </a:lnTo>
                  <a:lnTo>
                    <a:pt x="640" y="178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502160" y="5337000"/>
              <a:ext cx="162540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359760" y="5337000"/>
              <a:ext cx="1571040" cy="4680"/>
            </a:xfrm>
            <a:prstGeom prst="line">
              <a:avLst/>
            </a:prstGeom>
            <a:ln w="12600">
              <a:solidFill>
                <a:srgbClr val="eb7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922840" y="40050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93000" y="4030920"/>
              <a:ext cx="5773680" cy="1535400"/>
            </a:xfrm>
            <a:custGeom>
              <a:avLst/>
              <a:gdLst/>
              <a:ahLst/>
              <a:rect l="l" t="t" r="r" b="b"/>
              <a:pathLst>
                <a:path w="2216" h="589">
                  <a:moveTo>
                    <a:pt x="2175" y="501"/>
                  </a:moveTo>
                  <a:lnTo>
                    <a:pt x="2216" y="503"/>
                  </a:lnTo>
                  <a:lnTo>
                    <a:pt x="2216" y="589"/>
                  </a:lnTo>
                  <a:lnTo>
                    <a:pt x="0" y="589"/>
                  </a:lnTo>
                  <a:lnTo>
                    <a:pt x="0" y="0"/>
                  </a:lnTo>
                  <a:lnTo>
                    <a:pt x="173" y="0"/>
                  </a:lnTo>
                </a:path>
              </a:pathLst>
            </a:custGeom>
            <a:noFill/>
            <a:ln w="12600">
              <a:solidFill>
                <a:srgbClr val="eb75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502160" y="3960360"/>
              <a:ext cx="3175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463800" y="4010040"/>
              <a:ext cx="1467000" cy="867600"/>
            </a:xfrm>
            <a:custGeom>
              <a:avLst/>
              <a:gdLst/>
              <a:ahLst/>
              <a:rect l="l" t="t" r="r" b="b"/>
              <a:pathLst>
                <a:path w="563" h="333">
                  <a:moveTo>
                    <a:pt x="563" y="333"/>
                  </a:moveTo>
                  <a:lnTo>
                    <a:pt x="0" y="333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160120" y="4429800"/>
              <a:ext cx="210600" cy="44784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81" y="0"/>
                  </a:moveTo>
                  <a:lnTo>
                    <a:pt x="41" y="0"/>
                  </a:lnTo>
                  <a:lnTo>
                    <a:pt x="41" y="172"/>
                  </a:lnTo>
                  <a:lnTo>
                    <a:pt x="0" y="1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359760" y="3773160"/>
              <a:ext cx="103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53000" y="37472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305000" y="1747800"/>
              <a:ext cx="5632920" cy="1076760"/>
            </a:xfrm>
            <a:custGeom>
              <a:avLst/>
              <a:gdLst/>
              <a:ahLst/>
              <a:rect l="l" t="t" r="r" b="b"/>
              <a:pathLst>
                <a:path w="2162" h="413">
                  <a:moveTo>
                    <a:pt x="42" y="0"/>
                  </a:moveTo>
                  <a:lnTo>
                    <a:pt x="0" y="2"/>
                  </a:lnTo>
                  <a:lnTo>
                    <a:pt x="0" y="61"/>
                  </a:lnTo>
                  <a:lnTo>
                    <a:pt x="2162" y="61"/>
                  </a:lnTo>
                  <a:lnTo>
                    <a:pt x="2162" y="413"/>
                  </a:lnTo>
                  <a:lnTo>
                    <a:pt x="1940" y="41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49920" y="3773160"/>
              <a:ext cx="3772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19640" y="374724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86080" y="3298680"/>
              <a:ext cx="174240" cy="48744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7" y="187"/>
                  </a:moveTo>
                  <a:lnTo>
                    <a:pt x="67" y="0"/>
                  </a:lnTo>
                  <a:lnTo>
                    <a:pt x="0" y="0"/>
                  </a:lnTo>
                  <a:lnTo>
                    <a:pt x="0" y="187"/>
                  </a:lnTo>
                  <a:lnTo>
                    <a:pt x="67" y="187"/>
                  </a:lnTo>
                  <a:lnTo>
                    <a:pt x="67" y="1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10880" y="3342960"/>
              <a:ext cx="52344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34320" y="3342960"/>
              <a:ext cx="531000" cy="1097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03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3294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38492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42992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55120" y="3777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48968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38640" y="37778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85440" y="3777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614960" y="37778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63440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685160" y="3777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739880" y="3777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36980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4540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00480" y="389304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74640" y="389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629720" y="389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658520" y="3893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51200" y="3478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11168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15992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215720" y="3478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243440" y="3478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988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345680" y="3478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713640" y="3637080"/>
              <a:ext cx="523800" cy="1102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237800" y="3637080"/>
              <a:ext cx="528480" cy="1102680"/>
            </a:xfrm>
            <a:custGeom>
              <a:avLst/>
              <a:gdLst/>
              <a:ahLst/>
              <a:rect l="l" t="t" r="r" b="b"/>
              <a:pathLst>
                <a:path w="203" h="423">
                  <a:moveTo>
                    <a:pt x="0" y="421"/>
                  </a:moveTo>
                  <a:lnTo>
                    <a:pt x="203" y="423"/>
                  </a:lnTo>
                  <a:lnTo>
                    <a:pt x="203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922840" y="344700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922840" y="42861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67240" y="2261520"/>
              <a:ext cx="479160" cy="1282320"/>
            </a:xfrm>
            <a:custGeom>
              <a:avLst/>
              <a:gdLst/>
              <a:ahLst/>
              <a:rect l="l" t="t" r="r" b="b"/>
              <a:pathLst>
                <a:path w="184" h="492">
                  <a:moveTo>
                    <a:pt x="184" y="0"/>
                  </a:moveTo>
                  <a:lnTo>
                    <a:pt x="0" y="2"/>
                  </a:lnTo>
                  <a:lnTo>
                    <a:pt x="0" y="4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1172160" y="2824560"/>
              <a:ext cx="174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380600" y="2071080"/>
              <a:ext cx="304560" cy="943200"/>
            </a:xfrm>
            <a:custGeom>
              <a:avLst/>
              <a:gdLst/>
              <a:ahLst/>
              <a:rect l="l" t="t" r="r" b="b"/>
              <a:pathLst>
                <a:path w="117" h="362">
                  <a:moveTo>
                    <a:pt x="0" y="0"/>
                  </a:moveTo>
                  <a:lnTo>
                    <a:pt x="0" y="147"/>
                  </a:lnTo>
                  <a:lnTo>
                    <a:pt x="38" y="182"/>
                  </a:lnTo>
                  <a:lnTo>
                    <a:pt x="0" y="216"/>
                  </a:lnTo>
                  <a:lnTo>
                    <a:pt x="0" y="362"/>
                  </a:lnTo>
                  <a:lnTo>
                    <a:pt x="117" y="253"/>
                  </a:lnTo>
                  <a:lnTo>
                    <a:pt x="117" y="11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796280" y="393696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796280" y="4354200"/>
              <a:ext cx="49320" cy="518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14160" y="4145400"/>
              <a:ext cx="46440" cy="493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14160" y="3588120"/>
              <a:ext cx="4644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350200" y="39866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350200" y="4406040"/>
              <a:ext cx="4896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659280" y="45154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7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325520" y="2240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32552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2" y="20"/>
                  </a:lnTo>
                  <a:lnTo>
                    <a:pt x="19" y="1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753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502160" y="2545560"/>
              <a:ext cx="4478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94280" y="2355480"/>
              <a:ext cx="586080" cy="943200"/>
            </a:xfrm>
            <a:custGeom>
              <a:avLst/>
              <a:gdLst/>
              <a:ahLst/>
              <a:rect l="l" t="t" r="r" b="b"/>
              <a:pathLst>
                <a:path w="225" h="362">
                  <a:moveTo>
                    <a:pt x="0" y="0"/>
                  </a:moveTo>
                  <a:lnTo>
                    <a:pt x="0" y="146"/>
                  </a:lnTo>
                  <a:lnTo>
                    <a:pt x="39" y="180"/>
                  </a:lnTo>
                  <a:lnTo>
                    <a:pt x="0" y="214"/>
                  </a:lnTo>
                  <a:lnTo>
                    <a:pt x="0" y="362"/>
                  </a:lnTo>
                  <a:lnTo>
                    <a:pt x="225" y="251"/>
                  </a:lnTo>
                  <a:lnTo>
                    <a:pt x="225" y="11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5585760" y="2824560"/>
              <a:ext cx="55224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19640" y="2797920"/>
              <a:ext cx="49320" cy="5256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0"/>
                  </a:moveTo>
                  <a:lnTo>
                    <a:pt x="0" y="20"/>
                  </a:lnTo>
                  <a:lnTo>
                    <a:pt x="19" y="1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60320" y="3538440"/>
              <a:ext cx="210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9558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31000" y="3517920"/>
              <a:ext cx="49320" cy="435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2" y="17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2188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9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  <a:lnTo>
                    <a:pt x="65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582000" y="4510800"/>
              <a:ext cx="348840" cy="741960"/>
            </a:xfrm>
            <a:custGeom>
              <a:avLst/>
              <a:gdLst/>
              <a:ahLst/>
              <a:rect l="l" t="t" r="r" b="b"/>
              <a:pathLst>
                <a:path w="134" h="285">
                  <a:moveTo>
                    <a:pt x="65" y="285"/>
                  </a:moveTo>
                  <a:lnTo>
                    <a:pt x="77" y="283"/>
                  </a:lnTo>
                  <a:lnTo>
                    <a:pt x="88" y="277"/>
                  </a:lnTo>
                  <a:lnTo>
                    <a:pt x="98" y="269"/>
                  </a:lnTo>
                  <a:lnTo>
                    <a:pt x="106" y="258"/>
                  </a:lnTo>
                  <a:lnTo>
                    <a:pt x="115" y="243"/>
                  </a:lnTo>
                  <a:lnTo>
                    <a:pt x="121" y="227"/>
                  </a:lnTo>
                  <a:lnTo>
                    <a:pt x="127" y="208"/>
                  </a:lnTo>
                  <a:lnTo>
                    <a:pt x="130" y="187"/>
                  </a:lnTo>
                  <a:lnTo>
                    <a:pt x="132" y="166"/>
                  </a:lnTo>
                  <a:lnTo>
                    <a:pt x="134" y="141"/>
                  </a:lnTo>
                  <a:lnTo>
                    <a:pt x="132" y="118"/>
                  </a:lnTo>
                  <a:lnTo>
                    <a:pt x="130" y="97"/>
                  </a:lnTo>
                  <a:lnTo>
                    <a:pt x="127" y="76"/>
                  </a:lnTo>
                  <a:lnTo>
                    <a:pt x="121" y="57"/>
                  </a:lnTo>
                  <a:lnTo>
                    <a:pt x="115" y="42"/>
                  </a:lnTo>
                  <a:lnTo>
                    <a:pt x="106" y="26"/>
                  </a:lnTo>
                  <a:lnTo>
                    <a:pt x="98" y="15"/>
                  </a:lnTo>
                  <a:lnTo>
                    <a:pt x="88" y="7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6" y="2"/>
                  </a:lnTo>
                  <a:lnTo>
                    <a:pt x="46" y="7"/>
                  </a:lnTo>
                  <a:lnTo>
                    <a:pt x="37" y="15"/>
                  </a:lnTo>
                  <a:lnTo>
                    <a:pt x="27" y="26"/>
                  </a:lnTo>
                  <a:lnTo>
                    <a:pt x="19" y="42"/>
                  </a:lnTo>
                  <a:lnTo>
                    <a:pt x="12" y="57"/>
                  </a:lnTo>
                  <a:lnTo>
                    <a:pt x="6" y="76"/>
                  </a:lnTo>
                  <a:lnTo>
                    <a:pt x="2" y="97"/>
                  </a:lnTo>
                  <a:lnTo>
                    <a:pt x="0" y="118"/>
                  </a:lnTo>
                  <a:lnTo>
                    <a:pt x="0" y="141"/>
                  </a:lnTo>
                  <a:lnTo>
                    <a:pt x="0" y="166"/>
                  </a:lnTo>
                  <a:lnTo>
                    <a:pt x="2" y="187"/>
                  </a:lnTo>
                  <a:lnTo>
                    <a:pt x="6" y="208"/>
                  </a:lnTo>
                  <a:lnTo>
                    <a:pt x="12" y="227"/>
                  </a:lnTo>
                  <a:lnTo>
                    <a:pt x="19" y="243"/>
                  </a:lnTo>
                  <a:lnTo>
                    <a:pt x="27" y="258"/>
                  </a:lnTo>
                  <a:lnTo>
                    <a:pt x="37" y="269"/>
                  </a:lnTo>
                  <a:lnTo>
                    <a:pt x="46" y="277"/>
                  </a:lnTo>
                  <a:lnTo>
                    <a:pt x="56" y="283"/>
                  </a:lnTo>
                  <a:lnTo>
                    <a:pt x="67" y="285"/>
                  </a:lnTo>
                  <a:lnTo>
                    <a:pt x="67" y="28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97656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624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944600" y="251964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44600" y="3079800"/>
              <a:ext cx="47160" cy="4896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0"/>
                  </a:moveTo>
                  <a:lnTo>
                    <a:pt x="0" y="19"/>
                  </a:lnTo>
                  <a:lnTo>
                    <a:pt x="18" y="1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404560" y="3926880"/>
              <a:ext cx="174600" cy="593640"/>
            </a:xfrm>
            <a:custGeom>
              <a:avLst/>
              <a:gdLst/>
              <a:ahLst/>
              <a:rect l="l" t="t" r="r" b="b"/>
              <a:pathLst>
                <a:path w="67" h="228">
                  <a:moveTo>
                    <a:pt x="0" y="32"/>
                  </a:moveTo>
                  <a:lnTo>
                    <a:pt x="0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4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3"/>
                  </a:lnTo>
                  <a:lnTo>
                    <a:pt x="67" y="199"/>
                  </a:lnTo>
                  <a:lnTo>
                    <a:pt x="65" y="205"/>
                  </a:lnTo>
                  <a:lnTo>
                    <a:pt x="63" y="210"/>
                  </a:lnTo>
                  <a:lnTo>
                    <a:pt x="62" y="214"/>
                  </a:lnTo>
                  <a:lnTo>
                    <a:pt x="58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6"/>
                  </a:lnTo>
                  <a:lnTo>
                    <a:pt x="39" y="228"/>
                  </a:lnTo>
                  <a:lnTo>
                    <a:pt x="35" y="228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7" y="224"/>
                  </a:lnTo>
                  <a:lnTo>
                    <a:pt x="14" y="222"/>
                  </a:lnTo>
                  <a:lnTo>
                    <a:pt x="10" y="218"/>
                  </a:lnTo>
                  <a:lnTo>
                    <a:pt x="6" y="214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50640" y="3877200"/>
              <a:ext cx="17460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7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4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7" y="27"/>
                  </a:lnTo>
                  <a:lnTo>
                    <a:pt x="67" y="32"/>
                  </a:lnTo>
                  <a:lnTo>
                    <a:pt x="67" y="195"/>
                  </a:lnTo>
                  <a:lnTo>
                    <a:pt x="67" y="199"/>
                  </a:lnTo>
                  <a:lnTo>
                    <a:pt x="67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4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1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199"/>
                  </a:lnTo>
                  <a:lnTo>
                    <a:pt x="0" y="195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83400" y="3903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113440" y="2767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17752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27200" y="2767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389200" y="2720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45400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503320" y="2720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59480" y="27201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13600" y="2816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34420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394600" y="2816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443560" y="281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494320" y="28162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514120" y="281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922840" y="372600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2" y="19"/>
                  </a:lnTo>
                  <a:lnTo>
                    <a:pt x="19" y="1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977560" y="3342960"/>
              <a:ext cx="528480" cy="1097280"/>
            </a:xfrm>
            <a:custGeom>
              <a:avLst/>
              <a:gdLst/>
              <a:ahLst/>
              <a:rect l="l" t="t" r="r" b="b"/>
              <a:pathLst>
                <a:path w="203" h="421">
                  <a:moveTo>
                    <a:pt x="201" y="0"/>
                  </a:moveTo>
                  <a:lnTo>
                    <a:pt x="0" y="0"/>
                  </a:lnTo>
                  <a:lnTo>
                    <a:pt x="0" y="421"/>
                  </a:lnTo>
                  <a:lnTo>
                    <a:pt x="203" y="4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501000" y="3342960"/>
              <a:ext cx="531720" cy="1097280"/>
            </a:xfrm>
            <a:custGeom>
              <a:avLst/>
              <a:gdLst/>
              <a:ahLst/>
              <a:rect l="l" t="t" r="r" b="b"/>
              <a:pathLst>
                <a:path w="204" h="421">
                  <a:moveTo>
                    <a:pt x="0" y="421"/>
                  </a:moveTo>
                  <a:lnTo>
                    <a:pt x="204" y="421"/>
                  </a:lnTo>
                  <a:lnTo>
                    <a:pt x="204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166000" y="3418560"/>
              <a:ext cx="588960" cy="946080"/>
            </a:xfrm>
            <a:custGeom>
              <a:avLst/>
              <a:gdLst/>
              <a:ahLst/>
              <a:rect l="l" t="t" r="r" b="b"/>
              <a:pathLst>
                <a:path w="226" h="363">
                  <a:moveTo>
                    <a:pt x="0" y="0"/>
                  </a:moveTo>
                  <a:lnTo>
                    <a:pt x="1" y="147"/>
                  </a:lnTo>
                  <a:lnTo>
                    <a:pt x="38" y="181"/>
                  </a:lnTo>
                  <a:lnTo>
                    <a:pt x="1" y="216"/>
                  </a:lnTo>
                  <a:lnTo>
                    <a:pt x="1" y="363"/>
                  </a:lnTo>
                  <a:lnTo>
                    <a:pt x="226" y="252"/>
                  </a:lnTo>
                  <a:lnTo>
                    <a:pt x="226" y="113"/>
                  </a:ln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262040" y="393696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  <a:lnTo>
                    <a:pt x="55" y="1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566960" y="2873520"/>
              <a:ext cx="288720" cy="463680"/>
            </a:xfrm>
            <a:custGeom>
              <a:avLst/>
              <a:gdLst/>
              <a:ahLst/>
              <a:rect l="l" t="t" r="r" b="b"/>
              <a:pathLst>
                <a:path w="111" h="178">
                  <a:moveTo>
                    <a:pt x="55" y="176"/>
                  </a:moveTo>
                  <a:lnTo>
                    <a:pt x="65" y="176"/>
                  </a:lnTo>
                  <a:lnTo>
                    <a:pt x="72" y="172"/>
                  </a:lnTo>
                  <a:lnTo>
                    <a:pt x="82" y="169"/>
                  </a:lnTo>
                  <a:lnTo>
                    <a:pt x="88" y="161"/>
                  </a:lnTo>
                  <a:lnTo>
                    <a:pt x="95" y="151"/>
                  </a:lnTo>
                  <a:lnTo>
                    <a:pt x="101" y="142"/>
                  </a:lnTo>
                  <a:lnTo>
                    <a:pt x="105" y="130"/>
                  </a:lnTo>
                  <a:lnTo>
                    <a:pt x="109" y="117"/>
                  </a:lnTo>
                  <a:lnTo>
                    <a:pt x="111" y="103"/>
                  </a:lnTo>
                  <a:lnTo>
                    <a:pt x="111" y="90"/>
                  </a:lnTo>
                  <a:lnTo>
                    <a:pt x="111" y="75"/>
                  </a:lnTo>
                  <a:lnTo>
                    <a:pt x="109" y="61"/>
                  </a:lnTo>
                  <a:lnTo>
                    <a:pt x="105" y="48"/>
                  </a:lnTo>
                  <a:lnTo>
                    <a:pt x="101" y="37"/>
                  </a:lnTo>
                  <a:lnTo>
                    <a:pt x="95" y="27"/>
                  </a:lnTo>
                  <a:lnTo>
                    <a:pt x="88" y="17"/>
                  </a:lnTo>
                  <a:lnTo>
                    <a:pt x="82" y="12"/>
                  </a:lnTo>
                  <a:lnTo>
                    <a:pt x="72" y="6"/>
                  </a:lnTo>
                  <a:lnTo>
                    <a:pt x="65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0" y="12"/>
                  </a:lnTo>
                  <a:lnTo>
                    <a:pt x="23" y="17"/>
                  </a:lnTo>
                  <a:lnTo>
                    <a:pt x="17" y="27"/>
                  </a:lnTo>
                  <a:lnTo>
                    <a:pt x="11" y="37"/>
                  </a:lnTo>
                  <a:lnTo>
                    <a:pt x="7" y="48"/>
                  </a:lnTo>
                  <a:lnTo>
                    <a:pt x="3" y="61"/>
                  </a:lnTo>
                  <a:lnTo>
                    <a:pt x="2" y="75"/>
                  </a:lnTo>
                  <a:lnTo>
                    <a:pt x="0" y="90"/>
                  </a:lnTo>
                  <a:lnTo>
                    <a:pt x="2" y="103"/>
                  </a:lnTo>
                  <a:lnTo>
                    <a:pt x="3" y="117"/>
                  </a:lnTo>
                  <a:lnTo>
                    <a:pt x="7" y="130"/>
                  </a:lnTo>
                  <a:lnTo>
                    <a:pt x="11" y="142"/>
                  </a:lnTo>
                  <a:lnTo>
                    <a:pt x="17" y="151"/>
                  </a:lnTo>
                  <a:lnTo>
                    <a:pt x="23" y="161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8" y="176"/>
                  </a:lnTo>
                  <a:lnTo>
                    <a:pt x="55" y="178"/>
                  </a:lnTo>
                  <a:lnTo>
                    <a:pt x="55" y="17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57868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78680" y="37260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610520" y="2996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674960" y="2996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725720" y="29966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7458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774680" y="299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01680" y="29966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600440" y="31111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988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67136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69368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25000" y="3111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751640" y="3111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709880" y="3332160"/>
              <a:ext cx="2880" cy="10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856040" y="3102840"/>
              <a:ext cx="9360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149200" y="3866400"/>
              <a:ext cx="44280" cy="4932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060640" y="3890160"/>
              <a:ext cx="103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262040" y="358812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26204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26204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11964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119640" y="451548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359760" y="4533840"/>
              <a:ext cx="312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606200" y="3960360"/>
              <a:ext cx="1521360" cy="578520"/>
            </a:xfrm>
            <a:custGeom>
              <a:avLst/>
              <a:gdLst/>
              <a:ahLst/>
              <a:rect l="l" t="t" r="r" b="b"/>
              <a:pathLst>
                <a:path w="584" h="222">
                  <a:moveTo>
                    <a:pt x="584" y="220"/>
                  </a:moveTo>
                  <a:lnTo>
                    <a:pt x="0" y="2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920000" y="3986640"/>
              <a:ext cx="49320" cy="493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8159760" y="4010040"/>
              <a:ext cx="2106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920000" y="48546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14920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0" y="19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2388600" y="2545560"/>
              <a:ext cx="188352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1685520" y="2545560"/>
              <a:ext cx="473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90680" y="1305000"/>
              <a:ext cx="49320" cy="489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0" y="19"/>
                  </a:lnTo>
                  <a:lnTo>
                    <a:pt x="19" y="9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90680" y="172692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200240" y="1328040"/>
              <a:ext cx="633240" cy="1217160"/>
            </a:xfrm>
            <a:custGeom>
              <a:avLst/>
              <a:gdLst/>
              <a:ahLst/>
              <a:rect l="l" t="t" r="r" b="b"/>
              <a:pathLst>
                <a:path w="243" h="467">
                  <a:moveTo>
                    <a:pt x="82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243" y="262"/>
                  </a:lnTo>
                  <a:lnTo>
                    <a:pt x="243" y="4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7840" y="1174680"/>
              <a:ext cx="1276560" cy="2369160"/>
            </a:xfrm>
            <a:custGeom>
              <a:avLst/>
              <a:gdLst/>
              <a:ahLst/>
              <a:rect l="l" t="t" r="r" b="b"/>
              <a:pathLst>
                <a:path w="490" h="909">
                  <a:moveTo>
                    <a:pt x="40" y="907"/>
                  </a:moveTo>
                  <a:lnTo>
                    <a:pt x="0" y="909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90" y="141"/>
                  </a:lnTo>
                  <a:lnTo>
                    <a:pt x="450" y="1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16200000">
              <a:off x="2505240" y="3718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rot="16200000">
              <a:off x="2484000" y="367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16200000">
              <a:off x="2488680" y="3630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16200000">
              <a:off x="2505240" y="3594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rot="16200000">
              <a:off x="2501640" y="3565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rot="16200000">
              <a:off x="2484000" y="3519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rot="16200000">
              <a:off x="2488680" y="346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16200000">
              <a:off x="2505240" y="3438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16200000">
              <a:off x="2509920" y="34203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rot="16200000">
              <a:off x="2484000" y="3377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16200000">
              <a:off x="2484000" y="3321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9348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193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219760" y="215748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274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29932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32812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306320" y="2167560"/>
              <a:ext cx="205560" cy="9900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77" y="0"/>
                  </a:moveTo>
                  <a:lnTo>
                    <a:pt x="79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16392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0825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4736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207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23988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3115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3781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966800" y="2167560"/>
              <a:ext cx="203040" cy="9900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78" y="0"/>
                  </a:moveTo>
                  <a:lnTo>
                    <a:pt x="78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87032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95060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011440" y="21574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08848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116200" y="21574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2058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404960" y="2326320"/>
              <a:ext cx="9684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316400" y="2326320"/>
              <a:ext cx="88560" cy="31014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632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0" y="1190"/>
                  </a:moveTo>
                  <a:lnTo>
                    <a:pt x="37" y="1190"/>
                  </a:lnTo>
                  <a:lnTo>
                    <a:pt x="37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174720" y="2326320"/>
              <a:ext cx="9324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34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6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45760" y="1244880"/>
              <a:ext cx="174240" cy="591480"/>
            </a:xfrm>
            <a:custGeom>
              <a:avLst/>
              <a:gdLst/>
              <a:ahLst/>
              <a:rect l="l" t="t" r="r" b="b"/>
              <a:pathLst>
                <a:path w="67" h="227">
                  <a:moveTo>
                    <a:pt x="0" y="32"/>
                  </a:moveTo>
                  <a:lnTo>
                    <a:pt x="2" y="28"/>
                  </a:lnTo>
                  <a:lnTo>
                    <a:pt x="2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7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7" y="34"/>
                  </a:lnTo>
                  <a:lnTo>
                    <a:pt x="67" y="195"/>
                  </a:lnTo>
                  <a:lnTo>
                    <a:pt x="67" y="200"/>
                  </a:lnTo>
                  <a:lnTo>
                    <a:pt x="65" y="204"/>
                  </a:lnTo>
                  <a:lnTo>
                    <a:pt x="63" y="210"/>
                  </a:lnTo>
                  <a:lnTo>
                    <a:pt x="61" y="214"/>
                  </a:lnTo>
                  <a:lnTo>
                    <a:pt x="57" y="218"/>
                  </a:lnTo>
                  <a:lnTo>
                    <a:pt x="54" y="222"/>
                  </a:lnTo>
                  <a:lnTo>
                    <a:pt x="50" y="223"/>
                  </a:lnTo>
                  <a:lnTo>
                    <a:pt x="44" y="225"/>
                  </a:lnTo>
                  <a:lnTo>
                    <a:pt x="40" y="227"/>
                  </a:lnTo>
                  <a:lnTo>
                    <a:pt x="34" y="227"/>
                  </a:lnTo>
                  <a:lnTo>
                    <a:pt x="29" y="227"/>
                  </a:lnTo>
                  <a:lnTo>
                    <a:pt x="23" y="225"/>
                  </a:lnTo>
                  <a:lnTo>
                    <a:pt x="19" y="223"/>
                  </a:lnTo>
                  <a:lnTo>
                    <a:pt x="15" y="222"/>
                  </a:lnTo>
                  <a:lnTo>
                    <a:pt x="10" y="218"/>
                  </a:lnTo>
                  <a:lnTo>
                    <a:pt x="8" y="214"/>
                  </a:lnTo>
                  <a:lnTo>
                    <a:pt x="4" y="210"/>
                  </a:lnTo>
                  <a:lnTo>
                    <a:pt x="2" y="204"/>
                  </a:lnTo>
                  <a:lnTo>
                    <a:pt x="2" y="200"/>
                  </a:lnTo>
                  <a:lnTo>
                    <a:pt x="0" y="19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90040" y="1390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570680" y="13906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503720" y="1484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560240" y="14846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504440" y="1573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77800" y="127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77800" y="1693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99760" y="2485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5880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3880" y="248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16680" y="3483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6080" y="3483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8439840" y="437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6359760" y="4010040"/>
              <a:ext cx="3124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61440" y="399168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0"/>
                  </a:moveTo>
                  <a:lnTo>
                    <a:pt x="2" y="17"/>
                  </a:lnTo>
                  <a:lnTo>
                    <a:pt x="20" y="9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57200" y="39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220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7240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922440" y="3936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954840" y="39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0776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52040" y="3936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52880" y="443232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838200" y="4432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867360" y="44323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894000" y="4432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16680" y="443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966360" y="44323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75180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00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51160" y="4526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881760" y="452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448840" y="40726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24440" y="40726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463240" y="4161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514360" y="416160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463960" y="4257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439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06616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97508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203560" y="2326320"/>
              <a:ext cx="96120" cy="3101400"/>
            </a:xfrm>
            <a:custGeom>
              <a:avLst/>
              <a:gdLst/>
              <a:ahLst/>
              <a:rect l="l" t="t" r="r" b="b"/>
              <a:pathLst>
                <a:path w="37" h="1190">
                  <a:moveTo>
                    <a:pt x="35" y="0"/>
                  </a:moveTo>
                  <a:lnTo>
                    <a:pt x="0" y="0"/>
                  </a:lnTo>
                  <a:lnTo>
                    <a:pt x="0" y="1190"/>
                  </a:lnTo>
                  <a:lnTo>
                    <a:pt x="37" y="119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  <a:lnTo>
                    <a:pt x="0" y="11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294640" y="2326320"/>
              <a:ext cx="93600" cy="3101400"/>
            </a:xfrm>
            <a:custGeom>
              <a:avLst/>
              <a:gdLst/>
              <a:ahLst/>
              <a:rect l="l" t="t" r="r" b="b"/>
              <a:pathLst>
                <a:path w="36" h="1190">
                  <a:moveTo>
                    <a:pt x="0" y="1190"/>
                  </a:moveTo>
                  <a:lnTo>
                    <a:pt x="36" y="1190"/>
                  </a:lnTo>
                  <a:lnTo>
                    <a:pt x="36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0264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37212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42180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477600" y="383292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49812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542040" y="383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56508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620520" y="383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651840" y="3832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782160" y="35042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84660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90096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52080" y="350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06800" y="35042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213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760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827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85812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908160" y="3598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930840" y="3598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782160" y="38588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4660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90096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952080" y="3858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006800" y="3858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213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7760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7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5812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90816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93084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018600" y="3363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08556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13884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192480" y="3363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243600" y="33634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01824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0466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10248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151800" y="3457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172320" y="34574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22164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24720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98320" y="34574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331080" y="3457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56640" y="3457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018600" y="3647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08556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13884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192480" y="364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243600" y="3647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01824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466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10248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151800" y="373896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172320" y="3738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22164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24720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298320" y="3738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331080" y="373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356640" y="3738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36168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411000" y="46958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662280" y="47714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722400" y="477144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4508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96920" y="477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48040" y="477144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60648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661920" y="4885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706200" y="4885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73176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78612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835800" y="4885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579920" y="3942360"/>
              <a:ext cx="51840" cy="4428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0" y="17"/>
                  </a:moveTo>
                  <a:lnTo>
                    <a:pt x="12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7765920" y="4010040"/>
              <a:ext cx="1587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018600" y="3926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108240" y="3926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38840" y="3926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156480" y="392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181680" y="3926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238200" y="3926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01824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66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10248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151800" y="40230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172320" y="4023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221640" y="4023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247200" y="402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298320" y="4023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75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018600" y="420588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108240" y="4205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138840" y="420588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156480" y="4205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181680" y="4205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238200" y="420588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0178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07260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124080" y="4302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145680" y="4302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769120" y="4221000"/>
              <a:ext cx="5916960" cy="1449000"/>
            </a:xfrm>
            <a:custGeom>
              <a:avLst/>
              <a:gdLst/>
              <a:ahLst/>
              <a:rect l="l" t="t" r="r" b="b"/>
              <a:pathLst>
                <a:path w="2271" h="556">
                  <a:moveTo>
                    <a:pt x="67" y="34"/>
                  </a:moveTo>
                  <a:lnTo>
                    <a:pt x="0" y="34"/>
                  </a:lnTo>
                  <a:lnTo>
                    <a:pt x="0" y="556"/>
                  </a:lnTo>
                  <a:lnTo>
                    <a:pt x="2271" y="556"/>
                  </a:lnTo>
                  <a:lnTo>
                    <a:pt x="2271" y="0"/>
                  </a:lnTo>
                  <a:lnTo>
                    <a:pt x="22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510320" y="39085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580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62984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679160" y="3908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734960" y="39085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54092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591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45680" y="4002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72680" y="40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135200" y="4095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199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256160" y="4095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280640" y="4095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336440" y="40957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07328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14492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7200000" y="421128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275240" y="4211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7330320" y="421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361640" y="4211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883400" y="4325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553720" y="38617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617800" y="3861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68200" y="3861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739120" y="3861720"/>
              <a:ext cx="36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484240" y="39528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513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564160" y="3952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612760" y="3952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663520" y="39528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683680" y="3952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894920" y="4023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975920" y="402300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09320" y="4111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965120" y="41119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910040" y="4205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285520" y="3832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347440" y="3832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400000" y="38329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533560" y="3713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58648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5645880" y="371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673960" y="3713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5031000" y="4171680"/>
              <a:ext cx="9864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4709520" y="4380120"/>
              <a:ext cx="1098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4502160" y="3605760"/>
              <a:ext cx="627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5754960" y="4010040"/>
              <a:ext cx="3718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502160" y="4380120"/>
              <a:ext cx="207720" cy="497520"/>
            </a:xfrm>
            <a:custGeom>
              <a:avLst/>
              <a:gdLst/>
              <a:ahLst/>
              <a:rect l="l" t="t" r="r" b="b"/>
              <a:pathLst>
                <a:path w="80" h="191">
                  <a:moveTo>
                    <a:pt x="80" y="0"/>
                  </a:moveTo>
                  <a:lnTo>
                    <a:pt x="80" y="191"/>
                  </a:lnTo>
                  <a:lnTo>
                    <a:pt x="0" y="1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28580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311000" y="21574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4380840" y="21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40424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464720" y="21574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 flipV="1">
              <a:off x="338652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 flipV="1">
              <a:off x="4001760" y="4817880"/>
              <a:ext cx="64800" cy="119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931200" y="4877640"/>
              <a:ext cx="340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599560" y="3751920"/>
              <a:ext cx="3441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032720" y="3960360"/>
              <a:ext cx="2343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88600" y="3890160"/>
              <a:ext cx="2106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4032720" y="3605760"/>
              <a:ext cx="23436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599200" y="4877640"/>
              <a:ext cx="9327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46360" y="3517920"/>
              <a:ext cx="44280" cy="435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810080" y="251964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8"/>
                  </a:moveTo>
                  <a:lnTo>
                    <a:pt x="9" y="19"/>
                  </a:lnTo>
                  <a:lnTo>
                    <a:pt x="11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599560" y="3468240"/>
              <a:ext cx="344160" cy="1409400"/>
            </a:xfrm>
            <a:custGeom>
              <a:avLst/>
              <a:gdLst/>
              <a:ahLst/>
              <a:rect l="l" t="t" r="r" b="b"/>
              <a:pathLst>
                <a:path w="132" h="541">
                  <a:moveTo>
                    <a:pt x="132" y="0"/>
                  </a:moveTo>
                  <a:lnTo>
                    <a:pt x="0" y="2"/>
                  </a:lnTo>
                  <a:lnTo>
                    <a:pt x="0" y="54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11964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920000" y="5318640"/>
              <a:ext cx="49320" cy="442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17"/>
                  </a:lnTo>
                  <a:lnTo>
                    <a:pt x="19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578680" y="4854600"/>
              <a:ext cx="44280" cy="4896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17"/>
                  </a:moveTo>
                  <a:lnTo>
                    <a:pt x="10" y="19"/>
                  </a:lnTo>
                  <a:lnTo>
                    <a:pt x="11" y="19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691520" y="4359600"/>
              <a:ext cx="44280" cy="46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18"/>
                  </a:moveTo>
                  <a:lnTo>
                    <a:pt x="9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442920" y="3991680"/>
              <a:ext cx="44280" cy="442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7"/>
                  </a:move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26672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o com sub e lw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6" name="F06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505764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User</cp:lastModifiedBy>
  <cp:lastPrinted>1997-08-29T17:57:02Z</cp:lastPrinted>
  <dcterms:modified xsi:type="dcterms:W3CDTF">2002-05-04T12:34:26Z</dcterms:modified>
  <cp:revision>13</cp:revision>
  <dc:subject/>
  <dc:title>Chapter Six</dc:title>
</cp:coreProperties>
</file>