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4880" y="6477120"/>
            <a:ext cx="164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c-</a:t>
            </a:r>
            <a:fld id="{0FF958CB-ED13-4A5C-8533-16072A198CA1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z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2513880" y="76320"/>
            <a:ext cx="5673600" cy="6563520"/>
            <a:chOff x="2513880" y="76320"/>
            <a:chExt cx="5673600" cy="6563520"/>
          </a:xfrm>
        </p:grpSpPr>
        <p:grpSp>
          <p:nvGrpSpPr>
            <p:cNvPr id="2726" name=""/>
            <p:cNvGrpSpPr/>
            <p:nvPr/>
          </p:nvGrpSpPr>
          <p:grpSpPr>
            <a:xfrm>
              <a:off x="2622240" y="81000"/>
              <a:ext cx="5565240" cy="6433200"/>
              <a:chOff x="2622240" y="81000"/>
              <a:chExt cx="5565240" cy="643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12800" y="81000"/>
                <a:ext cx="2880" cy="45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869720" y="1907640"/>
                <a:ext cx="244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698280" y="2571480"/>
                <a:ext cx="1415520" cy="117000"/>
              </a:xfrm>
              <a:custGeom>
                <a:avLst/>
                <a:gdLst/>
                <a:ahLst/>
                <a:rect l="l" t="t" r="r" b="b"/>
                <a:pathLst>
                  <a:path w="892" h="74">
                    <a:moveTo>
                      <a:pt x="892" y="74"/>
                    </a:move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495560" y="43570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495560" y="437328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02880" y="4879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45920" y="44510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0960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20720" y="3727080"/>
                <a:ext cx="591480" cy="201240"/>
              </a:xfrm>
              <a:custGeom>
                <a:avLst/>
                <a:gdLst/>
                <a:ahLst/>
                <a:rect l="l" t="t" r="r" b="b"/>
                <a:pathLst>
                  <a:path w="373" h="127">
                    <a:moveTo>
                      <a:pt x="373" y="127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73080" y="4149360"/>
                <a:ext cx="245520" cy="108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73040" y="4149360"/>
                <a:ext cx="150480" cy="10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455280" y="3658680"/>
                <a:ext cx="358560" cy="79812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18720" y="3607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111280" y="435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111280" y="3906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49360" y="392220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0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964320" y="35413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01256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50360" y="3541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8240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120560" y="3541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14432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82480" y="3541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92184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961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99996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15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53600" y="3622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8564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04000" y="3622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205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601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95080" y="3622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0932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4424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81680" y="370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9824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09600" y="42541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748760" y="4274640"/>
                <a:ext cx="75960" cy="1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680720" y="423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79440" y="4044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38120" y="40446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893480" y="411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31640" y="41112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893480" y="417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896720" y="3922200"/>
                <a:ext cx="3168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76040" y="3688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050720" y="38127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20"/>
                    </a:moveTo>
                    <a:lnTo>
                      <a:pt x="20" y="22"/>
                    </a:lnTo>
                    <a:lnTo>
                      <a:pt x="1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66560" y="3841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767" y="1281"/>
                    </a:moveTo>
                    <a:lnTo>
                      <a:pt x="815" y="1281"/>
                    </a:ln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11128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rot="16200000">
                <a:off x="3421440" y="4133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rot="16200000">
                <a:off x="3407040" y="4099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rot="16200000">
                <a:off x="3421440" y="4072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200000">
                <a:off x="3421440" y="4053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rot="16200000">
                <a:off x="3401640" y="4015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rot="16200000">
                <a:off x="3391920" y="39549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rot="16200000">
                <a:off x="3419280" y="3922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rot="16200000">
                <a:off x="3423960" y="390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rot="16200000">
                <a:off x="3421440" y="3886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3409560" y="385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rot="16200000">
                <a:off x="2645640" y="476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2643120" y="4712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rot="16200000">
                <a:off x="2633400" y="465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2660760" y="461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2665440" y="4601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2662920" y="458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rot="16200000">
                <a:off x="2651040" y="455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4632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4816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531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55004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59432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639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80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70772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4588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780080" y="6054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96640" y="605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28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4740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7360" y="6054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0896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5720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8280" y="3704760"/>
                <a:ext cx="90000" cy="485280"/>
              </a:xfrm>
              <a:custGeom>
                <a:avLst/>
                <a:gdLst/>
                <a:ahLst/>
                <a:rect l="l" t="t" r="r" b="b"/>
                <a:pathLst>
                  <a:path w="57" h="306">
                    <a:moveTo>
                      <a:pt x="57" y="0"/>
                    </a:moveTo>
                    <a:lnTo>
                      <a:pt x="0" y="2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67520" y="337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9840" y="3376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3697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39856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5724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51772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5461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5746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6350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69376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7286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7888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85108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22480" y="4149360"/>
                <a:ext cx="29484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09880" y="4376160"/>
                <a:ext cx="1302840" cy="1863360"/>
              </a:xfrm>
              <a:custGeom>
                <a:avLst/>
                <a:gdLst/>
                <a:ahLst/>
                <a:rect l="l" t="t" r="r" b="b"/>
                <a:pathLst>
                  <a:path w="821" h="1174">
                    <a:moveTo>
                      <a:pt x="821" y="0"/>
                    </a:moveTo>
                    <a:lnTo>
                      <a:pt x="821" y="1174"/>
                    </a:lnTo>
                    <a:lnTo>
                      <a:pt x="0" y="117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6666480" y="5913000"/>
                <a:ext cx="8283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22480" y="5913000"/>
                <a:ext cx="220320" cy="17892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7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918960" y="5081040"/>
                <a:ext cx="3285720" cy="1433160"/>
              </a:xfrm>
              <a:custGeom>
                <a:avLst/>
                <a:gdLst/>
                <a:ahLst/>
                <a:rect l="l" t="t" r="r" b="b"/>
                <a:pathLst>
                  <a:path w="2070" h="903">
                    <a:moveTo>
                      <a:pt x="2070" y="698"/>
                    </a:moveTo>
                    <a:lnTo>
                      <a:pt x="2070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666840" y="4152600"/>
                <a:ext cx="831600" cy="223200"/>
              </a:xfrm>
              <a:custGeom>
                <a:avLst/>
                <a:gdLst/>
                <a:ahLst/>
                <a:rect l="l" t="t" r="r" b="b"/>
                <a:pathLst>
                  <a:path w="524" h="141">
                    <a:moveTo>
                      <a:pt x="524" y="141"/>
                    </a:moveTo>
                    <a:lnTo>
                      <a:pt x="480" y="141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814360" y="5544720"/>
                <a:ext cx="182160" cy="52200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2" y="45"/>
                    </a:lnTo>
                    <a:lnTo>
                      <a:pt x="65" y="45"/>
                    </a:lnTo>
                    <a:lnTo>
                      <a:pt x="65" y="329"/>
                    </a:lnTo>
                    <a:lnTo>
                      <a:pt x="115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14360" y="5019120"/>
                <a:ext cx="215640" cy="996840"/>
              </a:xfrm>
              <a:custGeom>
                <a:avLst/>
                <a:gdLst/>
                <a:ahLst/>
                <a:rect l="l" t="t" r="r" b="b"/>
                <a:pathLst>
                  <a:path w="136" h="628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8"/>
                    </a:lnTo>
                    <a:lnTo>
                      <a:pt x="136" y="628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698280" y="5865480"/>
                <a:ext cx="1422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798520" y="55224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798520" y="4997160"/>
                <a:ext cx="36000" cy="327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3" y="21"/>
                    </a:lnTo>
                    <a:lnTo>
                      <a:pt x="12" y="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484320" y="622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62240" y="4376160"/>
                <a:ext cx="15048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33320" y="50619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686320" y="50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727720" y="505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394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584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997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2976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48840" y="50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7116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05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1410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159360" y="50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1726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2122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247560" y="5014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840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4236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776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3128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169800" y="509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193200" y="509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3332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333320" y="52635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71608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716080" y="52016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68520" y="5311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5882400" y="53272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480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48080" y="52984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788560" y="5090760"/>
                <a:ext cx="77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85372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88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33332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75520" y="49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2520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6336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97560" y="49399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1376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6160" y="4939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6488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704840" y="4939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72644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993480" y="5192280"/>
                <a:ext cx="4194000" cy="1248840"/>
              </a:xfrm>
              <a:custGeom>
                <a:avLst/>
                <a:gdLst/>
                <a:ahLst/>
                <a:rect l="l" t="t" r="r" b="b"/>
                <a:pathLst>
                  <a:path w="2642" h="787">
                    <a:moveTo>
                      <a:pt x="222" y="55"/>
                    </a:moveTo>
                    <a:lnTo>
                      <a:pt x="0" y="55"/>
                    </a:lnTo>
                    <a:lnTo>
                      <a:pt x="0" y="787"/>
                    </a:lnTo>
                    <a:lnTo>
                      <a:pt x="2642" y="787"/>
                    </a:lnTo>
                    <a:lnTo>
                      <a:pt x="2642" y="0"/>
                    </a:lnTo>
                    <a:lnTo>
                      <a:pt x="259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01160" y="4681080"/>
                <a:ext cx="644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785920" y="52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44600" y="52257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98520" y="52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34880" y="52891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798160" y="53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5920" y="5808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2513880" y="3379680"/>
              <a:ext cx="5613840" cy="3260160"/>
              <a:chOff x="2513880" y="3379680"/>
              <a:chExt cx="5613840" cy="3260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844960" y="5808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98880" y="587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35240" y="58748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98520" y="59432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8280" y="50875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75520" y="50875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30880" y="515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65800" y="5150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30520" y="5219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701880" y="4879440"/>
                <a:ext cx="64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0840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4870080" y="52016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8752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7968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4520" y="5090760"/>
                <a:ext cx="74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0840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4870080" y="46778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108400" y="5648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776400" y="4681080"/>
                <a:ext cx="1341000" cy="985320"/>
              </a:xfrm>
              <a:custGeom>
                <a:avLst/>
                <a:gdLst/>
                <a:ahLst/>
                <a:rect l="l" t="t" r="r" b="b"/>
                <a:pathLst>
                  <a:path w="845" h="621">
                    <a:moveTo>
                      <a:pt x="845" y="619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428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2189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184720" y="41112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65280" y="38872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225040" y="3887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494400" y="4341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81200" y="4152600"/>
                <a:ext cx="1222200" cy="207360"/>
              </a:xfrm>
              <a:custGeom>
                <a:avLst/>
                <a:gdLst/>
                <a:ahLst/>
                <a:rect l="l" t="t" r="r" b="b"/>
                <a:pathLst>
                  <a:path w="770" h="131">
                    <a:moveTo>
                      <a:pt x="770" y="131"/>
                    </a:moveTo>
                    <a:lnTo>
                      <a:pt x="695" y="131"/>
                    </a:lnTo>
                    <a:lnTo>
                      <a:pt x="69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944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78320" y="392544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548120" y="4338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111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9440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321240" y="5065200"/>
                <a:ext cx="182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48944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662240" y="5065200"/>
                <a:ext cx="301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7419240" y="5065200"/>
                <a:ext cx="759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48944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62600" y="53146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190" h="139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6890760" y="5532120"/>
                <a:ext cx="604440" cy="25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33400" y="49892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83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21800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237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275240" y="4989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0866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402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802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2338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272000" y="506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93960" y="506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786280" y="4700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844960" y="47001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798880" y="476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835240" y="4763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98520" y="4831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0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078240" y="60638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196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15456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76160" y="6063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2258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6400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8632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323760" y="6063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3370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3748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11600" y="6063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18624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22260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260040" y="6144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273720" y="614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16440" y="4911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068880" y="47858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5882760" y="48016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16440" y="4782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71644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5281200" y="4677840"/>
                <a:ext cx="450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47800" y="5090760"/>
                <a:ext cx="153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701880" y="4152600"/>
                <a:ext cx="1415520" cy="1826640"/>
              </a:xfrm>
              <a:custGeom>
                <a:avLst/>
                <a:gdLst/>
                <a:ahLst/>
                <a:rect l="l" t="t" r="r" b="b"/>
                <a:pathLst>
                  <a:path w="892" h="1151">
                    <a:moveTo>
                      <a:pt x="892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108400" y="57463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849480" y="4882680"/>
                <a:ext cx="1267920" cy="88236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108400" y="58496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108400" y="59605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686040" y="58496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60560" y="4665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3364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489440" y="589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24440" y="59004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522840" y="5916240"/>
                <a:ext cx="1217160" cy="27576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500520" y="617184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500520" y="6073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500520" y="61239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1600" y="50493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" y="22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6666840" y="5065200"/>
                <a:ext cx="293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7528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189560" y="6176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362664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3614760" y="495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3616920" y="4920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3626640" y="489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3624480" y="4877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3614760" y="4845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3616920" y="4812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3626640" y="478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3629160" y="4775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200000">
                <a:off x="3614760" y="474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200000">
                <a:off x="3614760" y="470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484440" y="3399840"/>
                <a:ext cx="10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468600" y="4354200"/>
                <a:ext cx="31320" cy="7236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20" y="0"/>
                    </a:moveTo>
                    <a:lnTo>
                      <a:pt x="2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41136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430440" y="4350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47148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8732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505680" y="4350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4844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380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6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65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177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47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4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8937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22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984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413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734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101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60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213160" y="3399840"/>
                <a:ext cx="1080" cy="41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197320" y="370476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74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45840" y="3701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1940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1244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25672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600600" y="3399840"/>
                <a:ext cx="10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65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7147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752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54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6268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89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5772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0196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797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82960" y="3928680"/>
                <a:ext cx="3312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47136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51564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561000" y="3925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8008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3480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8016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96000" y="3399840"/>
                <a:ext cx="288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652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710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7720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8004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857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95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545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182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751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80160" y="4152600"/>
                <a:ext cx="34560" cy="7236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5776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1104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5784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611840" y="4152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630560" y="4152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69356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1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74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6110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639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7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572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7856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81916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8760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9365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95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0556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13880" y="6411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589840" y="210960"/>
              <a:ext cx="5072040" cy="6428880"/>
              <a:chOff x="2589840" y="210960"/>
              <a:chExt cx="5072040" cy="6428880"/>
            </a:xfrm>
          </p:grpSpPr>
          <p:sp>
            <p:nvSpPr>
              <p:cNvPr id="3129" name=""/>
              <p:cNvSpPr/>
              <p:nvPr/>
            </p:nvSpPr>
            <p:spPr>
              <a:xfrm>
                <a:off x="2589840" y="6411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1720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74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728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782440" y="6411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81232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41040" y="366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830040" y="4787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833280" y="4588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47520" y="3755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921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299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39532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43348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9921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270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9921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02704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029920" y="567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0299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029920" y="588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3125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3474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3125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47080" y="5109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12160" y="5676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125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93440" y="578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326120" y="4114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37436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40928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447440" y="41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466520" y="41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48884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24480" y="41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85160" y="5030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31960" y="5030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9400" y="5030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002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95640" y="604152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280840" y="5201640"/>
                <a:ext cx="450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21280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000" y="433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50560" y="4111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15360" y="4111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50720" y="5187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809600" y="960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80960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896720" y="628200"/>
                <a:ext cx="3168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0" y="0"/>
                    </a:lnTo>
                    <a:lnTo>
                      <a:pt x="10" y="2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20720" y="423360"/>
                <a:ext cx="591480" cy="210960"/>
              </a:xfrm>
              <a:custGeom>
                <a:avLst/>
                <a:gdLst/>
                <a:ahLst/>
                <a:rect l="l" t="t" r="r" b="b"/>
                <a:pathLst>
                  <a:path w="373" h="133">
                    <a:moveTo>
                      <a:pt x="373" y="133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573080" y="852120"/>
                <a:ext cx="24552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973040" y="852120"/>
                <a:ext cx="15048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42680" y="11520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55280" y="361440"/>
                <a:ext cx="358560" cy="796680"/>
              </a:xfrm>
              <a:custGeom>
                <a:avLst/>
                <a:gdLst/>
                <a:ahLst/>
                <a:rect l="l" t="t" r="r" b="b"/>
                <a:pathLst>
                  <a:path w="226" h="502">
                    <a:moveTo>
                      <a:pt x="0" y="502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18720" y="313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02880" y="1585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11280" y="1063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11280" y="60768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49360" y="62496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  <a:lnTo>
                      <a:pt x="252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64320" y="244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1256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50360" y="24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8240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20560" y="244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14432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182480" y="2440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92184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961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99996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15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53600" y="3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8564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04000" y="326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1205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01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95080" y="326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0932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424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81680" y="407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98240" y="407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4743000" y="975960"/>
                <a:ext cx="7560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74600" y="942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879440" y="747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938120" y="7473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93480" y="813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931640" y="813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893480" y="880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776040" y="39636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" y="21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66560" y="547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815" y="1279"/>
                    </a:move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1128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rot="16200000">
                <a:off x="3421440" y="83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rot="16200000">
                <a:off x="3407040" y="8024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rot="16200000">
                <a:off x="3421440" y="778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rot="16200000">
                <a:off x="3421440" y="759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rot="16200000">
                <a:off x="3401640" y="721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rot="16200000">
                <a:off x="3391920" y="660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rot="16200000">
                <a:off x="3419280" y="625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rot="16200000">
                <a:off x="3423960" y="609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16200000">
                <a:off x="3421440" y="58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rot="16200000">
                <a:off x="3409560" y="56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rot="16200000">
                <a:off x="2645280" y="1462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rot="16200000">
                <a:off x="2642760" y="1415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rot="16200000">
                <a:off x="2633040" y="135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rot="16200000">
                <a:off x="2660400" y="132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rot="16200000">
                <a:off x="2665080" y="130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rot="16200000">
                <a:off x="2662560" y="1286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16200000">
                <a:off x="2650680" y="125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4632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4816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531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55004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9432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39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580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0772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4588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0080" y="2760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796640" y="2760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828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84740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887360" y="2760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90896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95720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98280" y="408960"/>
                <a:ext cx="90000" cy="487080"/>
              </a:xfrm>
              <a:custGeom>
                <a:avLst/>
                <a:gdLst/>
                <a:ahLst/>
                <a:rect l="l" t="t" r="r" b="b"/>
                <a:pathLst>
                  <a:path w="57" h="307">
                    <a:moveTo>
                      <a:pt x="57" y="0"/>
                    </a:moveTo>
                    <a:lnTo>
                      <a:pt x="0" y="0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326840" y="36468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872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073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755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77396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81824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863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87944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381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97628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95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7924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1740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1523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49160" y="380520"/>
                <a:ext cx="1010880" cy="477360"/>
              </a:xfrm>
              <a:custGeom>
                <a:avLst/>
                <a:gdLst/>
                <a:ahLst/>
                <a:rect l="l" t="t" r="r" b="b"/>
                <a:pathLst>
                  <a:path w="637" h="301">
                    <a:moveTo>
                      <a:pt x="637" y="301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344560" y="8424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323600" y="365868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21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345920" y="367452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6904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71024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7588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77396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81824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6360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8412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9413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97628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3280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8248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2064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555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349160" y="3677760"/>
                <a:ext cx="1010880" cy="474480"/>
              </a:xfrm>
              <a:custGeom>
                <a:avLst/>
                <a:gdLst/>
                <a:ahLst/>
                <a:rect l="l" t="t" r="r" b="b"/>
                <a:pathLst>
                  <a:path w="637" h="299">
                    <a:moveTo>
                      <a:pt x="637" y="299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44560" y="413640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955840" y="28299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0"/>
                    </a:moveTo>
                    <a:lnTo>
                      <a:pt x="0" y="20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94040" y="17535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65280" y="2017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65280" y="14918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716080" y="136656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716080" y="18918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968440" y="29095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490800" y="1047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490800" y="8391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187600" y="8139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167800" y="590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227920" y="590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472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964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04720" y="181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8920" y="181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5680" y="2382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668320" y="76320"/>
              <a:ext cx="5515920" cy="3141000"/>
              <a:chOff x="2668320" y="76320"/>
              <a:chExt cx="5515920" cy="3141000"/>
            </a:xfrm>
          </p:grpSpPr>
          <p:sp>
            <p:nvSpPr>
              <p:cNvPr id="3330" name=""/>
              <p:cNvSpPr/>
              <p:nvPr/>
            </p:nvSpPr>
            <p:spPr>
              <a:xfrm>
                <a:off x="5036400" y="2273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36400" y="2482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525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70976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771680" y="76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001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857360" y="76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8922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542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146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80748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522480" y="855720"/>
                <a:ext cx="294840" cy="199008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509880" y="1079280"/>
                <a:ext cx="1302840" cy="186660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21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666480" y="2612880"/>
                <a:ext cx="828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22480" y="2612880"/>
                <a:ext cx="217080" cy="182160"/>
              </a:xfrm>
              <a:custGeom>
                <a:avLst/>
                <a:gdLst/>
                <a:ahLst/>
                <a:rect l="l" t="t" r="r" b="b"/>
                <a:pathLst>
                  <a:path w="137" h="115">
                    <a:moveTo>
                      <a:pt x="137" y="0"/>
                    </a:moveTo>
                    <a:lnTo>
                      <a:pt x="137" y="115"/>
                    </a:lnTo>
                    <a:lnTo>
                      <a:pt x="0" y="115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918960" y="1787400"/>
                <a:ext cx="3285720" cy="1429920"/>
              </a:xfrm>
              <a:custGeom>
                <a:avLst/>
                <a:gdLst/>
                <a:ahLst/>
                <a:rect l="l" t="t" r="r" b="b"/>
                <a:pathLst>
                  <a:path w="2070" h="901">
                    <a:moveTo>
                      <a:pt x="2070" y="697"/>
                    </a:moveTo>
                    <a:lnTo>
                      <a:pt x="2070" y="901"/>
                    </a:lnTo>
                    <a:lnTo>
                      <a:pt x="0" y="901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666840" y="855720"/>
                <a:ext cx="831600" cy="226440"/>
              </a:xfrm>
              <a:custGeom>
                <a:avLst/>
                <a:gdLst/>
                <a:ahLst/>
                <a:rect l="l" t="t" r="r" b="b"/>
                <a:pathLst>
                  <a:path w="524" h="143">
                    <a:moveTo>
                      <a:pt x="524" y="141"/>
                    </a:moveTo>
                    <a:lnTo>
                      <a:pt x="480" y="143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814360" y="2251080"/>
                <a:ext cx="182160" cy="518760"/>
              </a:xfrm>
              <a:custGeom>
                <a:avLst/>
                <a:gdLst/>
                <a:ahLst/>
                <a:rect l="l" t="t" r="r" b="b"/>
                <a:pathLst>
                  <a:path w="115" h="327">
                    <a:moveTo>
                      <a:pt x="0" y="0"/>
                    </a:moveTo>
                    <a:lnTo>
                      <a:pt x="2" y="44"/>
                    </a:lnTo>
                    <a:lnTo>
                      <a:pt x="63" y="44"/>
                    </a:lnTo>
                    <a:lnTo>
                      <a:pt x="63" y="327"/>
                    </a:lnTo>
                    <a:lnTo>
                      <a:pt x="115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814360" y="1725480"/>
                <a:ext cx="212400" cy="995040"/>
              </a:xfrm>
              <a:custGeom>
                <a:avLst/>
                <a:gdLst/>
                <a:ahLst/>
                <a:rect l="l" t="t" r="r" b="b"/>
                <a:pathLst>
                  <a:path w="134" h="627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7"/>
                    </a:lnTo>
                    <a:lnTo>
                      <a:pt x="134" y="6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698280" y="2571840"/>
                <a:ext cx="1418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798520" y="222552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98520" y="170028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84320" y="292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62240" y="1079280"/>
                <a:ext cx="15048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333320" y="17683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683080" y="1758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727720" y="1758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29394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9584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997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02976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048840" y="1720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07116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05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410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159360" y="1720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1726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122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247560" y="1720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840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0394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0776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1312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69800" y="1800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193200" y="1800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  <a:lnTo>
                      <a:pt x="266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3332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33320" y="19666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5879520" y="20336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48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48080" y="2001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88560" y="1797120"/>
                <a:ext cx="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537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258800" y="8395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333320" y="158580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333320" y="156528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475520" y="1646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52520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6336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97560" y="16462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61376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646160" y="164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66488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704840" y="1646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2644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993480" y="1895400"/>
                <a:ext cx="4190760" cy="124884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7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3701520" y="1384200"/>
                <a:ext cx="640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85920" y="19288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1360" y="19288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98520" y="199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834880" y="19954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9816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5920" y="2517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41360" y="2517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98520" y="258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34880" y="25844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98160" y="2651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017920" y="17906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071920" y="17906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03052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065440" y="18572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030160" y="192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701520" y="1585800"/>
                <a:ext cx="6440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08040" y="1892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108040" y="1908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74920" y="175392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3793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314160" y="1797120"/>
                <a:ext cx="7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08040" y="13669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869720" y="1384200"/>
                <a:ext cx="244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08040" y="235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776040" y="1387440"/>
                <a:ext cx="1341000" cy="982080"/>
              </a:xfrm>
              <a:custGeom>
                <a:avLst/>
                <a:gdLst/>
                <a:ahLst/>
                <a:rect l="l" t="t" r="r" b="b"/>
                <a:pathLst>
                  <a:path w="845" h="619">
                    <a:moveTo>
                      <a:pt x="845" y="619"/>
                    </a:move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7392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2185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280840" y="855720"/>
                <a:ext cx="1222200" cy="210600"/>
              </a:xfrm>
              <a:custGeom>
                <a:avLst/>
                <a:gdLst/>
                <a:ahLst/>
                <a:rect l="l" t="t" r="r" b="b"/>
                <a:pathLst>
                  <a:path w="770" h="133">
                    <a:moveTo>
                      <a:pt x="770" y="131"/>
                    </a:moveTo>
                    <a:lnTo>
                      <a:pt x="693" y="133"/>
                    </a:lnTo>
                    <a:lnTo>
                      <a:pt x="69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277960" y="62856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547760" y="10414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6107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320880" y="1771560"/>
                <a:ext cx="18216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489080" y="1063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489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7661880" y="1771560"/>
                <a:ext cx="3013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7416000" y="1771560"/>
                <a:ext cx="788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489080" y="2222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662240" y="2020680"/>
                <a:ext cx="301320" cy="21708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7"/>
                    </a:lnTo>
                    <a:lnTo>
                      <a:pt x="0" y="137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6890400" y="2238120"/>
                <a:ext cx="6044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3304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82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21764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236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274880" y="1693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0862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1398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1798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334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271640" y="1774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293600" y="1774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785920" y="1403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841360" y="14032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98520" y="146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34880" y="1469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98160" y="1538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  <a:lnTo>
                      <a:pt x="250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77880" y="2766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192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15420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175800" y="2766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2254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26364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8596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20160" y="2766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367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3745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1240" y="2766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18588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22224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259680" y="284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273360" y="284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5879520" y="15080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280840" y="1384200"/>
                <a:ext cx="4507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547440" y="1797120"/>
                <a:ext cx="150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698280" y="855720"/>
                <a:ext cx="566280" cy="1715760"/>
              </a:xfrm>
              <a:custGeom>
                <a:avLst/>
                <a:gdLst/>
                <a:ahLst/>
                <a:rect l="l" t="t" r="r" b="b"/>
                <a:pathLst>
                  <a:path w="357" h="1081">
                    <a:moveTo>
                      <a:pt x="357" y="0"/>
                    </a:moveTo>
                    <a:lnTo>
                      <a:pt x="2" y="0"/>
                    </a:lnTo>
                    <a:lnTo>
                      <a:pt x="0" y="10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108040" y="24526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849120" y="1585800"/>
                <a:ext cx="1267920" cy="885600"/>
              </a:xfrm>
              <a:custGeom>
                <a:avLst/>
                <a:gdLst/>
                <a:ahLst/>
                <a:rect l="l" t="t" r="r" b="b"/>
                <a:pathLst>
                  <a:path w="799" h="558">
                    <a:moveTo>
                      <a:pt x="799" y="556"/>
                    </a:moveTo>
                    <a:lnTo>
                      <a:pt x="0" y="55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04800" y="26733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08040" y="25527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85680" y="255564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76020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33280" y="156852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489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724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522480" y="2612880"/>
                <a:ext cx="1217160" cy="280800"/>
              </a:xfrm>
              <a:custGeom>
                <a:avLst/>
                <a:gdLst/>
                <a:ahLst/>
                <a:rect l="l" t="t" r="r" b="b"/>
                <a:pathLst>
                  <a:path w="767" h="177">
                    <a:moveTo>
                      <a:pt x="0" y="177"/>
                    </a:moveTo>
                    <a:lnTo>
                      <a:pt x="767" y="177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496920" y="28782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496920" y="27795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2" y="2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496920" y="282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51240" y="1753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23"/>
                    </a:lnTo>
                    <a:lnTo>
                      <a:pt x="23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666480" y="1771560"/>
                <a:ext cx="2934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874920" y="22222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189200" y="2878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16200000">
                <a:off x="3626280" y="1690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16200000">
                <a:off x="3614400" y="1662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16200000">
                <a:off x="3616560" y="1627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16200000">
                <a:off x="3626280" y="160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rot="16200000">
                <a:off x="3624120" y="1583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rot="16200000">
                <a:off x="3614400" y="155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rot="16200000">
                <a:off x="3616560" y="1515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rot="16200000">
                <a:off x="3626280" y="1491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rot="16200000">
                <a:off x="3628800" y="147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rot="16200000">
                <a:off x="3614400" y="1445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rot="16200000">
                <a:off x="3614400" y="141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80840" y="106200"/>
                <a:ext cx="28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240" y="106020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41136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30440" y="1057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46860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48732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505680" y="1057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4812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194080" y="406440"/>
              <a:ext cx="34560" cy="741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2" y="0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1307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148720" y="407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973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21244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25672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600600" y="106200"/>
              <a:ext cx="1080" cy="63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82960" y="63180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21" y="46"/>
                  </a:lnTo>
                  <a:lnTo>
                    <a:pt x="0" y="46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7136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64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61000" y="63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8008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480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8016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96000" y="106200"/>
              <a:ext cx="2880" cy="86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580160" y="858600"/>
              <a:ext cx="3132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0"/>
                  </a:moveTo>
                  <a:lnTo>
                    <a:pt x="2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5776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51104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55784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611840" y="855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630560" y="855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69356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3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905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649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709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738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80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8573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8857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9174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974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0366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0654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938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53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53560" y="763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77320" y="76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6543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6828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7429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8019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364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862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9193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9812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016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0762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13532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281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41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89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427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8928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24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5843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646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067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651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114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68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98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8594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8940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448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164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7364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13880" y="31176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89840" y="3117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56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74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28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79560" y="3117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1268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0400" y="1290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34920" y="38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829680" y="14889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34560" y="468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9924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302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326480" y="8175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7472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40964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47800" y="81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466880" y="8175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8920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524840" y="8175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185520" y="1733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32320" y="1733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266520" y="17334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32200" y="1191960"/>
              <a:ext cx="68040" cy="1552320"/>
            </a:xfrm>
            <a:custGeom>
              <a:avLst/>
              <a:gdLst/>
              <a:ahLst/>
              <a:rect l="l" t="t" r="r" b="b"/>
              <a:pathLst>
                <a:path w="43" h="978">
                  <a:moveTo>
                    <a:pt x="43" y="0"/>
                  </a:moveTo>
                  <a:lnTo>
                    <a:pt x="0" y="2"/>
                  </a:lnTo>
                  <a:lnTo>
                    <a:pt x="0" y="978"/>
                  </a:lnTo>
                  <a:lnTo>
                    <a:pt x="4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60060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5960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5281200" y="1908000"/>
              <a:ext cx="450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21316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70360" y="10414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50920" y="817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12480" y="8175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719680" y="1498680"/>
              <a:ext cx="900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716440" y="1485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16440" y="161748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284440" y="246852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284440" y="2679480"/>
              <a:ext cx="4348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281200" y="2574720"/>
              <a:ext cx="45396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284440" y="236988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0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79880" y="2612880"/>
              <a:ext cx="6170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19680" y="2663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16440" y="255888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94400" y="259704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97280" y="261288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497280" y="2612880"/>
              <a:ext cx="9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4920" y="256212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635440" y="3128760"/>
              <a:ext cx="32760" cy="345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0"/>
                  </a:moveTo>
                  <a:lnTo>
                    <a:pt x="13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652720" y="150156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581440" y="1633320"/>
              <a:ext cx="1306080" cy="1436400"/>
            </a:xfrm>
            <a:custGeom>
              <a:avLst/>
              <a:gdLst/>
              <a:ahLst/>
              <a:rect l="l" t="t" r="r" b="b"/>
              <a:pathLst>
                <a:path w="823" h="905">
                  <a:moveTo>
                    <a:pt x="821" y="87"/>
                  </a:moveTo>
                  <a:lnTo>
                    <a:pt x="823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9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952960" y="61308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968800" y="621180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284440" y="576900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284440" y="5979960"/>
              <a:ext cx="4316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290920" y="5875200"/>
              <a:ext cx="441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284440" y="566712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2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879880" y="5916600"/>
              <a:ext cx="6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716440" y="596088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13200" y="58626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91160" y="58975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494400" y="591660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6494040" y="5916600"/>
              <a:ext cx="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44920" y="58593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635440" y="6422760"/>
              <a:ext cx="3276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1" y="20"/>
                  </a:move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652720" y="480204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1440" y="4930560"/>
              <a:ext cx="1306080" cy="1441080"/>
            </a:xfrm>
            <a:custGeom>
              <a:avLst/>
              <a:gdLst/>
              <a:ahLst/>
              <a:rect l="l" t="t" r="r" b="b"/>
              <a:pathLst>
                <a:path w="823" h="908">
                  <a:moveTo>
                    <a:pt x="821" y="89"/>
                  </a:moveTo>
                  <a:lnTo>
                    <a:pt x="823" y="908"/>
                  </a:lnTo>
                  <a:lnTo>
                    <a:pt x="0" y="908"/>
                  </a:lnTo>
                  <a:lnTo>
                    <a:pt x="0" y="0"/>
                  </a:lnTo>
                  <a:lnTo>
                    <a:pt x="93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98720" y="458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698640" y="47448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801960" y="37591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698640" y="377496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16440" y="532116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>
              <a:off x="5658840" y="5337000"/>
              <a:ext cx="75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638680" y="532116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5581080" y="5443560"/>
              <a:ext cx="15372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16440" y="5427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5600" y="5430600"/>
              <a:ext cx="3456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722560" y="2020680"/>
              <a:ext cx="3168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5662440" y="2036520"/>
              <a:ext cx="7560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638680" y="202392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584680" y="2144520"/>
              <a:ext cx="153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722560" y="212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68840" y="212868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1"/>
                  </a:moveTo>
                  <a:lnTo>
                    <a:pt x="12" y="23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92360" y="79200"/>
            <a:ext cx="5568840" cy="6559560"/>
            <a:chOff x="2592360" y="79200"/>
            <a:chExt cx="5568840" cy="6559560"/>
          </a:xfrm>
        </p:grpSpPr>
        <p:grpSp>
          <p:nvGrpSpPr>
            <p:cNvPr id="3693" name=""/>
            <p:cNvGrpSpPr/>
            <p:nvPr/>
          </p:nvGrpSpPr>
          <p:grpSpPr>
            <a:xfrm>
              <a:off x="2592360" y="210960"/>
              <a:ext cx="5568840" cy="6078600"/>
              <a:chOff x="2592360" y="210960"/>
              <a:chExt cx="5568840" cy="60786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92760" y="5022720"/>
                <a:ext cx="211320" cy="992160"/>
              </a:xfrm>
              <a:custGeom>
                <a:avLst/>
                <a:gdLst/>
                <a:ahLst/>
                <a:rect l="l" t="t" r="r" b="b"/>
                <a:pathLst>
                  <a:path w="133" h="625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5"/>
                    </a:lnTo>
                    <a:lnTo>
                      <a:pt x="133" y="6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776920" y="49957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20" y="21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792760" y="1728720"/>
                <a:ext cx="211320" cy="99540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7"/>
                    </a:lnTo>
                    <a:lnTo>
                      <a:pt x="133" y="62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776920" y="17017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21"/>
                    </a:moveTo>
                    <a:lnTo>
                      <a:pt x="20" y="2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307040" y="19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1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1800" y="200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970440" y="1897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7638840" y="1770120"/>
                <a:ext cx="298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639200" y="2019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038480" y="542880"/>
                <a:ext cx="129240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4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94120" y="1785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698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H="1">
                <a:off x="6864480" y="1770120"/>
                <a:ext cx="71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24600" y="175428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3" y="22"/>
                    </a:lnTo>
                    <a:lnTo>
                      <a:pt x="23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29280" y="177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468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307040" y="5262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307040" y="50641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461280" y="6222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473880" y="616428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027320" y="3811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3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792680" y="42544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2" y="20"/>
                    </a:lnTo>
                    <a:lnTo>
                      <a:pt x="23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789440" y="4129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20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76920" y="3917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00560" y="3716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1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52920" y="4145040"/>
                <a:ext cx="2462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52880" y="4145040"/>
                <a:ext cx="1476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422520" y="44467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0" y="2"/>
                    </a:lnTo>
                    <a:lnTo>
                      <a:pt x="12" y="2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435480" y="3654360"/>
                <a:ext cx="358560" cy="79848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697120" y="3603600"/>
                <a:ext cx="1096920" cy="1281240"/>
              </a:xfrm>
              <a:custGeom>
                <a:avLst/>
                <a:gdLst/>
                <a:ahLst/>
                <a:rect l="l" t="t" r="r" b="b"/>
                <a:pathLst>
                  <a:path w="691" h="807">
                    <a:moveTo>
                      <a:pt x="0" y="807"/>
                    </a:moveTo>
                    <a:lnTo>
                      <a:pt x="2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82720" y="4878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0" y="0"/>
                    </a:lnTo>
                    <a:lnTo>
                      <a:pt x="11" y="2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91120" y="4352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91120" y="3902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0640" y="3917880"/>
                <a:ext cx="69840" cy="453960"/>
              </a:xfrm>
              <a:custGeom>
                <a:avLst/>
                <a:gdLst/>
                <a:ahLst/>
                <a:rect l="l" t="t" r="r" b="b"/>
                <a:pathLst>
                  <a:path w="44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4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944520" y="3537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99240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030560" y="3537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06404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102560" y="3537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12416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159080" y="3537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9038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941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97656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995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033800" y="3618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06728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085640" y="3618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10220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13712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175280" y="3618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98952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02444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063320" y="3697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079880" y="3697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4728960" y="4270320"/>
                <a:ext cx="75960" cy="180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62360" y="4232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1440" y="4040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17960" y="4040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73680" y="4106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908600" y="4106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73320" y="4173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755880" y="36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048200" y="3836880"/>
                <a:ext cx="129204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2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9112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3401280" y="412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3386880" y="4096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3401280" y="4069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3401280" y="4050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3381480" y="4015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3371760" y="39556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3399120" y="3918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3403800" y="3902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rot="16200000">
                <a:off x="3401280" y="3883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rot="16200000">
                <a:off x="3389400" y="385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rot="16200000">
                <a:off x="2625480" y="4757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16200000">
                <a:off x="2622960" y="4708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16200000">
                <a:off x="2613240" y="46494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rot="16200000">
                <a:off x="2640600" y="4614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rot="16200000">
                <a:off x="2645280" y="4597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6200000">
                <a:off x="2642760" y="458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rot="16200000">
                <a:off x="2630880" y="4550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4449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46364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115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024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57452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6213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63968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68792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7228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760280" y="6049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76480" y="6049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80996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8290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67560" y="6049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8880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3704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676680" y="3703680"/>
                <a:ext cx="92160" cy="485640"/>
              </a:xfrm>
              <a:custGeom>
                <a:avLst/>
                <a:gdLst/>
                <a:ahLst/>
                <a:rect l="l" t="t" r="r" b="b"/>
                <a:pathLst>
                  <a:path w="58" h="306">
                    <a:moveTo>
                      <a:pt x="58" y="0"/>
                    </a:moveTo>
                    <a:lnTo>
                      <a:pt x="0" y="0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66040" y="1062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473880" y="2778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20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462800" y="2602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462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642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3020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642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3020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2768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2768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91320" y="252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664400" y="5829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768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521480" y="10429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844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21200" y="5176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1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786200" y="960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0" y="20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780080" y="8352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0" y="22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67200" y="623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290840" y="422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3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43560" y="851040"/>
                <a:ext cx="24588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43520" y="851040"/>
                <a:ext cx="1508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16400" y="11523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29000" y="360360"/>
                <a:ext cx="355680" cy="798480"/>
              </a:xfrm>
              <a:custGeom>
                <a:avLst/>
                <a:gdLst/>
                <a:ahLst/>
                <a:rect l="l" t="t" r="r" b="b"/>
                <a:pathLst>
                  <a:path w="224" h="503">
                    <a:moveTo>
                      <a:pt x="0" y="503"/>
                    </a:moveTo>
                    <a:lnTo>
                      <a:pt x="0" y="0"/>
                    </a:lnTo>
                    <a:lnTo>
                      <a:pt x="224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690640" y="312840"/>
                <a:ext cx="1097280" cy="1278000"/>
              </a:xfrm>
              <a:custGeom>
                <a:avLst/>
                <a:gdLst/>
                <a:ahLst/>
                <a:rect l="l" t="t" r="r" b="b"/>
                <a:pathLst>
                  <a:path w="691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673360" y="15843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1" y="0"/>
                    </a:moveTo>
                    <a:lnTo>
                      <a:pt x="0" y="0"/>
                    </a:lnTo>
                    <a:lnTo>
                      <a:pt x="11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81760" y="1058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81760" y="60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21280" y="623880"/>
                <a:ext cx="73080" cy="453960"/>
              </a:xfrm>
              <a:custGeom>
                <a:avLst/>
                <a:gdLst/>
                <a:ahLst/>
                <a:rect l="l" t="t" r="r" b="b"/>
                <a:pathLst>
                  <a:path w="46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6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34800" y="243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98304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020840" y="24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05432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092840" y="24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11480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152960" y="243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9412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932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7044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986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24080" y="32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6080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075920" y="32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0924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3064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165560" y="324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97980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01796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053600" y="403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070520" y="40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4719600" y="976320"/>
                <a:ext cx="7632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53000" y="938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720" y="746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08600" y="746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63960" y="812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02120" y="812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3960" y="87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749760" y="3938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081760" y="8352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3391920" y="835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rot="16200000">
                <a:off x="3377520" y="802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rot="16200000">
                <a:off x="3391920" y="775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rot="16200000">
                <a:off x="3391920" y="75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16200000">
                <a:off x="3372120" y="721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16200000">
                <a:off x="3362400" y="6613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16200000">
                <a:off x="3389760" y="624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16200000">
                <a:off x="3394440" y="608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3391920" y="589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3380040" y="55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2615760" y="1463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2613240" y="1414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2603520" y="1355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2630880" y="132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2592360" y="79200"/>
              <a:ext cx="5476320" cy="3265560"/>
              <a:chOff x="2592360" y="79200"/>
              <a:chExt cx="5476320" cy="3265560"/>
            </a:xfrm>
          </p:grpSpPr>
          <p:sp>
            <p:nvSpPr>
              <p:cNvPr id="3895" name=""/>
              <p:cNvSpPr/>
              <p:nvPr/>
            </p:nvSpPr>
            <p:spPr>
              <a:xfrm rot="16200000">
                <a:off x="2635560" y="130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rot="16200000">
                <a:off x="2633040" y="128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rot="16200000">
                <a:off x="2621160" y="1256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43880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539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502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52052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56516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0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303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67820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71636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750560" y="27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767120" y="27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0204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1968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8200" y="27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7944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2768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676680" y="409680"/>
                <a:ext cx="85680" cy="444240"/>
              </a:xfrm>
              <a:custGeom>
                <a:avLst/>
                <a:gdLst/>
                <a:ahLst/>
                <a:rect l="l" t="t" r="r" b="b"/>
                <a:pathLst>
                  <a:path w="54" h="280">
                    <a:moveTo>
                      <a:pt x="54" y="0"/>
                    </a:moveTo>
                    <a:lnTo>
                      <a:pt x="0" y="0"/>
                    </a:lnTo>
                    <a:lnTo>
                      <a:pt x="0" y="2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496200" y="853920"/>
                <a:ext cx="295200" cy="199080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486480" y="1087560"/>
                <a:ext cx="1303560" cy="1857240"/>
              </a:xfrm>
              <a:custGeom>
                <a:avLst/>
                <a:gdLst/>
                <a:ahLst/>
                <a:rect l="l" t="t" r="r" b="b"/>
                <a:pathLst>
                  <a:path w="821" h="1170">
                    <a:moveTo>
                      <a:pt x="819" y="0"/>
                    </a:moveTo>
                    <a:lnTo>
                      <a:pt x="821" y="1170"/>
                    </a:lnTo>
                    <a:lnTo>
                      <a:pt x="0" y="117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6643440" y="2617920"/>
                <a:ext cx="82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496200" y="2617920"/>
                <a:ext cx="220680" cy="17928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9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792760" y="2249640"/>
                <a:ext cx="179280" cy="522000"/>
              </a:xfrm>
              <a:custGeom>
                <a:avLst/>
                <a:gdLst/>
                <a:ahLst/>
                <a:rect l="l" t="t" r="r" b="b"/>
                <a:pathLst>
                  <a:path w="113" h="329">
                    <a:moveTo>
                      <a:pt x="0" y="0"/>
                    </a:moveTo>
                    <a:lnTo>
                      <a:pt x="0" y="45"/>
                    </a:lnTo>
                    <a:lnTo>
                      <a:pt x="64" y="45"/>
                    </a:lnTo>
                    <a:lnTo>
                      <a:pt x="64" y="329"/>
                    </a:lnTo>
                    <a:lnTo>
                      <a:pt x="113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76680" y="2570040"/>
                <a:ext cx="1417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776920" y="2227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461280" y="2928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639200" y="1081080"/>
                <a:ext cx="15084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07040" y="176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660040" y="1760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706120" y="1760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1780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36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7144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00672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022920" y="1719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044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08448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616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34520" y="1719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510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8600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224160" y="1719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6280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01608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05136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1004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44960" y="179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66920" y="179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30704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8944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41880" y="2016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H="1">
                <a:off x="5856120" y="203184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766960" y="1795320"/>
                <a:ext cx="73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82744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3396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307040" y="1568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453920" y="1647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50216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5370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4520" y="1647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58784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624560" y="164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6432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678560" y="1647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70052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H="1">
                <a:off x="3676680" y="1386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62880" y="1930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18320" y="1930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73680" y="199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11840" y="19969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77368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62880" y="25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818320" y="2525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773680" y="259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811840" y="259236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73680" y="26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94880" y="1792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48520" y="1792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00424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042400" y="18572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003880" y="192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676680" y="1584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08176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4848120" y="19098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851520" y="175752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5268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292560" y="1795320"/>
                <a:ext cx="69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08176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4848120" y="1382760"/>
                <a:ext cx="239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081760" y="2352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749760" y="1386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1508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9372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158080" y="8161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138640" y="592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203080" y="592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0640" y="10494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254560" y="857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7064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254560" y="630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0640" y="1754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6297120" y="1770120"/>
                <a:ext cx="179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7392600" y="1770120"/>
                <a:ext cx="79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462800" y="2220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6867000" y="2236680"/>
                <a:ext cx="605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676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5644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9460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21368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248600" y="169380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0599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1168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1535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2104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245720" y="177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267320" y="177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762880" y="1405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818320" y="1405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5773680" y="1473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811840" y="1473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773680" y="1536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1880" y="1490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5856120" y="150660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25840" y="1795320"/>
                <a:ext cx="150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676680" y="857160"/>
                <a:ext cx="1414440" cy="1827360"/>
              </a:xfrm>
              <a:custGeom>
                <a:avLst/>
                <a:gdLst/>
                <a:ahLst/>
                <a:rect l="l" t="t" r="r" b="b"/>
                <a:pathLst>
                  <a:path w="891" h="1151">
                    <a:moveTo>
                      <a:pt x="891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081760" y="245412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825720" y="1587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081760" y="2554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81760" y="2665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3660840" y="2554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733920" y="1370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809880" y="15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2"/>
                    </a:moveTo>
                    <a:lnTo>
                      <a:pt x="12" y="22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700680" y="26020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496200" y="2620800"/>
                <a:ext cx="1217520" cy="27648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2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473880" y="28764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473880" y="2828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492960" y="2844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6643440" y="1770120"/>
                <a:ext cx="220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51520" y="22240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162920" y="28796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rot="16200000">
                <a:off x="3600000" y="1694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rot="16200000">
                <a:off x="3588120" y="166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rot="16200000">
                <a:off x="3590280" y="162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rot="16200000">
                <a:off x="3600000" y="1603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rot="16200000">
                <a:off x="3597840" y="1582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rot="16200000">
                <a:off x="3588120" y="155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rot="16200000">
                <a:off x="3590280" y="1517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rot="16200000">
                <a:off x="3600000" y="14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rot="16200000">
                <a:off x="3602520" y="1479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rot="16200000">
                <a:off x="3588120" y="1448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rot="16200000">
                <a:off x="3588120" y="140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459240" y="104760"/>
                <a:ext cx="1440" cy="10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441600" y="1058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38472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403440" y="105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44484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46536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480840" y="105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459240" y="2746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513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5733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3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5" name=""/>
            <p:cNvGrpSpPr/>
            <p:nvPr/>
          </p:nvGrpSpPr>
          <p:grpSpPr>
            <a:xfrm>
              <a:off x="2641680" y="79200"/>
              <a:ext cx="5519520" cy="6434280"/>
              <a:chOff x="2641680" y="79200"/>
              <a:chExt cx="5519520" cy="6434280"/>
            </a:xfrm>
          </p:grpSpPr>
          <p:sp>
            <p:nvSpPr>
              <p:cNvPr id="4096" name=""/>
              <p:cNvSpPr/>
              <p:nvPr/>
            </p:nvSpPr>
            <p:spPr>
              <a:xfrm>
                <a:off x="36925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7209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7814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8386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8685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90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9574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0179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0482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076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1371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186520" y="104760"/>
                <a:ext cx="2880" cy="41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2452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020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625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421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48100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5040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170320" y="40968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21" y="0"/>
                    </a:moveTo>
                    <a:lnTo>
                      <a:pt x="21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10372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119200" y="406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16744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18580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23188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3960" y="104760"/>
                <a:ext cx="2880" cy="63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3012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52800" y="79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7294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759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819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8803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9087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9390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9674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9962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0279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0563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58120" y="63324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44472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48900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534000" y="633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5524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60816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5352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572240" y="104760"/>
                <a:ext cx="180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626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686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7454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773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834680" y="79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869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279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91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0485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553160" y="857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43148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8440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53156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588080" y="857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603920" y="857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66692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650680" y="3116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728080" y="311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75112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81124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86200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917800" y="311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94624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80376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602160" y="38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803760" y="149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602160" y="460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6872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0054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900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70392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862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32440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658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0054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658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0054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0086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0086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0086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299840" y="819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34808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8624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22600" y="819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42040" y="819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6400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501440" y="81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60320" y="1735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05680" y="1735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243120" y="1735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57396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572240" y="2746440"/>
                <a:ext cx="180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5254200" y="1909800"/>
                <a:ext cx="45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8652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548760" y="1042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524640" y="81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589080" y="816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6499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104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69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829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885720" y="3367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120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597080" y="337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619400" y="33735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69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72956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78680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8469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8757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056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344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6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945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0233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5254200" y="4680000"/>
                <a:ext cx="451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867360" y="5067360"/>
                <a:ext cx="68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496200" y="4148280"/>
                <a:ext cx="29520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486480" y="4375080"/>
                <a:ext cx="1303560" cy="186696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19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496200" y="5918040"/>
                <a:ext cx="220680" cy="173160"/>
              </a:xfrm>
              <a:custGeom>
                <a:avLst/>
                <a:gdLst/>
                <a:ahLst/>
                <a:rect l="l" t="t" r="r" b="b"/>
                <a:pathLst>
                  <a:path w="139" h="109">
                    <a:moveTo>
                      <a:pt x="139" y="0"/>
                    </a:moveTo>
                    <a:lnTo>
                      <a:pt x="139" y="109"/>
                    </a:lnTo>
                    <a:lnTo>
                      <a:pt x="0" y="10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94120" y="5079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700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640560" y="4151160"/>
                <a:ext cx="834840" cy="223920"/>
              </a:xfrm>
              <a:custGeom>
                <a:avLst/>
                <a:gdLst/>
                <a:ahLst/>
                <a:rect l="l" t="t" r="r" b="b"/>
                <a:pathLst>
                  <a:path w="526" h="141">
                    <a:moveTo>
                      <a:pt x="526" y="141"/>
                    </a:moveTo>
                    <a:lnTo>
                      <a:pt x="482" y="141"/>
                    </a:lnTo>
                    <a:lnTo>
                      <a:pt x="48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92760" y="5546880"/>
                <a:ext cx="176400" cy="519120"/>
              </a:xfrm>
              <a:custGeom>
                <a:avLst/>
                <a:gdLst/>
                <a:ahLst/>
                <a:rect l="l" t="t" r="r" b="b"/>
                <a:pathLst>
                  <a:path w="111" h="327">
                    <a:moveTo>
                      <a:pt x="0" y="0"/>
                    </a:moveTo>
                    <a:lnTo>
                      <a:pt x="0" y="45"/>
                    </a:lnTo>
                    <a:lnTo>
                      <a:pt x="60" y="45"/>
                    </a:lnTo>
                    <a:lnTo>
                      <a:pt x="60" y="327"/>
                    </a:lnTo>
                    <a:lnTo>
                      <a:pt x="111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676680" y="5864400"/>
                <a:ext cx="1417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76920" y="5521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639200" y="4375080"/>
                <a:ext cx="15084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473880" y="612288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60040" y="5054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706120" y="5054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91780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936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97144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00672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022920" y="50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044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8448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1616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134520" y="50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1510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18600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224160" y="5013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96280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01608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05136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11004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144960" y="5092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166920" y="5092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  <a:lnTo>
                      <a:pt x="266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307040" y="4664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68944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4188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5856120" y="5329080"/>
                <a:ext cx="198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21800" y="529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66960" y="5092560"/>
                <a:ext cx="73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2744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3396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307040" y="4862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453920" y="4941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50216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5370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574520" y="4941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58784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4560" y="494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432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678560" y="4941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70052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970440" y="5191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676680" y="4680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762880" y="5224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18320" y="5224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773680" y="5291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11840" y="5291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773680" y="535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62880" y="580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18320" y="58071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3680" y="587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2650680" y="1360440"/>
              <a:ext cx="5418000" cy="5278320"/>
              <a:chOff x="2650680" y="1360440"/>
              <a:chExt cx="5418000" cy="52783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811840" y="58705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773680" y="593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94880" y="5086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048520" y="5086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004240" y="5154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8042400" y="515448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8003880" y="521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76680" y="4878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08176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8120" y="5205240"/>
                <a:ext cx="239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35268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292560" y="5092560"/>
                <a:ext cx="6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08176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4848120" y="46800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081760" y="56498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749760" y="4680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5088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9372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158080" y="411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138640" y="3886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203080" y="3886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548760" y="4336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52464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589080" y="4113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47064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254560" y="4151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47064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54560" y="3924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70640" y="5048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6297120" y="5067360"/>
                <a:ext cx="17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66040" y="43592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46280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H="1">
                <a:off x="7638840" y="5067360"/>
                <a:ext cx="29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7392600" y="5067360"/>
                <a:ext cx="79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466040" y="5514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39200" y="5313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H="1">
                <a:off x="6867000" y="5533920"/>
                <a:ext cx="605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106760" y="4991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15644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194600" y="4991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21368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248600" y="49910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599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1168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1535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2104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245720" y="50706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267320" y="5070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762880" y="4699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18320" y="4699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773680" y="4767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811840" y="4767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773680" y="483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051600" y="606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09300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3116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6152400" y="606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6202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23772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25968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296760" y="6062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310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3482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388200" y="6062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6104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9920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233400" y="6143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249960" y="6143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051600" y="276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09300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13116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152400" y="276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02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3772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5968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6760" y="276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0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482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88200" y="2768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16104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19920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233400" y="2849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249960" y="2849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041880" y="47847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>
                <a:off x="5856120" y="4803840"/>
                <a:ext cx="198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68944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>
                <a:off x="5254200" y="1376280"/>
                <a:ext cx="4510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89440" y="1360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525840" y="5092560"/>
                <a:ext cx="15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676680" y="4151160"/>
                <a:ext cx="1414440" cy="1828800"/>
              </a:xfrm>
              <a:custGeom>
                <a:avLst/>
                <a:gdLst/>
                <a:ahLst/>
                <a:rect l="l" t="t" r="r" b="b"/>
                <a:pathLst>
                  <a:path w="891" h="1152">
                    <a:moveTo>
                      <a:pt x="891" y="1152"/>
                    </a:moveTo>
                    <a:lnTo>
                      <a:pt x="0" y="1152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081760" y="574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25720" y="4881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081760" y="5848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081760" y="59594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660840" y="5848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733920" y="466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09880" y="48657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466040" y="5886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703920" y="5889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473880" y="6072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929280" y="50482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62920" y="61675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rot="16200000">
                <a:off x="3600000" y="498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rot="16200000">
                <a:off x="358812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rot="16200000">
                <a:off x="3590280" y="492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rot="16200000">
                <a:off x="3600000" y="4897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rot="16200000">
                <a:off x="3597840" y="4879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rot="16200000">
                <a:off x="3588120" y="4847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rot="16200000">
                <a:off x="3590280" y="481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3600000" y="478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3602520" y="4773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3588120" y="47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3588120" y="470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459240" y="3402000"/>
                <a:ext cx="1440" cy="108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441600" y="4352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38472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403440" y="435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44484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46536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80840" y="435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59240" y="6040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86520" y="3402000"/>
                <a:ext cx="2880" cy="40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245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302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362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4212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50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10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6740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008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293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686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466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769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8053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658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170320" y="370368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372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19200" y="3700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16744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18580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3188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73960" y="3402000"/>
                <a:ext cx="28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58120" y="39276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44472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8900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34000" y="3927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55524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60816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65352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572240" y="3402000"/>
                <a:ext cx="1800" cy="86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553160" y="4151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43148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48440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53156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588080" y="415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603920" y="4151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66692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651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7097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770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274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8558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9178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9750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067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35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94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543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18276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211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2734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650680" y="6410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728080" y="6410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5112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81124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86200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917800" y="6410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94624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803760" y="4786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608280" y="3747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968720" y="383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7" name=""/>
            <p:cNvSpPr/>
            <p:nvPr/>
          </p:nvSpPr>
          <p:spPr>
            <a:xfrm>
              <a:off x="50054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2862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440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6644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40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9658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0054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9658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0054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00868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0868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784680" y="4584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08280" y="366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46560" y="498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868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2862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32440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2862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2440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8624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8624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8624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99840" y="4113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34808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8624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422600" y="41133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442040" y="4113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46400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501440" y="4113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60320" y="5029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05680" y="502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243120" y="5029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7396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7572240" y="6040440"/>
              <a:ext cx="180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5254200" y="5205240"/>
              <a:ext cx="45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652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675480" y="405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>
              <a:off x="6646680" y="5902200"/>
              <a:ext cx="825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640560" y="5067360"/>
              <a:ext cx="226800" cy="46656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0" y="0"/>
                  </a:moveTo>
                  <a:lnTo>
                    <a:pt x="143" y="0"/>
                  </a:lnTo>
                  <a:lnTo>
                    <a:pt x="143" y="2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521480" y="43369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584480" y="4336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640560" y="857160"/>
              <a:ext cx="834840" cy="22392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526" y="141"/>
                  </a:moveTo>
                  <a:lnTo>
                    <a:pt x="482" y="141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02320" y="5905440"/>
              <a:ext cx="1217520" cy="279360"/>
            </a:xfrm>
            <a:custGeom>
              <a:avLst/>
              <a:gdLst/>
              <a:ahLst/>
              <a:rect l="l" t="t" r="r" b="b"/>
              <a:pathLst>
                <a:path w="767" h="176">
                  <a:moveTo>
                    <a:pt x="0" y="176"/>
                  </a:moveTo>
                  <a:lnTo>
                    <a:pt x="767" y="176"/>
                  </a:lnTo>
                  <a:lnTo>
                    <a:pt x="767" y="0"/>
                  </a:lnTo>
                  <a:lnTo>
                    <a:pt x="7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689440" y="1490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616720" y="3127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632560" y="1506600"/>
              <a:ext cx="73080" cy="1639800"/>
            </a:xfrm>
            <a:custGeom>
              <a:avLst/>
              <a:gdLst/>
              <a:ahLst/>
              <a:rect l="l" t="t" r="r" b="b"/>
              <a:pathLst>
                <a:path w="46" h="1033">
                  <a:moveTo>
                    <a:pt x="46" y="0"/>
                  </a:moveTo>
                  <a:lnTo>
                    <a:pt x="0" y="0"/>
                  </a:lnTo>
                  <a:lnTo>
                    <a:pt x="0" y="1033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929200" y="28353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935680" y="2916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48280" y="29322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61040" y="2476440"/>
              <a:ext cx="696960" cy="45576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439" y="287"/>
                  </a:moveTo>
                  <a:lnTo>
                    <a:pt x="87" y="287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61040" y="2684520"/>
              <a:ext cx="438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257800" y="257976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261040" y="2374920"/>
              <a:ext cx="681120" cy="479520"/>
            </a:xfrm>
            <a:custGeom>
              <a:avLst/>
              <a:gdLst/>
              <a:ahLst/>
              <a:rect l="l" t="t" r="r" b="b"/>
              <a:pathLst>
                <a:path w="429" h="302">
                  <a:moveTo>
                    <a:pt x="0" y="0"/>
                  </a:moveTo>
                  <a:lnTo>
                    <a:pt x="121" y="0"/>
                  </a:lnTo>
                  <a:lnTo>
                    <a:pt x="121" y="302"/>
                  </a:lnTo>
                  <a:lnTo>
                    <a:pt x="429" y="3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853240" y="2617920"/>
              <a:ext cx="620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692680" y="25639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695920" y="266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467400" y="2602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311800" y="2563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692680" y="1631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89440" y="1616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560920" y="1631880"/>
              <a:ext cx="1303560" cy="1447920"/>
            </a:xfrm>
            <a:custGeom>
              <a:avLst/>
              <a:gdLst/>
              <a:ahLst/>
              <a:rect l="l" t="t" r="r" b="b"/>
              <a:pathLst>
                <a:path w="821" h="912">
                  <a:moveTo>
                    <a:pt x="821" y="91"/>
                  </a:moveTo>
                  <a:lnTo>
                    <a:pt x="821" y="910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692680" y="20289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5635800" y="204480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619600" y="202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5557320" y="215100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692680" y="213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541840" y="21384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692680" y="53071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5635800" y="532296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619600" y="53071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5557320" y="542916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5692680" y="541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5541840" y="54165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616720" y="64245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692680" y="4791240"/>
              <a:ext cx="972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5689440" y="4775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5929200" y="61228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2" y="20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5932440" y="62006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261040" y="5761080"/>
              <a:ext cx="684000" cy="458640"/>
            </a:xfrm>
            <a:custGeom>
              <a:avLst/>
              <a:gdLst/>
              <a:ahLst/>
              <a:rect l="l" t="t" r="r" b="b"/>
              <a:pathLst>
                <a:path w="431" h="289">
                  <a:moveTo>
                    <a:pt x="431" y="289"/>
                  </a:moveTo>
                  <a:lnTo>
                    <a:pt x="87" y="289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257800" y="586728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261040" y="5662440"/>
              <a:ext cx="681120" cy="476280"/>
            </a:xfrm>
            <a:custGeom>
              <a:avLst/>
              <a:gdLst/>
              <a:ahLst/>
              <a:rect l="l" t="t" r="r" b="b"/>
              <a:pathLst>
                <a:path w="429" h="300">
                  <a:moveTo>
                    <a:pt x="0" y="0"/>
                  </a:moveTo>
                  <a:lnTo>
                    <a:pt x="121" y="0"/>
                  </a:lnTo>
                  <a:lnTo>
                    <a:pt x="121" y="300"/>
                  </a:lnTo>
                  <a:lnTo>
                    <a:pt x="429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692680" y="5848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692680" y="59529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" y="2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464160" y="5886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321160" y="58514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689440" y="4910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560920" y="4925880"/>
              <a:ext cx="1303560" cy="1436760"/>
            </a:xfrm>
            <a:custGeom>
              <a:avLst/>
              <a:gdLst/>
              <a:ahLst/>
              <a:rect l="l" t="t" r="r" b="b"/>
              <a:pathLst>
                <a:path w="821" h="905">
                  <a:moveTo>
                    <a:pt x="821" y="87"/>
                  </a:moveTo>
                  <a:lnTo>
                    <a:pt x="821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774960" y="463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673440" y="482760"/>
              <a:ext cx="11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774960" y="3745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73440" y="3763800"/>
              <a:ext cx="11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84720" y="357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0" y="21"/>
                  </a:moveTo>
                  <a:lnTo>
                    <a:pt x="22" y="0"/>
                  </a:lnTo>
                  <a:lnTo>
                    <a:pt x="0" y="1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814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70016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7480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76676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81248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8578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87404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9309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96908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02380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07204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11020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1451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307040" y="37800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02160" y="835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300560" y="3662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2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814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70016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7480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76676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81248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8578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7404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9309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96908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02380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07204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11020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1451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307040" y="367812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402160" y="4135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2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162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73800" y="792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80836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4004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98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920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876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01608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0780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1352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1640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195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25296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5481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608640" y="33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6432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6734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7339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908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8196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8527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9099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97044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99888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0273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0892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261040" y="5972040"/>
              <a:ext cx="43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632560" y="4794120"/>
              <a:ext cx="73080" cy="163692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851520" y="50515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851520" y="551808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5852880" y="5902200"/>
              <a:ext cx="610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 (stalling is too sl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094400" y="1832040"/>
            <a:ext cx="6948000" cy="3654360"/>
            <a:chOff x="1094400" y="1832040"/>
            <a:chExt cx="6948000" cy="3654360"/>
          </a:xfrm>
        </p:grpSpPr>
        <p:grpSp>
          <p:nvGrpSpPr>
            <p:cNvPr id="4659" name=""/>
            <p:cNvGrpSpPr/>
            <p:nvPr/>
          </p:nvGrpSpPr>
          <p:grpSpPr>
            <a:xfrm>
              <a:off x="1094400" y="1832040"/>
              <a:ext cx="6948000" cy="3522600"/>
              <a:chOff x="1094400" y="1832040"/>
              <a:chExt cx="6948000" cy="3522600"/>
            </a:xfrm>
          </p:grpSpPr>
          <p:sp>
            <p:nvSpPr>
              <p:cNvPr id="4660" name=""/>
              <p:cNvSpPr/>
              <p:nvPr/>
            </p:nvSpPr>
            <p:spPr>
              <a:xfrm>
                <a:off x="5419800" y="5216400"/>
                <a:ext cx="135000" cy="32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51640" y="5216400"/>
                <a:ext cx="1346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15304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5786280" y="5084280"/>
                <a:ext cx="180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786280" y="5084640"/>
                <a:ext cx="136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786280" y="5351400"/>
                <a:ext cx="1368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8100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901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9760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4518000" y="387972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510080" y="3884400"/>
                <a:ext cx="1429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510080" y="4149720"/>
                <a:ext cx="14292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54464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637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7062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651640" y="455148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651640" y="4683240"/>
                <a:ext cx="16956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386240" y="3351240"/>
                <a:ext cx="16668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05492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053040" y="5149800"/>
                <a:ext cx="136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419800" y="4551480"/>
                <a:ext cx="1350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419800" y="4683240"/>
                <a:ext cx="13500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55308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42132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784760" y="408456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151160" y="3486240"/>
                <a:ext cx="401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151160" y="335124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1660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153040" y="2687760"/>
                <a:ext cx="135000" cy="26640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542304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>
                <a:off x="5288040" y="2687760"/>
                <a:ext cx="139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5288040" y="2954160"/>
                <a:ext cx="139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324972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41800" y="268776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241800" y="2954160"/>
                <a:ext cx="1429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619360" y="2687760"/>
                <a:ext cx="13176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81440" y="2819520"/>
                <a:ext cx="371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6480" y="2752560"/>
                <a:ext cx="40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119480" y="2819520"/>
                <a:ext cx="398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516480" y="2884320"/>
                <a:ext cx="4014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82760" y="2752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840" y="281952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252960" y="328608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153040" y="328608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516480" y="3417840"/>
                <a:ext cx="3711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754520" y="3417840"/>
                <a:ext cx="3985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419800" y="3417840"/>
                <a:ext cx="36648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817800" y="3355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9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086440" y="3417840"/>
                <a:ext cx="468360" cy="203040"/>
              </a:xfrm>
              <a:custGeom>
                <a:avLst/>
                <a:gdLst/>
                <a:ahLst/>
                <a:rect l="l" t="t" r="r" b="b"/>
                <a:pathLst>
                  <a:path w="295" h="128">
                    <a:moveTo>
                      <a:pt x="0" y="0"/>
                    </a:moveTo>
                    <a:lnTo>
                      <a:pt x="0" y="128"/>
                    </a:lnTo>
                    <a:lnTo>
                      <a:pt x="254" y="128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6110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7032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7968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28314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085840" y="1832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216180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193840" y="183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29788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37132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40660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4490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478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54916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58408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64924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6805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75076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815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87784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9160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977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445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096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35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12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7348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880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3564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4317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4659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5357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608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67940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6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86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8601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89504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29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002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0728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21124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2145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187280" y="2687760"/>
                <a:ext cx="1800" cy="262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160640" y="5297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2" y="0"/>
                    </a:moveTo>
                    <a:lnTo>
                      <a:pt x="0" y="2"/>
                    </a:lnTo>
                    <a:lnTo>
                      <a:pt x="17" y="3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94760" y="186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17936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22148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29456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36512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40724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481040" y="1862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590840" y="18622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09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16820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29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30284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36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439640" y="20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474560" y="2016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50408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57392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647720" y="20160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09440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1685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1032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28016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539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397160" y="21668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0954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137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64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12380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1272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130248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13726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14396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147492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1515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5904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165240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69020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7168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178992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186012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9270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430440" y="1915920"/>
                <a:ext cx="45691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88400" y="18889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0" y="34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  <a:lnTo>
                      <a:pt x="64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92120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4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3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2120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0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0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887640" y="3884400"/>
                <a:ext cx="131760" cy="270000"/>
              </a:xfrm>
              <a:custGeom>
                <a:avLst/>
                <a:gdLst/>
                <a:ahLst/>
                <a:rect l="l" t="t" r="r" b="b"/>
                <a:pathLst>
                  <a:path w="83" h="170">
                    <a:moveTo>
                      <a:pt x="83" y="0"/>
                    </a:moveTo>
                    <a:lnTo>
                      <a:pt x="0" y="2"/>
                    </a:lnTo>
                    <a:lnTo>
                      <a:pt x="0" y="170"/>
                    </a:lnTo>
                    <a:lnTo>
                      <a:pt x="83" y="1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786280" y="388764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5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51160" y="4019400"/>
                <a:ext cx="366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388120" y="4019400"/>
                <a:ext cx="39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053040" y="4019400"/>
                <a:ext cx="3682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452840" y="3952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721480" y="4019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1"/>
                    </a:lnTo>
                    <a:lnTo>
                      <a:pt x="295" y="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18000" y="448632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784760" y="4618080"/>
                <a:ext cx="3682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018120" y="461808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688080" y="4618080"/>
                <a:ext cx="366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86440" y="4551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354720" y="461808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4" y="126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0" name=""/>
            <p:cNvGrpSpPr/>
            <p:nvPr/>
          </p:nvGrpSpPr>
          <p:grpSpPr>
            <a:xfrm>
              <a:off x="1288080" y="2070000"/>
              <a:ext cx="6704640" cy="3416400"/>
              <a:chOff x="1288080" y="2070000"/>
              <a:chExt cx="6704640" cy="3416400"/>
            </a:xfrm>
          </p:grpSpPr>
          <p:sp>
            <p:nvSpPr>
              <p:cNvPr id="4861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653160" y="5216400"/>
                <a:ext cx="4017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323120" y="5216400"/>
                <a:ext cx="366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053040" y="528480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721480" y="51498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989760" y="5216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1" y="126"/>
                    </a:lnTo>
                    <a:lnTo>
                      <a:pt x="251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518000" y="2687760"/>
                <a:ext cx="266760" cy="26640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78476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286680" y="514980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6809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71620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27636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678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423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145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349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9084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284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9492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98448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82588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91804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458424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4618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5912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553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09416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186680" y="5135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55580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464976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968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711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3409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3884760" y="3281400"/>
                <a:ext cx="28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76840" y="328608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76840" y="355284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91140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02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7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058080" y="328140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922720" y="328608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922720" y="355284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292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9061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97600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688080" y="3879720"/>
                <a:ext cx="180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555960" y="3884400"/>
                <a:ext cx="1350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6555960" y="414972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4796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539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09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7315200" y="448596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7191360" y="4483080"/>
                <a:ext cx="123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7191360" y="4753080"/>
                <a:ext cx="123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070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1636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2367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961400" y="508428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7824600" y="508464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7824600" y="5351400"/>
                <a:ext cx="13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71660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8098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8778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214600" y="5151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253120" y="5151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12880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3564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14317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146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535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608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67940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716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786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859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929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9681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2002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20725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2145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218088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22154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22899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2880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3564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4317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46592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536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5775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616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686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759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829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8680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902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972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2045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20808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1153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2188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2880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3564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317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659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35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608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67940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716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786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1859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929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9681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2002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0725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145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18088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2154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2899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1288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356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43172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466640" y="5135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4936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5854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6246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693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76796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032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8374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1052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8108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0232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962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16684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244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338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430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464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879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973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065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099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5144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6065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7001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73472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1480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2416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3337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36796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830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748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96880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0030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416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5098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6020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6366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51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1449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237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271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686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7785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872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06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1782720" y="2908440"/>
                <a:ext cx="723960" cy="2171520"/>
              </a:xfrm>
              <a:custGeom>
                <a:avLst/>
                <a:gdLst/>
                <a:ahLst/>
                <a:rect l="l" t="t" r="r" b="b"/>
                <a:pathLst>
                  <a:path w="456" h="1368">
                    <a:moveTo>
                      <a:pt x="0" y="1368"/>
                    </a:moveTo>
                    <a:lnTo>
                      <a:pt x="0" y="1261"/>
                    </a:lnTo>
                    <a:lnTo>
                      <a:pt x="456" y="1261"/>
                    </a:lnTo>
                    <a:lnTo>
                      <a:pt x="456" y="133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1755720" y="50688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0" y="3"/>
                    </a:lnTo>
                    <a:lnTo>
                      <a:pt x="17" y="3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1652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1652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5153040" y="4478040"/>
                <a:ext cx="1440" cy="27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145120" y="448632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5145120" y="4753080"/>
              <a:ext cx="142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179680" y="453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27112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34096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016600" y="4084560"/>
              <a:ext cx="17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84760" y="3949560"/>
              <a:ext cx="403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  <a:lnTo>
                    <a:pt x="60" y="3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inuindo a penalidade do “branch take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squema ant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ão só é tomada no estágio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 “branch taken” é necessário limpar (flush) os estágios IF, ID e 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clock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diminuir a pena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cipar a decisão do estágio MEM para o estágio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dois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sh somente instrução sendo lida da memória (fet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danças no hardw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o endereço do desvio (PC + offset&lt;&lt;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 dos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ORs com or na sa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s rápido do que a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200160" y="965160"/>
            <a:ext cx="8714520" cy="5511600"/>
            <a:chOff x="200160" y="965160"/>
            <a:chExt cx="8714520" cy="5511600"/>
          </a:xfrm>
        </p:grpSpPr>
        <p:grpSp>
          <p:nvGrpSpPr>
            <p:cNvPr id="5077" name=""/>
            <p:cNvGrpSpPr/>
            <p:nvPr/>
          </p:nvGrpSpPr>
          <p:grpSpPr>
            <a:xfrm>
              <a:off x="200160" y="1112040"/>
              <a:ext cx="8714520" cy="5253120"/>
              <a:chOff x="200160" y="1112040"/>
              <a:chExt cx="8714520" cy="5253120"/>
            </a:xfrm>
          </p:grpSpPr>
          <p:sp>
            <p:nvSpPr>
              <p:cNvPr id="5078" name=""/>
              <p:cNvSpPr/>
              <p:nvPr/>
            </p:nvSpPr>
            <p:spPr>
              <a:xfrm>
                <a:off x="4080600" y="2295000"/>
                <a:ext cx="19980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5307840" y="45813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5307840" y="3788640"/>
                <a:ext cx="5040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45000" y="603504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3" y="25"/>
                    </a:lnTo>
                    <a:lnTo>
                      <a:pt x="0" y="1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647520" y="1225080"/>
                <a:ext cx="4702680" cy="4837680"/>
              </a:xfrm>
              <a:custGeom>
                <a:avLst/>
                <a:gdLst/>
                <a:ahLst/>
                <a:rect l="l" t="t" r="r" b="b"/>
                <a:pathLst>
                  <a:path w="2207" h="2270">
                    <a:moveTo>
                      <a:pt x="0" y="891"/>
                    </a:moveTo>
                    <a:lnTo>
                      <a:pt x="0" y="0"/>
                    </a:lnTo>
                    <a:lnTo>
                      <a:pt x="2207" y="0"/>
                    </a:lnTo>
                    <a:lnTo>
                      <a:pt x="2207" y="2270"/>
                    </a:lnTo>
                    <a:lnTo>
                      <a:pt x="1283" y="227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122320" y="2638080"/>
                <a:ext cx="2278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00800" y="2295000"/>
                <a:ext cx="444960" cy="3616200"/>
              </a:xfrm>
              <a:custGeom>
                <a:avLst/>
                <a:gdLst/>
                <a:ahLst/>
                <a:rect l="l" t="t" r="r" b="b"/>
                <a:pathLst>
                  <a:path w="209" h="1697">
                    <a:moveTo>
                      <a:pt x="207" y="0"/>
                    </a:moveTo>
                    <a:lnTo>
                      <a:pt x="209" y="1697"/>
                    </a:lnTo>
                    <a:lnTo>
                      <a:pt x="0" y="169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330880" y="4617720"/>
                <a:ext cx="270360" cy="1216800"/>
              </a:xfrm>
              <a:custGeom>
                <a:avLst/>
                <a:gdLst/>
                <a:ahLst/>
                <a:rect l="l" t="t" r="r" b="b"/>
                <a:pathLst>
                  <a:path w="127" h="571">
                    <a:moveTo>
                      <a:pt x="0" y="0"/>
                    </a:moveTo>
                    <a:lnTo>
                      <a:pt x="2" y="50"/>
                    </a:lnTo>
                    <a:lnTo>
                      <a:pt x="71" y="50"/>
                    </a:lnTo>
                    <a:lnTo>
                      <a:pt x="71" y="571"/>
                    </a:lnTo>
                    <a:lnTo>
                      <a:pt x="127" y="57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30880" y="3825000"/>
                <a:ext cx="289800" cy="1935000"/>
              </a:xfrm>
              <a:custGeom>
                <a:avLst/>
                <a:gdLst/>
                <a:ahLst/>
                <a:rect l="l" t="t" r="r" b="b"/>
                <a:pathLst>
                  <a:path w="136" h="908">
                    <a:moveTo>
                      <a:pt x="0" y="0"/>
                    </a:moveTo>
                    <a:lnTo>
                      <a:pt x="2" y="50"/>
                    </a:lnTo>
                    <a:lnTo>
                      <a:pt x="100" y="50"/>
                    </a:lnTo>
                    <a:lnTo>
                      <a:pt x="100" y="908"/>
                    </a:lnTo>
                    <a:lnTo>
                      <a:pt x="136" y="90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1785240" y="274860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1804680" y="1412640"/>
                <a:ext cx="511200" cy="13485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2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200" y="1335600"/>
                <a:ext cx="1759680" cy="2282400"/>
              </a:xfrm>
              <a:custGeom>
                <a:avLst/>
                <a:gdLst/>
                <a:ahLst/>
                <a:rect l="l" t="t" r="r" b="b"/>
                <a:pathLst>
                  <a:path w="826" h="1071">
                    <a:moveTo>
                      <a:pt x="0" y="1071"/>
                    </a:moveTo>
                    <a:lnTo>
                      <a:pt x="0" y="0"/>
                    </a:lnTo>
                    <a:lnTo>
                      <a:pt x="8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30640" y="360936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00160" y="1112040"/>
                <a:ext cx="3006720" cy="4558680"/>
              </a:xfrm>
              <a:custGeom>
                <a:avLst/>
                <a:gdLst/>
                <a:ahLst/>
                <a:rect l="l" t="t" r="r" b="b"/>
                <a:pathLst>
                  <a:path w="1411" h="2139">
                    <a:moveTo>
                      <a:pt x="686" y="2137"/>
                    </a:moveTo>
                    <a:lnTo>
                      <a:pt x="0" y="2139"/>
                    </a:lnTo>
                    <a:lnTo>
                      <a:pt x="0" y="0"/>
                    </a:lnTo>
                    <a:lnTo>
                      <a:pt x="1411" y="0"/>
                    </a:lnTo>
                    <a:lnTo>
                      <a:pt x="1411" y="417"/>
                    </a:lnTo>
                    <a:lnTo>
                      <a:pt x="1246" y="4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1650960" y="564264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624480" y="311112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072600" y="1446840"/>
                <a:ext cx="901080" cy="517320"/>
              </a:xfrm>
              <a:custGeom>
                <a:avLst/>
                <a:gdLst/>
                <a:ahLst/>
                <a:rect l="l" t="t" r="r" b="b"/>
                <a:pathLst>
                  <a:path w="423" h="243">
                    <a:moveTo>
                      <a:pt x="423" y="243"/>
                    </a:moveTo>
                    <a:lnTo>
                      <a:pt x="42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835080" y="23968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950640" y="1951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3777120" y="2422440"/>
                <a:ext cx="70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87360" y="388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0320" y="3871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55840" y="3871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9885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101556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07316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1217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152360" y="381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118440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124200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9024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319400" y="381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34388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39752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1452960" y="38145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05696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1394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19772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2780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335600" y="392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367640" y="39276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lnTo>
                      <a:pt x="301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087360" y="4189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62840" y="2665800"/>
                <a:ext cx="319320" cy="1265400"/>
              </a:xfrm>
              <a:custGeom>
                <a:avLst/>
                <a:gdLst/>
                <a:ahLst/>
                <a:rect l="l" t="t" r="r" b="b"/>
                <a:pathLst>
                  <a:path w="150" h="594">
                    <a:moveTo>
                      <a:pt x="150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971280" y="31194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122840" y="2512080"/>
                <a:ext cx="244800" cy="76284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5"/>
                    </a:lnTo>
                    <a:lnTo>
                      <a:pt x="37" y="180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9"/>
                    </a:lnTo>
                    <a:lnTo>
                      <a:pt x="115" y="11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179680" y="407448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710320" y="42620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5429160" y="4287600"/>
                <a:ext cx="298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55036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550360" y="42426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39080" y="3908160"/>
                <a:ext cx="4896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065240" y="264204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065240" y="30963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73360" y="306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49800" y="3931200"/>
                <a:ext cx="223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58600" y="39081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5000" y="39081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2441520" y="22712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  <a:lnTo>
                      <a:pt x="353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08760" y="3703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3807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4383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497040" y="37033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51720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566880" y="3703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59388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1480" y="3703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8352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582640" y="4082760"/>
                <a:ext cx="6332040" cy="2282400"/>
              </a:xfrm>
              <a:custGeom>
                <a:avLst/>
                <a:gdLst/>
                <a:ahLst/>
                <a:rect l="l" t="t" r="r" b="b"/>
                <a:pathLst>
                  <a:path w="2972" h="1071">
                    <a:moveTo>
                      <a:pt x="247" y="61"/>
                    </a:moveTo>
                    <a:lnTo>
                      <a:pt x="0" y="63"/>
                    </a:lnTo>
                    <a:lnTo>
                      <a:pt x="0" y="1071"/>
                    </a:lnTo>
                    <a:lnTo>
                      <a:pt x="2972" y="1071"/>
                    </a:lnTo>
                    <a:lnTo>
                      <a:pt x="2972" y="0"/>
                    </a:lnTo>
                    <a:lnTo>
                      <a:pt x="292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290560" y="4127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71560" y="4127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06400" y="4230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362920" y="42300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306040" y="432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290560" y="5432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371560" y="54320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306400" y="5529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362920" y="55299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306040" y="56300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661600" y="3920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742240" y="3920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675640" y="402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733600" y="40212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675640" y="411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261320" y="4074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4521240" y="4100040"/>
                <a:ext cx="6840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3905280" y="4100040"/>
                <a:ext cx="3661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93324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3"/>
                    </a:moveTo>
                    <a:lnTo>
                      <a:pt x="13" y="24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890680" y="3833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59080" y="3833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17040" y="3833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179680" y="426204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5090040" y="4287600"/>
                <a:ext cx="114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64840" y="42620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650960" y="39081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0" y="23"/>
                    </a:lnTo>
                    <a:lnTo>
                      <a:pt x="2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1555200" y="39312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261320" y="3283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3905280" y="3306960"/>
                <a:ext cx="3661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4261320" y="52419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250000" y="3486240"/>
                <a:ext cx="2025720" cy="1783800"/>
              </a:xfrm>
              <a:custGeom>
                <a:avLst/>
                <a:gdLst/>
                <a:ahLst/>
                <a:rect l="l" t="t" r="r" b="b"/>
                <a:pathLst>
                  <a:path w="951" h="837">
                    <a:moveTo>
                      <a:pt x="951" y="836"/>
                    </a:moveTo>
                    <a:lnTo>
                      <a:pt x="0" y="837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147760" y="2295000"/>
                <a:ext cx="315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43635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4319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4378680" y="2237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47360" y="1898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39880" y="189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261320" y="2614320"/>
                <a:ext cx="5328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261320" y="1932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4171680" y="1956240"/>
                <a:ext cx="104040" cy="681840"/>
              </a:xfrm>
              <a:custGeom>
                <a:avLst/>
                <a:gdLst/>
                <a:ahLst/>
                <a:rect l="l" t="t" r="r" b="b"/>
                <a:pathLst>
                  <a:path w="49" h="320">
                    <a:moveTo>
                      <a:pt x="49" y="0"/>
                    </a:moveTo>
                    <a:lnTo>
                      <a:pt x="0" y="2"/>
                    </a:lnTo>
                    <a:lnTo>
                      <a:pt x="0" y="320"/>
                    </a:lnTo>
                    <a:lnTo>
                      <a:pt x="49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475320" y="2576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444000" y="2237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536160" y="2237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355800" y="2588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521240" y="2298960"/>
                <a:ext cx="1851480" cy="317880"/>
              </a:xfrm>
              <a:custGeom>
                <a:avLst/>
                <a:gdLst/>
                <a:ahLst/>
                <a:rect l="l" t="t" r="r" b="b"/>
                <a:pathLst>
                  <a:path w="869" h="149">
                    <a:moveTo>
                      <a:pt x="869" y="148"/>
                    </a:moveTo>
                    <a:lnTo>
                      <a:pt x="783" y="149"/>
                    </a:lnTo>
                    <a:lnTo>
                      <a:pt x="78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355800" y="22712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4517280" y="1960200"/>
                <a:ext cx="1855080" cy="338760"/>
              </a:xfrm>
              <a:custGeom>
                <a:avLst/>
                <a:gdLst/>
                <a:ahLst/>
                <a:rect l="l" t="t" r="r" b="b"/>
                <a:pathLst>
                  <a:path w="871" h="159">
                    <a:moveTo>
                      <a:pt x="871" y="157"/>
                    </a:moveTo>
                    <a:lnTo>
                      <a:pt x="821" y="159"/>
                    </a:lnTo>
                    <a:lnTo>
                      <a:pt x="82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50600" y="25761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427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35580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6095520" y="3891240"/>
                <a:ext cx="27684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864200" y="261432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618240" y="2298960"/>
                <a:ext cx="1258920" cy="339120"/>
              </a:xfrm>
              <a:custGeom>
                <a:avLst/>
                <a:gdLst/>
                <a:ahLst/>
                <a:rect l="l" t="t" r="r" b="b"/>
                <a:pathLst>
                  <a:path w="591" h="159">
                    <a:moveTo>
                      <a:pt x="591" y="159"/>
                    </a:moveTo>
                    <a:lnTo>
                      <a:pt x="541" y="159"/>
                    </a:lnTo>
                    <a:lnTo>
                      <a:pt x="54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86420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24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8126640" y="3891240"/>
                <a:ext cx="44712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7753320" y="3891240"/>
                <a:ext cx="1191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864200" y="457308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126640" y="4266360"/>
                <a:ext cx="447120" cy="329760"/>
              </a:xfrm>
              <a:custGeom>
                <a:avLst/>
                <a:gdLst/>
                <a:ahLst/>
                <a:rect l="l" t="t" r="r" b="b"/>
                <a:pathLst>
                  <a:path w="210" h="155">
                    <a:moveTo>
                      <a:pt x="210" y="0"/>
                    </a:moveTo>
                    <a:lnTo>
                      <a:pt x="157" y="2"/>
                    </a:lnTo>
                    <a:lnTo>
                      <a:pt x="157" y="155"/>
                    </a:lnTo>
                    <a:lnTo>
                      <a:pt x="0" y="1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6957000" y="4596480"/>
                <a:ext cx="9158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2933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320720" y="1616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3905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41900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48848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79560" y="2365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32376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38928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456960" y="1958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4882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56820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6394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81128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9552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6284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47440" y="2298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7320" y="2298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17164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50960" y="286560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1367640" y="2891160"/>
                <a:ext cx="289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325280" y="3773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39332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451280" y="3773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48044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536240" y="3773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25112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33572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38936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47648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534080" y="38912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65760" y="38912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254600" y="2857680"/>
                <a:ext cx="64080" cy="698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7" y="0"/>
                    </a:moveTo>
                    <a:lnTo>
                      <a:pt x="17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17" y="20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767920" y="3385800"/>
                <a:ext cx="327960" cy="1014120"/>
              </a:xfrm>
              <a:custGeom>
                <a:avLst/>
                <a:gdLst/>
                <a:ahLst/>
                <a:rect l="l" t="t" r="r" b="b"/>
                <a:pathLst>
                  <a:path w="154" h="476">
                    <a:moveTo>
                      <a:pt x="0" y="0"/>
                    </a:moveTo>
                    <a:lnTo>
                      <a:pt x="0" y="193"/>
                    </a:lnTo>
                    <a:lnTo>
                      <a:pt x="50" y="239"/>
                    </a:lnTo>
                    <a:lnTo>
                      <a:pt x="0" y="283"/>
                    </a:lnTo>
                    <a:lnTo>
                      <a:pt x="0" y="476"/>
                    </a:lnTo>
                    <a:lnTo>
                      <a:pt x="154" y="331"/>
                    </a:lnTo>
                    <a:lnTo>
                      <a:pt x="154" y="1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290560" y="3336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371560" y="33368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306400" y="343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362920" y="343944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306040" y="3535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315880" y="1184400"/>
                <a:ext cx="756360" cy="4536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4" y="213"/>
                    </a:moveTo>
                    <a:lnTo>
                      <a:pt x="295" y="213"/>
                    </a:lnTo>
                    <a:lnTo>
                      <a:pt x="307" y="209"/>
                    </a:lnTo>
                    <a:lnTo>
                      <a:pt x="316" y="205"/>
                    </a:lnTo>
                    <a:lnTo>
                      <a:pt x="326" y="199"/>
                    </a:lnTo>
                    <a:lnTo>
                      <a:pt x="334" y="192"/>
                    </a:lnTo>
                    <a:lnTo>
                      <a:pt x="341" y="184"/>
                    </a:lnTo>
                    <a:lnTo>
                      <a:pt x="347" y="174"/>
                    </a:lnTo>
                    <a:lnTo>
                      <a:pt x="351" y="165"/>
                    </a:lnTo>
                    <a:lnTo>
                      <a:pt x="355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5" y="60"/>
                    </a:lnTo>
                    <a:lnTo>
                      <a:pt x="351" y="48"/>
                    </a:lnTo>
                    <a:lnTo>
                      <a:pt x="347" y="38"/>
                    </a:lnTo>
                    <a:lnTo>
                      <a:pt x="341" y="29"/>
                    </a:lnTo>
                    <a:lnTo>
                      <a:pt x="334" y="21"/>
                    </a:lnTo>
                    <a:lnTo>
                      <a:pt x="326" y="14"/>
                    </a:lnTo>
                    <a:lnTo>
                      <a:pt x="316" y="8"/>
                    </a:lnTo>
                    <a:lnTo>
                      <a:pt x="307" y="4"/>
                    </a:lnTo>
                    <a:lnTo>
                      <a:pt x="295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2" y="153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3" y="184"/>
                    </a:lnTo>
                    <a:lnTo>
                      <a:pt x="21" y="192"/>
                    </a:lnTo>
                    <a:lnTo>
                      <a:pt x="29" y="199"/>
                    </a:lnTo>
                    <a:lnTo>
                      <a:pt x="38" y="205"/>
                    </a:lnTo>
                    <a:lnTo>
                      <a:pt x="48" y="209"/>
                    </a:lnTo>
                    <a:lnTo>
                      <a:pt x="59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8" name=""/>
            <p:cNvSpPr/>
            <p:nvPr/>
          </p:nvSpPr>
          <p:spPr>
            <a:xfrm>
              <a:off x="2315880" y="1184400"/>
              <a:ext cx="756360" cy="45360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284" y="213"/>
                  </a:moveTo>
                  <a:lnTo>
                    <a:pt x="295" y="213"/>
                  </a:lnTo>
                  <a:lnTo>
                    <a:pt x="307" y="209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4" y="192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1" y="165"/>
                  </a:lnTo>
                  <a:lnTo>
                    <a:pt x="355" y="153"/>
                  </a:lnTo>
                  <a:lnTo>
                    <a:pt x="355" y="142"/>
                  </a:lnTo>
                  <a:lnTo>
                    <a:pt x="355" y="71"/>
                  </a:lnTo>
                  <a:lnTo>
                    <a:pt x="355" y="60"/>
                  </a:lnTo>
                  <a:lnTo>
                    <a:pt x="351" y="48"/>
                  </a:lnTo>
                  <a:lnTo>
                    <a:pt x="347" y="38"/>
                  </a:lnTo>
                  <a:lnTo>
                    <a:pt x="341" y="29"/>
                  </a:lnTo>
                  <a:lnTo>
                    <a:pt x="334" y="21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7" y="4"/>
                  </a:lnTo>
                  <a:lnTo>
                    <a:pt x="295" y="2"/>
                  </a:lnTo>
                  <a:lnTo>
                    <a:pt x="2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29" y="14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4" y="48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5"/>
                  </a:lnTo>
                  <a:lnTo>
                    <a:pt x="8" y="174"/>
                  </a:lnTo>
                  <a:lnTo>
                    <a:pt x="13" y="184"/>
                  </a:lnTo>
                  <a:lnTo>
                    <a:pt x="21" y="192"/>
                  </a:lnTo>
                  <a:lnTo>
                    <a:pt x="29" y="199"/>
                  </a:lnTo>
                  <a:lnTo>
                    <a:pt x="38" y="205"/>
                  </a:lnTo>
                  <a:lnTo>
                    <a:pt x="48" y="209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4" y="213"/>
                  </a:lnTo>
                  <a:lnTo>
                    <a:pt x="284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539800" y="1229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143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67240" y="12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205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73800" y="1229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80620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863800" y="122940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80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53296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58912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179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75880" y="134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520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2920" y="1348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727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31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87200" y="13485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0460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6292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716560" y="1465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739240" y="1465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7240" y="5790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88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846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878800" y="579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950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008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0426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101280" y="5790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2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1768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234840" y="57906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9140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94864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00840" y="5907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26040" y="5907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180040" y="36590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71032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5429160" y="3494880"/>
              <a:ext cx="2980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8004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086080" y="3494880"/>
              <a:ext cx="119160" cy="2870640"/>
            </a:xfrm>
            <a:custGeom>
              <a:avLst/>
              <a:gdLst/>
              <a:ahLst/>
              <a:rect l="l" t="t" r="r" b="b"/>
              <a:pathLst>
                <a:path w="56" h="1347">
                  <a:moveTo>
                    <a:pt x="56" y="0"/>
                  </a:moveTo>
                  <a:lnTo>
                    <a:pt x="0" y="2"/>
                  </a:lnTo>
                  <a:lnTo>
                    <a:pt x="0" y="134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0040" y="32839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4521240" y="3307320"/>
              <a:ext cx="6840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180040" y="44222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H="1">
              <a:off x="4975560" y="444744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951800" y="44222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07280" y="393156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17240" y="1335600"/>
              <a:ext cx="1519200" cy="967320"/>
            </a:xfrm>
            <a:custGeom>
              <a:avLst/>
              <a:gdLst/>
              <a:ahLst/>
              <a:rect l="l" t="t" r="r" b="b"/>
              <a:pathLst>
                <a:path w="713" h="454">
                  <a:moveTo>
                    <a:pt x="711" y="454"/>
                  </a:moveTo>
                  <a:lnTo>
                    <a:pt x="71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613040" y="227592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080880" y="1312560"/>
              <a:ext cx="4896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11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137320" y="1486800"/>
              <a:ext cx="2139120" cy="4179600"/>
            </a:xfrm>
            <a:custGeom>
              <a:avLst/>
              <a:gdLst/>
              <a:ahLst/>
              <a:rect l="l" t="t" r="r" b="b"/>
              <a:pathLst>
                <a:path w="1004" h="1961">
                  <a:moveTo>
                    <a:pt x="63" y="0"/>
                  </a:moveTo>
                  <a:lnTo>
                    <a:pt x="0" y="0"/>
                  </a:lnTo>
                  <a:lnTo>
                    <a:pt x="0" y="1961"/>
                  </a:lnTo>
                  <a:lnTo>
                    <a:pt x="1004" y="19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258280" y="14612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4261320" y="5357520"/>
              <a:ext cx="53280" cy="53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60880" y="3614040"/>
              <a:ext cx="1915200" cy="1771200"/>
            </a:xfrm>
            <a:custGeom>
              <a:avLst/>
              <a:gdLst/>
              <a:ahLst/>
              <a:rect l="l" t="t" r="r" b="b"/>
              <a:pathLst>
                <a:path w="899" h="831">
                  <a:moveTo>
                    <a:pt x="899" y="829"/>
                  </a:moveTo>
                  <a:lnTo>
                    <a:pt x="0" y="83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4261320" y="547056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137320" y="5496120"/>
              <a:ext cx="214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61320" y="56390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111400" y="54705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1114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3"/>
                  </a:moveTo>
                  <a:lnTo>
                    <a:pt x="14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2240" y="16257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3"/>
                  </a:moveTo>
                  <a:lnTo>
                    <a:pt x="25" y="23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77800" y="1670760"/>
              <a:ext cx="2258280" cy="4241160"/>
            </a:xfrm>
            <a:custGeom>
              <a:avLst/>
              <a:gdLst/>
              <a:ahLst/>
              <a:rect l="l" t="t" r="r" b="b"/>
              <a:pathLst>
                <a:path w="1060" h="1990">
                  <a:moveTo>
                    <a:pt x="1006" y="1795"/>
                  </a:moveTo>
                  <a:lnTo>
                    <a:pt x="1060" y="1797"/>
                  </a:lnTo>
                  <a:lnTo>
                    <a:pt x="1060" y="1990"/>
                  </a:lnTo>
                  <a:lnTo>
                    <a:pt x="149" y="1990"/>
                  </a:lnTo>
                  <a:lnTo>
                    <a:pt x="149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6000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8664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4856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7628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8920" y="9651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601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15240" y="965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645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860240" y="554112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400800" y="5568480"/>
              <a:ext cx="327960" cy="26604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2" y="0"/>
                  </a:moveTo>
                  <a:lnTo>
                    <a:pt x="154" y="125"/>
                  </a:lnTo>
                  <a:lnTo>
                    <a:pt x="0" y="1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703560" y="55450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96480" y="5573160"/>
              <a:ext cx="1838520" cy="412920"/>
            </a:xfrm>
            <a:custGeom>
              <a:avLst/>
              <a:gdLst/>
              <a:ahLst/>
              <a:rect l="l" t="t" r="r" b="b"/>
              <a:pathLst>
                <a:path w="863" h="194">
                  <a:moveTo>
                    <a:pt x="0" y="194"/>
                  </a:moveTo>
                  <a:lnTo>
                    <a:pt x="863" y="194"/>
                  </a:lnTo>
                  <a:lnTo>
                    <a:pt x="863" y="0"/>
                  </a:lnTo>
                  <a:lnTo>
                    <a:pt x="8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64800" y="59605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64800" y="58093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64800" y="588420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325000" y="26146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050960" y="3867840"/>
              <a:ext cx="48600" cy="511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H="1">
              <a:off x="6618240" y="3891600"/>
              <a:ext cx="444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6933600" y="4573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975560" y="3686760"/>
              <a:ext cx="1985400" cy="2563920"/>
            </a:xfrm>
            <a:custGeom>
              <a:avLst/>
              <a:gdLst/>
              <a:ahLst/>
              <a:rect l="l" t="t" r="r" b="b"/>
              <a:pathLst>
                <a:path w="932" h="1203">
                  <a:moveTo>
                    <a:pt x="930" y="96"/>
                  </a:moveTo>
                  <a:lnTo>
                    <a:pt x="932" y="1203"/>
                  </a:lnTo>
                  <a:lnTo>
                    <a:pt x="0" y="1203"/>
                  </a:lnTo>
                  <a:lnTo>
                    <a:pt x="0" y="0"/>
                  </a:lnTo>
                  <a:lnTo>
                    <a:pt x="11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62320" y="633996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67080" y="3916800"/>
              <a:ext cx="4964760" cy="2559960"/>
            </a:xfrm>
            <a:custGeom>
              <a:avLst/>
              <a:gdLst/>
              <a:ahLst/>
              <a:rect l="l" t="t" r="r" b="b"/>
              <a:pathLst>
                <a:path w="2330" h="1201">
                  <a:moveTo>
                    <a:pt x="2330" y="971"/>
                  </a:moveTo>
                  <a:lnTo>
                    <a:pt x="2330" y="1201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30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406640" y="5960520"/>
              <a:ext cx="4896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4261320" y="2271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31120" y="22712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9920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724040" y="2602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785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12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42840" y="2602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917080" y="2295000"/>
              <a:ext cx="918000" cy="3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137320" y="4809960"/>
              <a:ext cx="18406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  <a:lnTo>
                    <a:pt x="8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51200" y="4707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916720" y="47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93976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99664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3051360" y="470736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7928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850480" y="482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00160" y="4826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282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836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0380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982680" y="4809960"/>
              <a:ext cx="2937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  <a:lnTo>
                    <a:pt x="96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44840" y="2237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61792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671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728440" y="2237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56880" y="2237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88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6520" y="2237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265640" y="47887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78800" y="28659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78800" y="24825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1384560" y="2891520"/>
              <a:ext cx="2854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1744560" y="2891520"/>
              <a:ext cx="1440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060920" y="996840"/>
              <a:ext cx="2501280" cy="1751760"/>
            </a:xfrm>
            <a:custGeom>
              <a:avLst/>
              <a:gdLst/>
              <a:ahLst/>
              <a:rect l="l" t="t" r="r" b="b"/>
              <a:pathLst>
                <a:path w="1174" h="822">
                  <a:moveTo>
                    <a:pt x="1134" y="822"/>
                  </a:moveTo>
                  <a:lnTo>
                    <a:pt x="1174" y="822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4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189080" y="19198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193040" y="16257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304280" y="16257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384920" y="16257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318680" y="172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372320" y="17280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318680" y="182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914040" y="1947600"/>
              <a:ext cx="585360" cy="94392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73" y="443"/>
                  </a:moveTo>
                  <a:lnTo>
                    <a:pt x="275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13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1040" y="1412640"/>
              <a:ext cx="1244160" cy="2518920"/>
            </a:xfrm>
            <a:custGeom>
              <a:avLst/>
              <a:gdLst/>
              <a:ahLst/>
              <a:rect l="l" t="t" r="r" b="b"/>
              <a:pathLst>
                <a:path w="584" h="1182">
                  <a:moveTo>
                    <a:pt x="529" y="175"/>
                  </a:moveTo>
                  <a:lnTo>
                    <a:pt x="584" y="177"/>
                  </a:lnTo>
                  <a:lnTo>
                    <a:pt x="584" y="0"/>
                  </a:lnTo>
                  <a:lnTo>
                    <a:pt x="0" y="0"/>
                  </a:lnTo>
                  <a:lnTo>
                    <a:pt x="0" y="1182"/>
                  </a:lnTo>
                  <a:lnTo>
                    <a:pt x="53" y="11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474200" y="287028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234600" y="2343960"/>
              <a:ext cx="249120" cy="762840"/>
            </a:xfrm>
            <a:custGeom>
              <a:avLst/>
              <a:gdLst/>
              <a:ahLst/>
              <a:rect l="l" t="t" r="r" b="b"/>
              <a:pathLst>
                <a:path w="117" h="358">
                  <a:moveTo>
                    <a:pt x="0" y="0"/>
                  </a:moveTo>
                  <a:lnTo>
                    <a:pt x="2" y="146"/>
                  </a:lnTo>
                  <a:lnTo>
                    <a:pt x="39" y="180"/>
                  </a:lnTo>
                  <a:lnTo>
                    <a:pt x="2" y="215"/>
                  </a:lnTo>
                  <a:lnTo>
                    <a:pt x="2" y="358"/>
                  </a:lnTo>
                  <a:lnTo>
                    <a:pt x="117" y="249"/>
                  </a:lnTo>
                  <a:lnTo>
                    <a:pt x="117" y="1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6360" y="2691360"/>
              <a:ext cx="64080" cy="69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7" y="0"/>
                  </a:moveTo>
                  <a:lnTo>
                    <a:pt x="17" y="15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17" y="19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056840" y="3292200"/>
              <a:ext cx="48600" cy="468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056840" y="40748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  <a:lnTo>
                    <a:pt x="54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023000" y="356976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056840" y="33926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0" y="2"/>
                  </a:lnTo>
                  <a:lnTo>
                    <a:pt x="11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080600" y="3320280"/>
              <a:ext cx="1800" cy="936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080600" y="3320280"/>
              <a:ext cx="18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056840" y="39765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0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080600" y="4006440"/>
              <a:ext cx="3600" cy="9360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44"/>
                  </a:moveTo>
                  <a:lnTo>
                    <a:pt x="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080600" y="4006440"/>
              <a:ext cx="36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0040" y="54705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80040" y="56559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553000" y="6022440"/>
              <a:ext cx="55080" cy="536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" y="25"/>
                  </a:lnTo>
                  <a:lnTo>
                    <a:pt x="26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521240" y="5385600"/>
              <a:ext cx="1046520" cy="660600"/>
            </a:xfrm>
            <a:custGeom>
              <a:avLst/>
              <a:gdLst/>
              <a:ahLst/>
              <a:rect l="l" t="t" r="r" b="b"/>
              <a:pathLst>
                <a:path w="491" h="310">
                  <a:moveTo>
                    <a:pt x="491" y="310"/>
                  </a:moveTo>
                  <a:lnTo>
                    <a:pt x="100" y="31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613040" y="547488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540040" y="5899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356160" y="55411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521240" y="5679360"/>
              <a:ext cx="675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521240" y="5496120"/>
              <a:ext cx="6753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521240" y="5255280"/>
              <a:ext cx="1037880" cy="673200"/>
            </a:xfrm>
            <a:custGeom>
              <a:avLst/>
              <a:gdLst/>
              <a:ahLst/>
              <a:rect l="l" t="t" r="r" b="b"/>
              <a:pathLst>
                <a:path w="487" h="316">
                  <a:moveTo>
                    <a:pt x="0" y="0"/>
                  </a:moveTo>
                  <a:lnTo>
                    <a:pt x="140" y="2"/>
                  </a:lnTo>
                  <a:lnTo>
                    <a:pt x="140" y="316"/>
                  </a:lnTo>
                  <a:lnTo>
                    <a:pt x="487" y="3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87720" y="34628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87720" y="35845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136960" y="3486600"/>
              <a:ext cx="971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37320" y="3609720"/>
              <a:ext cx="9716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226600" y="346284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37120" y="358848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2238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3"/>
                  </a:moveTo>
                  <a:lnTo>
                    <a:pt x="13" y="24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925360" y="2512080"/>
              <a:ext cx="321480" cy="2293200"/>
            </a:xfrm>
            <a:custGeom>
              <a:avLst/>
              <a:gdLst/>
              <a:ahLst/>
              <a:rect l="l" t="t" r="r" b="b"/>
              <a:pathLst>
                <a:path w="151" h="1076">
                  <a:moveTo>
                    <a:pt x="151" y="1076"/>
                  </a:moveTo>
                  <a:lnTo>
                    <a:pt x="151" y="877"/>
                  </a:lnTo>
                  <a:lnTo>
                    <a:pt x="0" y="877"/>
                  </a:ln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818800" y="3075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884680" y="30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940120" y="30751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961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988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18960" y="307512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801520" y="3190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82312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0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907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9365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96100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618240" y="5568480"/>
              <a:ext cx="1250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424840" y="5568480"/>
              <a:ext cx="9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938040" y="2136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022640" y="21369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954240" y="223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011840" y="2233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954240" y="2335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predi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r acertar se o desvio será tomado ou n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loops, desvio é tomado a maior parte das ve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history t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e desempenho (p 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onociclo, multiciclo 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lw (23%), sw (13%), beq (19%), j (2%), resto (43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s (memória e ALU) e 1ns para o registrador (RD ou W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dos lw seguidas por instruções que usam o resul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4 dos beq são errados (1 clock perdi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perdem um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1 clock sem hazard e 2 clock com hazard; média = 1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1 clock se OK (3/4) e 2 clocks se não OK (1/4); média = 1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: 2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is instruções: 1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I = 1.5*0.23+1*0.13+1*0.43+1.25*0.19+2*0.02 = 1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= 2ns; tempo médio de execução = 2*1.18=2.36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iclo; 4.02*2=8.08ns; monociclo =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é 3.4 vezes mais rápido do que monociclo ou multi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444600" y="809640"/>
            <a:ext cx="8241480" cy="5818680"/>
            <a:chOff x="444600" y="809640"/>
            <a:chExt cx="8241480" cy="5818680"/>
          </a:xfrm>
        </p:grpSpPr>
        <p:grpSp>
          <p:nvGrpSpPr>
            <p:cNvPr id="5479" name=""/>
            <p:cNvGrpSpPr/>
            <p:nvPr/>
          </p:nvGrpSpPr>
          <p:grpSpPr>
            <a:xfrm>
              <a:off x="444600" y="1542600"/>
              <a:ext cx="8241480" cy="4980960"/>
              <a:chOff x="444600" y="1542600"/>
              <a:chExt cx="8241480" cy="4980960"/>
            </a:xfrm>
          </p:grpSpPr>
          <p:sp>
            <p:nvSpPr>
              <p:cNvPr id="5480" name=""/>
              <p:cNvSpPr/>
              <p:nvPr/>
            </p:nvSpPr>
            <p:spPr>
              <a:xfrm>
                <a:off x="6509880" y="2894040"/>
                <a:ext cx="1147680" cy="1951560"/>
              </a:xfrm>
              <a:custGeom>
                <a:avLst/>
                <a:gdLst/>
                <a:ahLst/>
                <a:rect l="l" t="t" r="r" b="b"/>
                <a:pathLst>
                  <a:path w="570" h="969">
                    <a:moveTo>
                      <a:pt x="0" y="0"/>
                    </a:moveTo>
                    <a:lnTo>
                      <a:pt x="449" y="1"/>
                    </a:lnTo>
                    <a:lnTo>
                      <a:pt x="449" y="297"/>
                    </a:lnTo>
                    <a:lnTo>
                      <a:pt x="570" y="297"/>
                    </a:lnTo>
                    <a:lnTo>
                      <a:pt x="570" y="969"/>
                    </a:lnTo>
                    <a:lnTo>
                      <a:pt x="405" y="969"/>
                    </a:lnTo>
                    <a:lnTo>
                      <a:pt x="405" y="93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053040" y="4483080"/>
                <a:ext cx="2160" cy="118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529160" y="3101400"/>
                <a:ext cx="734760" cy="2374560"/>
              </a:xfrm>
              <a:custGeom>
                <a:avLst/>
                <a:gdLst/>
                <a:ahLst/>
                <a:rect l="l" t="t" r="r" b="b"/>
                <a:pathLst>
                  <a:path w="365" h="1179">
                    <a:moveTo>
                      <a:pt x="0" y="0"/>
                    </a:moveTo>
                    <a:lnTo>
                      <a:pt x="41" y="2"/>
                    </a:lnTo>
                    <a:lnTo>
                      <a:pt x="41" y="1122"/>
                    </a:lnTo>
                    <a:lnTo>
                      <a:pt x="365" y="1122"/>
                    </a:lnTo>
                    <a:lnTo>
                      <a:pt x="365" y="117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529160" y="2878200"/>
                <a:ext cx="1129320" cy="1458000"/>
              </a:xfrm>
              <a:custGeom>
                <a:avLst/>
                <a:gdLst/>
                <a:ahLst/>
                <a:rect l="l" t="t" r="r" b="b"/>
                <a:pathLst>
                  <a:path w="561" h="72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05"/>
                    </a:lnTo>
                    <a:lnTo>
                      <a:pt x="561" y="305"/>
                    </a:lnTo>
                    <a:lnTo>
                      <a:pt x="561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529160" y="3012840"/>
                <a:ext cx="1372680" cy="1945800"/>
              </a:xfrm>
              <a:custGeom>
                <a:avLst/>
                <a:gdLst/>
                <a:ahLst/>
                <a:rect l="l" t="t" r="r" b="b"/>
                <a:pathLst>
                  <a:path w="682" h="966">
                    <a:moveTo>
                      <a:pt x="0" y="0"/>
                    </a:moveTo>
                    <a:lnTo>
                      <a:pt x="89" y="2"/>
                    </a:lnTo>
                    <a:lnTo>
                      <a:pt x="89" y="966"/>
                    </a:lnTo>
                    <a:lnTo>
                      <a:pt x="682" y="966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255640" y="4866120"/>
                <a:ext cx="293760" cy="1118160"/>
              </a:xfrm>
              <a:custGeom>
                <a:avLst/>
                <a:gdLst/>
                <a:ahLst/>
                <a:rect l="l" t="t" r="r" b="b"/>
                <a:pathLst>
                  <a:path w="146" h="555">
                    <a:moveTo>
                      <a:pt x="0" y="0"/>
                    </a:moveTo>
                    <a:lnTo>
                      <a:pt x="0" y="178"/>
                    </a:lnTo>
                    <a:lnTo>
                      <a:pt x="114" y="178"/>
                    </a:lnTo>
                    <a:lnTo>
                      <a:pt x="112" y="555"/>
                    </a:lnTo>
                    <a:lnTo>
                      <a:pt x="146" y="55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090400" y="4122720"/>
                <a:ext cx="463320" cy="1925640"/>
              </a:xfrm>
              <a:custGeom>
                <a:avLst/>
                <a:gdLst/>
                <a:ahLst/>
                <a:rect l="l" t="t" r="r" b="b"/>
                <a:pathLst>
                  <a:path w="230" h="956">
                    <a:moveTo>
                      <a:pt x="79" y="0"/>
                    </a:moveTo>
                    <a:lnTo>
                      <a:pt x="80" y="46"/>
                    </a:lnTo>
                    <a:lnTo>
                      <a:pt x="0" y="46"/>
                    </a:lnTo>
                    <a:lnTo>
                      <a:pt x="0" y="588"/>
                    </a:lnTo>
                    <a:lnTo>
                      <a:pt x="163" y="588"/>
                    </a:lnTo>
                    <a:lnTo>
                      <a:pt x="163" y="956"/>
                    </a:lnTo>
                    <a:lnTo>
                      <a:pt x="230" y="95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029400" y="2668320"/>
                <a:ext cx="83952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86000" y="2668320"/>
                <a:ext cx="2152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229720" y="4831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lnTo>
                      <a:pt x="25" y="24"/>
                    </a:lnTo>
                    <a:lnTo>
                      <a:pt x="13" y="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241600" y="5460120"/>
                <a:ext cx="46080" cy="48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0"/>
                    </a:lnTo>
                    <a:lnTo>
                      <a:pt x="11" y="2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881680" y="49305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225760" y="40802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36160" y="432000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6028560" y="4458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3"/>
                    </a:moveTo>
                    <a:lnTo>
                      <a:pt x="23" y="25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6254280" y="6211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701880" y="1650960"/>
                <a:ext cx="4452840" cy="4586400"/>
              </a:xfrm>
              <a:custGeom>
                <a:avLst/>
                <a:gdLst/>
                <a:ahLst/>
                <a:rect l="l" t="t" r="r" b="b"/>
                <a:pathLst>
                  <a:path w="2212" h="2277">
                    <a:moveTo>
                      <a:pt x="0" y="914"/>
                    </a:moveTo>
                    <a:lnTo>
                      <a:pt x="2" y="0"/>
                    </a:lnTo>
                    <a:lnTo>
                      <a:pt x="2212" y="0"/>
                    </a:lnTo>
                    <a:lnTo>
                      <a:pt x="2212" y="2277"/>
                    </a:lnTo>
                    <a:lnTo>
                      <a:pt x="1287" y="22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939440" y="2990880"/>
                <a:ext cx="2152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308640" y="2668320"/>
                <a:ext cx="420840" cy="3426120"/>
              </a:xfrm>
              <a:custGeom>
                <a:avLst/>
                <a:gdLst/>
                <a:ahLst/>
                <a:rect l="l" t="t" r="r" b="b"/>
                <a:pathLst>
                  <a:path w="209" h="1701">
                    <a:moveTo>
                      <a:pt x="209" y="0"/>
                    </a:moveTo>
                    <a:lnTo>
                      <a:pt x="209" y="1701"/>
                    </a:lnTo>
                    <a:lnTo>
                      <a:pt x="0" y="170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1940040" y="309744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889080" y="188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049640" y="188676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962360" y="1830600"/>
                <a:ext cx="482760" cy="12747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76160" y="1639080"/>
                <a:ext cx="1751400" cy="2282040"/>
              </a:xfrm>
              <a:custGeom>
                <a:avLst/>
                <a:gdLst/>
                <a:ahLst/>
                <a:rect l="l" t="t" r="r" b="b"/>
                <a:pathLst>
                  <a:path w="870" h="1133">
                    <a:moveTo>
                      <a:pt x="0" y="1133"/>
                    </a:moveTo>
                    <a:lnTo>
                      <a:pt x="2" y="0"/>
                    </a:lnTo>
                    <a:lnTo>
                      <a:pt x="87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6360" y="391140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1"/>
                    </a:lnTo>
                    <a:lnTo>
                      <a:pt x="12" y="25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44600" y="1542600"/>
                <a:ext cx="2790000" cy="4320360"/>
              </a:xfrm>
              <a:custGeom>
                <a:avLst/>
                <a:gdLst/>
                <a:ahLst/>
                <a:rect l="l" t="t" r="r" b="b"/>
                <a:pathLst>
                  <a:path w="1386" h="2145">
                    <a:moveTo>
                      <a:pt x="687" y="2145"/>
                    </a:moveTo>
                    <a:lnTo>
                      <a:pt x="0" y="2145"/>
                    </a:lnTo>
                    <a:lnTo>
                      <a:pt x="0" y="0"/>
                    </a:lnTo>
                    <a:lnTo>
                      <a:pt x="1386" y="0"/>
                    </a:lnTo>
                    <a:lnTo>
                      <a:pt x="1386" y="419"/>
                    </a:lnTo>
                    <a:lnTo>
                      <a:pt x="1261" y="4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812960" y="5840640"/>
                <a:ext cx="4824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1" y="23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683520" y="348408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176280" y="417708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6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17480" y="41630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79760" y="416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  <a:lnTo>
                      <a:pt x="299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118836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12164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126648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31688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344240" y="3814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137592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42452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47420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1502280" y="3814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15206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157608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1630080" y="381456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125100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133164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138204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146448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1518480" y="3921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1548720" y="3921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176280" y="44629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973440" y="3016800"/>
                <a:ext cx="306000" cy="1202400"/>
              </a:xfrm>
              <a:custGeom>
                <a:avLst/>
                <a:gdLst/>
                <a:ahLst/>
                <a:rect l="l" t="t" r="r" b="b"/>
                <a:pathLst>
                  <a:path w="152" h="597">
                    <a:moveTo>
                      <a:pt x="152" y="0"/>
                    </a:moveTo>
                    <a:lnTo>
                      <a:pt x="0" y="2"/>
                    </a:lnTo>
                    <a:lnTo>
                      <a:pt x="0" y="59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1174680" y="344592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1314000" y="2873880"/>
                <a:ext cx="235440" cy="718920"/>
              </a:xfrm>
              <a:custGeom>
                <a:avLst/>
                <a:gdLst/>
                <a:ahLst/>
                <a:rect l="l" t="t" r="r" b="b"/>
                <a:pathLst>
                  <a:path w="117" h="357">
                    <a:moveTo>
                      <a:pt x="0" y="0"/>
                    </a:moveTo>
                    <a:lnTo>
                      <a:pt x="2" y="144"/>
                    </a:lnTo>
                    <a:lnTo>
                      <a:pt x="38" y="179"/>
                    </a:lnTo>
                    <a:lnTo>
                      <a:pt x="2" y="213"/>
                    </a:lnTo>
                    <a:lnTo>
                      <a:pt x="2" y="357"/>
                    </a:lnTo>
                    <a:lnTo>
                      <a:pt x="117" y="248"/>
                    </a:lnTo>
                    <a:lnTo>
                      <a:pt x="117" y="109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112720" y="43542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779080" y="453384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5751000" y="455580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834588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8345880" y="45133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94968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259640" y="2992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259640" y="34239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077840" y="3391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864720" y="4215600"/>
                <a:ext cx="217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062000" y="419328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63360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6125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393000" y="404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46140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5125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565800" y="4042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58992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36360" y="404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637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716640" y="404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74868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692800" y="4358520"/>
                <a:ext cx="5993280" cy="2165040"/>
              </a:xfrm>
              <a:custGeom>
                <a:avLst/>
                <a:gdLst/>
                <a:ahLst/>
                <a:rect l="l" t="t" r="r" b="b"/>
                <a:pathLst>
                  <a:path w="2977" h="1075">
                    <a:moveTo>
                      <a:pt x="250" y="64"/>
                    </a:moveTo>
                    <a:lnTo>
                      <a:pt x="0" y="64"/>
                    </a:lnTo>
                    <a:lnTo>
                      <a:pt x="0" y="1075"/>
                    </a:lnTo>
                    <a:lnTo>
                      <a:pt x="2977" y="1075"/>
                    </a:lnTo>
                    <a:lnTo>
                      <a:pt x="2977" y="0"/>
                    </a:lnTo>
                    <a:lnTo>
                      <a:pt x="29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272320" y="5051520"/>
                <a:ext cx="1747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032640" y="4904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094920" y="4904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11940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16728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222360" y="49042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97936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032280" y="5017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078720" y="501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1082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15828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126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023720" y="5051520"/>
                <a:ext cx="277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216760" y="4404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29596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32960" y="4499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287680" y="4499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232240" y="459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219640" y="5627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298120" y="56275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238000" y="57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292000" y="57243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237640" y="5820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8448120" y="42901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8531280" y="42901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8463960" y="438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8519040" y="4382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8463600" y="4479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285080" y="43542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4532760" y="4378680"/>
                <a:ext cx="603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3944880" y="4378680"/>
                <a:ext cx="348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814080" y="415692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  <a:lnTo>
                      <a:pt x="8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688480" y="2613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75868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80944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863440" y="2613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890080" y="2613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92212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973960" y="2613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947920" y="4122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6011280" y="412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6064560" y="412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1812960" y="440856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1722600" y="4433040"/>
                <a:ext cx="10440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4285080" y="36010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4289400" y="3429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281480" y="540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4289400" y="5027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381040" y="3798360"/>
                <a:ext cx="1920600" cy="1627200"/>
              </a:xfrm>
              <a:custGeom>
                <a:avLst/>
                <a:gdLst/>
                <a:ahLst/>
                <a:rect l="l" t="t" r="r" b="b"/>
                <a:pathLst>
                  <a:path w="954" h="808">
                    <a:moveTo>
                      <a:pt x="954" y="806"/>
                    </a:moveTo>
                    <a:lnTo>
                      <a:pt x="0" y="80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276640" y="2668320"/>
                <a:ext cx="3477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438156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4442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4393440" y="2613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367880" y="2289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456080" y="2289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85080" y="29667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85080" y="2323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196520" y="2348280"/>
                <a:ext cx="104760" cy="644400"/>
              </a:xfrm>
              <a:custGeom>
                <a:avLst/>
                <a:gdLst/>
                <a:ahLst/>
                <a:rect l="l" t="t" r="r" b="b"/>
                <a:pathLst>
                  <a:path w="52" h="320">
                    <a:moveTo>
                      <a:pt x="50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52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375240" y="2936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350040" y="26139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439320" y="2613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268320" y="294444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994360" y="2668320"/>
                <a:ext cx="285480" cy="3020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142" y="150"/>
                    </a:moveTo>
                    <a:lnTo>
                      <a:pt x="58" y="150"/>
                    </a:lnTo>
                    <a:lnTo>
                      <a:pt x="58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4533120" y="2668320"/>
                <a:ext cx="124200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2683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4529160" y="2239560"/>
                <a:ext cx="928080" cy="108360"/>
              </a:xfrm>
              <a:custGeom>
                <a:avLst/>
                <a:gdLst/>
                <a:ahLst/>
                <a:rect l="l" t="t" r="r" b="b"/>
                <a:pathLst>
                  <a:path w="461" h="54">
                    <a:moveTo>
                      <a:pt x="0" y="54"/>
                    </a:moveTo>
                    <a:lnTo>
                      <a:pt x="304" y="54"/>
                    </a:lnTo>
                    <a:lnTo>
                      <a:pt x="304" y="0"/>
                    </a:lnTo>
                    <a:lnTo>
                      <a:pt x="461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674320" y="2239560"/>
                <a:ext cx="609840" cy="428760"/>
              </a:xfrm>
              <a:custGeom>
                <a:avLst/>
                <a:gdLst/>
                <a:ahLst/>
                <a:rect l="l" t="t" r="r" b="b"/>
                <a:pathLst>
                  <a:path w="303" h="213">
                    <a:moveTo>
                      <a:pt x="0" y="0"/>
                    </a:moveTo>
                    <a:lnTo>
                      <a:pt x="251" y="0"/>
                    </a:lnTo>
                    <a:lnTo>
                      <a:pt x="251" y="213"/>
                    </a:lnTo>
                    <a:lnTo>
                      <a:pt x="303" y="213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70960" y="2936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8624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268800" y="32101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64840" y="2847960"/>
                <a:ext cx="50040" cy="478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26832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6145560" y="4181400"/>
                <a:ext cx="134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91760" y="296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515640" y="2668320"/>
                <a:ext cx="1191960" cy="324000"/>
              </a:xfrm>
              <a:custGeom>
                <a:avLst/>
                <a:gdLst/>
                <a:ahLst/>
                <a:rect l="l" t="t" r="r" b="b"/>
                <a:pathLst>
                  <a:path w="592" h="161">
                    <a:moveTo>
                      <a:pt x="592" y="160"/>
                    </a:moveTo>
                    <a:lnTo>
                      <a:pt x="542" y="161"/>
                    </a:lnTo>
                    <a:lnTo>
                      <a:pt x="542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9176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7939440" y="4370400"/>
                <a:ext cx="42840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7586640" y="4370400"/>
                <a:ext cx="1126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691760" y="498060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939440" y="4537440"/>
                <a:ext cx="428400" cy="45108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213" y="0"/>
                    </a:moveTo>
                    <a:lnTo>
                      <a:pt x="159" y="0"/>
                    </a:lnTo>
                    <a:lnTo>
                      <a:pt x="159" y="224"/>
                    </a:lnTo>
                    <a:lnTo>
                      <a:pt x="0" y="2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6838200" y="5004720"/>
                <a:ext cx="86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431280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4338720" y="2027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40964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443592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449856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23376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0000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0" name=""/>
            <p:cNvGrpSpPr/>
            <p:nvPr/>
          </p:nvGrpSpPr>
          <p:grpSpPr>
            <a:xfrm>
              <a:off x="594360" y="1002600"/>
              <a:ext cx="7916400" cy="5625720"/>
              <a:chOff x="594360" y="1002600"/>
              <a:chExt cx="7916400" cy="5625720"/>
            </a:xfrm>
          </p:grpSpPr>
          <p:sp>
            <p:nvSpPr>
              <p:cNvPr id="5681" name=""/>
              <p:cNvSpPr/>
              <p:nvPr/>
            </p:nvSpPr>
            <p:spPr>
              <a:xfrm>
                <a:off x="63630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38856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469200" y="23479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53148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64676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72164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78752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864920" y="2668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894800" y="26683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98120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812960" y="321012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1561320" y="3234240"/>
                <a:ext cx="17272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1549080" y="3234240"/>
                <a:ext cx="2732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1382400" y="2313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386000" y="20296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503000" y="186480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569600" y="189072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1587240" y="100260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428480" y="100260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481040" y="2033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1565640" y="2033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1498320" y="212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53040" y="21283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1497600" y="2225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1120320" y="2340000"/>
                <a:ext cx="547560" cy="894240"/>
              </a:xfrm>
              <a:custGeom>
                <a:avLst/>
                <a:gdLst/>
                <a:ahLst/>
                <a:rect l="l" t="t" r="r" b="b"/>
                <a:pathLst>
                  <a:path w="272" h="444">
                    <a:moveTo>
                      <a:pt x="272" y="444"/>
                    </a:moveTo>
                    <a:lnTo>
                      <a:pt x="272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645920" y="321012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182360" y="3755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2511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304400" y="375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3339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381800" y="3755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1150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19208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2482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733140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7379640" y="3868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7413840" y="3868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1440360" y="3202200"/>
                <a:ext cx="62280" cy="619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7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17" y="17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829480" y="3701520"/>
                <a:ext cx="311760" cy="958680"/>
              </a:xfrm>
              <a:custGeom>
                <a:avLst/>
                <a:gdLst/>
                <a:ahLst/>
                <a:rect l="l" t="t" r="r" b="b"/>
                <a:pathLst>
                  <a:path w="155" h="476">
                    <a:moveTo>
                      <a:pt x="0" y="0"/>
                    </a:moveTo>
                    <a:lnTo>
                      <a:pt x="1" y="192"/>
                    </a:lnTo>
                    <a:lnTo>
                      <a:pt x="49" y="238"/>
                    </a:lnTo>
                    <a:lnTo>
                      <a:pt x="1" y="284"/>
                    </a:lnTo>
                    <a:lnTo>
                      <a:pt x="1" y="476"/>
                    </a:lnTo>
                    <a:lnTo>
                      <a:pt x="155" y="330"/>
                    </a:lnTo>
                    <a:lnTo>
                      <a:pt x="155" y="14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323160" y="2706480"/>
                <a:ext cx="231120" cy="72108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4"/>
                    </a:lnTo>
                    <a:lnTo>
                      <a:pt x="37" y="179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8"/>
                    </a:lnTo>
                    <a:lnTo>
                      <a:pt x="115" y="1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447720" y="303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7" y="0"/>
                    </a:moveTo>
                    <a:lnTo>
                      <a:pt x="17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216760" y="3655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298120" y="3655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232960" y="3747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287680" y="3747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232240" y="3844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3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lnTo>
                      <a:pt x="282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53920" y="1659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244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78480" y="165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8252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877480" y="1659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91096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964960" y="16592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966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64996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70432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72844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780280" y="1771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83140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855160" y="1771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8774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93292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982600" y="1771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7205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7709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824920" y="1884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842920" y="188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5673960" y="59799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57330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578520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816520" y="597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588528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593604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97276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022080" y="5979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0444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09552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149520" y="5979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82480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87916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931360" y="6092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951520" y="609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779080" y="37821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flipH="1">
                <a:off x="5346000" y="3806640"/>
                <a:ext cx="432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112720" y="36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 flipH="1">
                <a:off x="4532760" y="3627000"/>
                <a:ext cx="6037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4532760" y="3282480"/>
                <a:ext cx="352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058480" y="4432680"/>
                <a:ext cx="213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200400" y="1759680"/>
                <a:ext cx="1437120" cy="916560"/>
              </a:xfrm>
              <a:custGeom>
                <a:avLst/>
                <a:gdLst/>
                <a:ahLst/>
                <a:rect l="l" t="t" r="r" b="b"/>
                <a:pathLst>
                  <a:path w="714" h="455">
                    <a:moveTo>
                      <a:pt x="714" y="455"/>
                    </a:moveTo>
                    <a:lnTo>
                      <a:pt x="71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4615560" y="26463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166200" y="1735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22"/>
                    </a:moveTo>
                    <a:lnTo>
                      <a:pt x="23" y="0"/>
                    </a:lnTo>
                    <a:lnTo>
                      <a:pt x="0" y="12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388600" y="187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4285080" y="55468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489400" y="3912840"/>
                <a:ext cx="1811880" cy="1659600"/>
              </a:xfrm>
              <a:custGeom>
                <a:avLst/>
                <a:gdLst/>
                <a:ahLst/>
                <a:rect l="l" t="t" r="r" b="b"/>
                <a:pathLst>
                  <a:path w="900" h="824">
                    <a:moveTo>
                      <a:pt x="900" y="824"/>
                    </a:moveTo>
                    <a:lnTo>
                      <a:pt x="0" y="82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285080" y="5689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272320" y="5711760"/>
                <a:ext cx="2028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285080" y="583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252160" y="5689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200400" y="321408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248200" y="50270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096080" y="36086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096080" y="4354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406840" y="450540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452920" y="48272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519640" y="20498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436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1704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7500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70020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759240" y="140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78372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833400" y="1407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88524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7691760" y="57441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 flipH="1">
                <a:off x="6515640" y="5766120"/>
                <a:ext cx="11836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08640" y="5766120"/>
                <a:ext cx="312120" cy="25560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155" y="0"/>
                    </a:moveTo>
                    <a:lnTo>
                      <a:pt x="155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598440" y="574812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08640" y="5770080"/>
                <a:ext cx="1739160" cy="394560"/>
              </a:xfrm>
              <a:custGeom>
                <a:avLst/>
                <a:gdLst/>
                <a:ahLst/>
                <a:rect l="l" t="t" r="r" b="b"/>
                <a:pathLst>
                  <a:path w="864" h="196">
                    <a:moveTo>
                      <a:pt x="0" y="196"/>
                    </a:moveTo>
                    <a:lnTo>
                      <a:pt x="864" y="196"/>
                    </a:lnTo>
                    <a:lnTo>
                      <a:pt x="864" y="0"/>
                    </a:lnTo>
                    <a:lnTo>
                      <a:pt x="81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272280" y="61369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272280" y="5994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272280" y="606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8128800" y="29707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70536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92244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922440" y="45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7301160" y="474876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7212600" y="3562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8464680" y="41144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>
                <a:off x="6515640" y="4181040"/>
                <a:ext cx="419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813720" y="49845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1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2588040" y="4201200"/>
                <a:ext cx="4694400" cy="2427120"/>
              </a:xfrm>
              <a:custGeom>
                <a:avLst/>
                <a:gdLst/>
                <a:ahLst/>
                <a:rect l="l" t="t" r="r" b="b"/>
                <a:pathLst>
                  <a:path w="2332" h="1205">
                    <a:moveTo>
                      <a:pt x="2332" y="975"/>
                    </a:moveTo>
                    <a:lnTo>
                      <a:pt x="2332" y="1205"/>
                    </a:lnTo>
                    <a:lnTo>
                      <a:pt x="0" y="1205"/>
                    </a:lnTo>
                    <a:lnTo>
                      <a:pt x="0" y="0"/>
                    </a:lnTo>
                    <a:lnTo>
                      <a:pt x="30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7259040" y="61405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28508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8586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885320" y="29541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9432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96920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997640" y="2954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096080" y="381024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20200" y="3639240"/>
                <a:ext cx="1800" cy="197280"/>
              </a:xfrm>
              <a:custGeom>
                <a:avLst/>
                <a:gdLst/>
                <a:ahLst/>
                <a:rect l="l" t="t" r="r" b="b"/>
                <a:pathLst>
                  <a:path w="0" h="98">
                    <a:moveTo>
                      <a:pt x="0" y="0"/>
                    </a:move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20200" y="3639240"/>
                <a:ext cx="1800" cy="197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096080" y="41468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3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20200" y="417708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0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V="1">
                <a:off x="4120200" y="4176720"/>
                <a:ext cx="1800" cy="20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5112720" y="3961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112720" y="47228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935600" y="472284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H="1">
                <a:off x="4959720" y="4745160"/>
                <a:ext cx="177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959720" y="3983760"/>
                <a:ext cx="1873800" cy="2432880"/>
              </a:xfrm>
              <a:custGeom>
                <a:avLst/>
                <a:gdLst/>
                <a:ahLst/>
                <a:rect l="l" t="t" r="r" b="b"/>
                <a:pathLst>
                  <a:path w="931" h="1208">
                    <a:moveTo>
                      <a:pt x="88" y="0"/>
                    </a:moveTo>
                    <a:lnTo>
                      <a:pt x="0" y="0"/>
                    </a:lnTo>
                    <a:lnTo>
                      <a:pt x="0" y="1208"/>
                    </a:lnTo>
                    <a:lnTo>
                      <a:pt x="931" y="1208"/>
                    </a:lnTo>
                    <a:lnTo>
                      <a:pt x="931" y="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112720" y="4537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008320" y="4537440"/>
                <a:ext cx="4788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2720" y="37821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006160" y="64972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 flipH="1">
                <a:off x="5031720" y="4559760"/>
                <a:ext cx="104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839560" y="4819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 flipH="1">
                <a:off x="5461200" y="4845600"/>
                <a:ext cx="3859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28480" y="3806640"/>
                <a:ext cx="108360" cy="2716560"/>
              </a:xfrm>
              <a:custGeom>
                <a:avLst/>
                <a:gdLst/>
                <a:ahLst/>
                <a:rect l="l" t="t" r="r" b="b"/>
                <a:pathLst>
                  <a:path w="54" h="1349">
                    <a:moveTo>
                      <a:pt x="54" y="0"/>
                    </a:moveTo>
                    <a:lnTo>
                      <a:pt x="0" y="0"/>
                    </a:lnTo>
                    <a:lnTo>
                      <a:pt x="0" y="134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272280" y="57481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268320" y="5105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120640" y="56854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120640" y="583668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619240" y="4452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700240" y="4452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637600" y="454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692680" y="45496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637240" y="4646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11240" y="4505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19520" y="46767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540680" y="4698720"/>
                <a:ext cx="998640" cy="35640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177"/>
                    </a:moveTo>
                    <a:lnTo>
                      <a:pt x="465" y="177"/>
                    </a:lnTo>
                    <a:lnTo>
                      <a:pt x="465" y="2"/>
                    </a:lnTo>
                    <a:lnTo>
                      <a:pt x="486" y="0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507280" y="619524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615560" y="5689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5495400" y="6118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533120" y="5568840"/>
                <a:ext cx="986400" cy="654480"/>
              </a:xfrm>
              <a:custGeom>
                <a:avLst/>
                <a:gdLst/>
                <a:ahLst/>
                <a:rect l="l" t="t" r="r" b="b"/>
                <a:pathLst>
                  <a:path w="490" h="325">
                    <a:moveTo>
                      <a:pt x="490" y="323"/>
                    </a:moveTo>
                    <a:lnTo>
                      <a:pt x="100" y="325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528800" y="5854680"/>
                <a:ext cx="59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537080" y="5707440"/>
                <a:ext cx="591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528800" y="5421600"/>
                <a:ext cx="986400" cy="722880"/>
              </a:xfrm>
              <a:custGeom>
                <a:avLst/>
                <a:gdLst/>
                <a:ahLst/>
                <a:rect l="l" t="t" r="r" b="b"/>
                <a:pathLst>
                  <a:path w="490" h="359">
                    <a:moveTo>
                      <a:pt x="0" y="0"/>
                    </a:moveTo>
                    <a:lnTo>
                      <a:pt x="141" y="2"/>
                    </a:lnTo>
                    <a:lnTo>
                      <a:pt x="141" y="359"/>
                    </a:lnTo>
                    <a:lnTo>
                      <a:pt x="490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348520" y="5770080"/>
                <a:ext cx="943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  <a:lnTo>
                      <a:pt x="21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  <a:lnTo>
                      <a:pt x="215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872960" y="32565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985640" y="3171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04792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09760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4440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9948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249160" y="317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803160" y="1335240"/>
              <a:ext cx="6767640" cy="3742200"/>
              <a:chOff x="803160" y="1335240"/>
              <a:chExt cx="6767640" cy="3742200"/>
            </a:xfrm>
          </p:grpSpPr>
          <p:sp>
            <p:nvSpPr>
              <p:cNvPr id="5882" name=""/>
              <p:cNvSpPr/>
              <p:nvPr/>
            </p:nvSpPr>
            <p:spPr>
              <a:xfrm>
                <a:off x="5275440" y="317232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5073840" y="328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136120" y="328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H="1">
                <a:off x="1297080" y="219708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386000" y="2172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8031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85608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9075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96084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015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0656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1199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177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560" y="282744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5856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5673960" y="284976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577120" y="2797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85756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94000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87880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2812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87844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438520" y="23983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438520" y="22172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5351760" y="242100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254920" y="236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538600" y="2092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619960" y="20923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558760" y="2189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608080" y="21891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558400" y="228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846240" y="282744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H="1">
                <a:off x="3759120" y="2849760"/>
                <a:ext cx="109080" cy="396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736080" y="273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94812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02732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96468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02156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96396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6900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991320" y="2263680"/>
                <a:ext cx="1800" cy="100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53600" y="1832400"/>
                <a:ext cx="760680" cy="78480"/>
              </a:xfrm>
              <a:custGeom>
                <a:avLst/>
                <a:gdLst/>
                <a:ahLst/>
                <a:rect l="l" t="t" r="r" b="b"/>
                <a:pathLst>
                  <a:path w="378" h="39">
                    <a:moveTo>
                      <a:pt x="376" y="39"/>
                    </a:moveTo>
                    <a:lnTo>
                      <a:pt x="37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018960" y="1550520"/>
                <a:ext cx="1054440" cy="958680"/>
              </a:xfrm>
              <a:custGeom>
                <a:avLst/>
                <a:gdLst/>
                <a:ahLst/>
                <a:rect l="l" t="t" r="r" b="b"/>
                <a:pathLst>
                  <a:path w="524" h="476">
                    <a:moveTo>
                      <a:pt x="522" y="171"/>
                    </a:moveTo>
                    <a:lnTo>
                      <a:pt x="524" y="0"/>
                    </a:lnTo>
                    <a:lnTo>
                      <a:pt x="182" y="0"/>
                    </a:lnTo>
                    <a:lnTo>
                      <a:pt x="182" y="476"/>
                    </a:lnTo>
                    <a:lnTo>
                      <a:pt x="0" y="4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436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83160" y="1431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74868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775320" y="143172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833280" y="143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85668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909600" y="1431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95640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006720" y="1335240"/>
                <a:ext cx="2578680" cy="1113480"/>
              </a:xfrm>
              <a:custGeom>
                <a:avLst/>
                <a:gdLst/>
                <a:ahLst/>
                <a:rect l="l" t="t" r="r" b="b"/>
                <a:pathLst>
                  <a:path w="1281" h="553">
                    <a:moveTo>
                      <a:pt x="1279" y="299"/>
                    </a:moveTo>
                    <a:lnTo>
                      <a:pt x="1281" y="0"/>
                    </a:lnTo>
                    <a:lnTo>
                      <a:pt x="153" y="0"/>
                    </a:lnTo>
                    <a:lnTo>
                      <a:pt x="153" y="553"/>
                    </a:lnTo>
                    <a:lnTo>
                      <a:pt x="0" y="55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557320" y="19234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4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585400" y="1550520"/>
                <a:ext cx="319680" cy="815760"/>
              </a:xfrm>
              <a:custGeom>
                <a:avLst/>
                <a:gdLst/>
                <a:ahLst/>
                <a:rect l="l" t="t" r="r" b="b"/>
                <a:pathLst>
                  <a:path w="159" h="405">
                    <a:moveTo>
                      <a:pt x="157" y="405"/>
                    </a:move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8132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557320" y="1528200"/>
                <a:ext cx="5040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63148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69196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5754240" y="1411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783760" y="1411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5838480" y="1411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58629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18760" y="1411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9637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84840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001120" y="2904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0727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49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5177160" y="2904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22468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183840" y="3774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83840" y="3891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H="1">
                <a:off x="2279880" y="3798360"/>
                <a:ext cx="920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2279880" y="3913200"/>
                <a:ext cx="923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2356560" y="37742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2469240" y="3895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359160" y="50313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040920" y="2873880"/>
                <a:ext cx="339840" cy="2173320"/>
              </a:xfrm>
              <a:custGeom>
                <a:avLst/>
                <a:gdLst/>
                <a:ahLst/>
                <a:rect l="l" t="t" r="r" b="b"/>
                <a:pathLst>
                  <a:path w="169" h="1079">
                    <a:moveTo>
                      <a:pt x="169" y="1079"/>
                    </a:moveTo>
                    <a:lnTo>
                      <a:pt x="169" y="897"/>
                    </a:lnTo>
                    <a:lnTo>
                      <a:pt x="0" y="897"/>
                    </a:lnTo>
                    <a:lnTo>
                      <a:pt x="0" y="0"/>
                    </a:lnTo>
                    <a:lnTo>
                      <a:pt x="1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2936160" y="3411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000960" y="341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052080" y="341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0751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0985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27680" y="34117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2921400" y="3524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294372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99412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0232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0484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07548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7007760" y="44488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7094520" y="4448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7126560" y="4448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7151040" y="444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173360" y="444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228080" y="4448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70081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70567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7112880" y="454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713808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33824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4091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746028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75135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6864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368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4210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747540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74984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7002360" y="4118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706464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712116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7173000" y="411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720360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725760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730368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1482840" y="4298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155340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160704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165852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1712520" y="42984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15156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15660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1618920" y="4394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164556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1138320" y="4142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120564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125460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1311480" y="4142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134208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1394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1439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3254400" y="4138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3342240" y="4138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3374280" y="4138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3397320" y="4138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3423240" y="4138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3473640" y="4138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325476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32850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33936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3392280" y="423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3413520" y="423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457800" y="423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4884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54024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248280" y="4404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334320" y="4404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364200" y="4404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388680" y="4404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414960" y="4404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46608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24864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0120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353040" y="4501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37788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705480" y="3538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77532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82968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88080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934800" y="353844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648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70080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75516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783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83364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85956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71340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78324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83760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38919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394308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366120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370908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37659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79152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8415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867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248640" y="3588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31524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36456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41892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473640" y="3588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248280" y="3685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27924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333108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382200" y="3685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405240" y="3685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450960" y="3685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347760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2" name=""/>
            <p:cNvSpPr/>
            <p:nvPr/>
          </p:nvSpPr>
          <p:spPr>
            <a:xfrm>
              <a:off x="3531960" y="368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561840" y="3686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590640" y="368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46120" y="3818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3145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3649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41928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474000" y="381888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24612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2763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3314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380760" y="391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405600" y="391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45132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4779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53196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56184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5906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  <a:lnTo>
                    <a:pt x="8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972400" y="4673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033240" y="467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086520" y="4673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57800" y="467316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06160" y="478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558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0062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060600" y="478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087240" y="4781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1892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71120" y="478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 flipV="1">
              <a:off x="3705480" y="4988880"/>
              <a:ext cx="705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683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3824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 flipV="1">
              <a:off x="2851920" y="4988880"/>
              <a:ext cx="7020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83032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882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346360" y="4530240"/>
              <a:ext cx="181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431320" y="4530240"/>
              <a:ext cx="869400" cy="601920"/>
            </a:xfrm>
            <a:custGeom>
              <a:avLst/>
              <a:gdLst/>
              <a:ahLst/>
              <a:rect l="l" t="t" r="r" b="b"/>
              <a:pathLst>
                <a:path w="432" h="299">
                  <a:moveTo>
                    <a:pt x="0" y="0"/>
                  </a:moveTo>
                  <a:lnTo>
                    <a:pt x="0" y="299"/>
                  </a:lnTo>
                  <a:lnTo>
                    <a:pt x="432" y="2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520320" y="4534200"/>
              <a:ext cx="410760" cy="587880"/>
            </a:xfrm>
            <a:custGeom>
              <a:avLst/>
              <a:gdLst/>
              <a:ahLst/>
              <a:rect l="l" t="t" r="r" b="b"/>
              <a:pathLst>
                <a:path w="204" h="292">
                  <a:moveTo>
                    <a:pt x="0" y="292"/>
                  </a:moveTo>
                  <a:lnTo>
                    <a:pt x="48" y="292"/>
                  </a:lnTo>
                  <a:lnTo>
                    <a:pt x="48" y="0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rot="16200000">
              <a:off x="2177280" y="4253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rot="16200000">
              <a:off x="2163600" y="421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rot="16200000">
              <a:off x="2165760" y="416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rot="16200000">
              <a:off x="2177280" y="412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rot="16200000">
              <a:off x="2175120" y="40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rot="16200000">
              <a:off x="2163600" y="405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rot="16200000">
              <a:off x="2165760" y="4007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rot="16200000">
              <a:off x="2177280" y="3967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rot="16200000">
              <a:off x="2180160" y="394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rot="16200000">
              <a:off x="21636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rot="16200000">
              <a:off x="2163600" y="385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246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2731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323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37284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402000" y="57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4315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485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53196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557880" y="5736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5794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6338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87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0908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38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918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846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9142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9697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300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246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2731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323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37284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402000" y="558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4315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485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53196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557880" y="558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5794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6338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687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0908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38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918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846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9142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9697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2300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46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731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3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37284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402000" y="5446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4315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485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53196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557880" y="5446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5794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6338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687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0908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38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918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846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9142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9697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2300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246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731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23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37284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402000" y="5295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4315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485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53196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7880" y="529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5794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6338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687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70908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738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918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46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142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697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2300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rot="16200000">
              <a:off x="3727800" y="3273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rot="16200000">
              <a:off x="3736080" y="322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rot="16200000">
              <a:off x="3736080" y="3172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16200000">
              <a:off x="3716280" y="3092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16200000">
              <a:off x="3747600" y="303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16200000">
              <a:off x="3752640" y="3003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16200000">
              <a:off x="3749760" y="2977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16200000">
              <a:off x="3736080" y="29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5700240" y="4983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576360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5816880" y="4983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5885280" y="49831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596016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54730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5535000" y="33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5590080" y="3365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6584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721120" y="3365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5750280" y="336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62996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69548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75092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80420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4872240" y="5249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4918680" y="524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520320" y="3041280"/>
              <a:ext cx="714600" cy="535680"/>
            </a:xfrm>
            <a:custGeom>
              <a:avLst/>
              <a:gdLst/>
              <a:ahLst/>
              <a:rect l="l" t="t" r="r" b="b"/>
              <a:pathLst>
                <a:path w="355" h="266">
                  <a:moveTo>
                    <a:pt x="0" y="0"/>
                  </a:moveTo>
                  <a:lnTo>
                    <a:pt x="355" y="0"/>
                  </a:lnTo>
                  <a:lnTo>
                    <a:pt x="355" y="266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16200000">
              <a:off x="7124040" y="3444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16200000">
              <a:off x="7138440" y="3382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16200000">
              <a:off x="7122240" y="331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16200000">
              <a:off x="7118640" y="322884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16200000">
              <a:off x="7149960" y="3169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16200000">
              <a:off x="7153200" y="3138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16200000">
              <a:off x="7152120" y="3119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16200000">
              <a:off x="7136640" y="307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2381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3177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3713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47680" y="4854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1824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5733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62588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947720" y="3083760"/>
              <a:ext cx="545400" cy="1055160"/>
            </a:xfrm>
            <a:custGeom>
              <a:avLst/>
              <a:gdLst/>
              <a:ahLst/>
              <a:rect l="l" t="t" r="r" b="b"/>
              <a:pathLst>
                <a:path w="271" h="524">
                  <a:moveTo>
                    <a:pt x="269" y="524"/>
                  </a:move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 rot="16200000">
              <a:off x="8358480" y="3985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rot="16200000">
              <a:off x="8370720" y="392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 rot="16200000">
              <a:off x="8356320" y="3849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 rot="16200000">
              <a:off x="8386560" y="3800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 rot="16200000">
              <a:off x="8370720" y="375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rot="16200000">
              <a:off x="8364600" y="3699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rot="16200000">
              <a:off x="8370720" y="3644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rot="16200000">
              <a:off x="8372880" y="358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611720" y="960840"/>
              <a:ext cx="1081080" cy="1468080"/>
            </a:xfrm>
            <a:custGeom>
              <a:avLst/>
              <a:gdLst/>
              <a:ahLst/>
              <a:rect l="l" t="t" r="r" b="b"/>
              <a:pathLst>
                <a:path w="537" h="729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729"/>
                  </a:lnTo>
                  <a:lnTo>
                    <a:pt x="537" y="72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03800" y="83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668600" y="839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16999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175500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804320" y="83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8547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 flipV="1">
              <a:off x="1525680" y="1361160"/>
              <a:ext cx="1800" cy="525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1452960" y="809640"/>
              <a:ext cx="2814480" cy="3194640"/>
            </a:xfrm>
            <a:custGeom>
              <a:avLst/>
              <a:gdLst/>
              <a:ahLst/>
              <a:rect l="l" t="t" r="r" b="b"/>
              <a:pathLst>
                <a:path w="1398" h="1586">
                  <a:moveTo>
                    <a:pt x="1379" y="1586"/>
                  </a:moveTo>
                  <a:lnTo>
                    <a:pt x="1398" y="1586"/>
                  </a:lnTo>
                  <a:lnTo>
                    <a:pt x="1398" y="0"/>
                  </a:lnTo>
                  <a:lnTo>
                    <a:pt x="0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1591560" y="1729800"/>
              <a:ext cx="1090800" cy="745200"/>
            </a:xfrm>
            <a:custGeom>
              <a:avLst/>
              <a:gdLst/>
              <a:ahLst/>
              <a:rect l="l" t="t" r="r" b="b"/>
              <a:pathLst>
                <a:path w="542" h="370">
                  <a:moveTo>
                    <a:pt x="0" y="94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370"/>
                  </a:lnTo>
                  <a:lnTo>
                    <a:pt x="542" y="37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1255680" y="1440000"/>
              <a:ext cx="2369160" cy="1657440"/>
            </a:xfrm>
            <a:custGeom>
              <a:avLst/>
              <a:gdLst/>
              <a:ahLst/>
              <a:rect l="l" t="t" r="r" b="b"/>
              <a:pathLst>
                <a:path w="1177" h="823">
                  <a:moveTo>
                    <a:pt x="1141" y="821"/>
                  </a:moveTo>
                  <a:lnTo>
                    <a:pt x="1177" y="823"/>
                  </a:lnTo>
                  <a:lnTo>
                    <a:pt x="117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5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549000" y="1832760"/>
              <a:ext cx="1173600" cy="2387160"/>
            </a:xfrm>
            <a:custGeom>
              <a:avLst/>
              <a:gdLst/>
              <a:ahLst/>
              <a:rect l="l" t="t" r="r" b="b"/>
              <a:pathLst>
                <a:path w="583" h="1185">
                  <a:moveTo>
                    <a:pt x="530" y="175"/>
                  </a:moveTo>
                  <a:lnTo>
                    <a:pt x="583" y="175"/>
                  </a:lnTo>
                  <a:lnTo>
                    <a:pt x="583" y="0"/>
                  </a:lnTo>
                  <a:lnTo>
                    <a:pt x="0" y="0"/>
                  </a:lnTo>
                  <a:lnTo>
                    <a:pt x="0" y="1185"/>
                  </a:lnTo>
                  <a:lnTo>
                    <a:pt x="51" y="1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72320" y="1899360"/>
              <a:ext cx="2025000" cy="3963960"/>
            </a:xfrm>
            <a:custGeom>
              <a:avLst/>
              <a:gdLst/>
              <a:ahLst/>
              <a:rect l="l" t="t" r="r" b="b"/>
              <a:pathLst>
                <a:path w="1006" h="1968">
                  <a:moveTo>
                    <a:pt x="65" y="0"/>
                  </a:moveTo>
                  <a:lnTo>
                    <a:pt x="0" y="2"/>
                  </a:lnTo>
                  <a:lnTo>
                    <a:pt x="0" y="1968"/>
                  </a:lnTo>
                  <a:lnTo>
                    <a:pt x="1006" y="19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45920" y="2074320"/>
              <a:ext cx="2091600" cy="4020480"/>
            </a:xfrm>
            <a:custGeom>
              <a:avLst/>
              <a:gdLst/>
              <a:ahLst/>
              <a:rect l="l" t="t" r="r" b="b"/>
              <a:pathLst>
                <a:path w="1039" h="1996">
                  <a:moveTo>
                    <a:pt x="1039" y="1804"/>
                  </a:moveTo>
                  <a:lnTo>
                    <a:pt x="1039" y="1996"/>
                  </a:lnTo>
                  <a:lnTo>
                    <a:pt x="127" y="1996"/>
                  </a:lnTo>
                  <a:lnTo>
                    <a:pt x="127" y="712"/>
                  </a:lnTo>
                  <a:lnTo>
                    <a:pt x="0" y="712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>
              <a:off x="3949200" y="3627360"/>
              <a:ext cx="3441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18400" y="3240720"/>
              <a:ext cx="1090800" cy="217800"/>
            </a:xfrm>
            <a:custGeom>
              <a:avLst/>
              <a:gdLst/>
              <a:ahLst/>
              <a:rect l="l" t="t" r="r" b="b"/>
              <a:pathLst>
                <a:path w="542" h="108">
                  <a:moveTo>
                    <a:pt x="0" y="0"/>
                  </a:moveTo>
                  <a:lnTo>
                    <a:pt x="2" y="108"/>
                  </a:lnTo>
                  <a:lnTo>
                    <a:pt x="542" y="1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4069440" y="38955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1360" y="1176120"/>
            <a:ext cx="831564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nstrução receberá o valor errado de $2 (velho 10, novo -2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3080" y="2254320"/>
            <a:ext cx="6985440" cy="4298040"/>
            <a:chOff x="793080" y="2254320"/>
            <a:chExt cx="6985440" cy="4298040"/>
          </a:xfrm>
        </p:grpSpPr>
        <p:grpSp>
          <p:nvGrpSpPr>
            <p:cNvPr id="47" name=""/>
            <p:cNvGrpSpPr/>
            <p:nvPr/>
          </p:nvGrpSpPr>
          <p:grpSpPr>
            <a:xfrm>
              <a:off x="793080" y="2254320"/>
              <a:ext cx="6906960" cy="4153320"/>
              <a:chOff x="793080" y="2254320"/>
              <a:chExt cx="6906960" cy="415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2964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0"/>
                    </a:moveTo>
                    <a:lnTo>
                      <a:pt x="73" y="0"/>
                    </a:lnTo>
                    <a:lnTo>
                      <a:pt x="73" y="144"/>
                    </a:lnTo>
                    <a:lnTo>
                      <a:pt x="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07080" y="6191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3080" y="5543280"/>
                <a:ext cx="142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23080" y="5685480"/>
                <a:ext cx="14220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4492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0236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73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32600" y="5039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32600" y="489276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47880" y="438912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47880" y="42447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7480" y="36669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023080" y="3521880"/>
                <a:ext cx="180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875840" y="352656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875840" y="381348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674440" y="3521880"/>
                <a:ext cx="396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440" y="352656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4440" y="381348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008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6532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00960" y="3584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2960" y="3584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5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77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9160" y="3666960"/>
                <a:ext cx="3988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63160" y="35989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13680" y="3666960"/>
                <a:ext cx="435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63160" y="37411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02440" y="359892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2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07080" y="4166280"/>
                <a:ext cx="21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556600" y="417456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56600" y="446328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8400" y="417456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514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86040" y="4232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58800" y="4166280"/>
                <a:ext cx="3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58800" y="417456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58800" y="446328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50760" y="4232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50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8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63160" y="4316760"/>
                <a:ext cx="399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8400" y="431676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18760" y="431676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90760" y="42487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3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9088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6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168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27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5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6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16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674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99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0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8776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53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61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04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742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3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2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94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5864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05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1880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988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0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9840" y="22543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868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7480" y="22543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692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038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808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344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368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802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2168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25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2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2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481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1184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8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090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74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397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78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3980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136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160" y="3584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80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6316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3048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15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99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130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2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4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36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970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672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2360" y="3526560"/>
                <a:ext cx="3600" cy="284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0040" y="635760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160" y="288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732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32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6200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048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8280" y="288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5560" y="288864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380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148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84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0044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16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35800" y="3042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3042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13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15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880" y="304272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38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12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0828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774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976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92960" y="319104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308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28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18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492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056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08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69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358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7036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132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85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64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8600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1408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864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412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2000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91520" y="2342520"/>
                <a:ext cx="4770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50000" y="23184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28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969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10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804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772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47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19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889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31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240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296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38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772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75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47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7912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440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7912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391440" y="4816440"/>
                <a:ext cx="21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40960" y="482040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40960" y="510768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028160" y="2473200"/>
              <a:ext cx="6750360" cy="4079160"/>
              <a:chOff x="1028160" y="2473200"/>
              <a:chExt cx="6750360" cy="407916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62760" y="4820400"/>
                <a:ext cx="142200" cy="29088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35840" y="4878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7040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044960" y="4816440"/>
                <a:ext cx="39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44960" y="482040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4960" y="510768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7800" y="491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840" y="4678200"/>
                <a:ext cx="21816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7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8000" y="4824720"/>
                <a:ext cx="288720" cy="2869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1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372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984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4016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30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032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47880" y="4966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82760" y="4966920"/>
                <a:ext cx="43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03120" y="496692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5120" y="48927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37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46000" y="4966920"/>
                <a:ext cx="50724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5280" y="467820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580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925320" y="546912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25320" y="575784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49280" y="54691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05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5512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73364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33640" y="546912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33640" y="575784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51840" y="5328360"/>
                <a:ext cx="22104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5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10" y="199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276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420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2740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92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876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2240" y="5614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68920" y="5614920"/>
                <a:ext cx="433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1440" y="5614920"/>
                <a:ext cx="39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59480" y="5543280"/>
                <a:ext cx="74160" cy="71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0000" y="5614920"/>
                <a:ext cx="50760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3240" y="61189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760520" y="6114600"/>
                <a:ext cx="180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611120" y="611892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611120" y="640764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3640" y="61189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456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12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418000" y="6114600"/>
                <a:ext cx="216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18000" y="611892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8000" y="640764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48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856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5117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3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72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2720" y="6261120"/>
                <a:ext cx="394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57240" y="6261120"/>
                <a:ext cx="429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75800" y="6261120"/>
                <a:ext cx="397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6720" y="6333480"/>
                <a:ext cx="4294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0" y="6191280"/>
                <a:ext cx="71640" cy="698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4720" y="6261120"/>
                <a:ext cx="507600" cy="21852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102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31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9208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2916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953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850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24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772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718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6296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000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02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4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8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97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33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83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5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96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7000" y="269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33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30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014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51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4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18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36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032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22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19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0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74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03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75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85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95840" y="4883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3796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0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74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215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85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27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19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321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3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39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747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708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28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965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707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804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728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47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9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9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31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24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329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35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377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751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47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8160" y="6176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911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8188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14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95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636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10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88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62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746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45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5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59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31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04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55320" y="2511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3956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10120" y="251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396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080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8112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532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858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36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59320" y="25113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54240" y="2665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6800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0000" y="26654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65920" y="2665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1080" y="2665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6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639800" y="2665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192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72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856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9280" y="3526560"/>
              <a:ext cx="286920" cy="2869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41" y="143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3" y="143"/>
                  </a:lnTo>
                  <a:lnTo>
                    <a:pt x="143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5720" y="3584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87160" y="3584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2600" y="3667320"/>
              <a:ext cx="14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3534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432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668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03440" y="4275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9560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364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760" y="4245120"/>
              <a:ext cx="180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7480" y="5039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2560" y="6207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6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88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68560" y="556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0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2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6200" y="6191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497040" y="3702960"/>
              <a:ext cx="1374840" cy="5295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172040" y="3702960"/>
              <a:ext cx="708480" cy="1163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76200" y="3695040"/>
              <a:ext cx="3960" cy="18320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4120" y="3691440"/>
              <a:ext cx="692640" cy="2495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75440" y="4202640"/>
              <a:ext cx="57960" cy="558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840" y="4843080"/>
              <a:ext cx="56160" cy="57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549720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4720" y="615312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400" y="3664800"/>
              <a:ext cx="57960" cy="56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6"/>
                  </a:moveTo>
                  <a:lnTo>
                    <a:pt x="17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1840" y="5543280"/>
              <a:ext cx="18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71840" y="5685840"/>
              <a:ext cx="180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9840" y="4317120"/>
              <a:ext cx="505440" cy="218880"/>
            </a:xfrm>
            <a:custGeom>
              <a:avLst/>
              <a:gdLst/>
              <a:ahLst/>
              <a:rect l="l" t="t" r="r" b="b"/>
              <a:pathLst>
                <a:path w="252" h="109">
                  <a:moveTo>
                    <a:pt x="0" y="0"/>
                  </a:moveTo>
                  <a:lnTo>
                    <a:pt x="0" y="109"/>
                  </a:lnTo>
                  <a:lnTo>
                    <a:pt x="217" y="109"/>
                  </a:lnTo>
                  <a:lnTo>
                    <a:pt x="217" y="36"/>
                  </a:lnTo>
                  <a:lnTo>
                    <a:pt x="252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3667320"/>
              <a:ext cx="503640" cy="220680"/>
            </a:xfrm>
            <a:custGeom>
              <a:avLst/>
              <a:gdLst/>
              <a:ahLst/>
              <a:rect l="l" t="t" r="r" b="b"/>
              <a:pathLst>
                <a:path w="251" h="110">
                  <a:moveTo>
                    <a:pt x="0" y="0"/>
                  </a:moveTo>
                  <a:lnTo>
                    <a:pt x="0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1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440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5160" y="3384000"/>
              <a:ext cx="112320" cy="575640"/>
            </a:xfrm>
            <a:custGeom>
              <a:avLst/>
              <a:gdLst/>
              <a:ahLst/>
              <a:rect l="l" t="t" r="r" b="b"/>
              <a:pathLst>
                <a:path w="56" h="287">
                  <a:moveTo>
                    <a:pt x="54" y="285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6" y="287"/>
                  </a:lnTo>
                  <a:lnTo>
                    <a:pt x="56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516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4000" y="4174560"/>
              <a:ext cx="288720" cy="2887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0440" y="4232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1520" y="4232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63880" y="4678200"/>
              <a:ext cx="218880" cy="57168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7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5640" y="4678200"/>
              <a:ext cx="109800" cy="57600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7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2200" y="5328720"/>
              <a:ext cx="221040" cy="57168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0"/>
                  </a:moveTo>
                  <a:lnTo>
                    <a:pt x="0" y="116"/>
                  </a:lnTo>
                  <a:lnTo>
                    <a:pt x="35" y="143"/>
                  </a:lnTo>
                  <a:lnTo>
                    <a:pt x="0" y="170"/>
                  </a:lnTo>
                  <a:lnTo>
                    <a:pt x="0" y="285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 devido à dependência de d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(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 or lêem resultado errado (velho 1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stá claramente à direita (depois no tempo) e lê resultado certo (-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ard no add pode ser evitado se a escrita no banco de registradores for feita (em CC5) na metade do ciclo (borda de desci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523880" y="4952880"/>
            <a:ext cx="6061680" cy="1221480"/>
            <a:chOff x="1523880" y="4952880"/>
            <a:chExt cx="6061680" cy="1221480"/>
          </a:xfrm>
        </p:grpSpPr>
        <p:sp>
          <p:nvSpPr>
            <p:cNvPr id="498" name=""/>
            <p:cNvSpPr/>
            <p:nvPr/>
          </p:nvSpPr>
          <p:spPr>
            <a:xfrm>
              <a:off x="1523880" y="5246280"/>
              <a:ext cx="5867640" cy="381240"/>
            </a:xfrm>
            <a:custGeom>
              <a:avLst/>
              <a:gdLst/>
              <a:ahLst/>
              <a:rect l="l" t="t" r="r" b="b"/>
              <a:pathLst>
                <a:path w="3696" h="240">
                  <a:moveTo>
                    <a:pt x="0" y="240"/>
                  </a:moveTo>
                  <a:lnTo>
                    <a:pt x="528" y="240"/>
                  </a:lnTo>
                  <a:lnTo>
                    <a:pt x="528" y="0"/>
                  </a:lnTo>
                  <a:lnTo>
                    <a:pt x="1200" y="0"/>
                  </a:lnTo>
                  <a:lnTo>
                    <a:pt x="1200" y="240"/>
                  </a:lnTo>
                  <a:lnTo>
                    <a:pt x="1872" y="240"/>
                  </a:lnTo>
                  <a:lnTo>
                    <a:pt x="1872" y="0"/>
                  </a:lnTo>
                  <a:lnTo>
                    <a:pt x="2496" y="0"/>
                  </a:lnTo>
                  <a:lnTo>
                    <a:pt x="2496" y="240"/>
                  </a:lnTo>
                  <a:lnTo>
                    <a:pt x="3168" y="240"/>
                  </a:lnTo>
                  <a:lnTo>
                    <a:pt x="3168" y="0"/>
                  </a:lnTo>
                  <a:lnTo>
                    <a:pt x="36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6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0840" y="5867280"/>
              <a:ext cx="446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C4                                    CC5                            C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6400" y="524628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6960" y="49528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Reg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3080" y="5245920"/>
              <a:ext cx="0" cy="381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7320" y="495288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Arial"/>
                </a:rPr>
                <a:t>Reg 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514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826640" y="2473200"/>
            <a:ext cx="5544720" cy="3660840"/>
            <a:chOff x="1826640" y="2473200"/>
            <a:chExt cx="5544720" cy="3660840"/>
          </a:xfrm>
        </p:grpSpPr>
        <p:grpSp>
          <p:nvGrpSpPr>
            <p:cNvPr id="517" name=""/>
            <p:cNvGrpSpPr/>
            <p:nvPr/>
          </p:nvGrpSpPr>
          <p:grpSpPr>
            <a:xfrm>
              <a:off x="1884240" y="2473200"/>
              <a:ext cx="5461200" cy="3548160"/>
              <a:chOff x="1884240" y="2473200"/>
              <a:chExt cx="5461200" cy="354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373720" y="5334120"/>
                <a:ext cx="14292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3720" y="545004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9040" y="493560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960" y="4309920"/>
                <a:ext cx="142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484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584820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73560" y="5334120"/>
                <a:ext cx="11448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73560" y="5450040"/>
                <a:ext cx="11448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376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31080" y="52768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30680" y="493560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0680" y="481968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9240" y="442116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89240" y="43099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29040" y="38527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173560" y="373500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60520" y="373860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060520" y="396540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19560" y="373500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9560" y="3738600"/>
                <a:ext cx="1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19560" y="3965400"/>
                <a:ext cx="118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120" y="373860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8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85040" y="3784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70680" y="3784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408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9956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3480" y="385272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48160" y="379584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9360" y="385272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48160" y="39085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2320" y="3795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4840" y="3852720"/>
                <a:ext cx="401760" cy="171720"/>
              </a:xfrm>
              <a:custGeom>
                <a:avLst/>
                <a:gdLst/>
                <a:ahLst/>
                <a:rect l="l" t="t" r="r" b="b"/>
                <a:pathLst>
                  <a:path w="253" h="108">
                    <a:moveTo>
                      <a:pt x="0" y="0"/>
                    </a:moveTo>
                    <a:lnTo>
                      <a:pt x="0" y="108"/>
                    </a:lnTo>
                    <a:lnTo>
                      <a:pt x="217" y="108"/>
                    </a:lnTo>
                    <a:lnTo>
                      <a:pt x="217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715000" y="4247640"/>
                <a:ext cx="14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595480" y="42512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95480" y="44798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19560" y="425124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998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6480" y="4297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860640" y="42476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0640" y="42512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60640" y="44798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39320" y="429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0952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66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48160" y="4363920"/>
                <a:ext cx="312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3680" y="43639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73560" y="436392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3760" y="430992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6280" y="436392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8"/>
                    </a:lnTo>
                    <a:lnTo>
                      <a:pt x="253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040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67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491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786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45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18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934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008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898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628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48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629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31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39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59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440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74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47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1920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58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5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82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602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869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5280" y="2473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1360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39160" y="2473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18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920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0692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3896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2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1888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462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772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171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7800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273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7772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079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51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80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5988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789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5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804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036520" y="3784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88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42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2804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49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41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8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76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0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37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660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233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01880" y="3776760"/>
                <a:ext cx="1440" cy="221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84240" y="5981760"/>
                <a:ext cx="3672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93240" y="3363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6092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947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164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0996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405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7800" y="3363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60440" y="336384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914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4868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9800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5704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8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6468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1320" y="3486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136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270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812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533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1488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69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94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6104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71840" y="348624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9432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636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50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0592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3580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0563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11284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6468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9276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2480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240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3460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6124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82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4044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9516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4808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17920" y="2540160"/>
                <a:ext cx="380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05840" y="25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343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930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484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0608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41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91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468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4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31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80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5167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7112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9956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29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3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0516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660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498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826640" y="2643120"/>
              <a:ext cx="5544720" cy="3490920"/>
              <a:chOff x="1826640" y="2643120"/>
              <a:chExt cx="5544720" cy="3490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56440" y="4762440"/>
                <a:ext cx="32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140520" y="47656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140520" y="499284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0640" y="47656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412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79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403880" y="4762440"/>
                <a:ext cx="14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3880" y="476568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03880" y="49928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644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6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82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1960" y="4653000"/>
                <a:ext cx="17316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5" y="142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86400" y="476568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3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868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203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8040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11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4878360"/>
                <a:ext cx="314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45120" y="487836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15000" y="487836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44840" y="48229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9160" y="487836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1" y="109"/>
                    </a:lnTo>
                    <a:lnTo>
                      <a:pt x="216" y="109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797520" y="527328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681600" y="5276880"/>
                <a:ext cx="115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681600" y="5504040"/>
                <a:ext cx="1155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03880" y="5276880"/>
                <a:ext cx="114120" cy="230040"/>
              </a:xfrm>
              <a:custGeom>
                <a:avLst/>
                <a:gdLst/>
                <a:ahLst/>
                <a:rect l="l" t="t" r="r" b="b"/>
                <a:pathLst>
                  <a:path w="72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2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4823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1224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44960" y="527328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4960" y="52768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44960" y="5504040"/>
                <a:ext cx="115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012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176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184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92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52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0680" y="5391000"/>
                <a:ext cx="31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86560" y="539100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56440" y="5391000"/>
                <a:ext cx="312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86280" y="533700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70600" y="539100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6" y="109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11360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338960" y="5786280"/>
                <a:ext cx="32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304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304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496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3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2380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5368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486400" y="5786280"/>
                <a:ext cx="14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8640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40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3120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320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16472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49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9360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73560" y="5905440"/>
                <a:ext cx="312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29440" y="5905440"/>
                <a:ext cx="34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7520" y="590544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15000" y="5959440"/>
                <a:ext cx="343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29160" y="58482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1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5280" y="5905440"/>
                <a:ext cx="398160" cy="169920"/>
              </a:xfrm>
              <a:custGeom>
                <a:avLst/>
                <a:gdLst/>
                <a:ahLst/>
                <a:rect l="l" t="t" r="r" b="b"/>
                <a:pathLst>
                  <a:path w="251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4" y="107"/>
                    </a:lnTo>
                    <a:lnTo>
                      <a:pt x="214" y="36"/>
                    </a:lnTo>
                    <a:lnTo>
                      <a:pt x="251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566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297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17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83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980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711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31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730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395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12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842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141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519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05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93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502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34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91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758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34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904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62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732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49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235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7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3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10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9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76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520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1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934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521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63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39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3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343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94120" y="4811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12832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549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118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67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2524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518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032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375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93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20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0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04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0343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093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1484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608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34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9140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468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04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31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80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167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7112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995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83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36520" y="5835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8764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6144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880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453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0076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58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385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134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706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264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848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168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722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306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26640" y="2814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91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6880" y="2814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72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2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8548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10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71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98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22588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6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516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0960" y="2814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5440" y="2814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404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2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080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320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8984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470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0288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312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3880" y="374004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3" y="14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3" y="144"/>
                  </a:lnTo>
                  <a:lnTo>
                    <a:pt x="143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616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37800" y="3784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30680" y="385272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9788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6808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352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1500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520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064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39320" y="5835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0952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640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97880" y="5326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08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2352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5160" y="584820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36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5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6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21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8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2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9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95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656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8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90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23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88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48400" y="2941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69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265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8232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1040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950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252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90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58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8652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916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23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50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836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504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64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079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932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95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67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951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3656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78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90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90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54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15280" y="3070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35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16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8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404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63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615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816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42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4044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26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58160" y="30700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506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728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57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26040" y="38322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68920" y="38322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1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8560" y="39085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4287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5120" y="3852720"/>
              <a:ext cx="115920" cy="4572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1600" y="49230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5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86200" y="3852720"/>
              <a:ext cx="115920" cy="1082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38560" y="530064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57640" y="3922560"/>
              <a:ext cx="3240" cy="1398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44960" y="42512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46600" y="4138560"/>
              <a:ext cx="85680" cy="457200"/>
            </a:xfrm>
            <a:custGeom>
              <a:avLst/>
              <a:gdLst/>
              <a:ahLst/>
              <a:rect l="l" t="t" r="r" b="b"/>
              <a:pathLst>
                <a:path w="54" h="288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4" y="288"/>
                  </a:lnTo>
                  <a:lnTo>
                    <a:pt x="5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660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1960" y="4653000"/>
              <a:ext cx="17316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6" y="142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7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724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4297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516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080" y="1244520"/>
            <a:ext cx="8548920" cy="4349520"/>
            <a:chOff x="289080" y="1244520"/>
            <a:chExt cx="8548920" cy="4349520"/>
          </a:xfrm>
        </p:grpSpPr>
        <p:grpSp>
          <p:nvGrpSpPr>
            <p:cNvPr id="1023" name=""/>
            <p:cNvGrpSpPr/>
            <p:nvPr/>
          </p:nvGrpSpPr>
          <p:grpSpPr>
            <a:xfrm>
              <a:off x="289080" y="1244520"/>
              <a:ext cx="8548920" cy="4240800"/>
              <a:chOff x="289080" y="1244520"/>
              <a:chExt cx="8548920" cy="4240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42520" y="1940400"/>
                <a:ext cx="844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2240" y="4064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5" y="23"/>
                    </a:lnTo>
                    <a:lnTo>
                      <a:pt x="14" y="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42240" y="32490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4240" y="514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52840" y="2287080"/>
                <a:ext cx="2014920" cy="2887560"/>
              </a:xfrm>
              <a:custGeom>
                <a:avLst/>
                <a:gdLst/>
                <a:ahLst/>
                <a:rect l="l" t="t" r="r" b="b"/>
                <a:pathLst>
                  <a:path w="947" h="1357">
                    <a:moveTo>
                      <a:pt x="947" y="0"/>
                    </a:moveTo>
                    <a:lnTo>
                      <a:pt x="947" y="1357"/>
                    </a:lnTo>
                    <a:lnTo>
                      <a:pt x="0" y="135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31960" y="2287080"/>
                <a:ext cx="231480" cy="36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66160" y="1940400"/>
                <a:ext cx="454680" cy="3079080"/>
              </a:xfrm>
              <a:custGeom>
                <a:avLst/>
                <a:gdLst/>
                <a:ahLst/>
                <a:rect l="l" t="t" r="r" b="b"/>
                <a:pathLst>
                  <a:path w="214" h="1447">
                    <a:moveTo>
                      <a:pt x="212" y="0"/>
                    </a:moveTo>
                    <a:lnTo>
                      <a:pt x="214" y="1447"/>
                    </a:lnTo>
                    <a:lnTo>
                      <a:pt x="0" y="144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7800" y="4100400"/>
                <a:ext cx="280800" cy="801720"/>
              </a:xfrm>
              <a:custGeom>
                <a:avLst/>
                <a:gdLst/>
                <a:ahLst/>
                <a:rect l="l" t="t" r="r" b="b"/>
                <a:pathLst>
                  <a:path w="132" h="377">
                    <a:moveTo>
                      <a:pt x="0" y="0"/>
                    </a:moveTo>
                    <a:lnTo>
                      <a:pt x="2" y="52"/>
                    </a:lnTo>
                    <a:lnTo>
                      <a:pt x="71" y="52"/>
                    </a:lnTo>
                    <a:lnTo>
                      <a:pt x="71" y="377"/>
                    </a:lnTo>
                    <a:lnTo>
                      <a:pt x="132" y="3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7800" y="3285360"/>
                <a:ext cx="329760" cy="1540440"/>
              </a:xfrm>
              <a:custGeom>
                <a:avLst/>
                <a:gdLst/>
                <a:ahLst/>
                <a:rect l="l" t="t" r="r" b="b"/>
                <a:pathLst>
                  <a:path w="155" h="724">
                    <a:moveTo>
                      <a:pt x="0" y="0"/>
                    </a:moveTo>
                    <a:lnTo>
                      <a:pt x="2" y="52"/>
                    </a:lnTo>
                    <a:lnTo>
                      <a:pt x="101" y="52"/>
                    </a:lnTo>
                    <a:lnTo>
                      <a:pt x="101" y="724"/>
                    </a:lnTo>
                    <a:lnTo>
                      <a:pt x="155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69920" y="33508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  <a:lnTo>
                      <a:pt x="90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5720" y="333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7720" y="3338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568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100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99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9840" y="3276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5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97344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263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55520" y="32767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7568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329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88720" y="327672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8264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6724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2520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1412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71360" y="33958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03040" y="3395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  <a:lnTo>
                      <a:pt x="309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6992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69920" y="3659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2280" y="3544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1228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55160" y="37364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269680" y="3762000"/>
                <a:ext cx="306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7260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72600" y="37170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600" y="3395880"/>
                <a:ext cx="11664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52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688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69920" y="30405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94920" y="3163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72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48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480" y="3163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0768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8440" y="3163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886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45920" y="3163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760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48280" y="3549240"/>
                <a:ext cx="6489720" cy="1936080"/>
              </a:xfrm>
              <a:custGeom>
                <a:avLst/>
                <a:gdLst/>
                <a:ahLst/>
                <a:rect l="l" t="t" r="r" b="b"/>
                <a:pathLst>
                  <a:path w="3050" h="910">
                    <a:moveTo>
                      <a:pt x="253" y="65"/>
                    </a:moveTo>
                    <a:lnTo>
                      <a:pt x="0" y="65"/>
                    </a:lnTo>
                    <a:lnTo>
                      <a:pt x="0" y="910"/>
                    </a:lnTo>
                    <a:lnTo>
                      <a:pt x="3050" y="910"/>
                    </a:lnTo>
                    <a:lnTo>
                      <a:pt x="3050" y="0"/>
                    </a:lnTo>
                    <a:lnTo>
                      <a:pt x="29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91080" y="2759760"/>
                <a:ext cx="995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18320" y="3762000"/>
                <a:ext cx="11700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23520" y="3602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08480" y="36021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41880" y="3704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9480" y="3704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41880" y="380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583120" y="3386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668080" y="3386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97880" y="348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655480" y="348948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597520" y="3593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91080" y="3067920"/>
                <a:ext cx="1000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0160" y="3544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340160" y="3570480"/>
                <a:ext cx="69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01520" y="3570480"/>
                <a:ext cx="380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840" y="33339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9120" y="1882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9304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49920" y="1882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077640" y="1882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0896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68360" y="1882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42360" y="3297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12200" y="329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70160" y="329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312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5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8924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95640" y="3395880"/>
                <a:ext cx="11016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07016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3705840" y="2755440"/>
                <a:ext cx="3762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70160" y="4164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05920" y="2759760"/>
                <a:ext cx="2081160" cy="1434240"/>
              </a:xfrm>
              <a:custGeom>
                <a:avLst/>
                <a:gdLst/>
                <a:ahLst/>
                <a:rect l="l" t="t" r="r" b="b"/>
                <a:pathLst>
                  <a:path w="978" h="674">
                    <a:moveTo>
                      <a:pt x="978" y="672"/>
                    </a:moveTo>
                    <a:lnTo>
                      <a:pt x="0" y="67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7672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47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93640" y="188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59440" y="1533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57360" y="1533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7016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0160" y="15656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76560" y="1591200"/>
                <a:ext cx="110160" cy="699480"/>
              </a:xfrm>
              <a:custGeom>
                <a:avLst/>
                <a:gdLst/>
                <a:ahLst/>
                <a:rect l="l" t="t" r="r" b="b"/>
                <a:pathLst>
                  <a:path w="52" h="329">
                    <a:moveTo>
                      <a:pt x="52" y="0"/>
                    </a:moveTo>
                    <a:lnTo>
                      <a:pt x="0" y="1"/>
                    </a:lnTo>
                    <a:lnTo>
                      <a:pt x="0" y="329"/>
                    </a:lnTo>
                    <a:lnTo>
                      <a:pt x="52" y="329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338520" y="2229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11160" y="1880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4400" y="188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19360" y="2238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40160" y="1940400"/>
                <a:ext cx="1895760" cy="325080"/>
              </a:xfrm>
              <a:custGeom>
                <a:avLst/>
                <a:gdLst/>
                <a:ahLst/>
                <a:rect l="l" t="t" r="r" b="b"/>
                <a:pathLst>
                  <a:path w="891" h="153">
                    <a:moveTo>
                      <a:pt x="891" y="151"/>
                    </a:moveTo>
                    <a:lnTo>
                      <a:pt x="803" y="153"/>
                    </a:lnTo>
                    <a:lnTo>
                      <a:pt x="80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1936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35840" y="1591200"/>
                <a:ext cx="1900080" cy="348840"/>
              </a:xfrm>
              <a:custGeom>
                <a:avLst/>
                <a:gdLst/>
                <a:ahLst/>
                <a:rect l="l" t="t" r="r" b="b"/>
                <a:pathLst>
                  <a:path w="893" h="164">
                    <a:moveTo>
                      <a:pt x="0" y="0"/>
                    </a:moveTo>
                    <a:lnTo>
                      <a:pt x="841" y="1"/>
                    </a:lnTo>
                    <a:lnTo>
                      <a:pt x="841" y="164"/>
                    </a:lnTo>
                    <a:lnTo>
                      <a:pt x="893" y="16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8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51960" y="222984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9491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1936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950800" y="3353400"/>
                <a:ext cx="280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6628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89360" y="1940400"/>
                <a:ext cx="1289160" cy="350640"/>
              </a:xfrm>
              <a:custGeom>
                <a:avLst/>
                <a:gdLst/>
                <a:ahLst/>
                <a:rect l="l" t="t" r="r" b="b"/>
                <a:pathLst>
                  <a:path w="606" h="165">
                    <a:moveTo>
                      <a:pt x="606" y="163"/>
                    </a:moveTo>
                    <a:lnTo>
                      <a:pt x="554" y="165"/>
                    </a:lnTo>
                    <a:lnTo>
                      <a:pt x="554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61960" y="3329640"/>
                <a:ext cx="57240" cy="532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8031960" y="3353400"/>
                <a:ext cx="4636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50720" y="3353400"/>
                <a:ext cx="1234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61960" y="4055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031960" y="3740400"/>
                <a:ext cx="463680" cy="338760"/>
              </a:xfrm>
              <a:custGeom>
                <a:avLst/>
                <a:gdLst/>
                <a:ahLst/>
                <a:rect l="l" t="t" r="r" b="b"/>
                <a:pathLst>
                  <a:path w="218" h="159">
                    <a:moveTo>
                      <a:pt x="218" y="0"/>
                    </a:moveTo>
                    <a:lnTo>
                      <a:pt x="163" y="0"/>
                    </a:lnTo>
                    <a:lnTo>
                      <a:pt x="163" y="159"/>
                    </a:lnTo>
                    <a:lnTo>
                      <a:pt x="0" y="1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836040" y="4079160"/>
                <a:ext cx="937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12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31360" y="12445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0300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328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12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228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5212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0160" y="15951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5148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3644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0664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130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796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642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952400" y="194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83720" y="1940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08128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11520" y="32360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8388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42560" y="3236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6956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27520" y="3236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3844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22304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8100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36596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22840" y="3357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59200" y="3357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17080" y="2836080"/>
                <a:ext cx="333720" cy="1040760"/>
              </a:xfrm>
              <a:custGeom>
                <a:avLst/>
                <a:gdLst/>
                <a:ahLst/>
                <a:rect l="l" t="t" r="r" b="b"/>
                <a:pathLst>
                  <a:path w="157" h="489">
                    <a:moveTo>
                      <a:pt x="0" y="0"/>
                    </a:moveTo>
                    <a:lnTo>
                      <a:pt x="0" y="198"/>
                    </a:lnTo>
                    <a:lnTo>
                      <a:pt x="50" y="245"/>
                    </a:lnTo>
                    <a:lnTo>
                      <a:pt x="0" y="291"/>
                    </a:lnTo>
                    <a:lnTo>
                      <a:pt x="0" y="489"/>
                    </a:lnTo>
                    <a:lnTo>
                      <a:pt x="157" y="339"/>
                    </a:lnTo>
                    <a:lnTo>
                      <a:pt x="157" y="1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23520" y="2787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08480" y="27871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1880" y="288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99480" y="28893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41880" y="29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  <a:lnTo>
                      <a:pt x="29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6400" y="48981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35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69304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0120" y="48981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028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080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96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55840" y="48981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742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318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93720" y="489816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420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996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857200" y="5021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75920" y="502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12640" y="392760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12640" y="4540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12640" y="4728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804200" y="3953160"/>
              <a:ext cx="2318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2640" y="311688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55520" y="2923200"/>
              <a:ext cx="57240" cy="51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" y="24"/>
                  </a:lnTo>
                  <a:lnTo>
                    <a:pt x="27" y="13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270040" y="2950920"/>
              <a:ext cx="306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12640" y="292320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04200" y="2950920"/>
              <a:ext cx="231840" cy="2534400"/>
            </a:xfrm>
            <a:custGeom>
              <a:avLst/>
              <a:gdLst/>
              <a:ahLst/>
              <a:rect l="l" t="t" r="r" b="b"/>
              <a:pathLst>
                <a:path w="109" h="1191">
                  <a:moveTo>
                    <a:pt x="109" y="0"/>
                  </a:moveTo>
                  <a:lnTo>
                    <a:pt x="0" y="0"/>
                  </a:lnTo>
                  <a:lnTo>
                    <a:pt x="0" y="11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12640" y="2731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40520" y="2755440"/>
              <a:ext cx="69552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1160" y="3927600"/>
              <a:ext cx="4860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4920" y="3395880"/>
              <a:ext cx="23580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1080" y="1940400"/>
              <a:ext cx="2196000" cy="2819880"/>
            </a:xfrm>
            <a:custGeom>
              <a:avLst/>
              <a:gdLst/>
              <a:ahLst/>
              <a:rect l="l" t="t" r="r" b="b"/>
              <a:pathLst>
                <a:path w="1032" h="1325">
                  <a:moveTo>
                    <a:pt x="1032" y="1323"/>
                  </a:moveTo>
                  <a:lnTo>
                    <a:pt x="0" y="1325"/>
                  </a:lnTo>
                  <a:lnTo>
                    <a:pt x="0" y="0"/>
                  </a:lnTo>
                  <a:lnTo>
                    <a:pt x="4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70160" y="43556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2920" y="3068280"/>
              <a:ext cx="1963800" cy="1312920"/>
            </a:xfrm>
            <a:custGeom>
              <a:avLst/>
              <a:gdLst/>
              <a:ahLst/>
              <a:rect l="l" t="t" r="r" b="b"/>
              <a:pathLst>
                <a:path w="923" h="617">
                  <a:moveTo>
                    <a:pt x="923" y="617"/>
                  </a:moveTo>
                  <a:lnTo>
                    <a:pt x="0" y="61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7016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91080" y="4564080"/>
              <a:ext cx="220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70160" y="47322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6768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23"/>
                  </a:moveTo>
                  <a:lnTo>
                    <a:pt x="13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80720" y="27360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95560" y="30445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62320" y="46216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489360" y="4649040"/>
              <a:ext cx="128052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6160" y="4649040"/>
              <a:ext cx="338040" cy="293760"/>
            </a:xfrm>
            <a:custGeom>
              <a:avLst/>
              <a:gdLst/>
              <a:ahLst/>
              <a:rect l="l" t="t" r="r" b="b"/>
              <a:pathLst>
                <a:path w="159" h="138">
                  <a:moveTo>
                    <a:pt x="159" y="0"/>
                  </a:moveTo>
                  <a:lnTo>
                    <a:pt x="159" y="138"/>
                  </a:lnTo>
                  <a:lnTo>
                    <a:pt x="0" y="1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79000" y="462600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1840" y="4649040"/>
              <a:ext cx="1883160" cy="449280"/>
            </a:xfrm>
            <a:custGeom>
              <a:avLst/>
              <a:gdLst/>
              <a:ahLst/>
              <a:rect l="l" t="t" r="r" b="b"/>
              <a:pathLst>
                <a:path w="885" h="211">
                  <a:moveTo>
                    <a:pt x="0" y="209"/>
                  </a:moveTo>
                  <a:lnTo>
                    <a:pt x="885" y="211"/>
                  </a:lnTo>
                  <a:lnTo>
                    <a:pt x="885" y="0"/>
                  </a:lnTo>
                  <a:lnTo>
                    <a:pt x="8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27640" y="5068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27640" y="4915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27640" y="4991760"/>
              <a:ext cx="4896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30360" y="332964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89720" y="3353400"/>
              <a:ext cx="4528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200" y="4055400"/>
              <a:ext cx="50400" cy="529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19040" y="3142440"/>
              <a:ext cx="1917360" cy="2223720"/>
            </a:xfrm>
            <a:custGeom>
              <a:avLst/>
              <a:gdLst/>
              <a:ahLst/>
              <a:rect l="l" t="t" r="r" b="b"/>
              <a:pathLst>
                <a:path w="901" h="1045">
                  <a:moveTo>
                    <a:pt x="901" y="99"/>
                  </a:moveTo>
                  <a:lnTo>
                    <a:pt x="901" y="1045"/>
                  </a:lnTo>
                  <a:lnTo>
                    <a:pt x="0" y="1045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81160" y="54561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9120" y="3378960"/>
              <a:ext cx="5092200" cy="2215080"/>
            </a:xfrm>
            <a:custGeom>
              <a:avLst/>
              <a:gdLst/>
              <a:ahLst/>
              <a:rect l="l" t="t" r="r" b="b"/>
              <a:pathLst>
                <a:path w="2393" h="1041">
                  <a:moveTo>
                    <a:pt x="2391" y="806"/>
                  </a:moveTo>
                  <a:lnTo>
                    <a:pt x="2393" y="1041"/>
                  </a:lnTo>
                  <a:lnTo>
                    <a:pt x="0" y="1041"/>
                  </a:lnTo>
                  <a:lnTo>
                    <a:pt x="0" y="0"/>
                  </a:lnTo>
                  <a:lnTo>
                    <a:pt x="3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3960" y="5068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5"/>
                  </a:moveTo>
                  <a:lnTo>
                    <a:pt x="15" y="25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70160" y="19123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78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67720" y="22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314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132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88680" y="22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1768680" y="3242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1751040" y="319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1754280" y="314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1768680" y="3109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1764720" y="3076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1751040" y="30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1754280" y="2972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1768680" y="2931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1772640" y="29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1751040" y="286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1751040" y="281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83080" y="5032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21240" y="516636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23680" y="4630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27840" y="4498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12800" y="449820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14224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99840" y="46047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2240" y="4706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261760" y="4649040"/>
              <a:ext cx="965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718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852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6412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3036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0020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2396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0820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480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5904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8496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73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49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68920" y="4506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89080" y="4506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08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576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3000" y="4506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5504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641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516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153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013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26560" y="4947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2198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885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126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756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448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98800" y="49474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6800" y="494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972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960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50720" y="4947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852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5332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18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88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18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488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18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4816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486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76320" y="4613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2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6884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9980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108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132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7836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356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4280" y="4613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11920" y="461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65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9544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2320" y="4613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90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614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86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76320" y="44218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42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6884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9980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0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0132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7836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3560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4280" y="44218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11920" y="442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65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544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320" y="4421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890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6176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486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76320" y="4238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6884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9980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0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0132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7836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3560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194280" y="4238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11920" y="423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65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9544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52320" y="4238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890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6176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86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6320" y="40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2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6884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980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0132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7836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3560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94280" y="4051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1192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65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9544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52320" y="4051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890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104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4840" y="4751640"/>
              <a:ext cx="672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40520" y="4568400"/>
              <a:ext cx="68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344840" y="4194000"/>
              <a:ext cx="1055160" cy="863640"/>
            </a:xfrm>
            <a:custGeom>
              <a:avLst/>
              <a:gdLst/>
              <a:ahLst/>
              <a:rect l="l" t="t" r="r" b="b"/>
              <a:pathLst>
                <a:path w="496" h="406">
                  <a:moveTo>
                    <a:pt x="0" y="0"/>
                  </a:moveTo>
                  <a:lnTo>
                    <a:pt x="155" y="0"/>
                  </a:lnTo>
                  <a:lnTo>
                    <a:pt x="155" y="406"/>
                  </a:lnTo>
                  <a:lnTo>
                    <a:pt x="496" y="4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40520" y="4381200"/>
              <a:ext cx="1095840" cy="815040"/>
            </a:xfrm>
            <a:custGeom>
              <a:avLst/>
              <a:gdLst/>
              <a:ahLst/>
              <a:rect l="l" t="t" r="r" b="b"/>
              <a:pathLst>
                <a:path w="515" h="383">
                  <a:moveTo>
                    <a:pt x="515" y="381"/>
                  </a:moveTo>
                  <a:lnTo>
                    <a:pt x="111" y="383"/>
                  </a:ln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97200" y="2438280"/>
            <a:ext cx="5371200" cy="3049560"/>
            <a:chOff x="1897200" y="2438280"/>
            <a:chExt cx="5371200" cy="3049560"/>
          </a:xfrm>
        </p:grpSpPr>
        <p:grpSp>
          <p:nvGrpSpPr>
            <p:cNvPr id="1403" name=""/>
            <p:cNvGrpSpPr/>
            <p:nvPr/>
          </p:nvGrpSpPr>
          <p:grpSpPr>
            <a:xfrm>
              <a:off x="1897200" y="2438280"/>
              <a:ext cx="5324400" cy="2949480"/>
              <a:chOff x="1897200" y="2438280"/>
              <a:chExt cx="5324400" cy="29494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280120" y="3724200"/>
                <a:ext cx="1126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621400" y="3607920"/>
                <a:ext cx="32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508360" y="3611520"/>
                <a:ext cx="112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508360" y="383868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23040" y="365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540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5444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76880" y="4689360"/>
                <a:ext cx="142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2200" y="4191120"/>
                <a:ext cx="14616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91120" y="366552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88000" y="51451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076720" y="4689360"/>
                <a:ext cx="115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046920" y="463536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34240" y="46324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35640" y="4179960"/>
                <a:ext cx="1141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35640" y="4307040"/>
                <a:ext cx="342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79960" y="48085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992400" y="377820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92400" y="366552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681280" y="3094200"/>
                <a:ext cx="112680" cy="231480"/>
              </a:xfrm>
              <a:custGeom>
                <a:avLst/>
                <a:gdLst/>
                <a:ahLst/>
                <a:rect l="l" t="t" r="r" b="b"/>
                <a:pathLst>
                  <a:path w="71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1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396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67320" y="3139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06640" y="320976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5376960" y="515124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76960" y="515448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76960" y="538164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08640" y="5200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8136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3860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05560" y="5211720"/>
                <a:ext cx="35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218040" y="308268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18040" y="3086280"/>
                <a:ext cx="11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8040" y="331308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247920" y="3132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20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74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44840" y="314316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965400" y="3209760"/>
                <a:ext cx="341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1320" y="326556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65480" y="3152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22272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28104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308400" y="3654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878280" y="36082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765600" y="3604680"/>
                <a:ext cx="14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65600" y="3608280"/>
                <a:ext cx="11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65600" y="38354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34040" y="349560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51320" y="3720960"/>
                <a:ext cx="314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76720" y="372096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706920" y="366552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845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757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3032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02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259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19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7464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0164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7702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8433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160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4452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131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862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45896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48596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54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76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00040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274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960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687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414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6848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25240" y="24382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8932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11640" y="2438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9516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5060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8084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1468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484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9352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2052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7344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60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90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998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5236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90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3156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7908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3236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52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108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6196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000520" y="3139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21040" y="3139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934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2220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17944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3308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512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92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346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048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379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9516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506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914480" y="3133800"/>
                <a:ext cx="1800" cy="221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97200" y="53370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11240" y="260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778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127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964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36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585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216160" y="260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1840" y="2600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10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96632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0174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07576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23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82320" y="2720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0040" y="2720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1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88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343240" y="27208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91088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666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9980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05704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124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49560" y="284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91088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4472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9666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2356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05128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0728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2976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232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20932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4280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0112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34900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7816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01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55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51388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6500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54480" y="2505240"/>
                <a:ext cx="3836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82000" y="24876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999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053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124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664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9672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521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3094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3382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36484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220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77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504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5347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5905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64976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4976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92640" y="3495600"/>
                <a:ext cx="84240" cy="45576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159600" y="4118040"/>
                <a:ext cx="32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043680" y="41212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flipH="1">
              <a:off x="6043680" y="4349880"/>
              <a:ext cx="11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560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71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7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24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4984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307040" y="411804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7040" y="41212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07040" y="43498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692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09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63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5120" y="400860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8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2800" y="412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2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2916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0260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268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354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92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992400" y="4233960"/>
              <a:ext cx="314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18160" y="4233960"/>
              <a:ext cx="312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48000" y="4179960"/>
              <a:ext cx="5904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4"/>
                  </a:moveTo>
                  <a:lnTo>
                    <a:pt x="2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2320" y="4233960"/>
              <a:ext cx="401760" cy="17280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2" y="109"/>
                  </a:lnTo>
                  <a:lnTo>
                    <a:pt x="216" y="109"/>
                  </a:lnTo>
                  <a:lnTo>
                    <a:pt x="216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9264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700680" y="4628880"/>
              <a:ext cx="32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84760" y="4632480"/>
              <a:ext cx="1155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584760" y="4859280"/>
              <a:ext cx="115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07040" y="4632480"/>
              <a:ext cx="11556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1" y="0"/>
                  </a:moveTo>
                  <a:lnTo>
                    <a:pt x="0" y="2"/>
                  </a:lnTo>
                  <a:lnTo>
                    <a:pt x="0" y="145"/>
                  </a:lnTo>
                  <a:lnTo>
                    <a:pt x="73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356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452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848120" y="4628880"/>
              <a:ext cx="18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48120" y="4632480"/>
              <a:ext cx="115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48120" y="485928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7060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4368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0412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6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33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35640" y="4746600"/>
              <a:ext cx="31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91160" y="4746600"/>
              <a:ext cx="34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59600" y="474660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91240" y="46926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34"/>
                  </a:moveTo>
                  <a:lnTo>
                    <a:pt x="1" y="0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3760" y="4746600"/>
              <a:ext cx="401760" cy="17460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7242120" y="514188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127640" y="51451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127640" y="53737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48120" y="5145120"/>
              <a:ext cx="115920" cy="23184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050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3740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204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512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4520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17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751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76720" y="5261040"/>
              <a:ext cx="3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2600" y="52610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0680" y="526104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11680" y="5315040"/>
              <a:ext cx="351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32320" y="520380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6"/>
                  </a:moveTo>
                  <a:lnTo>
                    <a:pt x="2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18440" y="52610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0"/>
                  </a:moveTo>
                  <a:lnTo>
                    <a:pt x="0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1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71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020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292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0992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7856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516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2436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5604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0214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945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16724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19748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998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53800" y="416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872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18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31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58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85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34288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98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25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555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110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9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53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12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664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96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521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094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3382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6484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22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77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04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347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05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99800" y="519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49480" y="51912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072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99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2688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855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3956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698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98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52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10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37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64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2360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7040" y="3094200"/>
              <a:ext cx="115560" cy="2314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4664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19720" y="31399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5640" y="3209760"/>
              <a:ext cx="11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38680" y="3209760"/>
              <a:ext cx="109440" cy="18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76720" y="3090600"/>
              <a:ext cx="1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963680" y="30942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963680" y="33228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836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108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0652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9584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68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22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836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51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65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0080" y="36450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7"/>
                  </a:moveTo>
                  <a:lnTo>
                    <a:pt x="17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4760" y="4170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7"/>
                  </a:moveTo>
                  <a:lnTo>
                    <a:pt x="15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41720" y="325296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7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8840" y="318924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10280" y="36990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60800" y="3259080"/>
              <a:ext cx="3240" cy="14176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263840" y="3209760"/>
              <a:ext cx="425160" cy="4557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9360" y="3209760"/>
              <a:ext cx="115920" cy="9813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19720" y="46688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7"/>
                  </a:moveTo>
                  <a:lnTo>
                    <a:pt x="17" y="28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29360" y="3708360"/>
              <a:ext cx="114120" cy="9842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8840" y="46562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330800" y="3495600"/>
              <a:ext cx="17280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46520" y="298296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46520" y="349560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5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71880" y="4008600"/>
              <a:ext cx="174960" cy="453960"/>
            </a:xfrm>
            <a:custGeom>
              <a:avLst/>
              <a:gdLst/>
              <a:ahLst/>
              <a:rect l="l" t="t" r="r" b="b"/>
              <a:pathLst>
                <a:path w="110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10" y="198"/>
                  </a:lnTo>
                  <a:lnTo>
                    <a:pt x="110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8940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48000" y="3209760"/>
              <a:ext cx="401760" cy="16992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0" y="0"/>
                  </a:moveTo>
                  <a:lnTo>
                    <a:pt x="2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06840" y="3720960"/>
              <a:ext cx="138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32200" y="372096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48280" y="4233960"/>
              <a:ext cx="1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3640" y="4233960"/>
              <a:ext cx="119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91240" y="3720960"/>
              <a:ext cx="401400" cy="17316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1" y="109"/>
                  </a:lnTo>
                  <a:lnTo>
                    <a:pt x="216" y="109"/>
                  </a:lnTo>
                  <a:lnTo>
                    <a:pt x="216" y="38"/>
                  </a:lnTo>
                  <a:lnTo>
                    <a:pt x="253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8808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1160" y="365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48120" y="360828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44" y="143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4" y="143"/>
                  </a:lnTo>
                  <a:lnTo>
                    <a:pt x="144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92640" y="3495600"/>
              <a:ext cx="87480" cy="45576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49280" y="2168640"/>
            <a:ext cx="8236440" cy="3961080"/>
            <a:chOff x="449280" y="2168640"/>
            <a:chExt cx="8236440" cy="3961080"/>
          </a:xfrm>
        </p:grpSpPr>
        <p:grpSp>
          <p:nvGrpSpPr>
            <p:cNvPr id="1805" name=""/>
            <p:cNvGrpSpPr/>
            <p:nvPr/>
          </p:nvGrpSpPr>
          <p:grpSpPr>
            <a:xfrm>
              <a:off x="449280" y="2168640"/>
              <a:ext cx="7367400" cy="3910680"/>
              <a:chOff x="449280" y="2168640"/>
              <a:chExt cx="7367400" cy="3910680"/>
            </a:xfrm>
          </p:grpSpPr>
          <p:sp>
            <p:nvSpPr>
              <p:cNvPr id="1806" name=""/>
              <p:cNvSpPr/>
              <p:nvPr/>
            </p:nvSpPr>
            <p:spPr>
              <a:xfrm>
                <a:off x="4467240" y="3079080"/>
                <a:ext cx="15408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6160" y="2979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24240" y="2979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2360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6320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024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1512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5688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57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695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1491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1959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2697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489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8800" y="2933280"/>
                <a:ext cx="1800" cy="310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4320" y="602784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1"/>
                    </a:lnTo>
                    <a:lnTo>
                      <a:pt x="11" y="24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360" y="216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18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71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5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016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164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508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982800" y="21686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03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277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80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35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01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9360" y="233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58600" y="233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9172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96408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46160" y="2335680"/>
                <a:ext cx="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03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2740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20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01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756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360" y="249660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92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960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4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300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4116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42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5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93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578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046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8208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0497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0918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1996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024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733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34460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58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99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02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222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328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4032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0148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0569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0958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96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495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20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3230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4043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58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8880" y="43570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138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45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326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082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496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9874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630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13976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7792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21572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60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58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99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2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22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6328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4032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148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569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958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1696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495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8520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230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043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5080" y="5745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2760" y="5745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516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322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700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03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232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1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47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785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570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195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326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132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08320" y="3772080"/>
                <a:ext cx="1540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377760" y="358488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212880" y="358956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6212880" y="3926160"/>
                <a:ext cx="16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095880" y="3685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9488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7336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04360" y="5058720"/>
                <a:ext cx="19116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8600" y="3689640"/>
                <a:ext cx="1864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645320" y="566496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36520" y="505872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648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71240" y="4958640"/>
                <a:ext cx="16488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12920" y="4380480"/>
                <a:ext cx="1540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912920" y="4550040"/>
                <a:ext cx="45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90840" y="4380480"/>
                <a:ext cx="171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0840" y="5214960"/>
                <a:ext cx="458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91480" y="3844080"/>
                <a:ext cx="453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91480" y="368964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78320" y="287460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773360" y="2974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11520" y="29746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19600" y="3079080"/>
                <a:ext cx="384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6012720" y="566460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12720" y="5664960"/>
                <a:ext cx="17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12720" y="6001920"/>
                <a:ext cx="178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67080" y="5769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6680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23952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5360" y="5756040"/>
                <a:ext cx="467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419920" y="2874600"/>
                <a:ext cx="1800" cy="33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19920" y="287892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408760" y="3207240"/>
                <a:ext cx="173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69960" y="2963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6968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64996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59040" y="2991960"/>
                <a:ext cx="436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432600" y="3079080"/>
                <a:ext cx="4410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59040" y="3152880"/>
                <a:ext cx="4453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45760" y="3002760"/>
                <a:ext cx="73800" cy="763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12760" y="307908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408760" y="3594240"/>
                <a:ext cx="164880" cy="336240"/>
              </a:xfrm>
              <a:custGeom>
                <a:avLst/>
                <a:gdLst/>
                <a:ahLst/>
                <a:rect l="l" t="t" r="r" b="b"/>
                <a:pathLst>
                  <a:path w="76" h="155">
                    <a:moveTo>
                      <a:pt x="76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90840" y="36939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526840" y="36939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869280" y="3598560"/>
                <a:ext cx="432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869280" y="393516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21520" y="3589560"/>
                <a:ext cx="336600" cy="332280"/>
              </a:xfrm>
              <a:custGeom>
                <a:avLst/>
                <a:gdLst/>
                <a:ahLst/>
                <a:rect l="l" t="t" r="r" b="b"/>
                <a:pathLst>
                  <a:path w="155" h="153">
                    <a:moveTo>
                      <a:pt x="153" y="153"/>
                    </a:moveTo>
                    <a:lnTo>
                      <a:pt x="155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155" y="153"/>
                    </a:lnTo>
                    <a:lnTo>
                      <a:pt x="15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82720" y="3689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81000" y="3689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41040" y="3769920"/>
                <a:ext cx="421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873680" y="3769920"/>
                <a:ext cx="458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58120" y="3769920"/>
                <a:ext cx="127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795480" y="3681000"/>
                <a:ext cx="78120" cy="75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254200" y="3769920"/>
                <a:ext cx="53676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2" y="105"/>
                    </a:lnTo>
                    <a:lnTo>
                      <a:pt x="213" y="105"/>
                    </a:lnTo>
                    <a:lnTo>
                      <a:pt x="213" y="34"/>
                    </a:lnTo>
                    <a:lnTo>
                      <a:pt x="247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200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8201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9191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587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5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502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496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870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7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2778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7608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174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6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6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687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068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004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0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450080" y="2168640"/>
              <a:ext cx="7235640" cy="3961080"/>
              <a:chOff x="1450080" y="2168640"/>
              <a:chExt cx="7235640" cy="3961080"/>
            </a:xfrm>
          </p:grpSpPr>
          <p:sp>
            <p:nvSpPr>
              <p:cNvPr id="2007" name=""/>
              <p:cNvSpPr/>
              <p:nvPr/>
            </p:nvSpPr>
            <p:spPr>
              <a:xfrm>
                <a:off x="47988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836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3452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453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44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581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450080" y="216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332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6492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6779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568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532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410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87380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9494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861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05812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0865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643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23596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30328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3446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4130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48184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55420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582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6578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7270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28160" y="2268360"/>
                <a:ext cx="5825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644320" y="2246760"/>
                <a:ext cx="41400" cy="40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200" y="277452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90600" y="346608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99200" y="4258440"/>
                <a:ext cx="180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6924600" y="4267800"/>
                <a:ext cx="17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6924600" y="4600080"/>
                <a:ext cx="173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862800" y="4267800"/>
                <a:ext cx="16488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962160" y="4361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998160" y="4361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590720" y="4258440"/>
                <a:ext cx="43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90720" y="426780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590720" y="4600080"/>
                <a:ext cx="17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645440" y="4352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74480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2328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58080" y="4254480"/>
                <a:ext cx="331920" cy="33696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153" y="153"/>
                    </a:moveTo>
                    <a:lnTo>
                      <a:pt x="153" y="0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153" y="155"/>
                    </a:lnTo>
                    <a:lnTo>
                      <a:pt x="153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214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219360" y="43570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8036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033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8184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191120" y="4450320"/>
                <a:ext cx="42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99080" y="4450320"/>
                <a:ext cx="299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08000" y="4450320"/>
                <a:ext cx="35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19080" y="4376160"/>
                <a:ext cx="75600" cy="73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977800" y="4450320"/>
                <a:ext cx="534240" cy="23040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0"/>
                    </a:moveTo>
                    <a:lnTo>
                      <a:pt x="2" y="106"/>
                    </a:lnTo>
                    <a:lnTo>
                      <a:pt x="213" y="106"/>
                    </a:lnTo>
                    <a:lnTo>
                      <a:pt x="213" y="37"/>
                    </a:lnTo>
                    <a:lnTo>
                      <a:pt x="246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12560" y="4258800"/>
                <a:ext cx="169200" cy="34092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76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78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1480" y="4367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39640" y="4367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400" y="4450320"/>
                <a:ext cx="412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458520" y="4450320"/>
                <a:ext cx="1497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790600" y="415260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7853400" y="494100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>
                <a:off x="7677360" y="494604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7677360" y="528264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577760" y="4958640"/>
                <a:ext cx="16704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686120" y="5037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721760" y="50371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312160" y="4963320"/>
                <a:ext cx="21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12160" y="495864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12160" y="529596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827760" y="5045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6040" y="50454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571160" y="50346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6705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7443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2560" y="5137200"/>
                <a:ext cx="403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3400" y="5137200"/>
                <a:ext cx="44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25120" y="5137200"/>
                <a:ext cx="37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23240" y="504972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703200" y="513720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1" y="105"/>
                    </a:lnTo>
                    <a:lnTo>
                      <a:pt x="211" y="34"/>
                    </a:lnTo>
                    <a:lnTo>
                      <a:pt x="245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574840" y="565164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8398800" y="565668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8398800" y="599328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95240" y="5669280"/>
                <a:ext cx="16704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7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403240" y="575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439960" y="5756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39480" y="5754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638840" y="5754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286480" y="5745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54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4661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36160" y="5819040"/>
                <a:ext cx="42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44840" y="5819040"/>
                <a:ext cx="4410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25320" y="5819040"/>
                <a:ext cx="399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357600" y="5893200"/>
                <a:ext cx="458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940720" y="573696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425000" y="5819040"/>
                <a:ext cx="53712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1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7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5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1542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2575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946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74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84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48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85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512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6125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7115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7486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404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340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384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1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75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73600" y="2874600"/>
                <a:ext cx="16704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36960" y="2954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035240" y="2954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91120" y="3079080"/>
                <a:ext cx="154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953960" y="2874240"/>
                <a:ext cx="360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786200" y="287892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4786200" y="3215520"/>
                <a:ext cx="167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71360" y="29505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77108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84956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19320" y="3694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1904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9932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6800" y="384408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66800" y="3689640"/>
                <a:ext cx="1522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49280" y="3611520"/>
                <a:ext cx="216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45320" y="393516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73680" y="3694320"/>
                <a:ext cx="75600" cy="75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3200400" y="3694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29976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7824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2560" y="5050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6156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4112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1760" y="4276440"/>
              <a:ext cx="73800" cy="73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34"/>
                  </a:moveTo>
                  <a:lnTo>
                    <a:pt x="19" y="34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2480" y="3770280"/>
              <a:ext cx="14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69640" y="3580920"/>
              <a:ext cx="167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146040" y="3602520"/>
              <a:ext cx="17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73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901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9736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582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1440" y="468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6952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469680" y="3411360"/>
              <a:ext cx="1162800" cy="1643040"/>
            </a:xfrm>
            <a:custGeom>
              <a:avLst/>
              <a:gdLst/>
              <a:ahLst/>
              <a:rect l="l" t="t" r="r" b="b"/>
              <a:pathLst>
                <a:path w="535" h="756">
                  <a:moveTo>
                    <a:pt x="45" y="448"/>
                  </a:moveTo>
                  <a:lnTo>
                    <a:pt x="43" y="453"/>
                  </a:lnTo>
                  <a:lnTo>
                    <a:pt x="41" y="459"/>
                  </a:lnTo>
                  <a:lnTo>
                    <a:pt x="39" y="465"/>
                  </a:lnTo>
                  <a:lnTo>
                    <a:pt x="37" y="471"/>
                  </a:lnTo>
                  <a:lnTo>
                    <a:pt x="35" y="476"/>
                  </a:lnTo>
                  <a:lnTo>
                    <a:pt x="35" y="482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3" y="501"/>
                  </a:lnTo>
                  <a:lnTo>
                    <a:pt x="50" y="509"/>
                  </a:lnTo>
                  <a:lnTo>
                    <a:pt x="46" y="517"/>
                  </a:lnTo>
                  <a:lnTo>
                    <a:pt x="45" y="524"/>
                  </a:lnTo>
                  <a:lnTo>
                    <a:pt x="45" y="530"/>
                  </a:lnTo>
                  <a:lnTo>
                    <a:pt x="45" y="536"/>
                  </a:lnTo>
                  <a:lnTo>
                    <a:pt x="45" y="540"/>
                  </a:lnTo>
                  <a:lnTo>
                    <a:pt x="48" y="543"/>
                  </a:lnTo>
                  <a:lnTo>
                    <a:pt x="50" y="547"/>
                  </a:lnTo>
                  <a:lnTo>
                    <a:pt x="56" y="551"/>
                  </a:lnTo>
                  <a:lnTo>
                    <a:pt x="60" y="553"/>
                  </a:lnTo>
                  <a:lnTo>
                    <a:pt x="66" y="555"/>
                  </a:lnTo>
                  <a:lnTo>
                    <a:pt x="81" y="559"/>
                  </a:lnTo>
                  <a:lnTo>
                    <a:pt x="79" y="559"/>
                  </a:lnTo>
                  <a:lnTo>
                    <a:pt x="75" y="559"/>
                  </a:lnTo>
                  <a:lnTo>
                    <a:pt x="69" y="559"/>
                  </a:lnTo>
                  <a:lnTo>
                    <a:pt x="62" y="563"/>
                  </a:lnTo>
                  <a:lnTo>
                    <a:pt x="52" y="564"/>
                  </a:lnTo>
                  <a:lnTo>
                    <a:pt x="45" y="568"/>
                  </a:lnTo>
                  <a:lnTo>
                    <a:pt x="35" y="574"/>
                  </a:lnTo>
                  <a:lnTo>
                    <a:pt x="27" y="582"/>
                  </a:lnTo>
                  <a:lnTo>
                    <a:pt x="20" y="591"/>
                  </a:lnTo>
                  <a:lnTo>
                    <a:pt x="14" y="603"/>
                  </a:lnTo>
                  <a:lnTo>
                    <a:pt x="14" y="605"/>
                  </a:lnTo>
                  <a:lnTo>
                    <a:pt x="12" y="614"/>
                  </a:lnTo>
                  <a:lnTo>
                    <a:pt x="12" y="628"/>
                  </a:lnTo>
                  <a:lnTo>
                    <a:pt x="14" y="643"/>
                  </a:lnTo>
                  <a:lnTo>
                    <a:pt x="20" y="660"/>
                  </a:lnTo>
                  <a:lnTo>
                    <a:pt x="27" y="673"/>
                  </a:lnTo>
                  <a:lnTo>
                    <a:pt x="41" y="685"/>
                  </a:lnTo>
                  <a:lnTo>
                    <a:pt x="62" y="689"/>
                  </a:lnTo>
                  <a:lnTo>
                    <a:pt x="89" y="687"/>
                  </a:lnTo>
                  <a:lnTo>
                    <a:pt x="123" y="675"/>
                  </a:lnTo>
                  <a:lnTo>
                    <a:pt x="123" y="683"/>
                  </a:lnTo>
                  <a:lnTo>
                    <a:pt x="121" y="691"/>
                  </a:lnTo>
                  <a:lnTo>
                    <a:pt x="121" y="696"/>
                  </a:lnTo>
                  <a:lnTo>
                    <a:pt x="123" y="704"/>
                  </a:lnTo>
                  <a:lnTo>
                    <a:pt x="123" y="712"/>
                  </a:lnTo>
                  <a:lnTo>
                    <a:pt x="125" y="717"/>
                  </a:lnTo>
                  <a:lnTo>
                    <a:pt x="127" y="723"/>
                  </a:lnTo>
                  <a:lnTo>
                    <a:pt x="131" y="729"/>
                  </a:lnTo>
                  <a:lnTo>
                    <a:pt x="135" y="735"/>
                  </a:lnTo>
                  <a:lnTo>
                    <a:pt x="140" y="740"/>
                  </a:lnTo>
                  <a:lnTo>
                    <a:pt x="156" y="748"/>
                  </a:lnTo>
                  <a:lnTo>
                    <a:pt x="171" y="754"/>
                  </a:lnTo>
                  <a:lnTo>
                    <a:pt x="188" y="756"/>
                  </a:lnTo>
                  <a:lnTo>
                    <a:pt x="204" y="756"/>
                  </a:lnTo>
                  <a:lnTo>
                    <a:pt x="221" y="752"/>
                  </a:lnTo>
                  <a:lnTo>
                    <a:pt x="236" y="746"/>
                  </a:lnTo>
                  <a:lnTo>
                    <a:pt x="250" y="735"/>
                  </a:lnTo>
                  <a:lnTo>
                    <a:pt x="261" y="723"/>
                  </a:lnTo>
                  <a:lnTo>
                    <a:pt x="271" y="706"/>
                  </a:lnTo>
                  <a:lnTo>
                    <a:pt x="276" y="685"/>
                  </a:lnTo>
                  <a:lnTo>
                    <a:pt x="294" y="696"/>
                  </a:lnTo>
                  <a:lnTo>
                    <a:pt x="317" y="706"/>
                  </a:lnTo>
                  <a:lnTo>
                    <a:pt x="344" y="714"/>
                  </a:lnTo>
                  <a:lnTo>
                    <a:pt x="368" y="717"/>
                  </a:lnTo>
                  <a:lnTo>
                    <a:pt x="393" y="717"/>
                  </a:lnTo>
                  <a:lnTo>
                    <a:pt x="416" y="712"/>
                  </a:lnTo>
                  <a:lnTo>
                    <a:pt x="436" y="702"/>
                  </a:lnTo>
                  <a:lnTo>
                    <a:pt x="449" y="687"/>
                  </a:lnTo>
                  <a:lnTo>
                    <a:pt x="457" y="666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3" y="635"/>
                  </a:lnTo>
                  <a:lnTo>
                    <a:pt x="453" y="635"/>
                  </a:lnTo>
                  <a:lnTo>
                    <a:pt x="453" y="633"/>
                  </a:lnTo>
                  <a:lnTo>
                    <a:pt x="451" y="633"/>
                  </a:lnTo>
                  <a:lnTo>
                    <a:pt x="449" y="631"/>
                  </a:lnTo>
                  <a:lnTo>
                    <a:pt x="447" y="631"/>
                  </a:lnTo>
                  <a:lnTo>
                    <a:pt x="445" y="629"/>
                  </a:lnTo>
                  <a:lnTo>
                    <a:pt x="443" y="629"/>
                  </a:lnTo>
                  <a:lnTo>
                    <a:pt x="451" y="629"/>
                  </a:lnTo>
                  <a:lnTo>
                    <a:pt x="460" y="629"/>
                  </a:lnTo>
                  <a:lnTo>
                    <a:pt x="468" y="628"/>
                  </a:lnTo>
                  <a:lnTo>
                    <a:pt x="476" y="626"/>
                  </a:lnTo>
                  <a:lnTo>
                    <a:pt x="482" y="624"/>
                  </a:lnTo>
                  <a:lnTo>
                    <a:pt x="489" y="620"/>
                  </a:lnTo>
                  <a:lnTo>
                    <a:pt x="495" y="616"/>
                  </a:lnTo>
                  <a:lnTo>
                    <a:pt x="499" y="612"/>
                  </a:lnTo>
                  <a:lnTo>
                    <a:pt x="505" y="607"/>
                  </a:lnTo>
                  <a:lnTo>
                    <a:pt x="507" y="599"/>
                  </a:lnTo>
                  <a:lnTo>
                    <a:pt x="510" y="585"/>
                  </a:lnTo>
                  <a:lnTo>
                    <a:pt x="510" y="572"/>
                  </a:lnTo>
                  <a:lnTo>
                    <a:pt x="508" y="561"/>
                  </a:lnTo>
                  <a:lnTo>
                    <a:pt x="505" y="547"/>
                  </a:lnTo>
                  <a:lnTo>
                    <a:pt x="499" y="536"/>
                  </a:lnTo>
                  <a:lnTo>
                    <a:pt x="491" y="526"/>
                  </a:lnTo>
                  <a:lnTo>
                    <a:pt x="482" y="517"/>
                  </a:lnTo>
                  <a:lnTo>
                    <a:pt x="472" y="509"/>
                  </a:lnTo>
                  <a:lnTo>
                    <a:pt x="459" y="503"/>
                  </a:lnTo>
                  <a:lnTo>
                    <a:pt x="447" y="497"/>
                  </a:lnTo>
                  <a:lnTo>
                    <a:pt x="441" y="497"/>
                  </a:lnTo>
                  <a:lnTo>
                    <a:pt x="437" y="497"/>
                  </a:lnTo>
                  <a:lnTo>
                    <a:pt x="432" y="497"/>
                  </a:lnTo>
                  <a:lnTo>
                    <a:pt x="428" y="497"/>
                  </a:lnTo>
                  <a:lnTo>
                    <a:pt x="422" y="499"/>
                  </a:lnTo>
                  <a:lnTo>
                    <a:pt x="418" y="501"/>
                  </a:lnTo>
                  <a:lnTo>
                    <a:pt x="413" y="503"/>
                  </a:lnTo>
                  <a:lnTo>
                    <a:pt x="409" y="507"/>
                  </a:lnTo>
                  <a:lnTo>
                    <a:pt x="405" y="511"/>
                  </a:lnTo>
                  <a:lnTo>
                    <a:pt x="401" y="515"/>
                  </a:lnTo>
                  <a:lnTo>
                    <a:pt x="401" y="515"/>
                  </a:lnTo>
                  <a:lnTo>
                    <a:pt x="401" y="511"/>
                  </a:lnTo>
                  <a:lnTo>
                    <a:pt x="401" y="507"/>
                  </a:lnTo>
                  <a:lnTo>
                    <a:pt x="401" y="501"/>
                  </a:lnTo>
                  <a:lnTo>
                    <a:pt x="399" y="494"/>
                  </a:lnTo>
                  <a:lnTo>
                    <a:pt x="397" y="486"/>
                  </a:lnTo>
                  <a:lnTo>
                    <a:pt x="393" y="478"/>
                  </a:lnTo>
                  <a:lnTo>
                    <a:pt x="390" y="469"/>
                  </a:lnTo>
                  <a:lnTo>
                    <a:pt x="384" y="461"/>
                  </a:lnTo>
                  <a:lnTo>
                    <a:pt x="376" y="453"/>
                  </a:lnTo>
                  <a:lnTo>
                    <a:pt x="378" y="450"/>
                  </a:lnTo>
                  <a:lnTo>
                    <a:pt x="378" y="446"/>
                  </a:lnTo>
                  <a:lnTo>
                    <a:pt x="380" y="442"/>
                  </a:lnTo>
                  <a:lnTo>
                    <a:pt x="380" y="438"/>
                  </a:lnTo>
                  <a:lnTo>
                    <a:pt x="380" y="434"/>
                  </a:lnTo>
                  <a:lnTo>
                    <a:pt x="380" y="430"/>
                  </a:lnTo>
                  <a:lnTo>
                    <a:pt x="380" y="427"/>
                  </a:lnTo>
                  <a:lnTo>
                    <a:pt x="380" y="421"/>
                  </a:lnTo>
                  <a:lnTo>
                    <a:pt x="378" y="417"/>
                  </a:lnTo>
                  <a:lnTo>
                    <a:pt x="378" y="413"/>
                  </a:lnTo>
                  <a:lnTo>
                    <a:pt x="378" y="411"/>
                  </a:lnTo>
                  <a:lnTo>
                    <a:pt x="376" y="411"/>
                  </a:lnTo>
                  <a:lnTo>
                    <a:pt x="376" y="411"/>
                  </a:lnTo>
                  <a:lnTo>
                    <a:pt x="376" y="409"/>
                  </a:lnTo>
                  <a:lnTo>
                    <a:pt x="374" y="408"/>
                  </a:lnTo>
                  <a:lnTo>
                    <a:pt x="374" y="408"/>
                  </a:lnTo>
                  <a:lnTo>
                    <a:pt x="372" y="406"/>
                  </a:lnTo>
                  <a:lnTo>
                    <a:pt x="370" y="406"/>
                  </a:lnTo>
                  <a:lnTo>
                    <a:pt x="368" y="404"/>
                  </a:lnTo>
                  <a:lnTo>
                    <a:pt x="367" y="404"/>
                  </a:lnTo>
                  <a:lnTo>
                    <a:pt x="374" y="404"/>
                  </a:lnTo>
                  <a:lnTo>
                    <a:pt x="382" y="404"/>
                  </a:lnTo>
                  <a:lnTo>
                    <a:pt x="390" y="402"/>
                  </a:lnTo>
                  <a:lnTo>
                    <a:pt x="397" y="402"/>
                  </a:lnTo>
                  <a:lnTo>
                    <a:pt x="405" y="398"/>
                  </a:lnTo>
                  <a:lnTo>
                    <a:pt x="411" y="396"/>
                  </a:lnTo>
                  <a:lnTo>
                    <a:pt x="418" y="392"/>
                  </a:lnTo>
                  <a:lnTo>
                    <a:pt x="422" y="386"/>
                  </a:lnTo>
                  <a:lnTo>
                    <a:pt x="426" y="381"/>
                  </a:lnTo>
                  <a:lnTo>
                    <a:pt x="430" y="373"/>
                  </a:lnTo>
                  <a:lnTo>
                    <a:pt x="432" y="364"/>
                  </a:lnTo>
                  <a:lnTo>
                    <a:pt x="434" y="354"/>
                  </a:lnTo>
                  <a:lnTo>
                    <a:pt x="434" y="344"/>
                  </a:lnTo>
                  <a:lnTo>
                    <a:pt x="432" y="335"/>
                  </a:lnTo>
                  <a:lnTo>
                    <a:pt x="430" y="327"/>
                  </a:lnTo>
                  <a:lnTo>
                    <a:pt x="426" y="318"/>
                  </a:lnTo>
                  <a:lnTo>
                    <a:pt x="420" y="310"/>
                  </a:lnTo>
                  <a:lnTo>
                    <a:pt x="416" y="302"/>
                  </a:lnTo>
                  <a:lnTo>
                    <a:pt x="409" y="295"/>
                  </a:lnTo>
                  <a:lnTo>
                    <a:pt x="401" y="289"/>
                  </a:lnTo>
                  <a:lnTo>
                    <a:pt x="416" y="289"/>
                  </a:lnTo>
                  <a:lnTo>
                    <a:pt x="430" y="287"/>
                  </a:lnTo>
                  <a:lnTo>
                    <a:pt x="443" y="283"/>
                  </a:lnTo>
                  <a:lnTo>
                    <a:pt x="453" y="279"/>
                  </a:lnTo>
                  <a:lnTo>
                    <a:pt x="464" y="272"/>
                  </a:lnTo>
                  <a:lnTo>
                    <a:pt x="472" y="264"/>
                  </a:lnTo>
                  <a:lnTo>
                    <a:pt x="478" y="253"/>
                  </a:lnTo>
                  <a:lnTo>
                    <a:pt x="480" y="241"/>
                  </a:lnTo>
                  <a:lnTo>
                    <a:pt x="482" y="226"/>
                  </a:lnTo>
                  <a:lnTo>
                    <a:pt x="480" y="209"/>
                  </a:lnTo>
                  <a:lnTo>
                    <a:pt x="480" y="209"/>
                  </a:lnTo>
                  <a:lnTo>
                    <a:pt x="478" y="209"/>
                  </a:lnTo>
                  <a:lnTo>
                    <a:pt x="478" y="207"/>
                  </a:lnTo>
                  <a:lnTo>
                    <a:pt x="478" y="207"/>
                  </a:lnTo>
                  <a:lnTo>
                    <a:pt x="476" y="205"/>
                  </a:lnTo>
                  <a:lnTo>
                    <a:pt x="476" y="205"/>
                  </a:lnTo>
                  <a:lnTo>
                    <a:pt x="474" y="203"/>
                  </a:lnTo>
                  <a:lnTo>
                    <a:pt x="472" y="203"/>
                  </a:lnTo>
                  <a:lnTo>
                    <a:pt x="470" y="201"/>
                  </a:lnTo>
                  <a:lnTo>
                    <a:pt x="468" y="201"/>
                  </a:lnTo>
                  <a:lnTo>
                    <a:pt x="476" y="201"/>
                  </a:lnTo>
                  <a:lnTo>
                    <a:pt x="483" y="201"/>
                  </a:lnTo>
                  <a:lnTo>
                    <a:pt x="491" y="199"/>
                  </a:lnTo>
                  <a:lnTo>
                    <a:pt x="499" y="199"/>
                  </a:lnTo>
                  <a:lnTo>
                    <a:pt x="507" y="195"/>
                  </a:lnTo>
                  <a:lnTo>
                    <a:pt x="512" y="193"/>
                  </a:lnTo>
                  <a:lnTo>
                    <a:pt x="518" y="187"/>
                  </a:lnTo>
                  <a:lnTo>
                    <a:pt x="524" y="184"/>
                  </a:lnTo>
                  <a:lnTo>
                    <a:pt x="528" y="178"/>
                  </a:lnTo>
                  <a:lnTo>
                    <a:pt x="531" y="170"/>
                  </a:lnTo>
                  <a:lnTo>
                    <a:pt x="535" y="157"/>
                  </a:lnTo>
                  <a:lnTo>
                    <a:pt x="535" y="143"/>
                  </a:lnTo>
                  <a:lnTo>
                    <a:pt x="533" y="132"/>
                  </a:lnTo>
                  <a:lnTo>
                    <a:pt x="530" y="119"/>
                  </a:lnTo>
                  <a:lnTo>
                    <a:pt x="524" y="107"/>
                  </a:lnTo>
                  <a:lnTo>
                    <a:pt x="516" y="98"/>
                  </a:lnTo>
                  <a:lnTo>
                    <a:pt x="507" y="88"/>
                  </a:lnTo>
                  <a:lnTo>
                    <a:pt x="495" y="80"/>
                  </a:lnTo>
                  <a:lnTo>
                    <a:pt x="483" y="75"/>
                  </a:lnTo>
                  <a:lnTo>
                    <a:pt x="470" y="69"/>
                  </a:lnTo>
                  <a:lnTo>
                    <a:pt x="466" y="69"/>
                  </a:lnTo>
                  <a:lnTo>
                    <a:pt x="460" y="69"/>
                  </a:lnTo>
                  <a:lnTo>
                    <a:pt x="457" y="69"/>
                  </a:lnTo>
                  <a:lnTo>
                    <a:pt x="451" y="69"/>
                  </a:lnTo>
                  <a:lnTo>
                    <a:pt x="447" y="71"/>
                  </a:lnTo>
                  <a:lnTo>
                    <a:pt x="443" y="73"/>
                  </a:lnTo>
                  <a:lnTo>
                    <a:pt x="437" y="75"/>
                  </a:lnTo>
                  <a:lnTo>
                    <a:pt x="434" y="78"/>
                  </a:lnTo>
                  <a:lnTo>
                    <a:pt x="430" y="82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76"/>
                  </a:lnTo>
                  <a:lnTo>
                    <a:pt x="424" y="67"/>
                  </a:lnTo>
                  <a:lnTo>
                    <a:pt x="420" y="55"/>
                  </a:lnTo>
                  <a:lnTo>
                    <a:pt x="414" y="42"/>
                  </a:lnTo>
                  <a:lnTo>
                    <a:pt x="407" y="29"/>
                  </a:lnTo>
                  <a:lnTo>
                    <a:pt x="393" y="17"/>
                  </a:lnTo>
                  <a:lnTo>
                    <a:pt x="378" y="8"/>
                  </a:lnTo>
                  <a:lnTo>
                    <a:pt x="355" y="2"/>
                  </a:lnTo>
                  <a:lnTo>
                    <a:pt x="328" y="2"/>
                  </a:lnTo>
                  <a:lnTo>
                    <a:pt x="326" y="0"/>
                  </a:lnTo>
                  <a:lnTo>
                    <a:pt x="321" y="2"/>
                  </a:lnTo>
                  <a:lnTo>
                    <a:pt x="309" y="2"/>
                  </a:lnTo>
                  <a:lnTo>
                    <a:pt x="298" y="6"/>
                  </a:lnTo>
                  <a:lnTo>
                    <a:pt x="282" y="10"/>
                  </a:lnTo>
                  <a:lnTo>
                    <a:pt x="269" y="17"/>
                  </a:lnTo>
                  <a:lnTo>
                    <a:pt x="255" y="29"/>
                  </a:lnTo>
                  <a:lnTo>
                    <a:pt x="242" y="42"/>
                  </a:lnTo>
                  <a:lnTo>
                    <a:pt x="232" y="61"/>
                  </a:lnTo>
                  <a:lnTo>
                    <a:pt x="227" y="86"/>
                  </a:lnTo>
                  <a:lnTo>
                    <a:pt x="232" y="44"/>
                  </a:lnTo>
                  <a:lnTo>
                    <a:pt x="225" y="34"/>
                  </a:lnTo>
                  <a:lnTo>
                    <a:pt x="215" y="25"/>
                  </a:lnTo>
                  <a:lnTo>
                    <a:pt x="206" y="17"/>
                  </a:lnTo>
                  <a:lnTo>
                    <a:pt x="194" y="11"/>
                  </a:lnTo>
                  <a:lnTo>
                    <a:pt x="183" y="8"/>
                  </a:lnTo>
                  <a:lnTo>
                    <a:pt x="171" y="4"/>
                  </a:lnTo>
                  <a:lnTo>
                    <a:pt x="158" y="4"/>
                  </a:lnTo>
                  <a:lnTo>
                    <a:pt x="146" y="6"/>
                  </a:lnTo>
                  <a:lnTo>
                    <a:pt x="133" y="10"/>
                  </a:lnTo>
                  <a:lnTo>
                    <a:pt x="121" y="15"/>
                  </a:lnTo>
                  <a:lnTo>
                    <a:pt x="110" y="23"/>
                  </a:lnTo>
                  <a:lnTo>
                    <a:pt x="100" y="31"/>
                  </a:lnTo>
                  <a:lnTo>
                    <a:pt x="92" y="42"/>
                  </a:lnTo>
                  <a:lnTo>
                    <a:pt x="87" y="52"/>
                  </a:lnTo>
                  <a:lnTo>
                    <a:pt x="83" y="65"/>
                  </a:lnTo>
                  <a:lnTo>
                    <a:pt x="81" y="76"/>
                  </a:lnTo>
                  <a:lnTo>
                    <a:pt x="81" y="90"/>
                  </a:lnTo>
                  <a:lnTo>
                    <a:pt x="81" y="101"/>
                  </a:lnTo>
                  <a:lnTo>
                    <a:pt x="85" y="115"/>
                  </a:lnTo>
                  <a:lnTo>
                    <a:pt x="91" y="126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7" y="134"/>
                  </a:lnTo>
                  <a:lnTo>
                    <a:pt x="77" y="136"/>
                  </a:lnTo>
                  <a:lnTo>
                    <a:pt x="68" y="140"/>
                  </a:lnTo>
                  <a:lnTo>
                    <a:pt x="60" y="145"/>
                  </a:lnTo>
                  <a:lnTo>
                    <a:pt x="50" y="153"/>
                  </a:lnTo>
                  <a:lnTo>
                    <a:pt x="45" y="163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6"/>
                  </a:lnTo>
                  <a:lnTo>
                    <a:pt x="39" y="178"/>
                  </a:lnTo>
                  <a:lnTo>
                    <a:pt x="37" y="180"/>
                  </a:lnTo>
                  <a:lnTo>
                    <a:pt x="37" y="184"/>
                  </a:lnTo>
                  <a:lnTo>
                    <a:pt x="37" y="189"/>
                  </a:lnTo>
                  <a:lnTo>
                    <a:pt x="37" y="193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9" y="210"/>
                  </a:lnTo>
                  <a:lnTo>
                    <a:pt x="37" y="210"/>
                  </a:lnTo>
                  <a:lnTo>
                    <a:pt x="35" y="212"/>
                  </a:lnTo>
                  <a:lnTo>
                    <a:pt x="31" y="218"/>
                  </a:lnTo>
                  <a:lnTo>
                    <a:pt x="27" y="224"/>
                  </a:lnTo>
                  <a:lnTo>
                    <a:pt x="23" y="230"/>
                  </a:lnTo>
                  <a:lnTo>
                    <a:pt x="20" y="239"/>
                  </a:lnTo>
                  <a:lnTo>
                    <a:pt x="16" y="249"/>
                  </a:lnTo>
                  <a:lnTo>
                    <a:pt x="14" y="260"/>
                  </a:lnTo>
                  <a:lnTo>
                    <a:pt x="12" y="272"/>
                  </a:lnTo>
                  <a:lnTo>
                    <a:pt x="14" y="287"/>
                  </a:lnTo>
                  <a:lnTo>
                    <a:pt x="14" y="287"/>
                  </a:lnTo>
                  <a:lnTo>
                    <a:pt x="10" y="293"/>
                  </a:lnTo>
                  <a:lnTo>
                    <a:pt x="8" y="298"/>
                  </a:lnTo>
                  <a:lnTo>
                    <a:pt x="4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6" y="356"/>
                  </a:lnTo>
                  <a:lnTo>
                    <a:pt x="12" y="369"/>
                  </a:lnTo>
                  <a:lnTo>
                    <a:pt x="23" y="381"/>
                  </a:lnTo>
                  <a:lnTo>
                    <a:pt x="22" y="383"/>
                  </a:lnTo>
                  <a:lnTo>
                    <a:pt x="22" y="386"/>
                  </a:lnTo>
                  <a:lnTo>
                    <a:pt x="20" y="392"/>
                  </a:lnTo>
                  <a:lnTo>
                    <a:pt x="18" y="400"/>
                  </a:lnTo>
                  <a:lnTo>
                    <a:pt x="18" y="408"/>
                  </a:lnTo>
                  <a:lnTo>
                    <a:pt x="18" y="417"/>
                  </a:lnTo>
                  <a:lnTo>
                    <a:pt x="20" y="425"/>
                  </a:lnTo>
                  <a:lnTo>
                    <a:pt x="25" y="434"/>
                  </a:lnTo>
                  <a:lnTo>
                    <a:pt x="33" y="442"/>
                  </a:lnTo>
                  <a:lnTo>
                    <a:pt x="46" y="448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00040" y="4450320"/>
              <a:ext cx="158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04240" y="3079080"/>
              <a:ext cx="149760" cy="614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3770280"/>
              <a:ext cx="158400" cy="1293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6640" y="346608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9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86640" y="415260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45440" y="3466080"/>
              <a:ext cx="232560" cy="605880"/>
            </a:xfrm>
            <a:custGeom>
              <a:avLst/>
              <a:gdLst/>
              <a:ahLst/>
              <a:rect l="l" t="t" r="r" b="b"/>
              <a:pathLst>
                <a:path w="107" h="279">
                  <a:moveTo>
                    <a:pt x="0" y="0"/>
                  </a:moveTo>
                  <a:lnTo>
                    <a:pt x="2" y="113"/>
                  </a:lnTo>
                  <a:lnTo>
                    <a:pt x="35" y="140"/>
                  </a:lnTo>
                  <a:lnTo>
                    <a:pt x="2" y="166"/>
                  </a:lnTo>
                  <a:lnTo>
                    <a:pt x="2" y="279"/>
                  </a:lnTo>
                  <a:lnTo>
                    <a:pt x="107" y="193"/>
                  </a:lnTo>
                  <a:lnTo>
                    <a:pt x="107" y="8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5560" y="2774520"/>
              <a:ext cx="117000" cy="610560"/>
            </a:xfrm>
            <a:custGeom>
              <a:avLst/>
              <a:gdLst/>
              <a:ahLst/>
              <a:rect l="l" t="t" r="r" b="b"/>
              <a:pathLst>
                <a:path w="54" h="281">
                  <a:moveTo>
                    <a:pt x="52" y="28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54" y="281"/>
                  </a:lnTo>
                  <a:lnTo>
                    <a:pt x="54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758840" y="3174840"/>
              <a:ext cx="3600" cy="113832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49760" y="3466080"/>
              <a:ext cx="227880" cy="60588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0" y="0"/>
                  </a:moveTo>
                  <a:lnTo>
                    <a:pt x="0" y="113"/>
                  </a:lnTo>
                  <a:lnTo>
                    <a:pt x="34" y="140"/>
                  </a:lnTo>
                  <a:lnTo>
                    <a:pt x="0" y="166"/>
                  </a:lnTo>
                  <a:lnTo>
                    <a:pt x="0" y="279"/>
                  </a:lnTo>
                  <a:lnTo>
                    <a:pt x="105" y="193"/>
                  </a:lnTo>
                  <a:lnTo>
                    <a:pt x="105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390600" y="1689120"/>
            <a:ext cx="8337600" cy="4502160"/>
            <a:chOff x="390600" y="1689120"/>
            <a:chExt cx="8337600" cy="4502160"/>
          </a:xfrm>
        </p:grpSpPr>
        <p:grpSp>
          <p:nvGrpSpPr>
            <p:cNvPr id="2250" name=""/>
            <p:cNvGrpSpPr/>
            <p:nvPr/>
          </p:nvGrpSpPr>
          <p:grpSpPr>
            <a:xfrm>
              <a:off x="441360" y="1689120"/>
              <a:ext cx="8286840" cy="4390920"/>
              <a:chOff x="441360" y="1689120"/>
              <a:chExt cx="8286840" cy="4390920"/>
            </a:xfrm>
          </p:grpSpPr>
          <p:sp>
            <p:nvSpPr>
              <p:cNvPr id="2251" name=""/>
              <p:cNvSpPr/>
              <p:nvPr/>
            </p:nvSpPr>
            <p:spPr>
              <a:xfrm>
                <a:off x="2924280" y="1914480"/>
                <a:ext cx="885600" cy="403200"/>
              </a:xfrm>
              <a:custGeom>
                <a:avLst/>
                <a:gdLst/>
                <a:ahLst/>
                <a:rect l="l" t="t" r="r" b="b"/>
                <a:pathLst>
                  <a:path w="558" h="254">
                    <a:moveTo>
                      <a:pt x="558" y="254"/>
                    </a:moveTo>
                    <a:lnTo>
                      <a:pt x="558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303720" y="2644920"/>
                <a:ext cx="3664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00600" y="2644920"/>
                <a:ext cx="2206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45120" y="4702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3" y="30"/>
                    </a:lnTo>
                    <a:lnTo>
                      <a:pt x="18" y="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45120" y="39132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3" y="32"/>
                    </a:lnTo>
                    <a:lnTo>
                      <a:pt x="18" y="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173640" y="57513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32" y="33"/>
                    </a:lnTo>
                    <a:lnTo>
                      <a:pt x="0" y="1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213600" y="2981160"/>
                <a:ext cx="1955520" cy="2799000"/>
              </a:xfrm>
              <a:custGeom>
                <a:avLst/>
                <a:gdLst/>
                <a:ahLst/>
                <a:rect l="l" t="t" r="r" b="b"/>
                <a:pathLst>
                  <a:path w="1232" h="1763">
                    <a:moveTo>
                      <a:pt x="1232" y="0"/>
                    </a:moveTo>
                    <a:lnTo>
                      <a:pt x="1232" y="1763"/>
                    </a:lnTo>
                    <a:lnTo>
                      <a:pt x="0" y="17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43760" y="2981160"/>
                <a:ext cx="225360" cy="324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32680" y="2644920"/>
                <a:ext cx="439560" cy="2984400"/>
              </a:xfrm>
              <a:custGeom>
                <a:avLst/>
                <a:gdLst/>
                <a:ahLst/>
                <a:rect l="l" t="t" r="r" b="b"/>
                <a:pathLst>
                  <a:path w="277" h="1880">
                    <a:moveTo>
                      <a:pt x="277" y="0"/>
                    </a:moveTo>
                    <a:lnTo>
                      <a:pt x="277" y="1880"/>
                    </a:lnTo>
                    <a:lnTo>
                      <a:pt x="0" y="188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68880" y="4737240"/>
                <a:ext cx="270000" cy="817560"/>
              </a:xfrm>
              <a:custGeom>
                <a:avLst/>
                <a:gdLst/>
                <a:ahLst/>
                <a:rect l="l" t="t" r="r" b="b"/>
                <a:pathLst>
                  <a:path w="170" h="515">
                    <a:moveTo>
                      <a:pt x="0" y="0"/>
                    </a:moveTo>
                    <a:lnTo>
                      <a:pt x="3" y="68"/>
                    </a:lnTo>
                    <a:lnTo>
                      <a:pt x="97" y="68"/>
                    </a:lnTo>
                    <a:lnTo>
                      <a:pt x="97" y="515"/>
                    </a:lnTo>
                    <a:lnTo>
                      <a:pt x="170" y="515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68880" y="3951360"/>
                <a:ext cx="289080" cy="1528560"/>
              </a:xfrm>
              <a:custGeom>
                <a:avLst/>
                <a:gdLst/>
                <a:ahLst/>
                <a:rect l="l" t="t" r="r" b="b"/>
                <a:pathLst>
                  <a:path w="182" h="963">
                    <a:moveTo>
                      <a:pt x="0" y="0"/>
                    </a:moveTo>
                    <a:lnTo>
                      <a:pt x="3" y="65"/>
                    </a:lnTo>
                    <a:lnTo>
                      <a:pt x="132" y="65"/>
                    </a:lnTo>
                    <a:lnTo>
                      <a:pt x="132" y="963"/>
                    </a:lnTo>
                    <a:lnTo>
                      <a:pt x="182" y="9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643040" y="309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66800" y="1914480"/>
                <a:ext cx="506520" cy="1189080"/>
              </a:xfrm>
              <a:custGeom>
                <a:avLst/>
                <a:gdLst/>
                <a:ahLst/>
                <a:rect l="l" t="t" r="r" b="b"/>
                <a:pathLst>
                  <a:path w="319" h="749">
                    <a:moveTo>
                      <a:pt x="0" y="749"/>
                    </a:moveTo>
                    <a:lnTo>
                      <a:pt x="0" y="0"/>
                    </a:lnTo>
                    <a:lnTo>
                      <a:pt x="319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6400" y="1839960"/>
                <a:ext cx="1636920" cy="1906560"/>
              </a:xfrm>
              <a:custGeom>
                <a:avLst/>
                <a:gdLst/>
                <a:ahLst/>
                <a:rect l="l" t="t" r="r" b="b"/>
                <a:pathLst>
                  <a:path w="1031" h="1201">
                    <a:moveTo>
                      <a:pt x="0" y="1201"/>
                    </a:moveTo>
                    <a:lnTo>
                      <a:pt x="0" y="0"/>
                    </a:lnTo>
                    <a:lnTo>
                      <a:pt x="1031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2640" y="37353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43360" y="4014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  <a:lnTo>
                      <a:pt x="117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8360" y="40006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36400" y="4000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lnTo>
                      <a:pt x="401" y="7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5536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8380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3924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8712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14120" y="39402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4904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10448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5200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4400" y="39402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04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58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14360" y="39402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1944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0296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08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99880" y="40593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231200" y="40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360" y="34146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3360" y="43149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19840" y="42004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1984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45080" y="43862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5268960" y="4410000"/>
                <a:ext cx="2952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370720" y="39909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370720" y="436716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7120" y="4054320"/>
                <a:ext cx="11412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22160" y="40305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83356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43360" y="37148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160800" y="3830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317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875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343320" y="38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6636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417480" y="38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44628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500280" y="38307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160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6840" y="4205160"/>
                <a:ext cx="6291360" cy="1874880"/>
              </a:xfrm>
              <a:custGeom>
                <a:avLst/>
                <a:gdLst/>
                <a:ahLst/>
                <a:rect l="l" t="t" r="r" b="b"/>
                <a:pathLst>
                  <a:path w="3963" h="1181">
                    <a:moveTo>
                      <a:pt x="329" y="84"/>
                    </a:moveTo>
                    <a:lnTo>
                      <a:pt x="0" y="84"/>
                    </a:lnTo>
                    <a:lnTo>
                      <a:pt x="0" y="1181"/>
                    </a:lnTo>
                    <a:lnTo>
                      <a:pt x="3963" y="1181"/>
                    </a:lnTo>
                    <a:lnTo>
                      <a:pt x="3963" y="0"/>
                    </a:lnTo>
                    <a:lnTo>
                      <a:pt x="389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1995120" y="3438360"/>
                <a:ext cx="963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927680" y="4410000"/>
                <a:ext cx="115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26040" y="4255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208480" y="4255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144760" y="43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200560" y="43545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144400" y="4452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126040" y="5124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08480" y="5124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144760" y="522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0560" y="52228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44400" y="5326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479080" y="4046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61520" y="40464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494200" y="4149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8560" y="4149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494200" y="4248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995480" y="3738600"/>
                <a:ext cx="968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05440" y="42004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4366800" y="422424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3749400" y="4224240"/>
                <a:ext cx="368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762600" y="39956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  <a:lnTo>
                      <a:pt x="129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932200" y="2590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00636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06180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17600" y="259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144600" y="2590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1762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232440" y="2590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726160" y="3960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793840" y="3960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850000" y="39607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0860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08040" y="4030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7680" y="4054320"/>
                <a:ext cx="1062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05440" y="34113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3754440" y="3438360"/>
                <a:ext cx="363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105440" y="4890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04920" y="3438360"/>
                <a:ext cx="2016360" cy="1481400"/>
              </a:xfrm>
              <a:custGeom>
                <a:avLst/>
                <a:gdLst/>
                <a:ahLst/>
                <a:rect l="l" t="t" r="r" b="b"/>
                <a:pathLst>
                  <a:path w="1270" h="933">
                    <a:moveTo>
                      <a:pt x="1270" y="930"/>
                    </a:moveTo>
                    <a:lnTo>
                      <a:pt x="0" y="9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95480" y="2644920"/>
                <a:ext cx="849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2084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75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224600" y="2590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192920" y="22510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87600" y="2251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105440" y="29574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105440" y="22813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14720" y="2305080"/>
                <a:ext cx="106560" cy="679320"/>
              </a:xfrm>
              <a:custGeom>
                <a:avLst/>
                <a:gdLst/>
                <a:ahLst/>
                <a:rect l="l" t="t" r="r" b="b"/>
                <a:pathLst>
                  <a:path w="67" h="428">
                    <a:moveTo>
                      <a:pt x="67" y="0"/>
                    </a:moveTo>
                    <a:lnTo>
                      <a:pt x="0" y="3"/>
                    </a:lnTo>
                    <a:lnTo>
                      <a:pt x="0" y="428"/>
                    </a:lnTo>
                    <a:lnTo>
                      <a:pt x="67" y="428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  <a:lnTo>
                      <a:pt x="1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03960" y="2925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77320" y="25909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6732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9840" y="2933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367160" y="2644920"/>
                <a:ext cx="1838520" cy="315720"/>
              </a:xfrm>
              <a:custGeom>
                <a:avLst/>
                <a:gdLst/>
                <a:ahLst/>
                <a:rect l="l" t="t" r="r" b="b"/>
                <a:pathLst>
                  <a:path w="1158" h="199">
                    <a:moveTo>
                      <a:pt x="1158" y="199"/>
                    </a:moveTo>
                    <a:lnTo>
                      <a:pt x="1043" y="199"/>
                    </a:lnTo>
                    <a:lnTo>
                      <a:pt x="104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984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362480" y="2305080"/>
                <a:ext cx="1843200" cy="339840"/>
              </a:xfrm>
              <a:custGeom>
                <a:avLst/>
                <a:gdLst/>
                <a:ahLst/>
                <a:rect l="l" t="t" r="r" b="b"/>
                <a:pathLst>
                  <a:path w="1161" h="214">
                    <a:moveTo>
                      <a:pt x="0" y="0"/>
                    </a:moveTo>
                    <a:lnTo>
                      <a:pt x="1094" y="3"/>
                    </a:lnTo>
                    <a:lnTo>
                      <a:pt x="1094" y="214"/>
                    </a:lnTo>
                    <a:lnTo>
                      <a:pt x="1161" y="214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771320" y="29257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66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18984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5927760" y="401940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8160" y="29574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46880" y="2644920"/>
                <a:ext cx="1252440" cy="339480"/>
              </a:xfrm>
              <a:custGeom>
                <a:avLst/>
                <a:gdLst/>
                <a:ahLst/>
                <a:rect l="l" t="t" r="r" b="b"/>
                <a:pathLst>
                  <a:path w="789" h="214">
                    <a:moveTo>
                      <a:pt x="789" y="212"/>
                    </a:moveTo>
                    <a:lnTo>
                      <a:pt x="722" y="214"/>
                    </a:lnTo>
                    <a:lnTo>
                      <a:pt x="722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3480" y="399096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3" y="33"/>
                    </a:lnTo>
                    <a:lnTo>
                      <a:pt x="35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7943400" y="4019400"/>
                <a:ext cx="451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7577280" y="4019400"/>
                <a:ext cx="118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83480" y="46944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43760" y="4390920"/>
                <a:ext cx="451080" cy="330480"/>
              </a:xfrm>
              <a:custGeom>
                <a:avLst/>
                <a:gdLst/>
                <a:ahLst/>
                <a:rect l="l" t="t" r="r" b="b"/>
                <a:pathLst>
                  <a:path w="284" h="208">
                    <a:moveTo>
                      <a:pt x="284" y="0"/>
                    </a:moveTo>
                    <a:lnTo>
                      <a:pt x="212" y="2"/>
                    </a:lnTo>
                    <a:lnTo>
                      <a:pt x="21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786720" y="4718160"/>
                <a:ext cx="90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13676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165560" y="197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2368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638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304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15312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2116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87760" y="230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31512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39900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6596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6327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7198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821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68880" y="2649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98400" y="26496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80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49960" y="3905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22124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6680" y="3905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368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59480" y="3905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7868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6076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1692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30044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354440" y="4019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90800" y="4019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603760" y="3513240"/>
                <a:ext cx="324000" cy="1008000"/>
              </a:xfrm>
              <a:custGeom>
                <a:avLst/>
                <a:gdLst/>
                <a:ahLst/>
                <a:rect l="l" t="t" r="r" b="b"/>
                <a:pathLst>
                  <a:path w="204" h="635">
                    <a:moveTo>
                      <a:pt x="0" y="0"/>
                    </a:moveTo>
                    <a:lnTo>
                      <a:pt x="0" y="257"/>
                    </a:lnTo>
                    <a:lnTo>
                      <a:pt x="65" y="319"/>
                    </a:lnTo>
                    <a:lnTo>
                      <a:pt x="0" y="381"/>
                    </a:lnTo>
                    <a:lnTo>
                      <a:pt x="0" y="635"/>
                    </a:lnTo>
                    <a:lnTo>
                      <a:pt x="204" y="441"/>
                    </a:lnTo>
                    <a:lnTo>
                      <a:pt x="204" y="19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26040" y="3467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208480" y="34671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44760" y="356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200560" y="356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44400" y="366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  <a:lnTo>
                      <a:pt x="376" y="2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90600" y="1698480"/>
              <a:ext cx="7664400" cy="4492800"/>
              <a:chOff x="390600" y="1698480"/>
              <a:chExt cx="7664400" cy="4492800"/>
            </a:xfrm>
          </p:grpSpPr>
          <p:sp>
            <p:nvSpPr>
              <p:cNvPr id="2452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94000" y="1741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492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523600" y="1741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57148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626920" y="1741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6184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17640" y="17413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3349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9040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444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47284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528280" y="18558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579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08560" y="1855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692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823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38520" y="1855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46024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51568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71840" y="1974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5952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63800" y="55119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2428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679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715000" y="551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78592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841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87664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32800" y="5511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116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0660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067440" y="55119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72580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8124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837400" y="56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857560" y="56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19840" y="4572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198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19840" y="5353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4818240" y="4599000"/>
                <a:ext cx="22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19840" y="378612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545080" y="36003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268960" y="3624120"/>
                <a:ext cx="295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019840" y="36003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2360" y="3624120"/>
                <a:ext cx="111240" cy="2455920"/>
              </a:xfrm>
              <a:custGeom>
                <a:avLst/>
                <a:gdLst/>
                <a:ahLst/>
                <a:rect l="l" t="t" r="r" b="b"/>
                <a:pathLst>
                  <a:path w="70" h="1547">
                    <a:moveTo>
                      <a:pt x="70" y="0"/>
                    </a:moveTo>
                    <a:lnTo>
                      <a:pt x="0" y="0"/>
                    </a:lnTo>
                    <a:lnTo>
                      <a:pt x="0" y="15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019840" y="3411360"/>
                <a:ext cx="50760" cy="51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4366800" y="343836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81520" y="45752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765440" y="4054320"/>
                <a:ext cx="2300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67120" y="1839960"/>
                <a:ext cx="1509480" cy="804960"/>
              </a:xfrm>
              <a:custGeom>
                <a:avLst/>
                <a:gdLst/>
                <a:ahLst/>
                <a:rect l="l" t="t" r="r" b="b"/>
                <a:pathLst>
                  <a:path w="951" h="507">
                    <a:moveTo>
                      <a:pt x="951" y="507"/>
                    </a:moveTo>
                    <a:lnTo>
                      <a:pt x="951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454640" y="262080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33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654360" y="2806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3563640" y="2830680"/>
                <a:ext cx="114120" cy="468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465000" y="2776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2360" y="248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44800" y="2487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10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36880" y="2590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780720" y="2689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786120" y="23097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932200" y="18162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0"/>
                    </a:moveTo>
                    <a:lnTo>
                      <a:pt x="30" y="0"/>
                    </a:lnTo>
                    <a:lnTo>
                      <a:pt x="0" y="15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995480" y="1989000"/>
                <a:ext cx="2125800" cy="3400560"/>
              </a:xfrm>
              <a:custGeom>
                <a:avLst/>
                <a:gdLst/>
                <a:ahLst/>
                <a:rect l="l" t="t" r="r" b="b"/>
                <a:pathLst>
                  <a:path w="1339" h="2142">
                    <a:moveTo>
                      <a:pt x="84" y="0"/>
                    </a:moveTo>
                    <a:lnTo>
                      <a:pt x="0" y="0"/>
                    </a:lnTo>
                    <a:lnTo>
                      <a:pt x="0" y="2142"/>
                    </a:lnTo>
                    <a:lnTo>
                      <a:pt x="1339" y="2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112840" y="19670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44880" y="20527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105440" y="5041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220840" y="3738600"/>
                <a:ext cx="1900440" cy="1330200"/>
              </a:xfrm>
              <a:custGeom>
                <a:avLst/>
                <a:gdLst/>
                <a:ahLst/>
                <a:rect l="l" t="t" r="r" b="b"/>
                <a:pathLst>
                  <a:path w="1197" h="838">
                    <a:moveTo>
                      <a:pt x="1197" y="836"/>
                    </a:moveTo>
                    <a:lnTo>
                      <a:pt x="0" y="8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105440" y="519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5480" y="5214960"/>
                <a:ext cx="2125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105440" y="5361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971720" y="5191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33"/>
                    </a:moveTo>
                    <a:lnTo>
                      <a:pt x="17" y="33"/>
                    </a:ln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081160" y="34146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5" y="30"/>
                    </a:moveTo>
                    <a:lnTo>
                      <a:pt x="18" y="33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2400" y="3714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0"/>
                    </a:move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21080" y="214776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2" y="30"/>
                    </a:lnTo>
                    <a:lnTo>
                      <a:pt x="17" y="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48080" y="2187720"/>
                <a:ext cx="1928520" cy="3441600"/>
              </a:xfrm>
              <a:custGeom>
                <a:avLst/>
                <a:gdLst/>
                <a:ahLst/>
                <a:rect l="l" t="t" r="r" b="b"/>
                <a:pathLst>
                  <a:path w="1215" h="2168">
                    <a:moveTo>
                      <a:pt x="1215" y="1907"/>
                    </a:moveTo>
                    <a:lnTo>
                      <a:pt x="1215" y="2168"/>
                    </a:lnTo>
                    <a:lnTo>
                      <a:pt x="0" y="216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68348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3" y="32"/>
                    </a:lnTo>
                    <a:lnTo>
                      <a:pt x="32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6450120" y="5278320"/>
                <a:ext cx="1241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232680" y="5278320"/>
                <a:ext cx="328320" cy="276480"/>
              </a:xfrm>
              <a:custGeom>
                <a:avLst/>
                <a:gdLst/>
                <a:ahLst/>
                <a:rect l="l" t="t" r="r" b="b"/>
                <a:pathLst>
                  <a:path w="207" h="174">
                    <a:moveTo>
                      <a:pt x="207" y="0"/>
                    </a:moveTo>
                    <a:lnTo>
                      <a:pt x="207" y="174"/>
                    </a:lnTo>
                    <a:lnTo>
                      <a:pt x="0" y="1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37240" y="52545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229440" y="5283360"/>
                <a:ext cx="1825560" cy="422280"/>
              </a:xfrm>
              <a:custGeom>
                <a:avLst/>
                <a:gdLst/>
                <a:ahLst/>
                <a:rect l="l" t="t" r="r" b="b"/>
                <a:pathLst>
                  <a:path w="1150" h="266">
                    <a:moveTo>
                      <a:pt x="0" y="266"/>
                    </a:moveTo>
                    <a:lnTo>
                      <a:pt x="1150" y="266"/>
                    </a:lnTo>
                    <a:lnTo>
                      <a:pt x="1150" y="0"/>
                    </a:lnTo>
                    <a:lnTo>
                      <a:pt x="10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97760" y="5676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0"/>
                    </a:moveTo>
                    <a:lnTo>
                      <a:pt x="30" y="33"/>
                    </a:lnTo>
                    <a:lnTo>
                      <a:pt x="0" y="18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197760" y="5527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7760" y="56023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7708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449760" y="4019400"/>
                <a:ext cx="4395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762600" y="469440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09960" y="3813120"/>
                <a:ext cx="1976760" cy="2152800"/>
              </a:xfrm>
              <a:custGeom>
                <a:avLst/>
                <a:gdLst/>
                <a:ahLst/>
                <a:rect l="l" t="t" r="r" b="b"/>
                <a:pathLst>
                  <a:path w="1245" h="1356">
                    <a:moveTo>
                      <a:pt x="1245" y="130"/>
                    </a:moveTo>
                    <a:lnTo>
                      <a:pt x="1245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14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908600" y="6056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322360" y="4038480"/>
                <a:ext cx="4934160" cy="2152800"/>
              </a:xfrm>
              <a:custGeom>
                <a:avLst/>
                <a:gdLst/>
                <a:ahLst/>
                <a:rect l="l" t="t" r="r" b="b"/>
                <a:pathLst>
                  <a:path w="3108" h="1356">
                    <a:moveTo>
                      <a:pt x="3106" y="1050"/>
                    </a:moveTo>
                    <a:lnTo>
                      <a:pt x="3108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4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229520" y="56815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105440" y="26179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54360" y="26179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5555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584000" y="29494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4592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743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701720" y="2949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1875960" y="3909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1858320" y="386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1861560" y="3809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1875960" y="377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rot="16200000">
                <a:off x="1872000" y="3743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6200000">
                <a:off x="1858320" y="3695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6200000">
                <a:off x="1861560" y="3643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rot="16200000">
                <a:off x="1875960" y="3607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6200000">
                <a:off x="1879920" y="3585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6200000">
                <a:off x="1858320" y="35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rot="16200000">
                <a:off x="1858320" y="3485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6364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2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660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69396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768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2536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5308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51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9600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78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1493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048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606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16200000">
                <a:off x="1580760" y="262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200000">
                <a:off x="1559520" y="25772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rot="16200000">
                <a:off x="1580760" y="2537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rot="16200000">
                <a:off x="1580760" y="2512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16200000">
                <a:off x="1552680" y="2455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6200000">
                <a:off x="1539000" y="23713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16200000">
                <a:off x="1576800" y="231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16200000">
                <a:off x="1584720" y="22874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16200000">
                <a:off x="1580760" y="2261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rot="16200000">
                <a:off x="1563120" y="221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rot="16200000">
                <a:off x="424440" y="3565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rot="16200000">
                <a:off x="420840" y="34934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rot="16200000">
                <a:off x="407160" y="34095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6200000">
                <a:off x="444960" y="335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rot="16200000">
                <a:off x="452880" y="3325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rot="16200000">
                <a:off x="448920" y="329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rot="16200000">
                <a:off x="431280" y="325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03480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06216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1366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6548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22884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29544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3228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398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52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08560" y="54878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28360" y="5487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794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0792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61920" y="54878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990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6992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86320" y="573264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367160" y="5065560"/>
                <a:ext cx="1019160" cy="690840"/>
              </a:xfrm>
              <a:custGeom>
                <a:avLst/>
                <a:gdLst/>
                <a:ahLst/>
                <a:rect l="l" t="t" r="r" b="b"/>
                <a:pathLst>
                  <a:path w="642" h="435">
                    <a:moveTo>
                      <a:pt x="642" y="435"/>
                    </a:moveTo>
                    <a:lnTo>
                      <a:pt x="129" y="435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546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4" y="33"/>
                    </a:moveTo>
                    <a:lnTo>
                      <a:pt x="19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378400" y="55990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8984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67160" y="5376960"/>
                <a:ext cx="655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70400" y="5211720"/>
                <a:ext cx="649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367160" y="4915080"/>
                <a:ext cx="1040040" cy="711000"/>
              </a:xfrm>
              <a:custGeom>
                <a:avLst/>
                <a:gdLst/>
                <a:ahLst/>
                <a:rect l="l" t="t" r="r" b="b"/>
                <a:pathLst>
                  <a:path w="655" h="448">
                    <a:moveTo>
                      <a:pt x="0" y="0"/>
                    </a:moveTo>
                    <a:lnTo>
                      <a:pt x="182" y="3"/>
                    </a:lnTo>
                    <a:lnTo>
                      <a:pt x="182" y="448"/>
                    </a:lnTo>
                    <a:lnTo>
                      <a:pt x="655" y="4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61040" y="5278320"/>
                <a:ext cx="944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7560" y="2081160"/>
                <a:ext cx="173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034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61800" y="52545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125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152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1813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50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7960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35088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40632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465720" y="525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484080" y="525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53664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563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19080" y="525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6511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25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34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061800" y="5084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25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52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813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0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7960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5088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40632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465720" y="5084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484080" y="5084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536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56364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619080" y="5084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6511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725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034800" y="4938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061800" y="49388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125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152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813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25080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27960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3508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40632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465720" y="4938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484080" y="493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536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6364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619080" y="4938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6511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725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4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61800" y="47847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25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52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1813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50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7960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5088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0632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5720" y="47847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840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53664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56364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19080" y="4784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6511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252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78200" y="5638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49480" y="5638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78200" y="5504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49120" y="5504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78200" y="525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9480" y="525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50767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49480" y="5076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2920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929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5916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8364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675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2980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133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744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083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5912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15280" y="5129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33640" y="5129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4815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099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61080" y="5129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9312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6404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2956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876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97572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545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83720" y="55548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17372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24032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6444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353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911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2280" y="5554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62080" y="555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5099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5369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588080" y="5554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012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9104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15T00:32:42Z</dcterms:modified>
  <cp:revision>30</cp:revision>
  <dc:subject/>
  <dc:title>Chapter Six</dc:title>
</cp:coreProperties>
</file>