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-</a:t>
            </a:r>
            <a:fld id="{5BB886D3-6F04-4BA9-95AA-9F605FBB8C4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”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eamento de endereç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ta: como fazer a consistência de dad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ição: qual bloco descartar da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24120" y="1828800"/>
            <a:ext cx="4896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1120" y="251136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8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3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2880" y="463248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ória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216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16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16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16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6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16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16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2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6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65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16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16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16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68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68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68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16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16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64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31240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9920" y="28195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9920" y="24382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21398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9920" y="18288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9920" y="15238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9920" y="12193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9920" y="9144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004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97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54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992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99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9920" y="34290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99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9760" y="1219320"/>
            <a:ext cx="304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804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80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152388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904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904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628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66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62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6600" y="1828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160" y="60958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160" y="57913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54100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160" y="51116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160" y="48006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44956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160" y="41911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160" y="38862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9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0656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83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16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1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16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68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68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160" y="64008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16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64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992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024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5992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024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408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440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57913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54100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51116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48006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44956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1911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8862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705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2092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092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092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64008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16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848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8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848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5232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1264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81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8480" y="51055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00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enchimento da cache a cada mi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1320" y="3733920"/>
          <a:ext cx="3973320" cy="371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733920"/>
                    <a:ext cx="39733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1800" y="955800"/>
            <a:ext cx="5008680" cy="5444280"/>
            <a:chOff x="3601800" y="955800"/>
            <a:chExt cx="5008680" cy="5444280"/>
          </a:xfrm>
        </p:grpSpPr>
        <p:sp>
          <p:nvSpPr>
            <p:cNvPr id="380" name=""/>
            <p:cNvSpPr/>
            <p:nvPr/>
          </p:nvSpPr>
          <p:spPr>
            <a:xfrm>
              <a:off x="5365800" y="2824200"/>
              <a:ext cx="1994040" cy="2093040"/>
            </a:xfrm>
            <a:custGeom>
              <a:avLst/>
              <a:gdLst/>
              <a:ahLst/>
              <a:rect l="l" t="t" r="r" b="b"/>
              <a:pathLst>
                <a:path w="916" h="961">
                  <a:moveTo>
                    <a:pt x="916" y="960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1"/>
                  </a:lnTo>
                  <a:lnTo>
                    <a:pt x="916" y="961"/>
                  </a:lnTo>
                  <a:lnTo>
                    <a:pt x="916" y="9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5440" y="3033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65440" y="3240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365440" y="34495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5440" y="36583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65440" y="386712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65440" y="4076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365440" y="4283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365440" y="44924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65440" y="470160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8840" y="2837520"/>
              <a:ext cx="4320" cy="20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9480" y="2828520"/>
              <a:ext cx="2160" cy="20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80280" y="1375920"/>
              <a:ext cx="432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46560" y="1375920"/>
              <a:ext cx="18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440" y="1371600"/>
              <a:ext cx="1948680" cy="287280"/>
            </a:xfrm>
            <a:custGeom>
              <a:avLst/>
              <a:gdLst/>
              <a:ahLst/>
              <a:rect l="l" t="t" r="r" b="b"/>
              <a:pathLst>
                <a:path w="895" h="132">
                  <a:moveTo>
                    <a:pt x="0" y="130"/>
                  </a:moveTo>
                  <a:lnTo>
                    <a:pt x="2" y="0"/>
                  </a:lnTo>
                  <a:lnTo>
                    <a:pt x="895" y="0"/>
                  </a:lnTo>
                  <a:lnTo>
                    <a:pt x="895" y="132"/>
                  </a:lnTo>
                  <a:lnTo>
                    <a:pt x="2" y="132"/>
                  </a:lnTo>
                  <a:lnTo>
                    <a:pt x="2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5800" y="955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7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168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66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373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024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484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20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572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89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74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84080" y="955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45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65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03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13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0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728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752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5460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13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16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76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81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01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760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74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344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01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4032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220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75120" y="1800360"/>
              <a:ext cx="17856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316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732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71800" y="1798200"/>
              <a:ext cx="1825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86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824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9840" y="1388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7520" y="1388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22600" y="138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0320" y="138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09720" y="13888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780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684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5312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2640" y="150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04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08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3280" y="26150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4608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84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65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7640" y="2615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74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67120" y="2615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6684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4604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82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1720" y="372996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920" y="3729960"/>
              <a:ext cx="7200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2760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432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446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87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9400" y="261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9280" y="28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49280" y="305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9280" y="325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292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988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736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536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988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7736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536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7736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36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8080" y="353196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560" y="353196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1320" y="353196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52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228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38040" y="1243080"/>
              <a:ext cx="2412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032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3120" y="1243080"/>
              <a:ext cx="30600" cy="280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356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78080" y="395028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65560" y="395028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91320" y="395028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8080" y="4159080"/>
              <a:ext cx="2592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5560" y="4159080"/>
              <a:ext cx="2556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1320" y="415908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99680" y="1861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212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060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131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368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84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96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62280" y="213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2640" y="3721680"/>
              <a:ext cx="6984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1640" y="1652400"/>
              <a:ext cx="2446920" cy="21060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1124" y="0"/>
                  </a:moveTo>
                  <a:lnTo>
                    <a:pt x="1124" y="312"/>
                  </a:lnTo>
                  <a:lnTo>
                    <a:pt x="0" y="312"/>
                  </a:lnTo>
                  <a:lnTo>
                    <a:pt x="0" y="967"/>
                  </a:lnTo>
                  <a:lnTo>
                    <a:pt x="503" y="9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180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2240" y="17809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342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3156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248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2184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06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3956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3080" y="5945040"/>
              <a:ext cx="274320" cy="324360"/>
            </a:xfrm>
            <a:custGeom>
              <a:avLst/>
              <a:gdLst/>
              <a:ahLst/>
              <a:rect l="l" t="t" r="r" b="b"/>
              <a:pathLst>
                <a:path w="126" h="149">
                  <a:moveTo>
                    <a:pt x="0" y="88"/>
                  </a:moveTo>
                  <a:lnTo>
                    <a:pt x="2" y="99"/>
                  </a:lnTo>
                  <a:lnTo>
                    <a:pt x="4" y="109"/>
                  </a:lnTo>
                  <a:lnTo>
                    <a:pt x="8" y="117"/>
                  </a:lnTo>
                  <a:lnTo>
                    <a:pt x="13" y="124"/>
                  </a:lnTo>
                  <a:lnTo>
                    <a:pt x="19" y="132"/>
                  </a:lnTo>
                  <a:lnTo>
                    <a:pt x="27" y="138"/>
                  </a:lnTo>
                  <a:lnTo>
                    <a:pt x="34" y="143"/>
                  </a:lnTo>
                  <a:lnTo>
                    <a:pt x="44" y="147"/>
                  </a:lnTo>
                  <a:lnTo>
                    <a:pt x="53" y="149"/>
                  </a:lnTo>
                  <a:lnTo>
                    <a:pt x="63" y="149"/>
                  </a:lnTo>
                  <a:lnTo>
                    <a:pt x="75" y="149"/>
                  </a:lnTo>
                  <a:lnTo>
                    <a:pt x="84" y="147"/>
                  </a:lnTo>
                  <a:lnTo>
                    <a:pt x="92" y="143"/>
                  </a:lnTo>
                  <a:lnTo>
                    <a:pt x="101" y="138"/>
                  </a:lnTo>
                  <a:lnTo>
                    <a:pt x="107" y="132"/>
                  </a:lnTo>
                  <a:lnTo>
                    <a:pt x="115" y="124"/>
                  </a:lnTo>
                  <a:lnTo>
                    <a:pt x="119" y="117"/>
                  </a:lnTo>
                  <a:lnTo>
                    <a:pt x="122" y="109"/>
                  </a:lnTo>
                  <a:lnTo>
                    <a:pt x="126" y="99"/>
                  </a:lnTo>
                  <a:lnTo>
                    <a:pt x="126" y="90"/>
                  </a:lnTo>
                  <a:lnTo>
                    <a:pt x="126" y="0"/>
                  </a:lnTo>
                  <a:lnTo>
                    <a:pt x="2" y="0"/>
                  </a:lnTo>
                  <a:lnTo>
                    <a:pt x="2" y="90"/>
                  </a:lnTo>
                  <a:lnTo>
                    <a:pt x="2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420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58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0160" y="3758400"/>
              <a:ext cx="8640" cy="21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3160" y="5681880"/>
              <a:ext cx="311400" cy="25848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2" y="0"/>
                  </a:moveTo>
                  <a:lnTo>
                    <a:pt x="143" y="59"/>
                  </a:lnTo>
                  <a:lnTo>
                    <a:pt x="0" y="59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9280" y="2040120"/>
              <a:ext cx="1830600" cy="4359960"/>
            </a:xfrm>
            <a:custGeom>
              <a:avLst/>
              <a:gdLst/>
              <a:ahLst/>
              <a:rect l="l" t="t" r="r" b="b"/>
              <a:pathLst>
                <a:path w="841" h="2002">
                  <a:moveTo>
                    <a:pt x="841" y="1942"/>
                  </a:moveTo>
                  <a:lnTo>
                    <a:pt x="841" y="2002"/>
                  </a:lnTo>
                  <a:lnTo>
                    <a:pt x="0" y="200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7320" y="5490360"/>
              <a:ext cx="72000" cy="694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5360" y="1652400"/>
              <a:ext cx="1913760" cy="3870000"/>
            </a:xfrm>
            <a:custGeom>
              <a:avLst/>
              <a:gdLst/>
              <a:ahLst/>
              <a:rect l="l" t="t" r="r" b="b"/>
              <a:pathLst>
                <a:path w="879" h="1777">
                  <a:moveTo>
                    <a:pt x="877" y="0"/>
                  </a:moveTo>
                  <a:lnTo>
                    <a:pt x="879" y="191"/>
                  </a:lnTo>
                  <a:lnTo>
                    <a:pt x="0" y="191"/>
                  </a:lnTo>
                  <a:lnTo>
                    <a:pt x="0" y="1777"/>
                  </a:lnTo>
                  <a:lnTo>
                    <a:pt x="756" y="17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2040" y="2026800"/>
              <a:ext cx="1776240" cy="3299760"/>
            </a:xfrm>
            <a:custGeom>
              <a:avLst/>
              <a:gdLst/>
              <a:ahLst/>
              <a:rect l="l" t="t" r="r" b="b"/>
              <a:pathLst>
                <a:path w="816" h="1515">
                  <a:moveTo>
                    <a:pt x="0" y="801"/>
                  </a:moveTo>
                  <a:lnTo>
                    <a:pt x="2" y="1515"/>
                  </a:lnTo>
                  <a:lnTo>
                    <a:pt x="816" y="1515"/>
                  </a:lnTo>
                  <a:lnTo>
                    <a:pt x="816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4560" y="5052240"/>
              <a:ext cx="17856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29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67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2280" y="5368320"/>
              <a:ext cx="307080" cy="3135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70" y="142"/>
                  </a:moveTo>
                  <a:lnTo>
                    <a:pt x="82" y="142"/>
                  </a:lnTo>
                  <a:lnTo>
                    <a:pt x="93" y="140"/>
                  </a:lnTo>
                  <a:lnTo>
                    <a:pt x="103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28" y="113"/>
                  </a:lnTo>
                  <a:lnTo>
                    <a:pt x="134" y="106"/>
                  </a:lnTo>
                  <a:lnTo>
                    <a:pt x="139" y="94"/>
                  </a:lnTo>
                  <a:lnTo>
                    <a:pt x="141" y="83"/>
                  </a:lnTo>
                  <a:lnTo>
                    <a:pt x="141" y="71"/>
                  </a:lnTo>
                  <a:lnTo>
                    <a:pt x="141" y="60"/>
                  </a:lnTo>
                  <a:lnTo>
                    <a:pt x="139" y="50"/>
                  </a:lnTo>
                  <a:lnTo>
                    <a:pt x="134" y="39"/>
                  </a:lnTo>
                  <a:lnTo>
                    <a:pt x="128" y="31"/>
                  </a:lnTo>
                  <a:lnTo>
                    <a:pt x="122" y="21"/>
                  </a:lnTo>
                  <a:lnTo>
                    <a:pt x="113" y="14"/>
                  </a:lnTo>
                  <a:lnTo>
                    <a:pt x="103" y="8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0" y="0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9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3" y="94"/>
                  </a:lnTo>
                  <a:lnTo>
                    <a:pt x="7" y="106"/>
                  </a:lnTo>
                  <a:lnTo>
                    <a:pt x="13" y="113"/>
                  </a:lnTo>
                  <a:lnTo>
                    <a:pt x="21" y="123"/>
                  </a:lnTo>
                  <a:lnTo>
                    <a:pt x="28" y="129"/>
                  </a:lnTo>
                  <a:lnTo>
                    <a:pt x="38" y="134"/>
                  </a:lnTo>
                  <a:lnTo>
                    <a:pt x="49" y="140"/>
                  </a:lnTo>
                  <a:lnTo>
                    <a:pt x="59" y="142"/>
                  </a:lnTo>
                  <a:lnTo>
                    <a:pt x="70" y="144"/>
                  </a:lnTo>
                  <a:lnTo>
                    <a:pt x="7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15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70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070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834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5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86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63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01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36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0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863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9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3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74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912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04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672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42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1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2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7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75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60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8840" y="5507640"/>
              <a:ext cx="93600" cy="4536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lnTo>
                    <a:pt x="43" y="0"/>
                  </a:lnTo>
                  <a:lnTo>
                    <a:pt x="43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15"/>
                  </a:moveTo>
                  <a:lnTo>
                    <a:pt x="43" y="15"/>
                  </a:lnTo>
                  <a:lnTo>
                    <a:pt x="4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7840" y="5280840"/>
              <a:ext cx="67320" cy="72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7840" y="3729960"/>
              <a:ext cx="67320" cy="69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98800" y="5047560"/>
              <a:ext cx="18504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2400" y="3767040"/>
              <a:ext cx="2160" cy="1535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2201760"/>
            <a:ext cx="29718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yte offset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ó para acesso a by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argura da cache:v+tag+dado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 de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linh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índice de n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inha da cache: 1+(30-n)+32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                       v    tag    d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amanho da cache=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(63-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de dados com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78720" y="1293120"/>
            <a:ext cx="571968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emory = cache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emory = cache de instruçõ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tetu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Harv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Harvard modificad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? semelhante ao st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congela 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 já entrou prosse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ir “bolhas” nos estágios seg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r pelo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anto instrução não é lida, manter endereço original (PC-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83160" y="1901880"/>
            <a:ext cx="2976480" cy="841320"/>
            <a:chOff x="5483160" y="1901880"/>
            <a:chExt cx="2976480" cy="841320"/>
          </a:xfrm>
        </p:grpSpPr>
        <p:sp>
          <p:nvSpPr>
            <p:cNvPr id="567" name=""/>
            <p:cNvSpPr/>
            <p:nvPr/>
          </p:nvSpPr>
          <p:spPr>
            <a:xfrm>
              <a:off x="548316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22860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9608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7" idx="3"/>
              <a:endCxn id="568" idx="1"/>
            </p:cNvCxnSpPr>
            <p:nvPr/>
          </p:nvCxnSpPr>
          <p:spPr>
            <a:xfrm>
              <a:off x="6246360" y="2513160"/>
              <a:ext cx="3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1" name=""/>
            <p:cNvCxnSpPr>
              <a:stCxn id="568" idx="3"/>
              <a:endCxn id="569" idx="1"/>
            </p:cNvCxnSpPr>
            <p:nvPr/>
          </p:nvCxnSpPr>
          <p:spPr>
            <a:xfrm flipV="1">
              <a:off x="7316640" y="2512800"/>
              <a:ext cx="380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6614280" y="1901880"/>
              <a:ext cx="86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7240" y="3198960"/>
            <a:ext cx="2593800" cy="2135160"/>
            <a:chOff x="5637240" y="3198960"/>
            <a:chExt cx="2593800" cy="2135160"/>
          </a:xfrm>
        </p:grpSpPr>
        <p:sp>
          <p:nvSpPr>
            <p:cNvPr id="574" name=""/>
            <p:cNvSpPr/>
            <p:nvPr/>
          </p:nvSpPr>
          <p:spPr>
            <a:xfrm>
              <a:off x="563724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0000" y="3583080"/>
              <a:ext cx="763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748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08040" y="3198960"/>
              <a:ext cx="184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 modifica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9920" y="4876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5" idx="1"/>
              <a:endCxn id="574" idx="0"/>
            </p:cNvCxnSpPr>
            <p:nvPr/>
          </p:nvCxnSpPr>
          <p:spPr>
            <a:xfrm flipV="1" rot="10800000">
              <a:off x="6019200" y="3811320"/>
              <a:ext cx="46080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  <a:endCxn id="576" idx="0"/>
            </p:cNvCxnSpPr>
            <p:nvPr/>
          </p:nvCxnSpPr>
          <p:spPr>
            <a:xfrm>
              <a:off x="7243920" y="3811680"/>
              <a:ext cx="60696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17220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ches in the DECStation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9200" y="1900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97560" y="3414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403360" y="1108080"/>
            <a:ext cx="4330440" cy="5292360"/>
            <a:chOff x="2403360" y="1108080"/>
            <a:chExt cx="4330440" cy="5292360"/>
          </a:xfrm>
        </p:grpSpPr>
        <p:sp>
          <p:nvSpPr>
            <p:cNvPr id="587" name=""/>
            <p:cNvSpPr/>
            <p:nvPr/>
          </p:nvSpPr>
          <p:spPr>
            <a:xfrm>
              <a:off x="4067640" y="1532880"/>
              <a:ext cx="2478240" cy="251640"/>
            </a:xfrm>
            <a:custGeom>
              <a:avLst/>
              <a:gdLst/>
              <a:ahLst/>
              <a:rect l="l" t="t" r="r" b="b"/>
              <a:pathLst>
                <a:path w="1190" h="121">
                  <a:moveTo>
                    <a:pt x="0" y="119"/>
                  </a:moveTo>
                  <a:lnTo>
                    <a:pt x="1" y="0"/>
                  </a:lnTo>
                  <a:lnTo>
                    <a:pt x="1190" y="0"/>
                  </a:lnTo>
                  <a:lnTo>
                    <a:pt x="1190" y="121"/>
                  </a:lnTo>
                  <a:lnTo>
                    <a:pt x="1" y="121"/>
                  </a:lnTo>
                  <a:lnTo>
                    <a:pt x="1" y="1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1920" y="110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940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53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916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30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386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60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093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504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80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932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66360" y="110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320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9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66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24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66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44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216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5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97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60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712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29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378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9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18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46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19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5440" y="533628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07280" y="1924560"/>
              <a:ext cx="17460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316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300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240" y="1924560"/>
              <a:ext cx="17064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356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058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42200" y="18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29680" y="182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98800" y="182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35880" y="18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756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532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1096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5160" y="198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392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9024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200" y="2970360"/>
              <a:ext cx="1916280" cy="2003400"/>
            </a:xfrm>
            <a:custGeom>
              <a:avLst/>
              <a:gdLst/>
              <a:ahLst/>
              <a:rect l="l" t="t" r="r" b="b"/>
              <a:pathLst>
                <a:path w="920" h="962">
                  <a:moveTo>
                    <a:pt x="918" y="960"/>
                  </a:moveTo>
                  <a:lnTo>
                    <a:pt x="920" y="0"/>
                  </a:lnTo>
                  <a:lnTo>
                    <a:pt x="0" y="0"/>
                  </a:lnTo>
                  <a:lnTo>
                    <a:pt x="0" y="962"/>
                  </a:lnTo>
                  <a:lnTo>
                    <a:pt x="920" y="962"/>
                  </a:lnTo>
                  <a:lnTo>
                    <a:pt x="920" y="9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9440" y="2772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80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396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6312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48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86320" y="2772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75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3160" y="2772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9748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30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016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  <a:lnTo>
                    <a:pt x="916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5080" y="3832200"/>
              <a:ext cx="6840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5440" y="383220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07200" y="383220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95000" y="383220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5200" y="1780920"/>
              <a:ext cx="2851560" cy="2089080"/>
            </a:xfrm>
            <a:custGeom>
              <a:avLst/>
              <a:gdLst/>
              <a:ahLst/>
              <a:rect l="l" t="t" r="r" b="b"/>
              <a:pathLst>
                <a:path w="1369" h="1003">
                  <a:moveTo>
                    <a:pt x="1369" y="0"/>
                  </a:moveTo>
                  <a:lnTo>
                    <a:pt x="1369" y="313"/>
                  </a:lnTo>
                  <a:lnTo>
                    <a:pt x="0" y="313"/>
                  </a:lnTo>
                  <a:lnTo>
                    <a:pt x="0" y="1003"/>
                  </a:lnTo>
                  <a:lnTo>
                    <a:pt x="100" y="10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0336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8760" y="2155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008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32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424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624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332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5560" y="5961240"/>
              <a:ext cx="264240" cy="3164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90"/>
                  </a:moveTo>
                  <a:lnTo>
                    <a:pt x="2" y="102"/>
                  </a:lnTo>
                  <a:lnTo>
                    <a:pt x="4" y="110"/>
                  </a:lnTo>
                  <a:lnTo>
                    <a:pt x="8" y="119"/>
                  </a:lnTo>
                  <a:lnTo>
                    <a:pt x="14" y="127"/>
                  </a:lnTo>
                  <a:lnTo>
                    <a:pt x="20" y="134"/>
                  </a:lnTo>
                  <a:lnTo>
                    <a:pt x="27" y="140"/>
                  </a:lnTo>
                  <a:lnTo>
                    <a:pt x="35" y="146"/>
                  </a:lnTo>
                  <a:lnTo>
                    <a:pt x="45" y="150"/>
                  </a:lnTo>
                  <a:lnTo>
                    <a:pt x="54" y="152"/>
                  </a:lnTo>
                  <a:lnTo>
                    <a:pt x="64" y="152"/>
                  </a:lnTo>
                  <a:lnTo>
                    <a:pt x="73" y="152"/>
                  </a:lnTo>
                  <a:lnTo>
                    <a:pt x="83" y="150"/>
                  </a:lnTo>
                  <a:lnTo>
                    <a:pt x="93" y="146"/>
                  </a:lnTo>
                  <a:lnTo>
                    <a:pt x="100" y="140"/>
                  </a:lnTo>
                  <a:lnTo>
                    <a:pt x="108" y="134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3" y="110"/>
                  </a:lnTo>
                  <a:lnTo>
                    <a:pt x="125" y="102"/>
                  </a:lnTo>
                  <a:lnTo>
                    <a:pt x="127" y="90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4480" y="5413320"/>
              <a:ext cx="299880" cy="2998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1" y="144"/>
                  </a:moveTo>
                  <a:lnTo>
                    <a:pt x="83" y="144"/>
                  </a:lnTo>
                  <a:lnTo>
                    <a:pt x="94" y="140"/>
                  </a:lnTo>
                  <a:lnTo>
                    <a:pt x="104" y="136"/>
                  </a:lnTo>
                  <a:lnTo>
                    <a:pt x="113" y="131"/>
                  </a:lnTo>
                  <a:lnTo>
                    <a:pt x="123" y="123"/>
                  </a:lnTo>
                  <a:lnTo>
                    <a:pt x="129" y="115"/>
                  </a:lnTo>
                  <a:lnTo>
                    <a:pt x="136" y="106"/>
                  </a:lnTo>
                  <a:lnTo>
                    <a:pt x="140" y="94"/>
                  </a:lnTo>
                  <a:lnTo>
                    <a:pt x="142" y="84"/>
                  </a:lnTo>
                  <a:lnTo>
                    <a:pt x="144" y="73"/>
                  </a:lnTo>
                  <a:lnTo>
                    <a:pt x="142" y="59"/>
                  </a:lnTo>
                  <a:lnTo>
                    <a:pt x="140" y="50"/>
                  </a:lnTo>
                  <a:lnTo>
                    <a:pt x="136" y="38"/>
                  </a:lnTo>
                  <a:lnTo>
                    <a:pt x="129" y="29"/>
                  </a:lnTo>
                  <a:lnTo>
                    <a:pt x="123" y="21"/>
                  </a:lnTo>
                  <a:lnTo>
                    <a:pt x="113" y="13"/>
                  </a:lnTo>
                  <a:lnTo>
                    <a:pt x="104" y="8"/>
                  </a:lnTo>
                  <a:lnTo>
                    <a:pt x="94" y="4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9" y="8"/>
                  </a:lnTo>
                  <a:lnTo>
                    <a:pt x="29" y="13"/>
                  </a:lnTo>
                  <a:lnTo>
                    <a:pt x="21" y="21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4" y="94"/>
                  </a:lnTo>
                  <a:lnTo>
                    <a:pt x="8" y="106"/>
                  </a:lnTo>
                  <a:lnTo>
                    <a:pt x="14" y="115"/>
                  </a:lnTo>
                  <a:lnTo>
                    <a:pt x="21" y="123"/>
                  </a:lnTo>
                  <a:lnTo>
                    <a:pt x="29" y="131"/>
                  </a:lnTo>
                  <a:lnTo>
                    <a:pt x="39" y="136"/>
                  </a:lnTo>
                  <a:lnTo>
                    <a:pt x="48" y="140"/>
                  </a:lnTo>
                  <a:lnTo>
                    <a:pt x="60" y="144"/>
                  </a:lnTo>
                  <a:lnTo>
                    <a:pt x="71" y="144"/>
                  </a:lnTo>
                  <a:lnTo>
                    <a:pt x="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99280" y="5109120"/>
              <a:ext cx="17460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97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500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6760" y="3866040"/>
              <a:ext cx="1800" cy="148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38520" y="5540400"/>
              <a:ext cx="87840" cy="457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42" y="16"/>
                  </a:lnTo>
                  <a:lnTo>
                    <a:pt x="4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22080" y="3866040"/>
              <a:ext cx="396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5720" y="5713200"/>
              <a:ext cx="216720" cy="24768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104" y="0"/>
                  </a:moveTo>
                  <a:lnTo>
                    <a:pt x="104" y="50"/>
                  </a:lnTo>
                  <a:lnTo>
                    <a:pt x="0" y="52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1200" y="2405880"/>
              <a:ext cx="903960" cy="3994560"/>
            </a:xfrm>
            <a:custGeom>
              <a:avLst/>
              <a:gdLst/>
              <a:ahLst/>
              <a:rect l="l" t="t" r="r" b="b"/>
              <a:pathLst>
                <a:path w="434" h="1918">
                  <a:moveTo>
                    <a:pt x="434" y="1859"/>
                  </a:moveTo>
                  <a:lnTo>
                    <a:pt x="434" y="1918"/>
                  </a:lnTo>
                  <a:lnTo>
                    <a:pt x="2" y="19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55280" y="5529960"/>
              <a:ext cx="70560" cy="66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2840" y="1780920"/>
              <a:ext cx="1939320" cy="3780000"/>
            </a:xfrm>
            <a:custGeom>
              <a:avLst/>
              <a:gdLst/>
              <a:ahLst/>
              <a:rect l="l" t="t" r="r" b="b"/>
              <a:pathLst>
                <a:path w="931" h="1815">
                  <a:moveTo>
                    <a:pt x="929" y="0"/>
                  </a:moveTo>
                  <a:lnTo>
                    <a:pt x="931" y="194"/>
                  </a:lnTo>
                  <a:lnTo>
                    <a:pt x="0" y="194"/>
                  </a:lnTo>
                  <a:lnTo>
                    <a:pt x="0" y="1815"/>
                  </a:lnTo>
                  <a:lnTo>
                    <a:pt x="344" y="181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8160" y="2405880"/>
              <a:ext cx="1629000" cy="3155040"/>
            </a:xfrm>
            <a:custGeom>
              <a:avLst/>
              <a:gdLst/>
              <a:ahLst/>
              <a:rect l="l" t="t" r="r" b="b"/>
              <a:pathLst>
                <a:path w="782" h="1515">
                  <a:moveTo>
                    <a:pt x="0" y="701"/>
                  </a:moveTo>
                  <a:lnTo>
                    <a:pt x="2" y="1515"/>
                  </a:lnTo>
                  <a:lnTo>
                    <a:pt x="782" y="1515"/>
                  </a:lnTo>
                  <a:lnTo>
                    <a:pt x="7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55000" y="5109120"/>
              <a:ext cx="17064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0584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21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2280" y="1532880"/>
              <a:ext cx="180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7320" y="1532880"/>
              <a:ext cx="216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752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5080" y="2970360"/>
              <a:ext cx="68400" cy="622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33" y="30"/>
                  </a:lnTo>
                  <a:lnTo>
                    <a:pt x="17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9400" y="4897080"/>
              <a:ext cx="64080" cy="72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lnTo>
                    <a:pt x="0" y="2"/>
                  </a:lnTo>
                  <a:lnTo>
                    <a:pt x="15" y="35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90720" y="3013920"/>
              <a:ext cx="1800" cy="19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544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356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8440" y="3807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544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2356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8800" y="396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33720" y="3963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77280" y="3963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72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83120" y="396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90960" y="2667960"/>
              <a:ext cx="64080" cy="64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0"/>
                  </a:lnTo>
                  <a:lnTo>
                    <a:pt x="0" y="16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38360" y="23367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1"/>
                  </a:moveTo>
                  <a:lnTo>
                    <a:pt x="33" y="33"/>
                  </a:lnTo>
                  <a:lnTo>
                    <a:pt x="18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5560" y="233676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1"/>
                  </a:moveTo>
                  <a:lnTo>
                    <a:pt x="32" y="33"/>
                  </a:lnTo>
                  <a:lnTo>
                    <a:pt x="17" y="0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2604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5560" y="2667960"/>
              <a:ext cx="62280" cy="64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31"/>
                  </a:moveTo>
                  <a:lnTo>
                    <a:pt x="30" y="0"/>
                  </a:lnTo>
                  <a:lnTo>
                    <a:pt x="0" y="16"/>
                  </a:lnTo>
                  <a:lnTo>
                    <a:pt x="30" y="3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11720" y="2697480"/>
              <a:ext cx="5227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26240" y="2697480"/>
              <a:ext cx="11080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8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96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2520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392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77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340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232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8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064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44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260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99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273840" y="31658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73840" y="33656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273840" y="35658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273840" y="37656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273840" y="39654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273840" y="416592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73840" y="43657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73840" y="45655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73840" y="4765680"/>
              <a:ext cx="191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6520" y="2976480"/>
              <a:ext cx="1800" cy="20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78000" y="2972160"/>
              <a:ext cx="396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766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47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4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31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3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0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46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82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87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51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5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9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9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66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2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963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70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8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78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548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268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63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26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884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23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936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9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6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38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709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786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59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714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4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71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9648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12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443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785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80280" y="1397520"/>
              <a:ext cx="2232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344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96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43000" y="1397520"/>
              <a:ext cx="2880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6324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856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080" y="1397520"/>
              <a:ext cx="2916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dade espacial: aumentando o tamanho do blo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99400" y="944640"/>
            <a:ext cx="7806240" cy="5342400"/>
            <a:chOff x="599400" y="944640"/>
            <a:chExt cx="7806240" cy="5342400"/>
          </a:xfrm>
        </p:grpSpPr>
        <p:grpSp>
          <p:nvGrpSpPr>
            <p:cNvPr id="782" name=""/>
            <p:cNvGrpSpPr/>
            <p:nvPr/>
          </p:nvGrpSpPr>
          <p:grpSpPr>
            <a:xfrm>
              <a:off x="599400" y="944640"/>
              <a:ext cx="7806240" cy="5342400"/>
              <a:chOff x="599400" y="944640"/>
              <a:chExt cx="7806240" cy="534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2828520" y="94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24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5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8880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74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1660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89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6564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2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51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258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021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4960" y="944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9008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210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016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8160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2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040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56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7816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77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9552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7868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4924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830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252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576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364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996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88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4960" y="51440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8080" y="19411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9"/>
                    </a:moveTo>
                    <a:lnTo>
                      <a:pt x="30" y="31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9796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41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584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80304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3048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125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70120" y="1648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0560" y="164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40760" y="164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683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62800" y="164844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2764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080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87840" y="1828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6200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336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0200" y="2801160"/>
                <a:ext cx="6109560" cy="1990440"/>
              </a:xfrm>
              <a:custGeom>
                <a:avLst/>
                <a:gdLst/>
                <a:ahLst/>
                <a:rect l="l" t="t" r="r" b="b"/>
                <a:pathLst>
                  <a:path w="2865" h="933">
                    <a:moveTo>
                      <a:pt x="2863" y="931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33"/>
                    </a:lnTo>
                    <a:lnTo>
                      <a:pt x="2865" y="933"/>
                    </a:lnTo>
                    <a:lnTo>
                      <a:pt x="2865" y="9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2320" y="256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506600" y="2568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59768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52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84000" y="256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8840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65800" y="256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0648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  <a:lnTo>
                      <a:pt x="2863" y="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97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4" y="30"/>
                    </a:moveTo>
                    <a:lnTo>
                      <a:pt x="19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614960" y="36522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92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7136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2" y="32"/>
                    </a:lnTo>
                    <a:lnTo>
                      <a:pt x="31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62640" y="1621080"/>
                <a:ext cx="2910600" cy="2076120"/>
              </a:xfrm>
              <a:custGeom>
                <a:avLst/>
                <a:gdLst/>
                <a:ahLst/>
                <a:rect l="l" t="t" r="r" b="b"/>
                <a:pathLst>
                  <a:path w="1365" h="973">
                    <a:moveTo>
                      <a:pt x="1365" y="0"/>
                    </a:moveTo>
                    <a:lnTo>
                      <a:pt x="1365" y="304"/>
                    </a:lnTo>
                    <a:lnTo>
                      <a:pt x="0" y="304"/>
                    </a:lnTo>
                    <a:lnTo>
                      <a:pt x="0" y="973"/>
                    </a:lnTo>
                    <a:lnTo>
                      <a:pt x="63" y="97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940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80" y="1734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04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210880" y="194112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9"/>
                    </a:moveTo>
                    <a:lnTo>
                      <a:pt x="31" y="31"/>
                    </a:lnTo>
                    <a:lnTo>
                      <a:pt x="16" y="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9604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90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8756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196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13840" y="5779800"/>
                <a:ext cx="253800" cy="311040"/>
              </a:xfrm>
              <a:custGeom>
                <a:avLst/>
                <a:gdLst/>
                <a:ahLst/>
                <a:rect l="l" t="t" r="r" b="b"/>
                <a:pathLst>
                  <a:path w="119" h="146">
                    <a:moveTo>
                      <a:pt x="0" y="86"/>
                    </a:moveTo>
                    <a:lnTo>
                      <a:pt x="2" y="97"/>
                    </a:lnTo>
                    <a:lnTo>
                      <a:pt x="4" y="105"/>
                    </a:lnTo>
                    <a:lnTo>
                      <a:pt x="8" y="114"/>
                    </a:lnTo>
                    <a:lnTo>
                      <a:pt x="13" y="122"/>
                    </a:lnTo>
                    <a:lnTo>
                      <a:pt x="19" y="129"/>
                    </a:lnTo>
                    <a:lnTo>
                      <a:pt x="25" y="135"/>
                    </a:lnTo>
                    <a:lnTo>
                      <a:pt x="33" y="139"/>
                    </a:lnTo>
                    <a:lnTo>
                      <a:pt x="41" y="143"/>
                    </a:lnTo>
                    <a:lnTo>
                      <a:pt x="51" y="146"/>
                    </a:lnTo>
                    <a:lnTo>
                      <a:pt x="62" y="146"/>
                    </a:lnTo>
                    <a:lnTo>
                      <a:pt x="70" y="146"/>
                    </a:lnTo>
                    <a:lnTo>
                      <a:pt x="80" y="143"/>
                    </a:lnTo>
                    <a:lnTo>
                      <a:pt x="88" y="139"/>
                    </a:lnTo>
                    <a:lnTo>
                      <a:pt x="96" y="135"/>
                    </a:lnTo>
                    <a:lnTo>
                      <a:pt x="103" y="129"/>
                    </a:lnTo>
                    <a:lnTo>
                      <a:pt x="109" y="122"/>
                    </a:lnTo>
                    <a:lnTo>
                      <a:pt x="113" y="114"/>
                    </a:lnTo>
                    <a:lnTo>
                      <a:pt x="117" y="105"/>
                    </a:lnTo>
                    <a:lnTo>
                      <a:pt x="119" y="97"/>
                    </a:lnTo>
                    <a:lnTo>
                      <a:pt x="119" y="86"/>
                    </a:lnTo>
                    <a:lnTo>
                      <a:pt x="119" y="0"/>
                    </a:lnTo>
                    <a:lnTo>
                      <a:pt x="2" y="0"/>
                    </a:lnTo>
                    <a:lnTo>
                      <a:pt x="2" y="86"/>
                    </a:lnTo>
                    <a:lnTo>
                      <a:pt x="2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2280" y="5220360"/>
                <a:ext cx="287640" cy="29628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68" y="139"/>
                    </a:moveTo>
                    <a:lnTo>
                      <a:pt x="80" y="139"/>
                    </a:lnTo>
                    <a:lnTo>
                      <a:pt x="90" y="137"/>
                    </a:lnTo>
                    <a:lnTo>
                      <a:pt x="98" y="133"/>
                    </a:lnTo>
                    <a:lnTo>
                      <a:pt x="109" y="127"/>
                    </a:lnTo>
                    <a:lnTo>
                      <a:pt x="117" y="120"/>
                    </a:lnTo>
                    <a:lnTo>
                      <a:pt x="123" y="112"/>
                    </a:lnTo>
                    <a:lnTo>
                      <a:pt x="129" y="103"/>
                    </a:lnTo>
                    <a:lnTo>
                      <a:pt x="133" y="93"/>
                    </a:lnTo>
                    <a:lnTo>
                      <a:pt x="135" y="82"/>
                    </a:lnTo>
                    <a:lnTo>
                      <a:pt x="135" y="70"/>
                    </a:lnTo>
                    <a:lnTo>
                      <a:pt x="135" y="59"/>
                    </a:lnTo>
                    <a:lnTo>
                      <a:pt x="133" y="49"/>
                    </a:lnTo>
                    <a:lnTo>
                      <a:pt x="129" y="38"/>
                    </a:lnTo>
                    <a:lnTo>
                      <a:pt x="123" y="30"/>
                    </a:lnTo>
                    <a:lnTo>
                      <a:pt x="117" y="21"/>
                    </a:lnTo>
                    <a:lnTo>
                      <a:pt x="109" y="15"/>
                    </a:lnTo>
                    <a:lnTo>
                      <a:pt x="98" y="8"/>
                    </a:lnTo>
                    <a:lnTo>
                      <a:pt x="90" y="4"/>
                    </a:lnTo>
                    <a:lnTo>
                      <a:pt x="80" y="2"/>
                    </a:lnTo>
                    <a:lnTo>
                      <a:pt x="68" y="0"/>
                    </a:lnTo>
                    <a:lnTo>
                      <a:pt x="57" y="2"/>
                    </a:lnTo>
                    <a:lnTo>
                      <a:pt x="47" y="4"/>
                    </a:lnTo>
                    <a:lnTo>
                      <a:pt x="37" y="8"/>
                    </a:lnTo>
                    <a:lnTo>
                      <a:pt x="29" y="15"/>
                    </a:lnTo>
                    <a:lnTo>
                      <a:pt x="21" y="21"/>
                    </a:lnTo>
                    <a:lnTo>
                      <a:pt x="15" y="30"/>
                    </a:lnTo>
                    <a:lnTo>
                      <a:pt x="8" y="38"/>
                    </a:lnTo>
                    <a:lnTo>
                      <a:pt x="4" y="49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2" y="82"/>
                    </a:lnTo>
                    <a:lnTo>
                      <a:pt x="4" y="93"/>
                    </a:lnTo>
                    <a:lnTo>
                      <a:pt x="8" y="103"/>
                    </a:lnTo>
                    <a:lnTo>
                      <a:pt x="15" y="112"/>
                    </a:lnTo>
                    <a:lnTo>
                      <a:pt x="21" y="120"/>
                    </a:lnTo>
                    <a:lnTo>
                      <a:pt x="29" y="127"/>
                    </a:lnTo>
                    <a:lnTo>
                      <a:pt x="37" y="133"/>
                    </a:lnTo>
                    <a:lnTo>
                      <a:pt x="47" y="137"/>
                    </a:lnTo>
                    <a:lnTo>
                      <a:pt x="57" y="139"/>
                    </a:lnTo>
                    <a:lnTo>
                      <a:pt x="68" y="139"/>
                    </a:lnTo>
                    <a:lnTo>
                      <a:pt x="68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4200" y="4917600"/>
                <a:ext cx="1663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0532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8956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360" y="3684240"/>
                <a:ext cx="1800" cy="147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27240" y="3692880"/>
                <a:ext cx="6120" cy="20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297440" y="5517000"/>
                <a:ext cx="349920" cy="24768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164" y="0"/>
                    </a:moveTo>
                    <a:lnTo>
                      <a:pt x="164" y="59"/>
                    </a:lnTo>
                    <a:lnTo>
                      <a:pt x="0" y="59"/>
                    </a:lnTo>
                    <a:lnTo>
                      <a:pt x="0" y="1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920" y="1994400"/>
                <a:ext cx="541440" cy="4292640"/>
              </a:xfrm>
              <a:custGeom>
                <a:avLst/>
                <a:gdLst/>
                <a:ahLst/>
                <a:rect l="l" t="t" r="r" b="b"/>
                <a:pathLst>
                  <a:path w="254" h="2012">
                    <a:moveTo>
                      <a:pt x="254" y="1920"/>
                    </a:moveTo>
                    <a:lnTo>
                      <a:pt x="254" y="2012"/>
                    </a:lnTo>
                    <a:lnTo>
                      <a:pt x="0" y="20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27400" y="533808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" y="32"/>
                    </a:lnTo>
                    <a:lnTo>
                      <a:pt x="31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9600" y="1621080"/>
                <a:ext cx="2539440" cy="3753360"/>
              </a:xfrm>
              <a:custGeom>
                <a:avLst/>
                <a:gdLst/>
                <a:ahLst/>
                <a:rect l="l" t="t" r="r" b="b"/>
                <a:pathLst>
                  <a:path w="1191" h="1759">
                    <a:moveTo>
                      <a:pt x="1191" y="0"/>
                    </a:moveTo>
                    <a:lnTo>
                      <a:pt x="1191" y="188"/>
                    </a:lnTo>
                    <a:lnTo>
                      <a:pt x="0" y="188"/>
                    </a:lnTo>
                    <a:lnTo>
                      <a:pt x="0" y="1759"/>
                    </a:lnTo>
                    <a:lnTo>
                      <a:pt x="282" y="1759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17560" y="3692880"/>
                <a:ext cx="1588320" cy="1828440"/>
              </a:xfrm>
              <a:custGeom>
                <a:avLst/>
                <a:gdLst/>
                <a:ahLst/>
                <a:rect l="l" t="t" r="r" b="b"/>
                <a:pathLst>
                  <a:path w="745" h="857">
                    <a:moveTo>
                      <a:pt x="0" y="0"/>
                    </a:moveTo>
                    <a:lnTo>
                      <a:pt x="0" y="792"/>
                    </a:lnTo>
                    <a:lnTo>
                      <a:pt x="745" y="792"/>
                    </a:lnTo>
                    <a:lnTo>
                      <a:pt x="745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91720" y="1981440"/>
                <a:ext cx="3753000" cy="4297320"/>
              </a:xfrm>
              <a:custGeom>
                <a:avLst/>
                <a:gdLst/>
                <a:ahLst/>
                <a:rect l="l" t="t" r="r" b="b"/>
                <a:pathLst>
                  <a:path w="1760" h="2014">
                    <a:moveTo>
                      <a:pt x="1760" y="0"/>
                    </a:moveTo>
                    <a:lnTo>
                      <a:pt x="1760" y="2014"/>
                    </a:lnTo>
                    <a:lnTo>
                      <a:pt x="0" y="2014"/>
                    </a:lnTo>
                    <a:lnTo>
                      <a:pt x="0" y="18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40520" y="4932720"/>
                <a:ext cx="16416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884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655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64440" y="2497680"/>
                <a:ext cx="66240" cy="72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0" y="34"/>
                    </a:lnTo>
                    <a:lnTo>
                      <a:pt x="31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34280" y="28011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9"/>
                    </a:moveTo>
                    <a:lnTo>
                      <a:pt x="31" y="32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34280" y="4721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0"/>
                    </a:lnTo>
                    <a:lnTo>
                      <a:pt x="16" y="3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364160" y="2845800"/>
                <a:ext cx="4320" cy="18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8520" y="362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98440" y="3622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94560" y="362232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18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9736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1600" y="3797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9400" y="3797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66920" y="3797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97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80320" y="3797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35000" y="25045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8" y="29"/>
                    </a:moveTo>
                    <a:lnTo>
                      <a:pt x="30" y="0"/>
                    </a:lnTo>
                    <a:lnTo>
                      <a:pt x="0" y="14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96040" y="2497680"/>
                <a:ext cx="63720" cy="723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0" y="34"/>
                    </a:lnTo>
                    <a:lnTo>
                      <a:pt x="30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380600" y="250452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29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27400" y="2534040"/>
                <a:ext cx="445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90800" y="2534040"/>
                <a:ext cx="5222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1876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5008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07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6232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0244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391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69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5332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14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56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912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62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1548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514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885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310640" y="1621080"/>
                <a:ext cx="3603960" cy="4113720"/>
              </a:xfrm>
              <a:custGeom>
                <a:avLst/>
                <a:gdLst/>
                <a:ahLst/>
                <a:rect l="l" t="t" r="r" b="b"/>
                <a:pathLst>
                  <a:path w="1690" h="1928">
                    <a:moveTo>
                      <a:pt x="310" y="1926"/>
                    </a:moveTo>
                    <a:lnTo>
                      <a:pt x="1690" y="1928"/>
                    </a:lnTo>
                    <a:lnTo>
                      <a:pt x="1690" y="304"/>
                    </a:lnTo>
                    <a:lnTo>
                      <a:pt x="0" y="304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14000" y="5581440"/>
                <a:ext cx="957240" cy="300240"/>
              </a:xfrm>
              <a:custGeom>
                <a:avLst/>
                <a:gdLst/>
                <a:ahLst/>
                <a:rect l="l" t="t" r="r" b="b"/>
                <a:pathLst>
                  <a:path w="449" h="141">
                    <a:moveTo>
                      <a:pt x="67" y="139"/>
                    </a:moveTo>
                    <a:lnTo>
                      <a:pt x="57" y="139"/>
                    </a:lnTo>
                    <a:lnTo>
                      <a:pt x="47" y="137"/>
                    </a:lnTo>
                    <a:lnTo>
                      <a:pt x="36" y="133"/>
                    </a:lnTo>
                    <a:lnTo>
                      <a:pt x="28" y="127"/>
                    </a:lnTo>
                    <a:lnTo>
                      <a:pt x="20" y="120"/>
                    </a:lnTo>
                    <a:lnTo>
                      <a:pt x="12" y="112"/>
                    </a:lnTo>
                    <a:lnTo>
                      <a:pt x="8" y="103"/>
                    </a:lnTo>
                    <a:lnTo>
                      <a:pt x="4" y="9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8"/>
                    </a:lnTo>
                    <a:lnTo>
                      <a:pt x="8" y="38"/>
                    </a:lnTo>
                    <a:lnTo>
                      <a:pt x="12" y="29"/>
                    </a:lnTo>
                    <a:lnTo>
                      <a:pt x="20" y="21"/>
                    </a:lnTo>
                    <a:lnTo>
                      <a:pt x="28" y="15"/>
                    </a:lnTo>
                    <a:lnTo>
                      <a:pt x="36" y="8"/>
                    </a:lnTo>
                    <a:lnTo>
                      <a:pt x="47" y="4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382" y="0"/>
                    </a:lnTo>
                    <a:lnTo>
                      <a:pt x="394" y="2"/>
                    </a:lnTo>
                    <a:lnTo>
                      <a:pt x="404" y="4"/>
                    </a:lnTo>
                    <a:lnTo>
                      <a:pt x="415" y="8"/>
                    </a:lnTo>
                    <a:lnTo>
                      <a:pt x="423" y="15"/>
                    </a:lnTo>
                    <a:lnTo>
                      <a:pt x="431" y="21"/>
                    </a:lnTo>
                    <a:lnTo>
                      <a:pt x="437" y="29"/>
                    </a:lnTo>
                    <a:lnTo>
                      <a:pt x="443" y="38"/>
                    </a:lnTo>
                    <a:lnTo>
                      <a:pt x="447" y="48"/>
                    </a:lnTo>
                    <a:lnTo>
                      <a:pt x="449" y="59"/>
                    </a:lnTo>
                    <a:lnTo>
                      <a:pt x="449" y="72"/>
                    </a:lnTo>
                    <a:lnTo>
                      <a:pt x="449" y="82"/>
                    </a:lnTo>
                    <a:lnTo>
                      <a:pt x="447" y="93"/>
                    </a:lnTo>
                    <a:lnTo>
                      <a:pt x="443" y="103"/>
                    </a:lnTo>
                    <a:lnTo>
                      <a:pt x="437" y="112"/>
                    </a:lnTo>
                    <a:lnTo>
                      <a:pt x="431" y="120"/>
                    </a:lnTo>
                    <a:lnTo>
                      <a:pt x="423" y="127"/>
                    </a:lnTo>
                    <a:lnTo>
                      <a:pt x="415" y="133"/>
                    </a:lnTo>
                    <a:lnTo>
                      <a:pt x="404" y="137"/>
                    </a:lnTo>
                    <a:lnTo>
                      <a:pt x="394" y="139"/>
                    </a:lnTo>
                    <a:lnTo>
                      <a:pt x="382" y="141"/>
                    </a:lnTo>
                    <a:lnTo>
                      <a:pt x="67" y="141"/>
                    </a:lnTo>
                    <a:lnTo>
                      <a:pt x="67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2120" y="5636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78760" y="563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63000" y="5636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22560" y="366084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4" y="30"/>
                    </a:moveTo>
                    <a:lnTo>
                      <a:pt x="18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9280" y="4932720"/>
                <a:ext cx="1699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179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93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46640" y="366084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0"/>
                    </a:moveTo>
                    <a:lnTo>
                      <a:pt x="16" y="32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8200" y="3692880"/>
                <a:ext cx="684000" cy="1828440"/>
              </a:xfrm>
              <a:custGeom>
                <a:avLst/>
                <a:gdLst/>
                <a:ahLst/>
                <a:rect l="l" t="t" r="r" b="b"/>
                <a:pathLst>
                  <a:path w="321" h="857">
                    <a:moveTo>
                      <a:pt x="321" y="0"/>
                    </a:moveTo>
                    <a:lnTo>
                      <a:pt x="321" y="699"/>
                    </a:lnTo>
                    <a:lnTo>
                      <a:pt x="0" y="699"/>
                    </a:lnTo>
                    <a:lnTo>
                      <a:pt x="0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9336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391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212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5760" y="366084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80080" y="3692880"/>
                <a:ext cx="1827360" cy="1824120"/>
              </a:xfrm>
              <a:custGeom>
                <a:avLst/>
                <a:gdLst/>
                <a:ahLst/>
                <a:rect l="l" t="t" r="r" b="b"/>
                <a:pathLst>
                  <a:path w="857" h="855">
                    <a:moveTo>
                      <a:pt x="855" y="0"/>
                    </a:moveTo>
                    <a:lnTo>
                      <a:pt x="857" y="792"/>
                    </a:lnTo>
                    <a:lnTo>
                      <a:pt x="0" y="792"/>
                    </a:lnTo>
                    <a:lnTo>
                      <a:pt x="0" y="85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2428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718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7496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17420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6608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57960" y="55044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50200" y="550440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231800" y="1767960"/>
                <a:ext cx="16848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401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11080" y="6022800"/>
                <a:ext cx="163800" cy="10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5328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3752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60320" y="2058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157160" y="2058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931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7056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4400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19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566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36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81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190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935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096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6288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104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798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619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422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51240" y="18068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4160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1864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52800" y="3692880"/>
                <a:ext cx="443160" cy="1824120"/>
              </a:xfrm>
              <a:custGeom>
                <a:avLst/>
                <a:gdLst/>
                <a:ahLst/>
                <a:rect l="l" t="t" r="r" b="b"/>
                <a:pathLst>
                  <a:path w="208" h="855">
                    <a:moveTo>
                      <a:pt x="208" y="855"/>
                    </a:moveTo>
                    <a:lnTo>
                      <a:pt x="208" y="699"/>
                    </a:lnTo>
                    <a:lnTo>
                      <a:pt x="0" y="699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131040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1969560" y="2813760"/>
                <a:ext cx="360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28464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461988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5943960" y="2813760"/>
                <a:ext cx="216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158480" y="29995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158480" y="319788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158480" y="339624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158480" y="359460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158480" y="379296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158480" y="399564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158480" y="419220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158480" y="439056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158480" y="45889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8040" y="5342400"/>
                <a:ext cx="9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8040" y="5387040"/>
                <a:ext cx="9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24720" y="1390680"/>
                <a:ext cx="1595160" cy="219600"/>
              </a:xfrm>
              <a:custGeom>
                <a:avLst/>
                <a:gdLst/>
                <a:ahLst/>
                <a:rect l="l" t="t" r="r" b="b"/>
                <a:pathLst>
                  <a:path w="748" h="103">
                    <a:moveTo>
                      <a:pt x="0" y="103"/>
                    </a:moveTo>
                    <a:lnTo>
                      <a:pt x="0" y="0"/>
                    </a:lnTo>
                    <a:lnTo>
                      <a:pt x="748" y="0"/>
                    </a:lnTo>
                    <a:lnTo>
                      <a:pt x="748" y="10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98640" y="1386360"/>
                <a:ext cx="18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199760" y="1386360"/>
                <a:ext cx="612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1080" y="1386360"/>
                <a:ext cx="36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6720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496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24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304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0372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41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38076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342216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596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91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975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818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6244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01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89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948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6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801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949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140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7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4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37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21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57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329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629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63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426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44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51160" y="1260360"/>
              <a:ext cx="29160" cy="25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86640" y="1260360"/>
              <a:ext cx="27360" cy="25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7844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94840" y="1260360"/>
              <a:ext cx="32400" cy="25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0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conhecida como copy-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 write-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abilidade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. paralelo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s vs. Misses (política de atualização ou escri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ura da comunicação Mem - Cache –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1600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8872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326200"/>
            <a:ext cx="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10600" y="5487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9000" y="548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56760" y="5487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4200" y="5487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77760" y="1357200"/>
            <a:ext cx="1423440" cy="4344120"/>
            <a:chOff x="977760" y="1357200"/>
            <a:chExt cx="1423440" cy="4344120"/>
          </a:xfrm>
        </p:grpSpPr>
        <p:sp>
          <p:nvSpPr>
            <p:cNvPr id="1023" name=""/>
            <p:cNvSpPr/>
            <p:nvPr/>
          </p:nvSpPr>
          <p:spPr>
            <a:xfrm>
              <a:off x="1055520" y="1357200"/>
              <a:ext cx="6224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6" y="14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984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8120" y="1428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812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77760" y="1685880"/>
              <a:ext cx="7779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77760" y="186228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084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67328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55520" y="2011320"/>
              <a:ext cx="622440" cy="62064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5400" y="223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584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520" y="2239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020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9796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7760" y="2647800"/>
              <a:ext cx="777960" cy="1288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77760" y="313704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50840" y="275256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673280" y="275220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45240" y="2874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2440" y="28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15160" y="287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  <a:lnTo>
                    <a:pt x="286" y="861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2716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391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724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35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5880" y="4132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1960" y="413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94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3112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6748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04560" y="5326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122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921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7420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89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2648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0172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449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456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835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4680" y="532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5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332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04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8376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71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7420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18480" y="5487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9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26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424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032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5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029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5487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266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1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81400" y="5487840"/>
            <a:ext cx="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50840" y="565452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346480" y="1357200"/>
            <a:ext cx="2830320" cy="2942640"/>
            <a:chOff x="2346480" y="1357200"/>
            <a:chExt cx="2830320" cy="2942640"/>
          </a:xfrm>
        </p:grpSpPr>
        <p:sp>
          <p:nvSpPr>
            <p:cNvPr id="1085" name=""/>
            <p:cNvSpPr/>
            <p:nvPr/>
          </p:nvSpPr>
          <p:spPr>
            <a:xfrm>
              <a:off x="3452760" y="1357200"/>
              <a:ext cx="6206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3384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2120" y="1433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2572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75000" y="168588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59"/>
                  </a:moveTo>
                  <a:lnTo>
                    <a:pt x="180" y="0"/>
                  </a:lnTo>
                  <a:lnTo>
                    <a:pt x="360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5000" y="186696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52760" y="178920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73400" y="1789200"/>
              <a:ext cx="3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21080" y="2011320"/>
              <a:ext cx="2482560" cy="20808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719" y="0"/>
                  </a:moveTo>
                  <a:lnTo>
                    <a:pt x="431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6480" y="2652840"/>
              <a:ext cx="2830320" cy="126720"/>
            </a:xfrm>
            <a:custGeom>
              <a:avLst/>
              <a:gdLst/>
              <a:ahLst/>
              <a:rect l="l" t="t" r="r" b="b"/>
              <a:pathLst>
                <a:path w="1311" h="59">
                  <a:moveTo>
                    <a:pt x="0" y="57"/>
                  </a:moveTo>
                  <a:lnTo>
                    <a:pt x="656" y="0"/>
                  </a:lnTo>
                  <a:lnTo>
                    <a:pt x="131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6480" y="3141720"/>
              <a:ext cx="2830320" cy="131760"/>
            </a:xfrm>
            <a:custGeom>
              <a:avLst/>
              <a:gdLst/>
              <a:ahLst/>
              <a:rect l="l" t="t" r="r" b="b"/>
              <a:pathLst>
                <a:path w="1311" h="61">
                  <a:moveTo>
                    <a:pt x="0" y="0"/>
                  </a:moveTo>
                  <a:lnTo>
                    <a:pt x="656" y="61"/>
                  </a:lnTo>
                  <a:lnTo>
                    <a:pt x="13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21080" y="2763720"/>
              <a:ext cx="288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003640" y="2763720"/>
              <a:ext cx="32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6440" y="287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36800" y="287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1680" y="287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  <a:lnTo>
                    <a:pt x="1150" y="286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03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948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26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4800" y="4086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0152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3068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4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851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26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7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5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0596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5276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260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60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852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83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587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3652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11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488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1580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85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27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0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2224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80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268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004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3516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080" y="3516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31880" y="2023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460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2160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4360" y="20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92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22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0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30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8520" y="20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44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2880" y="20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21080" y="2424240"/>
              <a:ext cx="2482560" cy="20772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1150" y="9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115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733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7056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9040" y="2449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564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9340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1080" y="2238480"/>
              <a:ext cx="566640" cy="41040"/>
            </a:xfrm>
            <a:custGeom>
              <a:avLst/>
              <a:gdLst/>
              <a:ahLst/>
              <a:rect l="l" t="t" r="r" b="b"/>
              <a:pathLst>
                <a:path w="262" h="19">
                  <a:moveTo>
                    <a:pt x="0" y="19"/>
                  </a:moveTo>
                  <a:lnTo>
                    <a:pt x="132" y="0"/>
                  </a:lnTo>
                  <a:lnTo>
                    <a:pt x="262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21080" y="2363760"/>
              <a:ext cx="566640" cy="44640"/>
            </a:xfrm>
            <a:custGeom>
              <a:avLst/>
              <a:gdLst/>
              <a:ahLst/>
              <a:rect l="l" t="t" r="r" b="b"/>
              <a:pathLst>
                <a:path w="262" h="21">
                  <a:moveTo>
                    <a:pt x="0" y="0"/>
                  </a:moveTo>
                  <a:lnTo>
                    <a:pt x="132" y="21"/>
                  </a:lnTo>
                  <a:lnTo>
                    <a:pt x="26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5080" y="2273400"/>
              <a:ext cx="468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030480" y="2274480"/>
              <a:ext cx="46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3232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3232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91000" y="2273400"/>
              <a:ext cx="1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946760" y="22744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9000" y="2238480"/>
              <a:ext cx="57168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2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59000" y="2363760"/>
              <a:ext cx="57168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2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13000" y="2273400"/>
              <a:ext cx="3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6876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584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584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54520" y="2273400"/>
              <a:ext cx="1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0848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232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9932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678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328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780880" y="1351080"/>
            <a:ext cx="2640960" cy="2940840"/>
            <a:chOff x="5780880" y="1351080"/>
            <a:chExt cx="2640960" cy="2940840"/>
          </a:xfrm>
        </p:grpSpPr>
        <p:sp>
          <p:nvSpPr>
            <p:cNvPr id="1174" name=""/>
            <p:cNvSpPr/>
            <p:nvPr/>
          </p:nvSpPr>
          <p:spPr>
            <a:xfrm>
              <a:off x="6792840" y="1351080"/>
              <a:ext cx="620640" cy="307800"/>
            </a:xfrm>
            <a:custGeom>
              <a:avLst/>
              <a:gdLst/>
              <a:ahLst/>
              <a:rect l="l" t="t" r="r" b="b"/>
              <a:pathLst>
                <a:path w="288" h="143">
                  <a:moveTo>
                    <a:pt x="288" y="143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88" y="143"/>
                  </a:lnTo>
                  <a:lnTo>
                    <a:pt x="288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7392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76880" y="1424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7156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15080" y="1676520"/>
              <a:ext cx="776160" cy="1285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15080" y="185904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92840" y="1781280"/>
              <a:ext cx="180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413480" y="1781280"/>
              <a:ext cx="3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92840" y="2003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6680" y="2232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1676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89120" y="22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3420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15080" y="2644920"/>
              <a:ext cx="776160" cy="1267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7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313200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92840" y="2743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13480" y="2747880"/>
              <a:ext cx="32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6520" y="287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77240" y="28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5720" y="287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257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430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179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324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134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573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63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34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96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8816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587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5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9748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44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3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042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12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2804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0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58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3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4574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272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654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70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7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6580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6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5660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019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03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772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54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3204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033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00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5324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772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465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588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3592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8092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849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05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38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28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26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0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8088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5216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88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2524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637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41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77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5888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03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2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11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849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55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364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96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668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3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4180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51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04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761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478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845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590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0980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2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613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35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6864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5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176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51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03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59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973240" y="4876920"/>
            <a:ext cx="516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ende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locks para ler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uma palavra de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da cache com 4 palav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da miss penalty vs largura comuni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palavra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4*15 + 4*1 = 65 ciclos (miss penal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65 = 0,25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s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2*15 + 2*1 = 33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33 = 0,4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ro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1*1 = 17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17 = 0,94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: multiplexador de 128 bits de largura e atra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do com uma palavra de largura mas 4 bancos de memória interleaved (intercala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 de leitura das memórias é paralelizado (ou superpost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comum:endereço bits mais 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4*1 = 20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20 = 0,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iona bem também em escrita (4 escritas simultânea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 para caches com writ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89440" y="3809880"/>
            <a:ext cx="4281840" cy="2209680"/>
            <a:chOff x="289440" y="3809880"/>
            <a:chExt cx="4281840" cy="2209680"/>
          </a:xfrm>
        </p:grpSpPr>
        <p:grpSp>
          <p:nvGrpSpPr>
            <p:cNvPr id="47" name=""/>
            <p:cNvGrpSpPr/>
            <p:nvPr/>
          </p:nvGrpSpPr>
          <p:grpSpPr>
            <a:xfrm>
              <a:off x="2209680" y="4952880"/>
              <a:ext cx="456840" cy="1066680"/>
              <a:chOff x="2209680" y="4952880"/>
              <a:chExt cx="456840" cy="1066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2209680" y="4952880"/>
                <a:ext cx="412560" cy="380880"/>
                <a:chOff x="2209680" y="4952880"/>
                <a:chExt cx="412560" cy="380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09680" y="49528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09680" y="49528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209680" y="51811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514240" y="51051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253960" y="5638680"/>
                <a:ext cx="412560" cy="380880"/>
                <a:chOff x="2253960" y="5638680"/>
                <a:chExt cx="412560" cy="380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666520" y="56386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361960" y="56386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2361960" y="58669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253960" y="57909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25909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1800" y="51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52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523520" y="5181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828800" y="5867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1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1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19320" y="4876560"/>
              <a:ext cx="304560" cy="304560"/>
              <a:chOff x="1219320" y="4876560"/>
              <a:chExt cx="304560" cy="3045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2388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21932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21932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1932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371600" y="41148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373356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42900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2900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37339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1600" y="44956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440" y="4887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4800" y="4876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487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960" y="3809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00600" y="3857760"/>
            <a:ext cx="3622320" cy="2087280"/>
            <a:chOff x="4800600" y="3857760"/>
            <a:chExt cx="3622320" cy="2087280"/>
          </a:xfrm>
        </p:grpSpPr>
        <p:sp>
          <p:nvSpPr>
            <p:cNvPr id="84" name=""/>
            <p:cNvSpPr/>
            <p:nvPr/>
          </p:nvSpPr>
          <p:spPr>
            <a:xfrm flipH="1">
              <a:off x="4895280" y="4178160"/>
              <a:ext cx="3527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18080" y="3884760"/>
              <a:ext cx="1800" cy="20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5840" y="4132080"/>
              <a:ext cx="53640" cy="9396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17" y="59"/>
                  </a:moveTo>
                  <a:lnTo>
                    <a:pt x="19" y="59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1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9640" y="464184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18" y="59"/>
                  </a:moveTo>
                  <a:lnTo>
                    <a:pt x="20" y="63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62840" y="4178160"/>
              <a:ext cx="1440" cy="2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7240" y="4471920"/>
              <a:ext cx="51084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322"/>
                  </a:moveTo>
                  <a:lnTo>
                    <a:pt x="0" y="137"/>
                  </a:lnTo>
                  <a:lnTo>
                    <a:pt x="90" y="137"/>
                  </a:lnTo>
                  <a:lnTo>
                    <a:pt x="90" y="0"/>
                  </a:lnTo>
                  <a:lnTo>
                    <a:pt x="232" y="0"/>
                  </a:lnTo>
                  <a:lnTo>
                    <a:pt x="232" y="137"/>
                  </a:lnTo>
                  <a:lnTo>
                    <a:pt x="322" y="1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07240" y="5087880"/>
              <a:ext cx="144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23000" y="4983120"/>
              <a:ext cx="169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3000" y="5081400"/>
              <a:ext cx="169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280" y="5281560"/>
              <a:ext cx="84240" cy="298440"/>
            </a:xfrm>
            <a:custGeom>
              <a:avLst/>
              <a:gdLst/>
              <a:ahLst/>
              <a:rect l="l" t="t" r="r" b="b"/>
              <a:pathLst>
                <a:path w="53" h="188">
                  <a:moveTo>
                    <a:pt x="51" y="0"/>
                  </a:moveTo>
                  <a:lnTo>
                    <a:pt x="25" y="188"/>
                  </a:lnTo>
                  <a:lnTo>
                    <a:pt x="0" y="4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360" y="4861080"/>
              <a:ext cx="1000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8280" y="4390920"/>
              <a:ext cx="1448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 transis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3857760"/>
              <a:ext cx="99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920" y="5622840"/>
              <a:ext cx="75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it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2360" y="6245280"/>
            <a:ext cx="413388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 arquivo: revisão de conceitos de memór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aproximado da eficiência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480" y="948240"/>
            <a:ext cx="59515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acesso médio = estágio mais ráp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dois níve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2 (M2+miss penal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médiode acesso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eficiência do sistema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(1-H)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H + (1-H) * r = 1/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1 / [ r + H * (1-r)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086600" y="1219320"/>
            <a:ext cx="1125720" cy="1371600"/>
            <a:chOff x="7086600" y="1219320"/>
            <a:chExt cx="1125720" cy="1371600"/>
          </a:xfrm>
        </p:grpSpPr>
        <p:sp>
          <p:nvSpPr>
            <p:cNvPr id="1291" name=""/>
            <p:cNvSpPr/>
            <p:nvPr/>
          </p:nvSpPr>
          <p:spPr>
            <a:xfrm>
              <a:off x="7086600" y="12193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86600" y="21337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786080" y="12952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86080" y="213372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352680" y="3483000"/>
            <a:ext cx="5829480" cy="33307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1166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4929480"/>
            <a:ext cx="83430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block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0720" y="774720"/>
            <a:ext cx="5371200" cy="3988080"/>
            <a:chOff x="990720" y="774720"/>
            <a:chExt cx="5371200" cy="3988080"/>
          </a:xfrm>
        </p:grpSpPr>
        <p:sp>
          <p:nvSpPr>
            <p:cNvPr id="1302" name=""/>
            <p:cNvSpPr/>
            <p:nvPr/>
          </p:nvSpPr>
          <p:spPr>
            <a:xfrm>
              <a:off x="1875600" y="1007640"/>
              <a:ext cx="4372560" cy="1219320"/>
            </a:xfrm>
            <a:custGeom>
              <a:avLst/>
              <a:gdLst/>
              <a:ahLst/>
              <a:rect l="l" t="t" r="r" b="b"/>
              <a:pathLst>
                <a:path w="1971" h="549">
                  <a:moveTo>
                    <a:pt x="0" y="0"/>
                  </a:moveTo>
                  <a:lnTo>
                    <a:pt x="657" y="448"/>
                  </a:lnTo>
                  <a:lnTo>
                    <a:pt x="1314" y="549"/>
                  </a:lnTo>
                  <a:lnTo>
                    <a:pt x="1971" y="30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75600" y="2687400"/>
              <a:ext cx="4372560" cy="412920"/>
            </a:xfrm>
            <a:custGeom>
              <a:avLst/>
              <a:gdLst/>
              <a:ahLst/>
              <a:rect l="l" t="t" r="r" b="b"/>
              <a:pathLst>
                <a:path w="1971" h="186">
                  <a:moveTo>
                    <a:pt x="0" y="0"/>
                  </a:moveTo>
                  <a:lnTo>
                    <a:pt x="657" y="149"/>
                  </a:lnTo>
                  <a:lnTo>
                    <a:pt x="1314" y="186"/>
                  </a:lnTo>
                  <a:lnTo>
                    <a:pt x="1971" y="1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0" y="3249360"/>
              <a:ext cx="4372560" cy="130680"/>
            </a:xfrm>
            <a:custGeom>
              <a:avLst/>
              <a:gdLst/>
              <a:ahLst/>
              <a:rect l="l" t="t" r="r" b="b"/>
              <a:pathLst>
                <a:path w="1971" h="59">
                  <a:moveTo>
                    <a:pt x="0" y="0"/>
                  </a:moveTo>
                  <a:lnTo>
                    <a:pt x="657" y="49"/>
                  </a:lnTo>
                  <a:lnTo>
                    <a:pt x="1314" y="57"/>
                  </a:lnTo>
                  <a:lnTo>
                    <a:pt x="1971" y="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83720" y="3315960"/>
              <a:ext cx="126000" cy="1288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725720" y="3311280"/>
              <a:ext cx="128520" cy="1288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8" y="29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68440" y="3295800"/>
              <a:ext cx="128520" cy="1224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6" y="26"/>
                  </a:moveTo>
                  <a:lnTo>
                    <a:pt x="29" y="0"/>
                  </a:lnTo>
                  <a:lnTo>
                    <a:pt x="0" y="26"/>
                  </a:lnTo>
                  <a:lnTo>
                    <a:pt x="29" y="5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3184920"/>
              <a:ext cx="128520" cy="126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7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8000" y="4595400"/>
              <a:ext cx="124200" cy="1242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7" y="56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01360" y="299412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5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48400" y="30578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3" y="40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31680" y="41954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39"/>
                  </a:moveTo>
                  <a:lnTo>
                    <a:pt x="23" y="40"/>
                  </a:lnTo>
                  <a:lnTo>
                    <a:pt x="27" y="39"/>
                  </a:lnTo>
                  <a:lnTo>
                    <a:pt x="29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90760" y="29714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3120" y="26449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38"/>
                  </a:moveTo>
                  <a:lnTo>
                    <a:pt x="23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6040" y="1636560"/>
              <a:ext cx="88200" cy="91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8" y="4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48400" y="2184840"/>
              <a:ext cx="88200" cy="864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8" y="39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27000" y="3780360"/>
              <a:ext cx="88200" cy="838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38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33120" y="9655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0760" y="19562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61640" y="372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1560" y="372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720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7944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68720" y="37270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61640" y="3939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41560" y="393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7720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7944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8720" y="39398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164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4156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0" y="415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6180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5684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52960" y="41511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6164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156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16800" y="436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6180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5684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52960" y="43668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16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4156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1680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1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3740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3244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18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93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758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664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20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24520" y="7747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664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20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24520" y="1099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664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20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24520" y="141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664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20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4520" y="17366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664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20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4520" y="2058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664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0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520" y="23785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664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20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4520" y="2696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53240" y="301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31000" y="3016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3240" y="333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31000" y="3336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1018440" y="2254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6200000">
              <a:off x="1064880" y="2187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6200000">
              <a:off x="1043640" y="213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6200000">
              <a:off x="1050120" y="20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6200000">
              <a:off x="1068480" y="200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1064880" y="196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1038960" y="189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1066680" y="184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1047240" y="177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5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80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324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2316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280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4680" y="3711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122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4284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1916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15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316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03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740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0428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52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404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616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4188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17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020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80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079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7740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42120" y="234252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40320" y="3995280"/>
              <a:ext cx="68760" cy="68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3" y="31"/>
                  </a:moveTo>
                  <a:lnTo>
                    <a:pt x="17" y="31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875600" y="2376360"/>
              <a:ext cx="2914560" cy="565920"/>
            </a:xfrm>
            <a:custGeom>
              <a:avLst/>
              <a:gdLst/>
              <a:ahLst/>
              <a:rect l="l" t="t" r="r" b="b"/>
              <a:pathLst>
                <a:path w="1314" h="255">
                  <a:moveTo>
                    <a:pt x="0" y="0"/>
                  </a:moveTo>
                  <a:lnTo>
                    <a:pt x="657" y="178"/>
                  </a:lnTo>
                  <a:lnTo>
                    <a:pt x="1314" y="2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875600" y="3078000"/>
              <a:ext cx="4372560" cy="217440"/>
            </a:xfrm>
            <a:custGeom>
              <a:avLst/>
              <a:gdLst/>
              <a:ahLst/>
              <a:rect l="l" t="t" r="r" b="b"/>
              <a:pathLst>
                <a:path w="1971" h="98">
                  <a:moveTo>
                    <a:pt x="1971" y="98"/>
                  </a:moveTo>
                  <a:lnTo>
                    <a:pt x="1314" y="98"/>
                  </a:lnTo>
                  <a:lnTo>
                    <a:pt x="657" y="7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99760" y="273816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57040" y="2909520"/>
              <a:ext cx="70920" cy="662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12520" y="2878200"/>
              <a:ext cx="68760" cy="73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24480" y="3027240"/>
              <a:ext cx="10152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22680" y="439092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1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82120" y="319356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940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5"/>
                  </a:lnTo>
                  <a:lnTo>
                    <a:pt x="23" y="46"/>
                  </a:lnTo>
                  <a:lnTo>
                    <a:pt x="46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9704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611000" y="117468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611000" y="181620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611000" y="245412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11000" y="309564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016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3288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1360" y="854640"/>
              <a:ext cx="4636800" cy="2558880"/>
            </a:xfrm>
            <a:custGeom>
              <a:avLst/>
              <a:gdLst/>
              <a:ahLst/>
              <a:rect l="l" t="t" r="r" b="b"/>
              <a:pathLst>
                <a:path w="2090" h="1152">
                  <a:moveTo>
                    <a:pt x="2090" y="1120"/>
                  </a:moveTo>
                  <a:lnTo>
                    <a:pt x="2090" y="1152"/>
                  </a:lnTo>
                  <a:lnTo>
                    <a:pt x="0" y="11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75600" y="3342600"/>
              <a:ext cx="180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09200" y="8524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9200" y="1496520"/>
              <a:ext cx="46386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09200" y="21340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09200" y="2772000"/>
              <a:ext cx="4638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790160" y="2911320"/>
              <a:ext cx="145764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1066680" y="5272200"/>
          <a:ext cx="703764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72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"/>
          <p:cNvSpPr/>
          <p:nvPr/>
        </p:nvSpPr>
        <p:spPr>
          <a:xfrm>
            <a:off x="304920" y="38098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2440" y="342576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" y="411480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s local. espa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238160" y="373392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92600" y="333684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388620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ragmentação in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nos blo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l cycles = RD + WR stal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 stall cycles = # of RD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penal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 stall cycles = # of W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penalty (mais complicado do que ist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pag 565 - 5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20120" y="1334520"/>
            <a:ext cx="799812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instruction miss ratio = 2%; data cache miss rate = 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2 (sem stalls de mem); miss penalty = 4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misses cycles = I * 2% * 40 = 0.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endo que lw+sw= 3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iss cycles = I * 36% * 4% * 40 = 0.5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de stalls de mem = 0.8 I + 0.58 I = 1.3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total = 2 + 1.38 = 3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de velocidades com ou sem mem stalls = rel de C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8 / 2 = 1.69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elhorássemos a arquitetura (CPI) sem afetar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= 2.38 / 1 = 2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negativo da memória aumenta (Lei de Amdh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exemplo da pag 567: aumento do clock tem efeito semelh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428400" y="1471680"/>
            <a:ext cx="8181360" cy="3600000"/>
            <a:chOff x="428400" y="1471680"/>
            <a:chExt cx="8181360" cy="3600000"/>
          </a:xfrm>
        </p:grpSpPr>
        <p:grpSp>
          <p:nvGrpSpPr>
            <p:cNvPr id="1448" name=""/>
            <p:cNvGrpSpPr/>
            <p:nvPr/>
          </p:nvGrpSpPr>
          <p:grpSpPr>
            <a:xfrm>
              <a:off x="428400" y="1471680"/>
              <a:ext cx="8181360" cy="3599640"/>
              <a:chOff x="428400" y="1471680"/>
              <a:chExt cx="8181360" cy="3599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43650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6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6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44720" y="2112480"/>
                <a:ext cx="183960" cy="1444320"/>
              </a:xfrm>
              <a:custGeom>
                <a:avLst/>
                <a:gdLst/>
                <a:ahLst/>
                <a:rect l="l" t="t" r="r" b="b"/>
                <a:pathLst>
                  <a:path w="98" h="768">
                    <a:moveTo>
                      <a:pt x="95" y="765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8" y="768"/>
                    </a:lnTo>
                    <a:lnTo>
                      <a:pt x="98" y="768"/>
                    </a:lnTo>
                    <a:lnTo>
                      <a:pt x="95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314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2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2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612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649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612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08880" y="3989880"/>
                <a:ext cx="1444320" cy="722520"/>
              </a:xfrm>
              <a:custGeom>
                <a:avLst/>
                <a:gdLst/>
                <a:ahLst/>
                <a:rect l="l" t="t" r="r" b="b"/>
                <a:pathLst>
                  <a:path w="768" h="384">
                    <a:moveTo>
                      <a:pt x="765" y="381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8" y="384"/>
                    </a:lnTo>
                    <a:lnTo>
                      <a:pt x="768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2648160" y="3989880"/>
                <a:ext cx="540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692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906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04200" y="3984120"/>
                <a:ext cx="75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2564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74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6852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3820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034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24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79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9835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208880" y="2112480"/>
                <a:ext cx="1444320" cy="14443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765" y="765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8" y="768"/>
                    </a:lnTo>
                    <a:lnTo>
                      <a:pt x="768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648160" y="2112120"/>
                <a:ext cx="540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4692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2906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04200" y="2107080"/>
                <a:ext cx="75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2564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474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6852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820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034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6060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8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072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60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840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6200" y="1836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50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596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812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956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948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3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169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9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779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612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3912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18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041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628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004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59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1504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912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766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670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181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312200" y="1471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51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92920" y="1471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5552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660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629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8158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66600" y="147168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028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1344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2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536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570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9416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985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9416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1864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6250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460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678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0893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028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7242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545360" y="3984120"/>
                <a:ext cx="18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6500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806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396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563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966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1864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250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0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678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893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028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242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45360" y="2107080"/>
                <a:ext cx="18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00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806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3672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753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88404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9369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948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5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0916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8674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20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307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6648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295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7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524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79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831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9296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5596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53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0640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4517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1680" y="14716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88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920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500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011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059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0420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028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0072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105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454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552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067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528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4453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720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38368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2720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636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86022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4236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4472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06616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00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0148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229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4184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5752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168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424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4260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636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86022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4236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4472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6616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800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0148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229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4184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5752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968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828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616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141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296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5524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666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6980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3424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310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1440" y="4717800"/>
                <a:ext cx="10296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7220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1720" y="1471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13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4167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46388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50276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021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53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566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552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593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1579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9792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3077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35920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4052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497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10576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5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1525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84320" y="4717800"/>
                <a:ext cx="9936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33148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46504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1544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40720" y="471780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364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6216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0932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832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2860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98920" y="4717800"/>
                <a:ext cx="10332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24968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220280" y="4718160"/>
              <a:ext cx="99720" cy="993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53"/>
                  </a:lnTo>
                  <a:lnTo>
                    <a:pt x="28" y="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73200" y="4798800"/>
              <a:ext cx="14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490760" y="1050840"/>
            <a:ext cx="6148440" cy="4968720"/>
            <a:chOff x="1490760" y="1050840"/>
            <a:chExt cx="6148440" cy="4968720"/>
          </a:xfrm>
        </p:grpSpPr>
        <p:grpSp>
          <p:nvGrpSpPr>
            <p:cNvPr id="1654" name=""/>
            <p:cNvGrpSpPr/>
            <p:nvPr/>
          </p:nvGrpSpPr>
          <p:grpSpPr>
            <a:xfrm>
              <a:off x="1490760" y="1491840"/>
              <a:ext cx="6148440" cy="4527720"/>
              <a:chOff x="1490760" y="1491840"/>
              <a:chExt cx="6148440" cy="45277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490760" y="5778360"/>
                <a:ext cx="6148440" cy="241200"/>
              </a:xfrm>
              <a:custGeom>
                <a:avLst/>
                <a:gdLst/>
                <a:ahLst/>
                <a:rect l="l" t="t" r="r" b="b"/>
                <a:pathLst>
                  <a:path w="3873" h="152">
                    <a:moveTo>
                      <a:pt x="3873" y="152"/>
                    </a:moveTo>
                    <a:lnTo>
                      <a:pt x="387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3873" y="152"/>
                    </a:lnTo>
                    <a:lnTo>
                      <a:pt x="3873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51840" y="5773320"/>
                <a:ext cx="28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6736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8324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9912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71500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088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4676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6264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81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940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113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272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4312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25900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7488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681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658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362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177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020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0977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1409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3364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426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4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859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7885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00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09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10788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95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72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45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557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392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77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761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9618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04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228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254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060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46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447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300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81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9896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093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1742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1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4129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498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810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784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04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28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8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1812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6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349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311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337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111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49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9480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040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161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2993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019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47936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517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211560" y="5265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066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3364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18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96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3952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92440" y="5265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950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7774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505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887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9585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392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791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173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99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2728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426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36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985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5284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44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494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792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523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297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87296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04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586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67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7168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1015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1742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2142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952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3650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4381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159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93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23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1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02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774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84460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92560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20920" y="44845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90868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245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14188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7577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7364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8952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0504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9832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388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6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4824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7508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28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71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698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56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50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48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90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011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39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84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25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0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8472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287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3697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07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0664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92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747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95296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0555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1365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0920" y="47257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90868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45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14188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577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7364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8952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0504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3680" y="3971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8548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618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4424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9176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45040" y="3971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2523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2828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02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4409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144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91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314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74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7523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82544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985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759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04972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079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16168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20200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2315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0496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832120" y="4238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14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009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96560" y="4514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96560" y="4760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0920" y="1731600"/>
                <a:ext cx="768600" cy="243000"/>
              </a:xfrm>
              <a:custGeom>
                <a:avLst/>
                <a:gdLst/>
                <a:ahLst/>
                <a:rect l="l" t="t" r="r" b="b"/>
                <a:pathLst>
                  <a:path w="484" h="153">
                    <a:moveTo>
                      <a:pt x="484" y="153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484" y="153"/>
                    </a:lnTo>
                    <a:lnTo>
                      <a:pt x="484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5040" y="1731600"/>
                <a:ext cx="1800" cy="243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98320" y="1491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38868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6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48240" y="14918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7508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828240" y="1491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871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20920" y="3431880"/>
                <a:ext cx="768600" cy="241200"/>
              </a:xfrm>
              <a:custGeom>
                <a:avLst/>
                <a:gdLst/>
                <a:ahLst/>
                <a:rect l="l" t="t" r="r" b="b"/>
                <a:pathLst>
                  <a:path w="484" h="152">
                    <a:moveTo>
                      <a:pt x="484" y="152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484" y="152"/>
                    </a:lnTo>
                    <a:lnTo>
                      <a:pt x="484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3605040" y="343188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50680" y="1050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3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44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21760" y="1050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720" y="1050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23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647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3280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600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458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64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6644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0460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870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554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299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109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8116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157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16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3668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665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396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8120" y="10508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1888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96640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43080" y="1218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7764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2920" y="121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7564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1560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4120" y="1218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74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7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63492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17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9368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612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66960" y="1491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66680" y="14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96560" y="14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7432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4740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96560" y="176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96560" y="346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20920" y="1974600"/>
              <a:ext cx="768600" cy="244440"/>
            </a:xfrm>
            <a:custGeom>
              <a:avLst/>
              <a:gdLst/>
              <a:ahLst/>
              <a:rect l="l" t="t" r="r" b="b"/>
              <a:pathLst>
                <a:path w="484" h="154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484" y="154"/>
                  </a:lnTo>
                  <a:lnTo>
                    <a:pt x="484" y="15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605040" y="1974600"/>
              <a:ext cx="1800" cy="244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96560" y="2009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0920" y="2219040"/>
              <a:ext cx="768600" cy="243000"/>
            </a:xfrm>
            <a:custGeom>
              <a:avLst/>
              <a:gdLst/>
              <a:ahLst/>
              <a:rect l="l" t="t" r="r" b="b"/>
              <a:pathLst>
                <a:path w="484" h="153">
                  <a:moveTo>
                    <a:pt x="484" y="153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4" y="153"/>
                  </a:lnTo>
                  <a:lnTo>
                    <a:pt x="484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05040" y="2215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96560" y="22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20920" y="24620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05040" y="24620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6560" y="2496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20920" y="27032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05040" y="2703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6560" y="2738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20920" y="2944440"/>
              <a:ext cx="768600" cy="246240"/>
            </a:xfrm>
            <a:custGeom>
              <a:avLst/>
              <a:gdLst/>
              <a:ahLst/>
              <a:rect l="l" t="t" r="r" b="b"/>
              <a:pathLst>
                <a:path w="484" h="155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4" y="155"/>
                  </a:lnTo>
                  <a:lnTo>
                    <a:pt x="484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05040" y="294444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6560" y="297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20920" y="319068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05040" y="3186000"/>
              <a:ext cx="1800" cy="24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6560" y="322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25880" y="2404800"/>
              <a:ext cx="766800" cy="246240"/>
            </a:xfrm>
            <a:custGeom>
              <a:avLst/>
              <a:gdLst/>
              <a:ahLst/>
              <a:rect l="l" t="t" r="r" b="b"/>
              <a:pathLst>
                <a:path w="483" h="155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3" y="155"/>
                  </a:lnTo>
                  <a:lnTo>
                    <a:pt x="483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310360" y="24048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0652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93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35320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558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378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4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43000" y="1896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3552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3812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5880" y="1896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07204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46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570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2512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697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381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206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5876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983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793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4920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228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472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7348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0080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858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2900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88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319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41760" y="216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350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1240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01520" y="24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25880" y="26510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10360" y="26460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1520" y="268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25880" y="28922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10360" y="2892240"/>
              <a:ext cx="144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1520" y="292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25880" y="3133440"/>
              <a:ext cx="766800" cy="243000"/>
            </a:xfrm>
            <a:custGeom>
              <a:avLst/>
              <a:gdLst/>
              <a:ahLst/>
              <a:rect l="l" t="t" r="r" b="b"/>
              <a:pathLst>
                <a:path w="483" h="153">
                  <a:moveTo>
                    <a:pt x="483" y="153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3" y="153"/>
                  </a:lnTo>
                  <a:lnTo>
                    <a:pt x="483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310360" y="3133440"/>
              <a:ext cx="144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1520" y="3168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92680" y="2404800"/>
              <a:ext cx="773280" cy="246240"/>
            </a:xfrm>
            <a:custGeom>
              <a:avLst/>
              <a:gdLst/>
              <a:ahLst/>
              <a:rect l="l" t="t" r="r" b="b"/>
              <a:pathLst>
                <a:path w="487" h="155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7" y="155"/>
                  </a:lnTo>
                  <a:lnTo>
                    <a:pt x="487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76800" y="2404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476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8604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4288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2144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2240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046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4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92680" y="26510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76800" y="26460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92680" y="28922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76800" y="2892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92680" y="3133440"/>
              <a:ext cx="773280" cy="243000"/>
            </a:xfrm>
            <a:custGeom>
              <a:avLst/>
              <a:gdLst/>
              <a:ahLst/>
              <a:rect l="l" t="t" r="r" b="b"/>
              <a:pathLst>
                <a:path w="487" h="153">
                  <a:moveTo>
                    <a:pt x="484" y="153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7" y="153"/>
                  </a:lnTo>
                  <a:lnTo>
                    <a:pt x="487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76800" y="3133440"/>
              <a:ext cx="180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279440" y="934920"/>
            <a:ext cx="6568200" cy="5679360"/>
            <a:chOff x="1279440" y="934920"/>
            <a:chExt cx="6568200" cy="5679360"/>
          </a:xfrm>
        </p:grpSpPr>
        <p:grpSp>
          <p:nvGrpSpPr>
            <p:cNvPr id="1982" name=""/>
            <p:cNvGrpSpPr/>
            <p:nvPr/>
          </p:nvGrpSpPr>
          <p:grpSpPr>
            <a:xfrm>
              <a:off x="1279440" y="934920"/>
              <a:ext cx="6568200" cy="5469840"/>
              <a:chOff x="1279440" y="934920"/>
              <a:chExt cx="6568200" cy="546984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5014800" y="1355400"/>
                <a:ext cx="2160" cy="2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278960" y="1352160"/>
                <a:ext cx="2160" cy="21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40920" y="1347480"/>
                <a:ext cx="2228040" cy="222120"/>
              </a:xfrm>
              <a:custGeom>
                <a:avLst/>
                <a:gdLst/>
                <a:ahLst/>
                <a:rect l="l" t="t" r="r" b="b"/>
                <a:pathLst>
                  <a:path w="1042" h="104">
                    <a:moveTo>
                      <a:pt x="0" y="102"/>
                    </a:moveTo>
                    <a:lnTo>
                      <a:pt x="2" y="0"/>
                    </a:lnTo>
                    <a:lnTo>
                      <a:pt x="1042" y="0"/>
                    </a:lnTo>
                    <a:lnTo>
                      <a:pt x="1042" y="104"/>
                    </a:lnTo>
                    <a:lnTo>
                      <a:pt x="2" y="104"/>
                    </a:lnTo>
                    <a:lnTo>
                      <a:pt x="2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99160" y="934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8916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6800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42160" y="934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9148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63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47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44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7680" y="1721880"/>
                <a:ext cx="1645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792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77856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4160" y="1717920"/>
                <a:ext cx="16236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16000" y="161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200680" y="253728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2356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48724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5704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463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00680" y="272556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200680" y="291384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  <a:lnTo>
                      <a:pt x="558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200680" y="32904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200680" y="3478680"/>
                <a:ext cx="1193400" cy="186120"/>
              </a:xfrm>
              <a:custGeom>
                <a:avLst/>
                <a:gdLst/>
                <a:ahLst/>
                <a:rect l="l" t="t" r="r" b="b"/>
                <a:pathLst>
                  <a:path w="558" h="87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8" y="87"/>
                    </a:lnTo>
                    <a:lnTo>
                      <a:pt x="558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200680" y="36648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25396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544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65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16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910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869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941840" y="2344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4240" y="254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94240" y="27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4240" y="292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1180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881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637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180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881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37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180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881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637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093760" y="3164040"/>
                <a:ext cx="6588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6560" y="1569960"/>
                <a:ext cx="3112920" cy="1626120"/>
              </a:xfrm>
              <a:custGeom>
                <a:avLst/>
                <a:gdLst/>
                <a:ahLst/>
                <a:rect l="l" t="t" r="r" b="b"/>
                <a:pathLst>
                  <a:path w="1456" h="760">
                    <a:moveTo>
                      <a:pt x="1454" y="0"/>
                    </a:moveTo>
                    <a:lnTo>
                      <a:pt x="1456" y="291"/>
                    </a:lnTo>
                    <a:lnTo>
                      <a:pt x="0" y="291"/>
                    </a:lnTo>
                    <a:lnTo>
                      <a:pt x="0" y="760"/>
                    </a:lnTo>
                    <a:lnTo>
                      <a:pt x="266" y="76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23704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8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5" y="128"/>
                    </a:lnTo>
                    <a:lnTo>
                      <a:pt x="33" y="132"/>
                    </a:lnTo>
                    <a:lnTo>
                      <a:pt x="41" y="136"/>
                    </a:lnTo>
                    <a:lnTo>
                      <a:pt x="50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100" y="122"/>
                    </a:lnTo>
                    <a:lnTo>
                      <a:pt x="106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3396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8" y="129"/>
                    </a:lnTo>
                    <a:lnTo>
                      <a:pt x="98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21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3" y="77"/>
                    </a:lnTo>
                    <a:lnTo>
                      <a:pt x="133" y="65"/>
                    </a:lnTo>
                    <a:lnTo>
                      <a:pt x="133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21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8" y="8"/>
                    </a:lnTo>
                    <a:lnTo>
                      <a:pt x="88" y="2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7" y="12"/>
                    </a:lnTo>
                    <a:lnTo>
                      <a:pt x="20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20" y="111"/>
                    </a:lnTo>
                    <a:lnTo>
                      <a:pt x="27" y="119"/>
                    </a:lnTo>
                    <a:lnTo>
                      <a:pt x="37" y="125"/>
                    </a:lnTo>
                    <a:lnTo>
                      <a:pt x="46" y="129"/>
                    </a:lnTo>
                    <a:lnTo>
                      <a:pt x="56" y="130"/>
                    </a:lnTo>
                    <a:lnTo>
                      <a:pt x="67" y="132"/>
                    </a:lnTo>
                    <a:lnTo>
                      <a:pt x="67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572920" y="3191760"/>
                <a:ext cx="36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32240" y="4394160"/>
                <a:ext cx="87480" cy="4068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2" y="15"/>
                    </a:moveTo>
                    <a:lnTo>
                      <a:pt x="41" y="15"/>
                    </a:lnTo>
                    <a:lnTo>
                      <a:pt x="41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282040" y="3191760"/>
                <a:ext cx="180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6556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311120" y="1574280"/>
                <a:ext cx="2347920" cy="2838960"/>
              </a:xfrm>
              <a:custGeom>
                <a:avLst/>
                <a:gdLst/>
                <a:ahLst/>
                <a:rect l="l" t="t" r="r" b="b"/>
                <a:pathLst>
                  <a:path w="1098" h="1327">
                    <a:moveTo>
                      <a:pt x="1096" y="0"/>
                    </a:moveTo>
                    <a:lnTo>
                      <a:pt x="1098" y="182"/>
                    </a:lnTo>
                    <a:lnTo>
                      <a:pt x="0" y="180"/>
                    </a:lnTo>
                    <a:lnTo>
                      <a:pt x="0" y="1327"/>
                    </a:lnTo>
                    <a:lnTo>
                      <a:pt x="504" y="13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8640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760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9736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4920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844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54240" y="3164040"/>
                <a:ext cx="5940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7080" y="4201560"/>
                <a:ext cx="59400" cy="60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38240" y="253728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7856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02912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086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60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38240" y="272556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38240" y="291384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  <a:lnTo>
                      <a:pt x="557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38240" y="32904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8240" y="3478680"/>
                <a:ext cx="1195200" cy="186120"/>
              </a:xfrm>
              <a:custGeom>
                <a:avLst/>
                <a:gdLst/>
                <a:ahLst/>
                <a:rect l="l" t="t" r="r" b="b"/>
                <a:pathLst>
                  <a:path w="559" h="87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9" y="87"/>
                    </a:lnTo>
                    <a:lnTo>
                      <a:pt x="559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38240" y="36648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791520" y="316404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08276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7892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3" y="128"/>
                    </a:lnTo>
                    <a:lnTo>
                      <a:pt x="30" y="132"/>
                    </a:lnTo>
                    <a:lnTo>
                      <a:pt x="40" y="136"/>
                    </a:lnTo>
                    <a:lnTo>
                      <a:pt x="48" y="137"/>
                    </a:lnTo>
                    <a:lnTo>
                      <a:pt x="57" y="137"/>
                    </a:lnTo>
                    <a:lnTo>
                      <a:pt x="67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3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75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6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3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3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6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114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73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2356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91320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2396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4132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5122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5889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6242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5252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49400" y="4201560"/>
                <a:ext cx="63720" cy="601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216040" y="253728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488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000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843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58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16040" y="272556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16040" y="291384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  <a:lnTo>
                      <a:pt x="556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16040" y="32904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6040" y="3478680"/>
                <a:ext cx="1188720" cy="186120"/>
              </a:xfrm>
              <a:custGeom>
                <a:avLst/>
                <a:gdLst/>
                <a:ahLst/>
                <a:rect l="l" t="t" r="r" b="b"/>
                <a:pathLst>
                  <a:path w="556" h="87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6" y="87"/>
                    </a:lnTo>
                    <a:lnTo>
                      <a:pt x="556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216040" y="36648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26500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494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24988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5" y="128"/>
                    </a:lnTo>
                    <a:lnTo>
                      <a:pt x="32" y="132"/>
                    </a:lnTo>
                    <a:lnTo>
                      <a:pt x="40" y="136"/>
                    </a:lnTo>
                    <a:lnTo>
                      <a:pt x="50" y="137"/>
                    </a:lnTo>
                    <a:lnTo>
                      <a:pt x="59" y="137"/>
                    </a:lnTo>
                    <a:lnTo>
                      <a:pt x="69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9" y="122"/>
                    </a:lnTo>
                    <a:lnTo>
                      <a:pt x="105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2" y="82"/>
                    </a:lnTo>
                    <a:lnTo>
                      <a:pt x="2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42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4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1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81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40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294880" y="3191760"/>
                <a:ext cx="432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55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88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4426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60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8922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59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367600" y="43815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744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8888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864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6024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99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688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990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46320" y="253728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9024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9418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026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1002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46320" y="272556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46320" y="291384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  <a:lnTo>
                      <a:pt x="562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46320" y="32904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46320" y="3478680"/>
                <a:ext cx="1201320" cy="186120"/>
              </a:xfrm>
              <a:custGeom>
                <a:avLst/>
                <a:gdLst/>
                <a:ahLst/>
                <a:rect l="l" t="t" r="r" b="b"/>
                <a:pathLst>
                  <a:path w="562" h="87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62" y="87"/>
                    </a:lnTo>
                    <a:lnTo>
                      <a:pt x="562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46320" y="36648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70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90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8268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0" y="92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3" y="128"/>
                    </a:lnTo>
                    <a:lnTo>
                      <a:pt x="31" y="132"/>
                    </a:lnTo>
                    <a:lnTo>
                      <a:pt x="41" y="136"/>
                    </a:lnTo>
                    <a:lnTo>
                      <a:pt x="48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4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7960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7" y="129"/>
                    </a:lnTo>
                    <a:lnTo>
                      <a:pt x="96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1" y="77"/>
                    </a:lnTo>
                    <a:lnTo>
                      <a:pt x="133" y="65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6" y="8"/>
                    </a:lnTo>
                    <a:lnTo>
                      <a:pt x="87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5" y="125"/>
                    </a:lnTo>
                    <a:lnTo>
                      <a:pt x="44" y="129"/>
                    </a:lnTo>
                    <a:lnTo>
                      <a:pt x="56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018200" y="3191760"/>
                <a:ext cx="216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78240" y="4394160"/>
                <a:ext cx="831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39" y="0"/>
                    </a:lnTo>
                    <a:lnTo>
                      <a:pt x="3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9" y="15"/>
                    </a:lnTo>
                    <a:lnTo>
                      <a:pt x="39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3164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11200" y="438156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24104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5692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9628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37192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1516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32996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275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50348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5441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51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81600" y="3191760"/>
                <a:ext cx="2876040" cy="2554200"/>
              </a:xfrm>
              <a:custGeom>
                <a:avLst/>
                <a:gdLst/>
                <a:ahLst/>
                <a:rect l="l" t="t" r="r" b="b"/>
                <a:pathLst>
                  <a:path w="1345" h="1194">
                    <a:moveTo>
                      <a:pt x="0" y="0"/>
                    </a:moveTo>
                    <a:lnTo>
                      <a:pt x="0" y="1002"/>
                    </a:lnTo>
                    <a:lnTo>
                      <a:pt x="1345" y="1002"/>
                    </a:lnTo>
                    <a:lnTo>
                      <a:pt x="1345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557240" y="3191760"/>
                <a:ext cx="1671840" cy="2554200"/>
              </a:xfrm>
              <a:custGeom>
                <a:avLst/>
                <a:gdLst/>
                <a:ahLst/>
                <a:rect l="l" t="t" r="r" b="b"/>
                <a:pathLst>
                  <a:path w="782" h="1194">
                    <a:moveTo>
                      <a:pt x="0" y="0"/>
                    </a:moveTo>
                    <a:lnTo>
                      <a:pt x="0" y="916"/>
                    </a:lnTo>
                    <a:lnTo>
                      <a:pt x="782" y="916"/>
                    </a:lnTo>
                    <a:lnTo>
                      <a:pt x="782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096960" y="3191760"/>
                <a:ext cx="4320" cy="255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64080" y="3191760"/>
                <a:ext cx="1180080" cy="2554200"/>
              </a:xfrm>
              <a:custGeom>
                <a:avLst/>
                <a:gdLst/>
                <a:ahLst/>
                <a:rect l="l" t="t" r="r" b="b"/>
                <a:pathLst>
                  <a:path w="552" h="1194">
                    <a:moveTo>
                      <a:pt x="552" y="0"/>
                    </a:moveTo>
                    <a:lnTo>
                      <a:pt x="552" y="1085"/>
                    </a:lnTo>
                    <a:lnTo>
                      <a:pt x="0" y="1085"/>
                    </a:lnTo>
                    <a:lnTo>
                      <a:pt x="0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1000" y="3987360"/>
                <a:ext cx="1645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6032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824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37200" y="3987360"/>
                <a:ext cx="164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7904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5788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311120" y="4041360"/>
                <a:ext cx="5499720" cy="371880"/>
              </a:xfrm>
              <a:custGeom>
                <a:avLst/>
                <a:gdLst/>
                <a:ahLst/>
                <a:rect l="l" t="t" r="r" b="b"/>
                <a:pathLst>
                  <a:path w="2572" h="174">
                    <a:moveTo>
                      <a:pt x="2572" y="174"/>
                    </a:moveTo>
                    <a:lnTo>
                      <a:pt x="2441" y="174"/>
                    </a:lnTo>
                    <a:lnTo>
                      <a:pt x="2441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24800" y="4041360"/>
                <a:ext cx="459360" cy="37188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15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97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417120" y="4041360"/>
                <a:ext cx="509040" cy="371880"/>
              </a:xfrm>
              <a:custGeom>
                <a:avLst/>
                <a:gdLst/>
                <a:ahLst/>
                <a:rect l="l" t="t" r="r" b="b"/>
                <a:pathLst>
                  <a:path w="238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38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38976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79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06640" y="5778360"/>
                <a:ext cx="250200" cy="344160"/>
              </a:xfrm>
              <a:custGeom>
                <a:avLst/>
                <a:gdLst/>
                <a:ahLst/>
                <a:rect l="l" t="t" r="r" b="b"/>
                <a:pathLst>
                  <a:path w="117" h="161">
                    <a:moveTo>
                      <a:pt x="56" y="16"/>
                    </a:moveTo>
                    <a:lnTo>
                      <a:pt x="50" y="16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2" y="69"/>
                    </a:lnTo>
                    <a:lnTo>
                      <a:pt x="2" y="81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8" y="108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4"/>
                    </a:lnTo>
                    <a:lnTo>
                      <a:pt x="31" y="142"/>
                    </a:lnTo>
                    <a:lnTo>
                      <a:pt x="37" y="148"/>
                    </a:lnTo>
                    <a:lnTo>
                      <a:pt x="42" y="152"/>
                    </a:lnTo>
                    <a:lnTo>
                      <a:pt x="48" y="155"/>
                    </a:lnTo>
                    <a:lnTo>
                      <a:pt x="54" y="159"/>
                    </a:lnTo>
                    <a:lnTo>
                      <a:pt x="58" y="161"/>
                    </a:lnTo>
                    <a:lnTo>
                      <a:pt x="63" y="159"/>
                    </a:lnTo>
                    <a:lnTo>
                      <a:pt x="69" y="155"/>
                    </a:lnTo>
                    <a:lnTo>
                      <a:pt x="75" y="152"/>
                    </a:lnTo>
                    <a:lnTo>
                      <a:pt x="81" y="148"/>
                    </a:lnTo>
                    <a:lnTo>
                      <a:pt x="86" y="142"/>
                    </a:lnTo>
                    <a:lnTo>
                      <a:pt x="94" y="134"/>
                    </a:lnTo>
                    <a:lnTo>
                      <a:pt x="100" y="127"/>
                    </a:lnTo>
                    <a:lnTo>
                      <a:pt x="106" y="117"/>
                    </a:lnTo>
                    <a:lnTo>
                      <a:pt x="109" y="108"/>
                    </a:lnTo>
                    <a:lnTo>
                      <a:pt x="113" y="96"/>
                    </a:lnTo>
                    <a:lnTo>
                      <a:pt x="115" y="90"/>
                    </a:lnTo>
                    <a:lnTo>
                      <a:pt x="115" y="81"/>
                    </a:lnTo>
                    <a:lnTo>
                      <a:pt x="115" y="69"/>
                    </a:lnTo>
                    <a:lnTo>
                      <a:pt x="115" y="56"/>
                    </a:lnTo>
                    <a:lnTo>
                      <a:pt x="117" y="42"/>
                    </a:lnTo>
                    <a:lnTo>
                      <a:pt x="115" y="31"/>
                    </a:lnTo>
                    <a:lnTo>
                      <a:pt x="115" y="1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9" y="4"/>
                    </a:lnTo>
                    <a:lnTo>
                      <a:pt x="104" y="8"/>
                    </a:lnTo>
                    <a:lnTo>
                      <a:pt x="98" y="10"/>
                    </a:lnTo>
                    <a:lnTo>
                      <a:pt x="92" y="12"/>
                    </a:lnTo>
                    <a:lnTo>
                      <a:pt x="88" y="14"/>
                    </a:lnTo>
                    <a:lnTo>
                      <a:pt x="83" y="14"/>
                    </a:lnTo>
                    <a:lnTo>
                      <a:pt x="77" y="16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58" y="17"/>
                    </a:lnTo>
                    <a:lnTo>
                      <a:pt x="58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22120" y="5746320"/>
                <a:ext cx="1252800" cy="376200"/>
              </a:xfrm>
              <a:custGeom>
                <a:avLst/>
                <a:gdLst/>
                <a:ahLst/>
                <a:rect l="l" t="t" r="r" b="b"/>
                <a:pathLst>
                  <a:path w="586" h="176">
                    <a:moveTo>
                      <a:pt x="88" y="174"/>
                    </a:moveTo>
                    <a:lnTo>
                      <a:pt x="75" y="174"/>
                    </a:lnTo>
                    <a:lnTo>
                      <a:pt x="59" y="170"/>
                    </a:lnTo>
                    <a:lnTo>
                      <a:pt x="48" y="167"/>
                    </a:lnTo>
                    <a:lnTo>
                      <a:pt x="36" y="159"/>
                    </a:lnTo>
                    <a:lnTo>
                      <a:pt x="27" y="149"/>
                    </a:lnTo>
                    <a:lnTo>
                      <a:pt x="17" y="140"/>
                    </a:lnTo>
                    <a:lnTo>
                      <a:pt x="10" y="128"/>
                    </a:lnTo>
                    <a:lnTo>
                      <a:pt x="4" y="115"/>
                    </a:lnTo>
                    <a:lnTo>
                      <a:pt x="2" y="101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10" y="48"/>
                    </a:lnTo>
                    <a:lnTo>
                      <a:pt x="17" y="36"/>
                    </a:lnTo>
                    <a:lnTo>
                      <a:pt x="27" y="25"/>
                    </a:lnTo>
                    <a:lnTo>
                      <a:pt x="36" y="17"/>
                    </a:lnTo>
                    <a:lnTo>
                      <a:pt x="48" y="10"/>
                    </a:lnTo>
                    <a:lnTo>
                      <a:pt x="59" y="4"/>
                    </a:lnTo>
                    <a:lnTo>
                      <a:pt x="75" y="2"/>
                    </a:lnTo>
                    <a:lnTo>
                      <a:pt x="88" y="0"/>
                    </a:lnTo>
                    <a:lnTo>
                      <a:pt x="498" y="0"/>
                    </a:lnTo>
                    <a:lnTo>
                      <a:pt x="514" y="2"/>
                    </a:lnTo>
                    <a:lnTo>
                      <a:pt x="527" y="4"/>
                    </a:lnTo>
                    <a:lnTo>
                      <a:pt x="538" y="10"/>
                    </a:lnTo>
                    <a:lnTo>
                      <a:pt x="550" y="17"/>
                    </a:lnTo>
                    <a:lnTo>
                      <a:pt x="561" y="25"/>
                    </a:lnTo>
                    <a:lnTo>
                      <a:pt x="569" y="36"/>
                    </a:lnTo>
                    <a:lnTo>
                      <a:pt x="577" y="48"/>
                    </a:lnTo>
                    <a:lnTo>
                      <a:pt x="583" y="59"/>
                    </a:lnTo>
                    <a:lnTo>
                      <a:pt x="584" y="73"/>
                    </a:lnTo>
                    <a:lnTo>
                      <a:pt x="586" y="88"/>
                    </a:lnTo>
                    <a:lnTo>
                      <a:pt x="584" y="101"/>
                    </a:lnTo>
                    <a:lnTo>
                      <a:pt x="583" y="115"/>
                    </a:lnTo>
                    <a:lnTo>
                      <a:pt x="577" y="128"/>
                    </a:lnTo>
                    <a:lnTo>
                      <a:pt x="569" y="140"/>
                    </a:lnTo>
                    <a:lnTo>
                      <a:pt x="561" y="149"/>
                    </a:lnTo>
                    <a:lnTo>
                      <a:pt x="550" y="159"/>
                    </a:lnTo>
                    <a:lnTo>
                      <a:pt x="538" y="167"/>
                    </a:lnTo>
                    <a:lnTo>
                      <a:pt x="527" y="170"/>
                    </a:lnTo>
                    <a:lnTo>
                      <a:pt x="514" y="174"/>
                    </a:lnTo>
                    <a:lnTo>
                      <a:pt x="498" y="176"/>
                    </a:lnTo>
                    <a:lnTo>
                      <a:pt x="88" y="176"/>
                    </a:lnTo>
                    <a:lnTo>
                      <a:pt x="88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150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9744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507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881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97096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28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009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37280" y="584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17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266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5940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50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2492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0340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52968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609960" y="5849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726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5360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62880" y="5085360"/>
                <a:ext cx="1409040" cy="72720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659" y="0"/>
                    </a:moveTo>
                    <a:lnTo>
                      <a:pt x="659" y="60"/>
                    </a:lnTo>
                    <a:lnTo>
                      <a:pt x="0" y="6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896280" y="5093640"/>
                <a:ext cx="216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024800" y="5085360"/>
                <a:ext cx="2781720" cy="710280"/>
              </a:xfrm>
              <a:custGeom>
                <a:avLst/>
                <a:gdLst/>
                <a:ahLst/>
                <a:rect l="l" t="t" r="r" b="b"/>
                <a:pathLst>
                  <a:path w="1301" h="332">
                    <a:moveTo>
                      <a:pt x="1301" y="0"/>
                    </a:moveTo>
                    <a:lnTo>
                      <a:pt x="1301" y="89"/>
                    </a:lnTo>
                    <a:lnTo>
                      <a:pt x="0" y="89"/>
                    </a:lnTo>
                    <a:lnTo>
                      <a:pt x="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361240" y="5085360"/>
                <a:ext cx="1475280" cy="710280"/>
              </a:xfrm>
              <a:custGeom>
                <a:avLst/>
                <a:gdLst/>
                <a:ahLst/>
                <a:rect l="l" t="t" r="r" b="b"/>
                <a:pathLst>
                  <a:path w="690" h="332">
                    <a:moveTo>
                      <a:pt x="0" y="0"/>
                    </a:moveTo>
                    <a:lnTo>
                      <a:pt x="2" y="177"/>
                    </a:lnTo>
                    <a:lnTo>
                      <a:pt x="690" y="177"/>
                    </a:lnTo>
                    <a:lnTo>
                      <a:pt x="69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024800" y="5401800"/>
                <a:ext cx="1618560" cy="438480"/>
              </a:xfrm>
              <a:custGeom>
                <a:avLst/>
                <a:gdLst/>
                <a:ahLst/>
                <a:rect l="l" t="t" r="r" b="b"/>
                <a:pathLst>
                  <a:path w="757" h="205">
                    <a:moveTo>
                      <a:pt x="757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94920" y="53697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62880" y="5464080"/>
                <a:ext cx="1659240" cy="438480"/>
              </a:xfrm>
              <a:custGeom>
                <a:avLst/>
                <a:gdLst/>
                <a:ahLst/>
                <a:rect l="l" t="t" r="r" b="b"/>
                <a:pathLst>
                  <a:path w="776" h="205">
                    <a:moveTo>
                      <a:pt x="776" y="205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0840" y="542988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896280" y="5524200"/>
                <a:ext cx="1725840" cy="4384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807" y="205"/>
                    </a:moveTo>
                    <a:lnTo>
                      <a:pt x="499" y="205"/>
                    </a:lnTo>
                    <a:lnTo>
                      <a:pt x="49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68920" y="54961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836880" y="5590080"/>
                <a:ext cx="1806480" cy="438480"/>
              </a:xfrm>
              <a:custGeom>
                <a:avLst/>
                <a:gdLst/>
                <a:ahLst/>
                <a:rect l="l" t="t" r="r" b="b"/>
                <a:pathLst>
                  <a:path w="845" h="205">
                    <a:moveTo>
                      <a:pt x="845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802320" y="555804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00600" y="63410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0"/>
                    </a:moveTo>
                    <a:lnTo>
                      <a:pt x="0" y="0"/>
                    </a:lnTo>
                    <a:lnTo>
                      <a:pt x="14" y="3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3930840" y="61232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4696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45960" y="643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51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7200" y="6341400"/>
              <a:ext cx="65880" cy="63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9" y="0"/>
                  </a:moveTo>
                  <a:lnTo>
                    <a:pt x="0" y="0"/>
                  </a:lnTo>
                  <a:lnTo>
                    <a:pt x="15" y="3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48880" y="6123240"/>
              <a:ext cx="1800" cy="22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0488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0244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827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1800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310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1292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93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319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1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0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75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90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657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55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558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50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452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16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88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724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3256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61920" y="1234080"/>
              <a:ext cx="27360" cy="23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5212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39960" y="1234080"/>
              <a:ext cx="2304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6680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347840" y="1035000"/>
            <a:ext cx="6445440" cy="5410440"/>
            <a:chOff x="1347840" y="1035000"/>
            <a:chExt cx="6445440" cy="5410440"/>
          </a:xfrm>
        </p:grpSpPr>
        <p:sp>
          <p:nvSpPr>
            <p:cNvPr id="2217" name=""/>
            <p:cNvSpPr/>
            <p:nvPr/>
          </p:nvSpPr>
          <p:spPr>
            <a:xfrm>
              <a:off x="2005920" y="5311800"/>
              <a:ext cx="5436000" cy="12600"/>
            </a:xfrm>
            <a:custGeom>
              <a:avLst/>
              <a:gdLst/>
              <a:ahLst/>
              <a:rect l="l" t="t" r="r" b="b"/>
              <a:pathLst>
                <a:path w="2485" h="6">
                  <a:moveTo>
                    <a:pt x="2485" y="0"/>
                  </a:moveTo>
                  <a:lnTo>
                    <a:pt x="2485" y="6"/>
                  </a:lnTo>
                  <a:lnTo>
                    <a:pt x="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23680" y="521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04320" y="52192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23680" y="4402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4320" y="4402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23680" y="3558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04320" y="3558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23680" y="271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04320" y="2710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4088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1864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95320" y="18741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4088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864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95320" y="10350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05920" y="1148760"/>
              <a:ext cx="1800" cy="417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05920" y="4488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5920" y="3648600"/>
              <a:ext cx="741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5920" y="2814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5920" y="197892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180120" y="5898600"/>
              <a:ext cx="96120" cy="74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44" y="0"/>
                  </a:lnTo>
                  <a:lnTo>
                    <a:pt x="4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08400" y="6339240"/>
              <a:ext cx="96120" cy="453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25920" y="502920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8544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4532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2888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04080" y="612468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175800" y="5684040"/>
              <a:ext cx="96120" cy="766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82000" y="5361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74520" y="5361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3026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83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60640" y="536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988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463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456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2236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372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27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0176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820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776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749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742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534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9716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8104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80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92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40676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064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8280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31520" y="5361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2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21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972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47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448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232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00120" y="5902920"/>
              <a:ext cx="113400" cy="745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06120" y="4743720"/>
              <a:ext cx="111600" cy="766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17"/>
                  </a:moveTo>
                  <a:lnTo>
                    <a:pt x="24" y="0"/>
                  </a:lnTo>
                  <a:lnTo>
                    <a:pt x="0" y="17"/>
                  </a:lnTo>
                  <a:lnTo>
                    <a:pt x="24" y="3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900120" y="569268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712600" y="4454640"/>
              <a:ext cx="109440" cy="766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72840" y="4730760"/>
              <a:ext cx="109080" cy="80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819040" y="4728960"/>
              <a:ext cx="109440" cy="78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48680" y="473076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84800" y="633924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30240" y="3909240"/>
              <a:ext cx="76320" cy="55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90120" y="418536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841000" y="4183560"/>
              <a:ext cx="78840" cy="51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56960" y="4463640"/>
              <a:ext cx="7668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6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84800" y="612468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30240" y="3350520"/>
              <a:ext cx="7632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85440" y="3633480"/>
              <a:ext cx="78840" cy="543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3"/>
                  </a:moveTo>
                  <a:lnTo>
                    <a:pt x="21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41000" y="3909240"/>
              <a:ext cx="78840" cy="55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352640" y="4183560"/>
              <a:ext cx="81360" cy="518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8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44640" y="5642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18080" y="564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602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520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45960" y="5642280"/>
              <a:ext cx="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44640" y="58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18080" y="585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02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5520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45960" y="58528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344640" y="606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18080" y="606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602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5520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45960" y="6063120"/>
              <a:ext cx="3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44640" y="627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18080" y="627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02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520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6200000">
              <a:off x="1377000" y="33573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1420200" y="3283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1400400" y="3235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6200000">
              <a:off x="1400400" y="3163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6200000">
              <a:off x="1415880" y="3112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6200000">
              <a:off x="1411920" y="3074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6200000">
              <a:off x="1396800" y="3004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200000">
              <a:off x="1415880" y="2952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6200000">
              <a:off x="1392480" y="289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38680" y="5604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3012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90248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6836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486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1956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4872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2288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6572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9596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6688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532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338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05920" y="114408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292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5284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27360" y="5646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6516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6164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453440" y="5646600"/>
              <a:ext cx="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7292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15284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227360" y="5857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26516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36164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53440" y="58572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7292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15284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227360" y="606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26516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6164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453440" y="60674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7292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5284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808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305480" y="627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34400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43796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05920" y="4488120"/>
              <a:ext cx="5456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5920" y="364860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05920" y="2814120"/>
              <a:ext cx="54360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05920" y="197496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05920" y="1144080"/>
              <a:ext cx="543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767680" y="5046480"/>
              <a:ext cx="15595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2767680" y="4492080"/>
              <a:ext cx="1559520" cy="2779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326840" y="4766040"/>
              <a:ext cx="15462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73400" y="4766040"/>
              <a:ext cx="15138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2767680" y="393516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326840" y="4207320"/>
              <a:ext cx="154620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flipV="1">
              <a:off x="5873400" y="4211280"/>
              <a:ext cx="1513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2767680" y="3376800"/>
              <a:ext cx="1559520" cy="275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flipV="1">
              <a:off x="4326840" y="36572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5873400" y="39304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flipV="1">
              <a:off x="2767680" y="2541960"/>
              <a:ext cx="1559520" cy="5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4326840" y="3098880"/>
              <a:ext cx="1546200" cy="55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5873400" y="3652920"/>
              <a:ext cx="15138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flipV="1">
              <a:off x="2767680" y="1704960"/>
              <a:ext cx="1559520" cy="554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4326840" y="22640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flipV="1">
              <a:off x="5873400" y="25372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10440" y="248724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68160" y="3044160"/>
              <a:ext cx="11772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814720" y="3598200"/>
              <a:ext cx="11844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28880" y="387648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10440" y="1652400"/>
              <a:ext cx="115920" cy="1033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0" y="0"/>
                  </a:moveTo>
                  <a:lnTo>
                    <a:pt x="53" y="0"/>
                  </a:lnTo>
                  <a:lnTo>
                    <a:pt x="53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8160" y="2208960"/>
              <a:ext cx="11772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814720" y="2483280"/>
              <a:ext cx="11844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28880" y="2763360"/>
              <a:ext cx="115920" cy="1051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0"/>
                  </a:moveTo>
                  <a:lnTo>
                    <a:pt x="53" y="0"/>
                  </a:lnTo>
                  <a:lnTo>
                    <a:pt x="53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23720" y="5009040"/>
              <a:ext cx="113400" cy="788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33200" y="5009040"/>
              <a:ext cx="111600" cy="788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72840" y="5009040"/>
              <a:ext cx="109080" cy="788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2767680" y="5029200"/>
              <a:ext cx="15595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4326840" y="5026680"/>
              <a:ext cx="1546200" cy="6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73400" y="5026680"/>
              <a:ext cx="151380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flipV="1">
              <a:off x="2767680" y="476964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5920" y="5000040"/>
              <a:ext cx="91440" cy="504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8544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4532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2420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7680" y="5252760"/>
              <a:ext cx="180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228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80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42280" y="5252760"/>
              <a:ext cx="216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tem descarta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seção 7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425880" y="1340640"/>
            <a:ext cx="7986600" cy="50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(pag 576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2nd level cache with 20ns access time and miss rate to 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só L1) = 200ns/período = 10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só L1)= CPIbase + clocks perdidos = 1 + 5% * 100 = 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L2)= 20ns/período = 1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L1 e L2)= 1 + stalls L1 + stalls L2 = 1 + 5% * 10 + 2% * 100 = 3.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nho do sistema em velocidade com L2 = 6.0 / 3.5 = 1.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78560" y="2022480"/>
            <a:ext cx="63864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ion of having more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056040" y="241632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56040" y="272088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056040" y="3024360"/>
            <a:ext cx="911160" cy="15048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056040" y="332748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  <a:lnTo>
                  <a:pt x="574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056040" y="332748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056040" y="363060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  <a:lnTo>
                  <a:pt x="574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056040" y="363060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056040" y="3933720"/>
            <a:ext cx="91116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270320" y="3933720"/>
            <a:ext cx="911160" cy="582840"/>
          </a:xfrm>
          <a:custGeom>
            <a:avLst/>
            <a:gdLst/>
            <a:ahLst/>
            <a:rect l="l" t="t" r="r" b="b"/>
            <a:pathLst>
              <a:path w="574" h="367">
                <a:moveTo>
                  <a:pt x="574" y="81"/>
                </a:moveTo>
                <a:lnTo>
                  <a:pt x="570" y="69"/>
                </a:lnTo>
                <a:lnTo>
                  <a:pt x="561" y="56"/>
                </a:lnTo>
                <a:lnTo>
                  <a:pt x="544" y="44"/>
                </a:lnTo>
                <a:lnTo>
                  <a:pt x="519" y="35"/>
                </a:lnTo>
                <a:lnTo>
                  <a:pt x="490" y="25"/>
                </a:lnTo>
                <a:lnTo>
                  <a:pt x="457" y="16"/>
                </a:lnTo>
                <a:lnTo>
                  <a:pt x="419" y="10"/>
                </a:lnTo>
                <a:lnTo>
                  <a:pt x="379" y="4"/>
                </a:lnTo>
                <a:lnTo>
                  <a:pt x="335" y="2"/>
                </a:lnTo>
                <a:lnTo>
                  <a:pt x="287" y="0"/>
                </a:lnTo>
                <a:lnTo>
                  <a:pt x="241" y="2"/>
                </a:lnTo>
                <a:lnTo>
                  <a:pt x="197" y="4"/>
                </a:lnTo>
                <a:lnTo>
                  <a:pt x="155" y="10"/>
                </a:lnTo>
                <a:lnTo>
                  <a:pt x="119" y="16"/>
                </a:lnTo>
                <a:lnTo>
                  <a:pt x="84" y="25"/>
                </a:lnTo>
                <a:lnTo>
                  <a:pt x="56" y="35"/>
                </a:lnTo>
                <a:lnTo>
                  <a:pt x="33" y="44"/>
                </a:lnTo>
                <a:lnTo>
                  <a:pt x="15" y="56"/>
                </a:lnTo>
                <a:lnTo>
                  <a:pt x="4" y="69"/>
                </a:lnTo>
                <a:lnTo>
                  <a:pt x="0" y="83"/>
                </a:lnTo>
                <a:lnTo>
                  <a:pt x="0" y="287"/>
                </a:lnTo>
                <a:lnTo>
                  <a:pt x="4" y="300"/>
                </a:lnTo>
                <a:lnTo>
                  <a:pt x="15" y="312"/>
                </a:lnTo>
                <a:lnTo>
                  <a:pt x="33" y="323"/>
                </a:lnTo>
                <a:lnTo>
                  <a:pt x="56" y="335"/>
                </a:lnTo>
                <a:lnTo>
                  <a:pt x="84" y="344"/>
                </a:lnTo>
                <a:lnTo>
                  <a:pt x="119" y="352"/>
                </a:lnTo>
                <a:lnTo>
                  <a:pt x="155" y="360"/>
                </a:lnTo>
                <a:lnTo>
                  <a:pt x="197" y="364"/>
                </a:lnTo>
                <a:lnTo>
                  <a:pt x="241" y="367"/>
                </a:lnTo>
                <a:lnTo>
                  <a:pt x="287" y="367"/>
                </a:lnTo>
                <a:lnTo>
                  <a:pt x="335" y="367"/>
                </a:lnTo>
                <a:lnTo>
                  <a:pt x="379" y="364"/>
                </a:lnTo>
                <a:lnTo>
                  <a:pt x="419" y="360"/>
                </a:lnTo>
                <a:lnTo>
                  <a:pt x="457" y="352"/>
                </a:lnTo>
                <a:lnTo>
                  <a:pt x="490" y="344"/>
                </a:lnTo>
                <a:lnTo>
                  <a:pt x="519" y="335"/>
                </a:lnTo>
                <a:lnTo>
                  <a:pt x="544" y="323"/>
                </a:lnTo>
                <a:lnTo>
                  <a:pt x="561" y="312"/>
                </a:lnTo>
                <a:lnTo>
                  <a:pt x="570" y="300"/>
                </a:lnTo>
                <a:lnTo>
                  <a:pt x="574" y="287"/>
                </a:lnTo>
                <a:lnTo>
                  <a:pt x="574" y="83"/>
                </a:lnTo>
                <a:lnTo>
                  <a:pt x="574" y="83"/>
                </a:lnTo>
                <a:lnTo>
                  <a:pt x="574" y="8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270320" y="3933720"/>
            <a:ext cx="911160" cy="582840"/>
          </a:xfrm>
          <a:custGeom>
            <a:avLst/>
            <a:gdLst/>
            <a:ahLst/>
            <a:rect l="l" t="t" r="r" b="b"/>
            <a:pathLst>
              <a:path w="574" h="367">
                <a:moveTo>
                  <a:pt x="574" y="81"/>
                </a:moveTo>
                <a:lnTo>
                  <a:pt x="570" y="69"/>
                </a:lnTo>
                <a:lnTo>
                  <a:pt x="561" y="56"/>
                </a:lnTo>
                <a:lnTo>
                  <a:pt x="544" y="44"/>
                </a:lnTo>
                <a:lnTo>
                  <a:pt x="519" y="35"/>
                </a:lnTo>
                <a:lnTo>
                  <a:pt x="490" y="25"/>
                </a:lnTo>
                <a:lnTo>
                  <a:pt x="457" y="16"/>
                </a:lnTo>
                <a:lnTo>
                  <a:pt x="419" y="10"/>
                </a:lnTo>
                <a:lnTo>
                  <a:pt x="379" y="4"/>
                </a:lnTo>
                <a:lnTo>
                  <a:pt x="335" y="2"/>
                </a:lnTo>
                <a:lnTo>
                  <a:pt x="287" y="0"/>
                </a:lnTo>
                <a:lnTo>
                  <a:pt x="241" y="2"/>
                </a:lnTo>
                <a:lnTo>
                  <a:pt x="197" y="4"/>
                </a:lnTo>
                <a:lnTo>
                  <a:pt x="155" y="10"/>
                </a:lnTo>
                <a:lnTo>
                  <a:pt x="119" y="16"/>
                </a:lnTo>
                <a:lnTo>
                  <a:pt x="84" y="25"/>
                </a:lnTo>
                <a:lnTo>
                  <a:pt x="56" y="35"/>
                </a:lnTo>
                <a:lnTo>
                  <a:pt x="33" y="44"/>
                </a:lnTo>
                <a:lnTo>
                  <a:pt x="15" y="56"/>
                </a:lnTo>
                <a:lnTo>
                  <a:pt x="4" y="69"/>
                </a:lnTo>
                <a:lnTo>
                  <a:pt x="0" y="83"/>
                </a:lnTo>
                <a:lnTo>
                  <a:pt x="0" y="287"/>
                </a:lnTo>
                <a:lnTo>
                  <a:pt x="4" y="300"/>
                </a:lnTo>
                <a:lnTo>
                  <a:pt x="15" y="312"/>
                </a:lnTo>
                <a:lnTo>
                  <a:pt x="33" y="323"/>
                </a:lnTo>
                <a:lnTo>
                  <a:pt x="56" y="335"/>
                </a:lnTo>
                <a:lnTo>
                  <a:pt x="84" y="344"/>
                </a:lnTo>
                <a:lnTo>
                  <a:pt x="119" y="352"/>
                </a:lnTo>
                <a:lnTo>
                  <a:pt x="155" y="360"/>
                </a:lnTo>
                <a:lnTo>
                  <a:pt x="197" y="364"/>
                </a:lnTo>
                <a:lnTo>
                  <a:pt x="241" y="367"/>
                </a:lnTo>
                <a:lnTo>
                  <a:pt x="287" y="367"/>
                </a:lnTo>
                <a:lnTo>
                  <a:pt x="335" y="367"/>
                </a:lnTo>
                <a:lnTo>
                  <a:pt x="379" y="364"/>
                </a:lnTo>
                <a:lnTo>
                  <a:pt x="419" y="360"/>
                </a:lnTo>
                <a:lnTo>
                  <a:pt x="457" y="352"/>
                </a:lnTo>
                <a:lnTo>
                  <a:pt x="490" y="344"/>
                </a:lnTo>
                <a:lnTo>
                  <a:pt x="519" y="335"/>
                </a:lnTo>
                <a:lnTo>
                  <a:pt x="544" y="323"/>
                </a:lnTo>
                <a:lnTo>
                  <a:pt x="561" y="312"/>
                </a:lnTo>
                <a:lnTo>
                  <a:pt x="570" y="300"/>
                </a:lnTo>
                <a:lnTo>
                  <a:pt x="574" y="287"/>
                </a:lnTo>
                <a:lnTo>
                  <a:pt x="574" y="83"/>
                </a:lnTo>
                <a:lnTo>
                  <a:pt x="574" y="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211360" y="22446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2783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33628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8740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43636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6012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5101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56668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589360" y="2244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167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67360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3264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785920" y="2244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8197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87628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9252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9785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0350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181480" y="241632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181480" y="256860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181480" y="2720880"/>
            <a:ext cx="91152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181480" y="2871720"/>
            <a:ext cx="91152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81480" y="3024360"/>
            <a:ext cx="911520" cy="15048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181480" y="3174840"/>
            <a:ext cx="91152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181480" y="332748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181480" y="3479760"/>
            <a:ext cx="91152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181480" y="3630600"/>
            <a:ext cx="91152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270320" y="4062240"/>
            <a:ext cx="911160" cy="133560"/>
          </a:xfrm>
          <a:custGeom>
            <a:avLst/>
            <a:gdLst/>
            <a:ahLst/>
            <a:rect l="l" t="t" r="r" b="b"/>
            <a:pathLst>
              <a:path w="574" h="84">
                <a:moveTo>
                  <a:pt x="0" y="0"/>
                </a:moveTo>
                <a:lnTo>
                  <a:pt x="4" y="15"/>
                </a:lnTo>
                <a:lnTo>
                  <a:pt x="15" y="26"/>
                </a:lnTo>
                <a:lnTo>
                  <a:pt x="33" y="40"/>
                </a:lnTo>
                <a:lnTo>
                  <a:pt x="56" y="49"/>
                </a:lnTo>
                <a:lnTo>
                  <a:pt x="84" y="59"/>
                </a:lnTo>
                <a:lnTo>
                  <a:pt x="119" y="67"/>
                </a:lnTo>
                <a:lnTo>
                  <a:pt x="155" y="74"/>
                </a:lnTo>
                <a:lnTo>
                  <a:pt x="197" y="80"/>
                </a:lnTo>
                <a:lnTo>
                  <a:pt x="241" y="82"/>
                </a:lnTo>
                <a:lnTo>
                  <a:pt x="287" y="84"/>
                </a:lnTo>
                <a:lnTo>
                  <a:pt x="335" y="82"/>
                </a:lnTo>
                <a:lnTo>
                  <a:pt x="379" y="80"/>
                </a:lnTo>
                <a:lnTo>
                  <a:pt x="419" y="74"/>
                </a:lnTo>
                <a:lnTo>
                  <a:pt x="457" y="67"/>
                </a:lnTo>
                <a:lnTo>
                  <a:pt x="490" y="59"/>
                </a:lnTo>
                <a:lnTo>
                  <a:pt x="519" y="49"/>
                </a:lnTo>
                <a:lnTo>
                  <a:pt x="544" y="40"/>
                </a:lnTo>
                <a:lnTo>
                  <a:pt x="561" y="26"/>
                </a:lnTo>
                <a:lnTo>
                  <a:pt x="570" y="15"/>
                </a:lnTo>
                <a:lnTo>
                  <a:pt x="574" y="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257440" y="41688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330160" y="41688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35068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40324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454360" y="4168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48316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53716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59440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652720" y="4168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68656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73984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9204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843520" y="4168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98600" y="4168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056040" y="2568600"/>
            <a:ext cx="911160" cy="15228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056040" y="2871720"/>
            <a:ext cx="91116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056040" y="3174840"/>
            <a:ext cx="911160" cy="152640"/>
          </a:xfrm>
          <a:custGeom>
            <a:avLst/>
            <a:gdLst/>
            <a:ahLst/>
            <a:rect l="l" t="t" r="r" b="b"/>
            <a:pathLst>
              <a:path w="574" h="96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6"/>
                </a:lnTo>
                <a:lnTo>
                  <a:pt x="574" y="96"/>
                </a:lnTo>
                <a:lnTo>
                  <a:pt x="574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056040" y="347976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056040" y="378288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3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056040" y="408636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  <a:lnTo>
                  <a:pt x="574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056040" y="4086360"/>
            <a:ext cx="911160" cy="150840"/>
          </a:xfrm>
          <a:custGeom>
            <a:avLst/>
            <a:gdLst/>
            <a:ahLst/>
            <a:rect l="l" t="t" r="r" b="b"/>
            <a:pathLst>
              <a:path w="574" h="95">
                <a:moveTo>
                  <a:pt x="574" y="94"/>
                </a:moveTo>
                <a:lnTo>
                  <a:pt x="574" y="0"/>
                </a:lnTo>
                <a:lnTo>
                  <a:pt x="0" y="0"/>
                </a:lnTo>
                <a:lnTo>
                  <a:pt x="0" y="95"/>
                </a:lnTo>
                <a:lnTo>
                  <a:pt x="574" y="95"/>
                </a:lnTo>
                <a:lnTo>
                  <a:pt x="574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125160" y="22446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19176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12640" y="2244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246120" y="2244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2767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3321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388680" y="2244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409560" y="2244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4383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49560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55140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607920" y="2244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64176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6950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74724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798720" y="224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853800" y="2244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486240" y="246528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486240" y="261792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6"/>
                </a:lnTo>
                <a:lnTo>
                  <a:pt x="29" y="24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5"/>
                </a:lnTo>
                <a:lnTo>
                  <a:pt x="25" y="3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3"/>
                </a:lnTo>
                <a:lnTo>
                  <a:pt x="4" y="5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4"/>
                </a:lnTo>
                <a:lnTo>
                  <a:pt x="4" y="26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486240" y="276876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486240" y="307188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8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486240" y="322416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486240" y="3376440"/>
            <a:ext cx="52200" cy="5112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6"/>
                </a:lnTo>
                <a:lnTo>
                  <a:pt x="29" y="24"/>
                </a:lnTo>
                <a:lnTo>
                  <a:pt x="31" y="22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5"/>
                </a:lnTo>
                <a:lnTo>
                  <a:pt x="25" y="3"/>
                </a:lnTo>
                <a:lnTo>
                  <a:pt x="23" y="1"/>
                </a:lnTo>
                <a:lnTo>
                  <a:pt x="21" y="1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1"/>
                </a:lnTo>
                <a:lnTo>
                  <a:pt x="8" y="1"/>
                </a:lnTo>
                <a:lnTo>
                  <a:pt x="6" y="3"/>
                </a:lnTo>
                <a:lnTo>
                  <a:pt x="4" y="5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2"/>
                </a:lnTo>
                <a:lnTo>
                  <a:pt x="4" y="24"/>
                </a:lnTo>
                <a:lnTo>
                  <a:pt x="4" y="26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486240" y="352728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486240" y="367992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6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5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5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6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486240" y="383076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8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486240" y="398304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6240" y="413388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19" y="33"/>
                </a:lnTo>
                <a:lnTo>
                  <a:pt x="21" y="31"/>
                </a:lnTo>
                <a:lnTo>
                  <a:pt x="23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2"/>
                </a:lnTo>
                <a:lnTo>
                  <a:pt x="33" y="20"/>
                </a:lnTo>
                <a:lnTo>
                  <a:pt x="33" y="18"/>
                </a:lnTo>
                <a:lnTo>
                  <a:pt x="33" y="14"/>
                </a:lnTo>
                <a:lnTo>
                  <a:pt x="31" y="12"/>
                </a:lnTo>
                <a:lnTo>
                  <a:pt x="31" y="10"/>
                </a:lnTo>
                <a:lnTo>
                  <a:pt x="29" y="8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2" y="10"/>
                </a:lnTo>
                <a:lnTo>
                  <a:pt x="0" y="12"/>
                </a:lnTo>
                <a:lnTo>
                  <a:pt x="0" y="14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9"/>
                </a:lnTo>
                <a:lnTo>
                  <a:pt x="8" y="31"/>
                </a:lnTo>
                <a:lnTo>
                  <a:pt x="12" y="31"/>
                </a:lnTo>
                <a:lnTo>
                  <a:pt x="14" y="33"/>
                </a:lnTo>
                <a:lnTo>
                  <a:pt x="16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118120" y="25020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10"/>
                </a:moveTo>
                <a:lnTo>
                  <a:pt x="21" y="34"/>
                </a:lnTo>
                <a:lnTo>
                  <a:pt x="34" y="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589640" y="3970440"/>
            <a:ext cx="53640" cy="48960"/>
          </a:xfrm>
          <a:custGeom>
            <a:avLst/>
            <a:gdLst/>
            <a:ahLst/>
            <a:rect l="l" t="t" r="r" b="b"/>
            <a:pathLst>
              <a:path w="34" h="31">
                <a:moveTo>
                  <a:pt x="13" y="0"/>
                </a:moveTo>
                <a:lnTo>
                  <a:pt x="0" y="29"/>
                </a:lnTo>
                <a:lnTo>
                  <a:pt x="34" y="31"/>
                </a:lnTo>
                <a:lnTo>
                  <a:pt x="15" y="0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142880" y="23893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2130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2670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325400" y="2389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35924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412520" y="2389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465080" y="2389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16200" y="2389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543200" y="2389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571640" y="2389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6054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66236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715640" y="2389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68200" y="2389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78944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847760" y="2389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874400" y="2389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89600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954680" y="2389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67240" y="399564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8" y="0"/>
                </a:moveTo>
                <a:lnTo>
                  <a:pt x="0" y="32"/>
                </a:lnTo>
                <a:lnTo>
                  <a:pt x="35" y="26"/>
                </a:lnTo>
                <a:lnTo>
                  <a:pt x="10" y="1"/>
                </a:lnTo>
                <a:lnTo>
                  <a:pt x="10" y="1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10000" y="4062240"/>
            <a:ext cx="55800" cy="51120"/>
          </a:xfrm>
          <a:custGeom>
            <a:avLst/>
            <a:gdLst/>
            <a:ahLst/>
            <a:rect l="l" t="t" r="r" b="b"/>
            <a:pathLst>
              <a:path w="35" h="32">
                <a:moveTo>
                  <a:pt x="0" y="0"/>
                </a:moveTo>
                <a:lnTo>
                  <a:pt x="4" y="32"/>
                </a:lnTo>
                <a:lnTo>
                  <a:pt x="35" y="15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3511440" y="4089240"/>
            <a:ext cx="9176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 flipV="1">
            <a:off x="3511080" y="3403080"/>
            <a:ext cx="1101960" cy="5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511440" y="3703680"/>
            <a:ext cx="9748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3511440" y="2528640"/>
            <a:ext cx="163044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121360" y="276228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2" y="0"/>
                </a:moveTo>
                <a:lnTo>
                  <a:pt x="0" y="33"/>
                </a:lnTo>
                <a:lnTo>
                  <a:pt x="32" y="1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511440" y="2641680"/>
            <a:ext cx="162576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118120" y="306072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6" y="0"/>
                </a:moveTo>
                <a:lnTo>
                  <a:pt x="0" y="32"/>
                </a:lnTo>
                <a:lnTo>
                  <a:pt x="34" y="23"/>
                </a:ln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511440" y="2792520"/>
            <a:ext cx="162576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118120" y="319392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4" y="0"/>
                </a:moveTo>
                <a:lnTo>
                  <a:pt x="0" y="32"/>
                </a:lnTo>
                <a:lnTo>
                  <a:pt x="34" y="21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18120" y="3260880"/>
            <a:ext cx="54000" cy="47520"/>
          </a:xfrm>
          <a:custGeom>
            <a:avLst/>
            <a:gdLst/>
            <a:ahLst/>
            <a:rect l="l" t="t" r="r" b="b"/>
            <a:pathLst>
              <a:path w="34" h="30">
                <a:moveTo>
                  <a:pt x="0" y="0"/>
                </a:moveTo>
                <a:lnTo>
                  <a:pt x="6" y="30"/>
                </a:lnTo>
                <a:lnTo>
                  <a:pt x="34" y="1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14880" y="3348000"/>
            <a:ext cx="57240" cy="46080"/>
          </a:xfrm>
          <a:custGeom>
            <a:avLst/>
            <a:gdLst/>
            <a:ahLst/>
            <a:rect l="l" t="t" r="r" b="b"/>
            <a:pathLst>
              <a:path w="36" h="29">
                <a:moveTo>
                  <a:pt x="15" y="0"/>
                </a:moveTo>
                <a:lnTo>
                  <a:pt x="0" y="29"/>
                </a:lnTo>
                <a:lnTo>
                  <a:pt x="36" y="29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511440" y="2489040"/>
            <a:ext cx="162720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118120" y="351468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6" y="0"/>
                </a:moveTo>
                <a:lnTo>
                  <a:pt x="0" y="33"/>
                </a:lnTo>
                <a:lnTo>
                  <a:pt x="34" y="23"/>
                </a:ln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511440" y="3247920"/>
            <a:ext cx="162576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18120" y="368604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0" y="0"/>
                </a:moveTo>
                <a:lnTo>
                  <a:pt x="4" y="32"/>
                </a:lnTo>
                <a:lnTo>
                  <a:pt x="34" y="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3511440" y="3709800"/>
            <a:ext cx="162720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3511440" y="3284280"/>
            <a:ext cx="162576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511440" y="3097080"/>
            <a:ext cx="16225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486240" y="292104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32"/>
                </a:moveTo>
                <a:lnTo>
                  <a:pt x="19" y="32"/>
                </a:lnTo>
                <a:lnTo>
                  <a:pt x="21" y="30"/>
                </a:lnTo>
                <a:lnTo>
                  <a:pt x="23" y="30"/>
                </a:lnTo>
                <a:lnTo>
                  <a:pt x="25" y="28"/>
                </a:lnTo>
                <a:lnTo>
                  <a:pt x="27" y="27"/>
                </a:lnTo>
                <a:lnTo>
                  <a:pt x="29" y="25"/>
                </a:lnTo>
                <a:lnTo>
                  <a:pt x="31" y="23"/>
                </a:lnTo>
                <a:lnTo>
                  <a:pt x="31" y="21"/>
                </a:lnTo>
                <a:lnTo>
                  <a:pt x="33" y="19"/>
                </a:lnTo>
                <a:lnTo>
                  <a:pt x="33" y="17"/>
                </a:lnTo>
                <a:lnTo>
                  <a:pt x="33" y="13"/>
                </a:lnTo>
                <a:lnTo>
                  <a:pt x="31" y="11"/>
                </a:lnTo>
                <a:lnTo>
                  <a:pt x="31" y="9"/>
                </a:lnTo>
                <a:lnTo>
                  <a:pt x="29" y="7"/>
                </a:lnTo>
                <a:lnTo>
                  <a:pt x="27" y="6"/>
                </a:lnTo>
                <a:lnTo>
                  <a:pt x="25" y="4"/>
                </a:lnTo>
                <a:lnTo>
                  <a:pt x="23" y="2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4" y="7"/>
                </a:lnTo>
                <a:lnTo>
                  <a:pt x="2" y="9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2" y="23"/>
                </a:lnTo>
                <a:lnTo>
                  <a:pt x="4" y="25"/>
                </a:lnTo>
                <a:lnTo>
                  <a:pt x="4" y="27"/>
                </a:lnTo>
                <a:lnTo>
                  <a:pt x="6" y="28"/>
                </a:lnTo>
                <a:lnTo>
                  <a:pt x="8" y="30"/>
                </a:lnTo>
                <a:lnTo>
                  <a:pt x="12" y="30"/>
                </a:lnTo>
                <a:lnTo>
                  <a:pt x="14" y="32"/>
                </a:lnTo>
                <a:lnTo>
                  <a:pt x="16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11440" y="2944800"/>
            <a:ext cx="16257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21360" y="29210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0"/>
                </a:moveTo>
                <a:lnTo>
                  <a:pt x="0" y="32"/>
                </a:lnTo>
                <a:lnTo>
                  <a:pt x="32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-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2679840" y="3611520"/>
            <a:ext cx="3646440" cy="1938240"/>
            <a:chOff x="2679840" y="3611520"/>
            <a:chExt cx="3646440" cy="1938240"/>
          </a:xfrm>
        </p:grpSpPr>
        <p:sp>
          <p:nvSpPr>
            <p:cNvPr id="2547" name=""/>
            <p:cNvSpPr/>
            <p:nvPr/>
          </p:nvSpPr>
          <p:spPr>
            <a:xfrm>
              <a:off x="3438360" y="4538520"/>
              <a:ext cx="760680" cy="228600"/>
            </a:xfrm>
            <a:custGeom>
              <a:avLst/>
              <a:gdLst/>
              <a:ahLst/>
              <a:rect l="l" t="t" r="r" b="b"/>
              <a:pathLst>
                <a:path w="479" h="144">
                  <a:moveTo>
                    <a:pt x="406" y="144"/>
                  </a:moveTo>
                  <a:lnTo>
                    <a:pt x="420" y="144"/>
                  </a:lnTo>
                  <a:lnTo>
                    <a:pt x="431" y="140"/>
                  </a:lnTo>
                  <a:lnTo>
                    <a:pt x="441" y="136"/>
                  </a:lnTo>
                  <a:lnTo>
                    <a:pt x="450" y="130"/>
                  </a:lnTo>
                  <a:lnTo>
                    <a:pt x="458" y="123"/>
                  </a:lnTo>
                  <a:lnTo>
                    <a:pt x="466" y="115"/>
                  </a:lnTo>
                  <a:lnTo>
                    <a:pt x="471" y="105"/>
                  </a:lnTo>
                  <a:lnTo>
                    <a:pt x="475" y="96"/>
                  </a:lnTo>
                  <a:lnTo>
                    <a:pt x="479" y="84"/>
                  </a:lnTo>
                  <a:lnTo>
                    <a:pt x="479" y="73"/>
                  </a:lnTo>
                  <a:lnTo>
                    <a:pt x="479" y="62"/>
                  </a:lnTo>
                  <a:lnTo>
                    <a:pt x="475" y="50"/>
                  </a:lnTo>
                  <a:lnTo>
                    <a:pt x="471" y="39"/>
                  </a:lnTo>
                  <a:lnTo>
                    <a:pt x="466" y="31"/>
                  </a:lnTo>
                  <a:lnTo>
                    <a:pt x="458" y="21"/>
                  </a:lnTo>
                  <a:lnTo>
                    <a:pt x="450" y="14"/>
                  </a:lnTo>
                  <a:lnTo>
                    <a:pt x="441" y="8"/>
                  </a:lnTo>
                  <a:lnTo>
                    <a:pt x="431" y="4"/>
                  </a:lnTo>
                  <a:lnTo>
                    <a:pt x="420" y="2"/>
                  </a:lnTo>
                  <a:lnTo>
                    <a:pt x="408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4"/>
                  </a:lnTo>
                  <a:lnTo>
                    <a:pt x="41" y="8"/>
                  </a:lnTo>
                  <a:lnTo>
                    <a:pt x="31" y="14"/>
                  </a:lnTo>
                  <a:lnTo>
                    <a:pt x="21" y="21"/>
                  </a:lnTo>
                  <a:lnTo>
                    <a:pt x="16" y="31"/>
                  </a:lnTo>
                  <a:lnTo>
                    <a:pt x="10" y="39"/>
                  </a:lnTo>
                  <a:lnTo>
                    <a:pt x="4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2" y="84"/>
                  </a:lnTo>
                  <a:lnTo>
                    <a:pt x="4" y="96"/>
                  </a:lnTo>
                  <a:lnTo>
                    <a:pt x="10" y="105"/>
                  </a:lnTo>
                  <a:lnTo>
                    <a:pt x="16" y="115"/>
                  </a:lnTo>
                  <a:lnTo>
                    <a:pt x="21" y="123"/>
                  </a:lnTo>
                  <a:lnTo>
                    <a:pt x="31" y="130"/>
                  </a:lnTo>
                  <a:lnTo>
                    <a:pt x="41" y="136"/>
                  </a:lnTo>
                  <a:lnTo>
                    <a:pt x="50" y="140"/>
                  </a:lnTo>
                  <a:lnTo>
                    <a:pt x="62" y="144"/>
                  </a:lnTo>
                  <a:lnTo>
                    <a:pt x="73" y="144"/>
                  </a:lnTo>
                  <a:lnTo>
                    <a:pt x="408" y="144"/>
                  </a:lnTo>
                  <a:lnTo>
                    <a:pt x="408" y="144"/>
                  </a:lnTo>
                  <a:lnTo>
                    <a:pt x="406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438360" y="4538520"/>
              <a:ext cx="760680" cy="228600"/>
            </a:xfrm>
            <a:custGeom>
              <a:avLst/>
              <a:gdLst/>
              <a:ahLst/>
              <a:rect l="l" t="t" r="r" b="b"/>
              <a:pathLst>
                <a:path w="479" h="144">
                  <a:moveTo>
                    <a:pt x="406" y="144"/>
                  </a:moveTo>
                  <a:lnTo>
                    <a:pt x="420" y="144"/>
                  </a:lnTo>
                  <a:lnTo>
                    <a:pt x="431" y="140"/>
                  </a:lnTo>
                  <a:lnTo>
                    <a:pt x="441" y="136"/>
                  </a:lnTo>
                  <a:lnTo>
                    <a:pt x="450" y="130"/>
                  </a:lnTo>
                  <a:lnTo>
                    <a:pt x="458" y="123"/>
                  </a:lnTo>
                  <a:lnTo>
                    <a:pt x="466" y="115"/>
                  </a:lnTo>
                  <a:lnTo>
                    <a:pt x="471" y="105"/>
                  </a:lnTo>
                  <a:lnTo>
                    <a:pt x="475" y="96"/>
                  </a:lnTo>
                  <a:lnTo>
                    <a:pt x="479" y="84"/>
                  </a:lnTo>
                  <a:lnTo>
                    <a:pt x="479" y="73"/>
                  </a:lnTo>
                  <a:lnTo>
                    <a:pt x="479" y="62"/>
                  </a:lnTo>
                  <a:lnTo>
                    <a:pt x="475" y="50"/>
                  </a:lnTo>
                  <a:lnTo>
                    <a:pt x="471" y="39"/>
                  </a:lnTo>
                  <a:lnTo>
                    <a:pt x="466" y="31"/>
                  </a:lnTo>
                  <a:lnTo>
                    <a:pt x="458" y="21"/>
                  </a:lnTo>
                  <a:lnTo>
                    <a:pt x="450" y="14"/>
                  </a:lnTo>
                  <a:lnTo>
                    <a:pt x="441" y="8"/>
                  </a:lnTo>
                  <a:lnTo>
                    <a:pt x="431" y="4"/>
                  </a:lnTo>
                  <a:lnTo>
                    <a:pt x="420" y="2"/>
                  </a:lnTo>
                  <a:lnTo>
                    <a:pt x="408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4"/>
                  </a:lnTo>
                  <a:lnTo>
                    <a:pt x="41" y="8"/>
                  </a:lnTo>
                  <a:lnTo>
                    <a:pt x="31" y="14"/>
                  </a:lnTo>
                  <a:lnTo>
                    <a:pt x="21" y="21"/>
                  </a:lnTo>
                  <a:lnTo>
                    <a:pt x="16" y="31"/>
                  </a:lnTo>
                  <a:lnTo>
                    <a:pt x="10" y="39"/>
                  </a:lnTo>
                  <a:lnTo>
                    <a:pt x="4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2" y="84"/>
                  </a:lnTo>
                  <a:lnTo>
                    <a:pt x="4" y="96"/>
                  </a:lnTo>
                  <a:lnTo>
                    <a:pt x="10" y="105"/>
                  </a:lnTo>
                  <a:lnTo>
                    <a:pt x="16" y="115"/>
                  </a:lnTo>
                  <a:lnTo>
                    <a:pt x="21" y="123"/>
                  </a:lnTo>
                  <a:lnTo>
                    <a:pt x="31" y="130"/>
                  </a:lnTo>
                  <a:lnTo>
                    <a:pt x="41" y="136"/>
                  </a:lnTo>
                  <a:lnTo>
                    <a:pt x="50" y="140"/>
                  </a:lnTo>
                  <a:lnTo>
                    <a:pt x="62" y="144"/>
                  </a:lnTo>
                  <a:lnTo>
                    <a:pt x="73" y="144"/>
                  </a:lnTo>
                  <a:lnTo>
                    <a:pt x="408" y="144"/>
                  </a:lnTo>
                  <a:lnTo>
                    <a:pt x="40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9659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02244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0498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1084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1358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1894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197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794200" y="38750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85936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30840" y="38750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4959360" y="3971880"/>
              <a:ext cx="144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679840" y="3971880"/>
              <a:ext cx="3646440" cy="303120"/>
            </a:xfrm>
            <a:custGeom>
              <a:avLst/>
              <a:gdLst/>
              <a:ahLst/>
              <a:rect l="l" t="t" r="r" b="b"/>
              <a:pathLst>
                <a:path w="2297" h="191">
                  <a:moveTo>
                    <a:pt x="0" y="189"/>
                  </a:moveTo>
                  <a:lnTo>
                    <a:pt x="0" y="0"/>
                  </a:lnTo>
                  <a:lnTo>
                    <a:pt x="2297" y="0"/>
                  </a:lnTo>
                  <a:lnTo>
                    <a:pt x="2297" y="191"/>
                  </a:lnTo>
                  <a:lnTo>
                    <a:pt x="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9957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0529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10804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1354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1926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5096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2783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33196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3625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3419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3988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4542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4845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403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59720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6245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800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73688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7642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229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7036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7608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1592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4328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9005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95560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98620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0416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09852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12588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18132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238200" y="3798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26556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24240" y="37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60700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670720" y="38750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184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82880" y="38750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846600" y="38750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2096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59424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5760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53052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973680" y="3875040"/>
              <a:ext cx="1872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38480" y="3875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90996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162320" y="38750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226040" y="38750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102200" y="38750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390640" y="4064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5796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51484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57064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62716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65452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71320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74020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766840" y="4064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81976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7340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371400" y="4064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440880" y="4064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463560" y="4064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49704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5244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58128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36360" y="4064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048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8784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74652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80052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592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912840" y="4064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402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99888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52160" y="4064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13856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195800" y="4064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250880" y="4064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168440" y="3611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234680" y="3611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58800" y="3611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292280" y="3611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32108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37832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433040" y="3611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54280" y="3611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8452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54032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59756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650840" y="3611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68468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742640" y="3611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793400" y="3611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9659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2244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0498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1084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1358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1894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197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794200" y="49370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85936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730840" y="49370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4959360" y="5033880"/>
              <a:ext cx="144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982960" y="5033880"/>
              <a:ext cx="3343320" cy="303120"/>
            </a:xfrm>
            <a:custGeom>
              <a:avLst/>
              <a:gdLst/>
              <a:ahLst/>
              <a:rect l="l" t="t" r="r" b="b"/>
              <a:pathLst>
                <a:path w="2106" h="191">
                  <a:moveTo>
                    <a:pt x="0" y="189"/>
                  </a:moveTo>
                  <a:lnTo>
                    <a:pt x="0" y="0"/>
                  </a:lnTo>
                  <a:lnTo>
                    <a:pt x="2106" y="0"/>
                  </a:lnTo>
                  <a:lnTo>
                    <a:pt x="2106" y="191"/>
                  </a:lnTo>
                  <a:lnTo>
                    <a:pt x="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9957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0529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0804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354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1926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25096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2783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33196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3625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3419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3988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4542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4845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403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9720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45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800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73688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642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8229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00672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06540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11904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14784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0508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58720" y="486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907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344760" y="4861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60700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670720" y="4937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54184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782880" y="49370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46600" y="4937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2096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59424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65760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53052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73680" y="4937040"/>
              <a:ext cx="1872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038480" y="493704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1"/>
                  </a:move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90996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162320" y="49370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226040" y="49370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102200" y="4937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11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90640" y="5124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4579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51484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57064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2716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65452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71320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74020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76684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8197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87340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484080" y="5124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5542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60936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66012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09440" y="5124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33200" y="512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78612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839400" y="5124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86208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38926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39466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053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593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15880" y="512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504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20228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255200" y="512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34196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397400" y="512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454280" y="5124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81120" y="542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348080" y="542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404600" y="542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453920" y="542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504680" y="542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529880" y="542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7" name=""/>
          <p:cNvSpPr/>
          <p:nvPr/>
        </p:nvSpPr>
        <p:spPr>
          <a:xfrm>
            <a:off x="457848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636440" y="54277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657320" y="54277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68468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474336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79736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855680" y="54277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889520" y="542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946040" y="5427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995000" y="5427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794040" y="49737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1" y="0"/>
                </a:moveTo>
                <a:lnTo>
                  <a:pt x="0" y="2"/>
                </a:lnTo>
                <a:lnTo>
                  <a:pt x="16" y="32"/>
                </a:lnTo>
                <a:lnTo>
                  <a:pt x="33" y="2"/>
                </a:lnTo>
                <a:lnTo>
                  <a:pt x="33" y="2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572640" y="459432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636720" y="4594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67020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72420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782160" y="4594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830040" y="4594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85596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3909600" y="4594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939480" y="45943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96252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019400" y="4594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618160" y="497376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0"/>
                </a:moveTo>
                <a:lnTo>
                  <a:pt x="0" y="2"/>
                </a:lnTo>
                <a:lnTo>
                  <a:pt x="16" y="32"/>
                </a:lnTo>
                <a:lnTo>
                  <a:pt x="31" y="2"/>
                </a:lnTo>
                <a:lnTo>
                  <a:pt x="31" y="2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643720" y="4272120"/>
            <a:ext cx="1440" cy="7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794040" y="4481640"/>
            <a:ext cx="5256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31" y="0"/>
                </a:moveTo>
                <a:lnTo>
                  <a:pt x="0" y="0"/>
                </a:lnTo>
                <a:lnTo>
                  <a:pt x="16" y="33"/>
                </a:lnTo>
                <a:lnTo>
                  <a:pt x="33" y="0"/>
                </a:lnTo>
                <a:lnTo>
                  <a:pt x="33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819600" y="4272120"/>
            <a:ext cx="144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3819600" y="4767120"/>
            <a:ext cx="144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2414520" y="1755720"/>
            <a:ext cx="4314960" cy="3247920"/>
            <a:chOff x="2414520" y="1755720"/>
            <a:chExt cx="4314960" cy="3247920"/>
          </a:xfrm>
        </p:grpSpPr>
        <p:sp>
          <p:nvSpPr>
            <p:cNvPr id="2776" name=""/>
            <p:cNvSpPr/>
            <p:nvPr/>
          </p:nvSpPr>
          <p:spPr>
            <a:xfrm>
              <a:off x="3274920" y="27306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274920" y="27306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162240" y="27306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162240" y="27306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274920" y="30351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274920" y="30351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162240" y="30351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162240" y="30351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274920" y="333864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274920" y="333864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162240" y="333864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3864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274920" y="364320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274920" y="364320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162240" y="364320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162240" y="364320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274920" y="39466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274920" y="39466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162240" y="39466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162240" y="39466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274920" y="42498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274920" y="424980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162240" y="42498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162240" y="424980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274920" y="257796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274920" y="257796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162240" y="257796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162240" y="257796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274920" y="28828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274920" y="288288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162240" y="28828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162240" y="288288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274920" y="318600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3274920" y="318600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162240" y="318600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162240" y="318600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74920" y="349092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274920" y="3490920"/>
              <a:ext cx="1095480" cy="15228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162240" y="349092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162240" y="3490920"/>
              <a:ext cx="112680" cy="1522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274920" y="379404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  <a:lnTo>
                    <a:pt x="68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274920" y="3794040"/>
              <a:ext cx="1095480" cy="152640"/>
            </a:xfrm>
            <a:custGeom>
              <a:avLst/>
              <a:gdLst/>
              <a:ahLst/>
              <a:rect l="l" t="t" r="r" b="b"/>
              <a:pathLst>
                <a:path w="690" h="96">
                  <a:moveTo>
                    <a:pt x="688" y="96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690" y="96"/>
                  </a:lnTo>
                  <a:lnTo>
                    <a:pt x="69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162240" y="379404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162240" y="3794040"/>
              <a:ext cx="112680" cy="15264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71" y="96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1" y="96"/>
                  </a:lnTo>
                  <a:lnTo>
                    <a:pt x="7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274920" y="40989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274920" y="409896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162240" y="40989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162240" y="409896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11720" y="3986280"/>
              <a:ext cx="1506600" cy="1017360"/>
            </a:xfrm>
            <a:custGeom>
              <a:avLst/>
              <a:gdLst/>
              <a:ahLst/>
              <a:rect l="l" t="t" r="r" b="b"/>
              <a:pathLst>
                <a:path w="949" h="641">
                  <a:moveTo>
                    <a:pt x="947" y="80"/>
                  </a:moveTo>
                  <a:lnTo>
                    <a:pt x="941" y="69"/>
                  </a:lnTo>
                  <a:lnTo>
                    <a:pt x="924" y="55"/>
                  </a:lnTo>
                  <a:lnTo>
                    <a:pt x="895" y="44"/>
                  </a:lnTo>
                  <a:lnTo>
                    <a:pt x="857" y="34"/>
                  </a:lnTo>
                  <a:lnTo>
                    <a:pt x="809" y="25"/>
                  </a:lnTo>
                  <a:lnTo>
                    <a:pt x="753" y="15"/>
                  </a:lnTo>
                  <a:lnTo>
                    <a:pt x="692" y="9"/>
                  </a:lnTo>
                  <a:lnTo>
                    <a:pt x="623" y="4"/>
                  </a:lnTo>
                  <a:lnTo>
                    <a:pt x="550" y="2"/>
                  </a:lnTo>
                  <a:lnTo>
                    <a:pt x="473" y="0"/>
                  </a:lnTo>
                  <a:lnTo>
                    <a:pt x="397" y="2"/>
                  </a:lnTo>
                  <a:lnTo>
                    <a:pt x="324" y="4"/>
                  </a:lnTo>
                  <a:lnTo>
                    <a:pt x="255" y="9"/>
                  </a:lnTo>
                  <a:lnTo>
                    <a:pt x="194" y="15"/>
                  </a:lnTo>
                  <a:lnTo>
                    <a:pt x="138" y="25"/>
                  </a:lnTo>
                  <a:lnTo>
                    <a:pt x="90" y="34"/>
                  </a:lnTo>
                  <a:lnTo>
                    <a:pt x="52" y="44"/>
                  </a:lnTo>
                  <a:lnTo>
                    <a:pt x="23" y="55"/>
                  </a:lnTo>
                  <a:lnTo>
                    <a:pt x="6" y="69"/>
                  </a:lnTo>
                  <a:lnTo>
                    <a:pt x="0" y="82"/>
                  </a:lnTo>
                  <a:lnTo>
                    <a:pt x="0" y="561"/>
                  </a:lnTo>
                  <a:lnTo>
                    <a:pt x="6" y="574"/>
                  </a:lnTo>
                  <a:lnTo>
                    <a:pt x="23" y="586"/>
                  </a:lnTo>
                  <a:lnTo>
                    <a:pt x="52" y="597"/>
                  </a:lnTo>
                  <a:lnTo>
                    <a:pt x="90" y="609"/>
                  </a:lnTo>
                  <a:lnTo>
                    <a:pt x="138" y="618"/>
                  </a:lnTo>
                  <a:lnTo>
                    <a:pt x="194" y="626"/>
                  </a:lnTo>
                  <a:lnTo>
                    <a:pt x="255" y="634"/>
                  </a:lnTo>
                  <a:lnTo>
                    <a:pt x="324" y="637"/>
                  </a:lnTo>
                  <a:lnTo>
                    <a:pt x="397" y="641"/>
                  </a:lnTo>
                  <a:lnTo>
                    <a:pt x="473" y="641"/>
                  </a:lnTo>
                  <a:lnTo>
                    <a:pt x="550" y="641"/>
                  </a:lnTo>
                  <a:lnTo>
                    <a:pt x="623" y="637"/>
                  </a:lnTo>
                  <a:lnTo>
                    <a:pt x="692" y="634"/>
                  </a:lnTo>
                  <a:lnTo>
                    <a:pt x="753" y="626"/>
                  </a:lnTo>
                  <a:lnTo>
                    <a:pt x="809" y="618"/>
                  </a:lnTo>
                  <a:lnTo>
                    <a:pt x="857" y="609"/>
                  </a:lnTo>
                  <a:lnTo>
                    <a:pt x="895" y="597"/>
                  </a:lnTo>
                  <a:lnTo>
                    <a:pt x="924" y="586"/>
                  </a:lnTo>
                  <a:lnTo>
                    <a:pt x="941" y="574"/>
                  </a:lnTo>
                  <a:lnTo>
                    <a:pt x="949" y="561"/>
                  </a:lnTo>
                  <a:lnTo>
                    <a:pt x="949" y="82"/>
                  </a:lnTo>
                  <a:lnTo>
                    <a:pt x="949" y="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679720" y="2084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4668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80464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85396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904720" y="20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92524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97852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33240" y="20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057720" y="208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084000" y="20844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17076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223680" y="20844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31044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366960" y="2084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400080" y="208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383080" y="2254320"/>
              <a:ext cx="1346400" cy="150840"/>
            </a:xfrm>
            <a:custGeom>
              <a:avLst/>
              <a:gdLst/>
              <a:ahLst/>
              <a:rect l="l" t="t" r="r" b="b"/>
              <a:pathLst>
                <a:path w="848" h="95">
                  <a:moveTo>
                    <a:pt x="848" y="95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8" y="95"/>
                  </a:lnTo>
                  <a:lnTo>
                    <a:pt x="848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383080" y="240516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383080" y="255744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383080" y="2709720"/>
              <a:ext cx="1346400" cy="150840"/>
            </a:xfrm>
            <a:custGeom>
              <a:avLst/>
              <a:gdLst/>
              <a:ahLst/>
              <a:rect l="l" t="t" r="r" b="b"/>
              <a:pathLst>
                <a:path w="848" h="95">
                  <a:moveTo>
                    <a:pt x="848" y="95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8" y="95"/>
                  </a:lnTo>
                  <a:lnTo>
                    <a:pt x="848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383080" y="2860560"/>
              <a:ext cx="1346400" cy="15264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383080" y="301320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383080" y="3165480"/>
              <a:ext cx="1346400" cy="15228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83080" y="3317760"/>
              <a:ext cx="1346400" cy="150840"/>
            </a:xfrm>
            <a:custGeom>
              <a:avLst/>
              <a:gdLst/>
              <a:ahLst/>
              <a:rect l="l" t="t" r="r" b="b"/>
              <a:pathLst>
                <a:path w="848" h="95">
                  <a:moveTo>
                    <a:pt x="848" y="95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8" y="95"/>
                  </a:lnTo>
                  <a:lnTo>
                    <a:pt x="848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383080" y="3468600"/>
              <a:ext cx="1346400" cy="152640"/>
            </a:xfrm>
            <a:custGeom>
              <a:avLst/>
              <a:gdLst/>
              <a:ahLst/>
              <a:rect l="l" t="t" r="r" b="b"/>
              <a:pathLst>
                <a:path w="848" h="96">
                  <a:moveTo>
                    <a:pt x="848" y="96"/>
                  </a:moveTo>
                  <a:lnTo>
                    <a:pt x="84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8" y="96"/>
                  </a:lnTo>
                  <a:lnTo>
                    <a:pt x="84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311800" y="4311720"/>
              <a:ext cx="1347840" cy="15084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  <a:lnTo>
                    <a:pt x="849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11800" y="4311720"/>
              <a:ext cx="1347840" cy="15084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311800" y="4511520"/>
              <a:ext cx="1347840" cy="15264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311800" y="4511520"/>
              <a:ext cx="1347840" cy="15264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311800" y="4714920"/>
              <a:ext cx="1347840" cy="1522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9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11800" y="4714920"/>
              <a:ext cx="1347840" cy="1522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9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208480" y="4113360"/>
              <a:ext cx="1509840" cy="134640"/>
            </a:xfrm>
            <a:custGeom>
              <a:avLst/>
              <a:gdLst/>
              <a:ahLst/>
              <a:rect l="l" t="t" r="r" b="b"/>
              <a:pathLst>
                <a:path w="951" h="85">
                  <a:moveTo>
                    <a:pt x="0" y="0"/>
                  </a:moveTo>
                  <a:lnTo>
                    <a:pt x="8" y="16"/>
                  </a:lnTo>
                  <a:lnTo>
                    <a:pt x="25" y="27"/>
                  </a:lnTo>
                  <a:lnTo>
                    <a:pt x="54" y="40"/>
                  </a:lnTo>
                  <a:lnTo>
                    <a:pt x="92" y="50"/>
                  </a:lnTo>
                  <a:lnTo>
                    <a:pt x="140" y="60"/>
                  </a:lnTo>
                  <a:lnTo>
                    <a:pt x="196" y="67"/>
                  </a:lnTo>
                  <a:lnTo>
                    <a:pt x="257" y="75"/>
                  </a:lnTo>
                  <a:lnTo>
                    <a:pt x="326" y="81"/>
                  </a:lnTo>
                  <a:lnTo>
                    <a:pt x="399" y="83"/>
                  </a:lnTo>
                  <a:lnTo>
                    <a:pt x="475" y="85"/>
                  </a:lnTo>
                  <a:lnTo>
                    <a:pt x="552" y="83"/>
                  </a:lnTo>
                  <a:lnTo>
                    <a:pt x="625" y="81"/>
                  </a:lnTo>
                  <a:lnTo>
                    <a:pt x="694" y="75"/>
                  </a:lnTo>
                  <a:lnTo>
                    <a:pt x="755" y="67"/>
                  </a:lnTo>
                  <a:lnTo>
                    <a:pt x="811" y="60"/>
                  </a:lnTo>
                  <a:lnTo>
                    <a:pt x="859" y="50"/>
                  </a:lnTo>
                  <a:lnTo>
                    <a:pt x="897" y="40"/>
                  </a:lnTo>
                  <a:lnTo>
                    <a:pt x="926" y="27"/>
                  </a:lnTo>
                  <a:lnTo>
                    <a:pt x="943" y="16"/>
                  </a:lnTo>
                  <a:lnTo>
                    <a:pt x="95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692320" y="3822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65040" y="3822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88800" y="3822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841360" y="3822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889240" y="3822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917320" y="3822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68800" y="3822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9760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54480" y="3822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08796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14520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200640" y="382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274920" y="2427120"/>
              <a:ext cx="1095480" cy="150840"/>
            </a:xfrm>
            <a:custGeom>
              <a:avLst/>
              <a:gdLst/>
              <a:ahLst/>
              <a:rect l="l" t="t" r="r" b="b"/>
              <a:pathLst>
                <a:path w="690" h="95">
                  <a:moveTo>
                    <a:pt x="688" y="95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690" y="95"/>
                  </a:lnTo>
                  <a:lnTo>
                    <a:pt x="69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115800" y="2260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182760" y="2260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237840" y="2260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261600" y="2260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284640" y="2260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162240" y="2427120"/>
              <a:ext cx="112680" cy="150840"/>
            </a:xfrm>
            <a:custGeom>
              <a:avLst/>
              <a:gdLst/>
              <a:ahLst/>
              <a:rect l="l" t="t" r="r" b="b"/>
              <a:pathLst>
                <a:path w="71" h="95">
                  <a:moveTo>
                    <a:pt x="71" y="9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1" y="95"/>
                  </a:lnTo>
                  <a:lnTo>
                    <a:pt x="7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189240" y="259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189240" y="27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189240" y="289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189240" y="305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189240" y="320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189240" y="335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189240" y="3506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189240" y="36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189240" y="380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189240" y="396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18924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189240" y="42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557160" y="20019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62412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67992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3680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792240" y="2001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822480" y="2001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84984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90384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961800" y="2001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983040" y="200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22760" y="26305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722760" y="278280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722760" y="2933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722760" y="3086280"/>
              <a:ext cx="50760" cy="489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722760" y="32385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722760" y="339084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722760" y="354168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722760" y="36939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722760" y="384660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722760" y="399888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722760" y="41497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722760" y="43020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414520" y="2046240"/>
              <a:ext cx="608040" cy="152280"/>
            </a:xfrm>
            <a:custGeom>
              <a:avLst/>
              <a:gdLst/>
              <a:ahLst/>
              <a:rect l="l" t="t" r="r" b="b"/>
              <a:pathLst>
                <a:path w="383" h="96">
                  <a:moveTo>
                    <a:pt x="383" y="96"/>
                  </a:moveTo>
                  <a:lnTo>
                    <a:pt x="38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383" y="96"/>
                  </a:lnTo>
                  <a:lnTo>
                    <a:pt x="38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453760" y="1755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520360" y="175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544480" y="175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577600" y="175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60496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66400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716920" y="175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742840" y="175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77020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82420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88288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936880" y="17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995560" y="17557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55096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60496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662920" y="187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74644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803680" y="187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857320" y="1876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717640" y="2198520"/>
              <a:ext cx="398520" cy="1216080"/>
            </a:xfrm>
            <a:custGeom>
              <a:avLst/>
              <a:gdLst/>
              <a:ahLst/>
              <a:rect l="l" t="t" r="r" b="b"/>
              <a:pathLst>
                <a:path w="251" h="766">
                  <a:moveTo>
                    <a:pt x="0" y="0"/>
                  </a:moveTo>
                  <a:lnTo>
                    <a:pt x="0" y="766"/>
                  </a:lnTo>
                  <a:lnTo>
                    <a:pt x="251" y="7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318280" y="22622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2"/>
                  </a:moveTo>
                  <a:lnTo>
                    <a:pt x="23" y="35"/>
                  </a:lnTo>
                  <a:lnTo>
                    <a:pt x="35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254560" y="4262400"/>
              <a:ext cx="55800" cy="493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5" y="0"/>
                  </a:moveTo>
                  <a:lnTo>
                    <a:pt x="0" y="29"/>
                  </a:lnTo>
                  <a:lnTo>
                    <a:pt x="35" y="3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433320" y="2135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5002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556800" y="213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609360" y="213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656880" y="2135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682440" y="213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7306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788640" y="2135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09520" y="213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8368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89556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95280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00860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065120" y="213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092480" y="213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147920" y="2135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181400" y="213516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50820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566520" y="2254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58704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63924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687480" y="2254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1952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7352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83220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885840" y="2254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919680" y="2254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97584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028400" y="2254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102120" y="3387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746520" y="3262320"/>
              <a:ext cx="1535040" cy="10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257800" y="46814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" y="0"/>
                  </a:moveTo>
                  <a:lnTo>
                    <a:pt x="0" y="33"/>
                  </a:lnTo>
                  <a:lnTo>
                    <a:pt x="33" y="2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746520" y="4175280"/>
              <a:ext cx="1511280" cy="5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251320" y="4471920"/>
              <a:ext cx="5904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0"/>
                  </a:moveTo>
                  <a:lnTo>
                    <a:pt x="0" y="31"/>
                  </a:lnTo>
                  <a:lnTo>
                    <a:pt x="37" y="2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46520" y="3718080"/>
              <a:ext cx="152388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3746520" y="2290680"/>
              <a:ext cx="1600200" cy="15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318280" y="241776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3746520" y="2444400"/>
              <a:ext cx="1601640" cy="18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318280" y="2541600"/>
              <a:ext cx="55440" cy="493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4" y="31"/>
                  </a:lnTo>
                  <a:lnTo>
                    <a:pt x="3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3746520" y="2563920"/>
              <a:ext cx="159048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315040" y="2709720"/>
              <a:ext cx="58680" cy="47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0"/>
                  </a:moveTo>
                  <a:lnTo>
                    <a:pt x="14" y="30"/>
                  </a:lnTo>
                  <a:lnTo>
                    <a:pt x="37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3746520" y="2727000"/>
              <a:ext cx="1593720" cy="6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315040" y="287028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4"/>
                  </a:moveTo>
                  <a:lnTo>
                    <a:pt x="20" y="31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3746520" y="2889360"/>
              <a:ext cx="1596960" cy="11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6" name=""/>
          <p:cNvSpPr/>
          <p:nvPr/>
        </p:nvSpPr>
        <p:spPr>
          <a:xfrm>
            <a:off x="5318280" y="2973240"/>
            <a:ext cx="55440" cy="52560"/>
          </a:xfrm>
          <a:custGeom>
            <a:avLst/>
            <a:gdLst/>
            <a:ahLst/>
            <a:rect l="l" t="t" r="r" b="b"/>
            <a:pathLst>
              <a:path w="35" h="33">
                <a:moveTo>
                  <a:pt x="6" y="0"/>
                </a:moveTo>
                <a:lnTo>
                  <a:pt x="0" y="33"/>
                </a:lnTo>
                <a:lnTo>
                  <a:pt x="35" y="23"/>
                </a:ln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746520" y="2654280"/>
            <a:ext cx="158760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318280" y="313200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4" y="0"/>
                </a:moveTo>
                <a:lnTo>
                  <a:pt x="0" y="32"/>
                </a:lnTo>
                <a:lnTo>
                  <a:pt x="35" y="2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746520" y="2959200"/>
            <a:ext cx="158760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318280" y="328464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4" y="0"/>
                </a:moveTo>
                <a:lnTo>
                  <a:pt x="0" y="32"/>
                </a:lnTo>
                <a:lnTo>
                  <a:pt x="35" y="2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3746520" y="3110040"/>
            <a:ext cx="159048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318280" y="3444840"/>
            <a:ext cx="55440" cy="52560"/>
          </a:xfrm>
          <a:custGeom>
            <a:avLst/>
            <a:gdLst/>
            <a:ahLst/>
            <a:rect l="l" t="t" r="r" b="b"/>
            <a:pathLst>
              <a:path w="35" h="33">
                <a:moveTo>
                  <a:pt x="0" y="0"/>
                </a:moveTo>
                <a:lnTo>
                  <a:pt x="2" y="33"/>
                </a:lnTo>
                <a:lnTo>
                  <a:pt x="35" y="15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3746520" y="3471480"/>
            <a:ext cx="1587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6" name="" descr=""/>
          <p:cNvPicPr/>
          <p:nvPr/>
        </p:nvPicPr>
        <p:blipFill>
          <a:blip r:embed="rId1"/>
          <a:stretch/>
        </p:blipFill>
        <p:spPr>
          <a:xfrm>
            <a:off x="2162160" y="1305000"/>
            <a:ext cx="4832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ddress Translation 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che for address translations:  translation lookaside buffer (TL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9" name=""/>
          <p:cNvGrpSpPr/>
          <p:nvPr/>
        </p:nvGrpSpPr>
        <p:grpSpPr>
          <a:xfrm>
            <a:off x="3376440" y="2130480"/>
            <a:ext cx="3598920" cy="3927600"/>
            <a:chOff x="3376440" y="2130480"/>
            <a:chExt cx="3598920" cy="3927600"/>
          </a:xfrm>
        </p:grpSpPr>
        <p:sp>
          <p:nvSpPr>
            <p:cNvPr id="2990" name=""/>
            <p:cNvSpPr/>
            <p:nvPr/>
          </p:nvSpPr>
          <p:spPr>
            <a:xfrm>
              <a:off x="5283000" y="3240000"/>
              <a:ext cx="846000" cy="15084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322520" y="278280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322520" y="3087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322520" y="33908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449600" y="2782800"/>
              <a:ext cx="833400" cy="15264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449600" y="3087720"/>
              <a:ext cx="833400" cy="15228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49600" y="3390840"/>
              <a:ext cx="833400" cy="15264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52840" y="4386240"/>
              <a:ext cx="842760" cy="15408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452840" y="4386240"/>
              <a:ext cx="842760" cy="15408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322520" y="438300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322520" y="438300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452840" y="468936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452840" y="468936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322520" y="46864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322520" y="46864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452840" y="499104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52840" y="499104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322520" y="49910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322520" y="49910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52840" y="529740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52840" y="529740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322520" y="529596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322520" y="529596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52840" y="560232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52840" y="560232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322520" y="55990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322520" y="55990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52840" y="5907240"/>
              <a:ext cx="842760" cy="150840"/>
            </a:xfrm>
            <a:custGeom>
              <a:avLst/>
              <a:gdLst/>
              <a:ahLst/>
              <a:rect l="l" t="t" r="r" b="b"/>
              <a:pathLst>
                <a:path w="531" h="95">
                  <a:moveTo>
                    <a:pt x="531" y="9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1" y="95"/>
                  </a:lnTo>
                  <a:lnTo>
                    <a:pt x="531" y="95"/>
                  </a:lnTo>
                  <a:lnTo>
                    <a:pt x="531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52840" y="5907240"/>
              <a:ext cx="842760" cy="150840"/>
            </a:xfrm>
            <a:custGeom>
              <a:avLst/>
              <a:gdLst/>
              <a:ahLst/>
              <a:rect l="l" t="t" r="r" b="b"/>
              <a:pathLst>
                <a:path w="531" h="95">
                  <a:moveTo>
                    <a:pt x="531" y="9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1" y="95"/>
                  </a:lnTo>
                  <a:lnTo>
                    <a:pt x="531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322520" y="59040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322520" y="59040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916680" y="4170240"/>
              <a:ext cx="58680" cy="47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8" y="0"/>
                  </a:moveTo>
                  <a:lnTo>
                    <a:pt x="0" y="27"/>
                  </a:lnTo>
                  <a:lnTo>
                    <a:pt x="37" y="3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916680" y="4170240"/>
              <a:ext cx="58680" cy="47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8" y="0"/>
                  </a:moveTo>
                  <a:lnTo>
                    <a:pt x="0" y="27"/>
                  </a:lnTo>
                  <a:lnTo>
                    <a:pt x="37" y="3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916680" y="371952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4" y="0"/>
                  </a:moveTo>
                  <a:lnTo>
                    <a:pt x="0" y="31"/>
                  </a:lnTo>
                  <a:lnTo>
                    <a:pt x="37" y="29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916680" y="371952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4" y="0"/>
                  </a:moveTo>
                  <a:lnTo>
                    <a:pt x="0" y="31"/>
                  </a:lnTo>
                  <a:lnTo>
                    <a:pt x="37" y="29"/>
                  </a:lnTo>
                  <a:lnTo>
                    <a:pt x="14" y="2"/>
                  </a:lnTo>
                  <a:lnTo>
                    <a:pt x="14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916680" y="34131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9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916680" y="34131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9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922800" y="298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922800" y="298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283000" y="3240000"/>
              <a:ext cx="846000" cy="15084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690880" y="3005280"/>
              <a:ext cx="1247760" cy="12600"/>
            </a:xfrm>
            <a:custGeom>
              <a:avLst/>
              <a:gdLst/>
              <a:ahLst/>
              <a:rect l="l" t="t" r="r" b="b"/>
              <a:pathLst>
                <a:path w="786" h="8">
                  <a:moveTo>
                    <a:pt x="0" y="8"/>
                  </a:moveTo>
                  <a:lnTo>
                    <a:pt x="786" y="8"/>
                  </a:lnTo>
                  <a:lnTo>
                    <a:pt x="78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690880" y="3005280"/>
              <a:ext cx="1247760" cy="12600"/>
            </a:xfrm>
            <a:custGeom>
              <a:avLst/>
              <a:gdLst/>
              <a:ahLst/>
              <a:rect l="l" t="t" r="r" b="b"/>
              <a:pathLst>
                <a:path w="786" h="8">
                  <a:moveTo>
                    <a:pt x="0" y="8"/>
                  </a:moveTo>
                  <a:lnTo>
                    <a:pt x="786" y="8"/>
                  </a:lnTo>
                  <a:lnTo>
                    <a:pt x="78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700600" y="2703600"/>
              <a:ext cx="1244520" cy="745920"/>
            </a:xfrm>
            <a:custGeom>
              <a:avLst/>
              <a:gdLst/>
              <a:ahLst/>
              <a:rect l="l" t="t" r="r" b="b"/>
              <a:pathLst>
                <a:path w="784" h="470">
                  <a:moveTo>
                    <a:pt x="0" y="8"/>
                  </a:moveTo>
                  <a:lnTo>
                    <a:pt x="780" y="470"/>
                  </a:lnTo>
                  <a:lnTo>
                    <a:pt x="784" y="462"/>
                  </a:lnTo>
                  <a:lnTo>
                    <a:pt x="6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700600" y="2703600"/>
              <a:ext cx="1244520" cy="745920"/>
            </a:xfrm>
            <a:custGeom>
              <a:avLst/>
              <a:gdLst/>
              <a:ahLst/>
              <a:rect l="l" t="t" r="r" b="b"/>
              <a:pathLst>
                <a:path w="784" h="470">
                  <a:moveTo>
                    <a:pt x="0" y="8"/>
                  </a:moveTo>
                  <a:lnTo>
                    <a:pt x="780" y="470"/>
                  </a:lnTo>
                  <a:lnTo>
                    <a:pt x="784" y="462"/>
                  </a:lnTo>
                  <a:lnTo>
                    <a:pt x="6" y="0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690880" y="3160800"/>
              <a:ext cx="1254240" cy="598320"/>
            </a:xfrm>
            <a:custGeom>
              <a:avLst/>
              <a:gdLst/>
              <a:ahLst/>
              <a:rect l="l" t="t" r="r" b="b"/>
              <a:pathLst>
                <a:path w="790" h="377">
                  <a:moveTo>
                    <a:pt x="0" y="6"/>
                  </a:moveTo>
                  <a:lnTo>
                    <a:pt x="788" y="377"/>
                  </a:lnTo>
                  <a:lnTo>
                    <a:pt x="790" y="370"/>
                  </a:lnTo>
                  <a:lnTo>
                    <a:pt x="4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690880" y="3160800"/>
              <a:ext cx="1254240" cy="598320"/>
            </a:xfrm>
            <a:custGeom>
              <a:avLst/>
              <a:gdLst/>
              <a:ahLst/>
              <a:rect l="l" t="t" r="r" b="b"/>
              <a:pathLst>
                <a:path w="790" h="377">
                  <a:moveTo>
                    <a:pt x="0" y="6"/>
                  </a:moveTo>
                  <a:lnTo>
                    <a:pt x="788" y="377"/>
                  </a:lnTo>
                  <a:lnTo>
                    <a:pt x="790" y="370"/>
                  </a:lnTo>
                  <a:lnTo>
                    <a:pt x="4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690880" y="3460680"/>
              <a:ext cx="1257480" cy="743040"/>
            </a:xfrm>
            <a:custGeom>
              <a:avLst/>
              <a:gdLst/>
              <a:ahLst/>
              <a:rect l="l" t="t" r="r" b="b"/>
              <a:pathLst>
                <a:path w="792" h="468">
                  <a:moveTo>
                    <a:pt x="0" y="6"/>
                  </a:moveTo>
                  <a:lnTo>
                    <a:pt x="786" y="468"/>
                  </a:lnTo>
                  <a:lnTo>
                    <a:pt x="792" y="462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690880" y="3460680"/>
              <a:ext cx="1257480" cy="743040"/>
            </a:xfrm>
            <a:custGeom>
              <a:avLst/>
              <a:gdLst/>
              <a:ahLst/>
              <a:rect l="l" t="t" r="r" b="b"/>
              <a:pathLst>
                <a:path w="792" h="468">
                  <a:moveTo>
                    <a:pt x="0" y="6"/>
                  </a:moveTo>
                  <a:lnTo>
                    <a:pt x="786" y="468"/>
                  </a:lnTo>
                  <a:lnTo>
                    <a:pt x="792" y="462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452840" y="423396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452840" y="423396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322520" y="4230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322520" y="4230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452840" y="453564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5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  <a:lnTo>
                    <a:pt x="53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452840" y="453564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5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322520" y="453564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322520" y="453564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452840" y="484200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4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lnTo>
                    <a:pt x="531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452840" y="484200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4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322520" y="48387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322520" y="48387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452840" y="514368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52840" y="5143680"/>
              <a:ext cx="842760" cy="153720"/>
            </a:xfrm>
            <a:custGeom>
              <a:avLst/>
              <a:gdLst/>
              <a:ahLst/>
              <a:rect l="l" t="t" r="r" b="b"/>
              <a:pathLst>
                <a:path w="531" h="97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531" y="97"/>
                  </a:lnTo>
                  <a:lnTo>
                    <a:pt x="531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322520" y="51436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322520" y="51436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52840" y="545004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52840" y="5450040"/>
              <a:ext cx="842760" cy="15228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322520" y="544680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322520" y="544680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452840" y="5751360"/>
              <a:ext cx="842760" cy="155880"/>
            </a:xfrm>
            <a:custGeom>
              <a:avLst/>
              <a:gdLst/>
              <a:ahLst/>
              <a:rect l="l" t="t" r="r" b="b"/>
              <a:pathLst>
                <a:path w="531" h="98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531" y="98"/>
                  </a:lnTo>
                  <a:lnTo>
                    <a:pt x="531" y="98"/>
                  </a:lnTo>
                  <a:lnTo>
                    <a:pt x="531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452840" y="5751360"/>
              <a:ext cx="842760" cy="155880"/>
            </a:xfrm>
            <a:custGeom>
              <a:avLst/>
              <a:gdLst/>
              <a:ahLst/>
              <a:rect l="l" t="t" r="r" b="b"/>
              <a:pathLst>
                <a:path w="531" h="98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531" y="98"/>
                  </a:lnTo>
                  <a:lnTo>
                    <a:pt x="531" y="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322520" y="57513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322520" y="57513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452840" y="4081320"/>
              <a:ext cx="842760" cy="152640"/>
            </a:xfrm>
            <a:custGeom>
              <a:avLst/>
              <a:gdLst/>
              <a:ahLst/>
              <a:rect l="l" t="t" r="r" b="b"/>
              <a:pathLst>
                <a:path w="531" h="96">
                  <a:moveTo>
                    <a:pt x="531" y="96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1" y="96"/>
                  </a:lnTo>
                  <a:lnTo>
                    <a:pt x="53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276080" y="3951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34628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399560" y="3951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421880" y="3951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44636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322520" y="4081320"/>
              <a:ext cx="127080" cy="14940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0" y="94"/>
                  </a:lnTo>
                  <a:lnTo>
                    <a:pt x="80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356000" y="4246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356000" y="4398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356000" y="455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356000" y="470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35600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56000" y="500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356000" y="515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356000" y="531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356000" y="5462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356000" y="5614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56000" y="576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56000" y="591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541040" y="3692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60836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66560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72104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777920" y="3692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804920" y="3692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3372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89096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945680" y="3692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970160" y="369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841640" y="4282920"/>
              <a:ext cx="5256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841640" y="443376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841640" y="45864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841640" y="473868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841640" y="48909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841640" y="50436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841640" y="519444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841640" y="53467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841640" y="54990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lnTo>
                    <a:pt x="20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841640" y="56516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841640" y="580248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841640" y="595476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322520" y="263196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3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322520" y="293544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322520" y="32400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80" y="93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0" y="95"/>
                  </a:lnTo>
                  <a:lnTo>
                    <a:pt x="8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398560" y="2224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46876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52348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7424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623560" y="2224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64732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69736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53880" y="2224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76200" y="2224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80680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86080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9194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9734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32160" y="222408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52420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58144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63688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693760" y="2346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727600" y="234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782320" y="2346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833080" y="2346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283000" y="2479680"/>
              <a:ext cx="846000" cy="1522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272840" y="2319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34016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394880" y="2319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418640" y="2319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43988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22520" y="24796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4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0" y="96"/>
                  </a:lnTo>
                  <a:lnTo>
                    <a:pt x="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188680" y="21304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249520" y="213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307840" y="2130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356000" y="264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356000" y="27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356000" y="2951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356000" y="3103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356000" y="3255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356000" y="340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449600" y="2631960"/>
              <a:ext cx="833400" cy="150840"/>
            </a:xfrm>
            <a:custGeom>
              <a:avLst/>
              <a:gdLst/>
              <a:ahLst/>
              <a:rect l="l" t="t" r="r" b="b"/>
              <a:pathLst>
                <a:path w="525" h="95">
                  <a:moveTo>
                    <a:pt x="525" y="93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25" y="95"/>
                  </a:lnTo>
                  <a:lnTo>
                    <a:pt x="52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449600" y="2935440"/>
              <a:ext cx="833400" cy="15228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449600" y="3240000"/>
              <a:ext cx="833400" cy="150840"/>
            </a:xfrm>
            <a:custGeom>
              <a:avLst/>
              <a:gdLst/>
              <a:ahLst/>
              <a:rect l="l" t="t" r="r" b="b"/>
              <a:pathLst>
                <a:path w="525" h="95">
                  <a:moveTo>
                    <a:pt x="525" y="93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25" y="95"/>
                  </a:lnTo>
                  <a:lnTo>
                    <a:pt x="52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774320" y="23194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3696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94200" y="231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449600" y="2479680"/>
              <a:ext cx="833400" cy="152280"/>
            </a:xfrm>
            <a:custGeom>
              <a:avLst/>
              <a:gdLst/>
              <a:ahLst/>
              <a:rect l="l" t="t" r="r" b="b"/>
              <a:pathLst>
                <a:path w="525" h="96">
                  <a:moveTo>
                    <a:pt x="525" y="9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25" y="96"/>
                  </a:lnTo>
                  <a:lnTo>
                    <a:pt x="52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376440" y="2476440"/>
              <a:ext cx="876240" cy="152640"/>
            </a:xfrm>
            <a:custGeom>
              <a:avLst/>
              <a:gdLst/>
              <a:ahLst/>
              <a:rect l="l" t="t" r="r" b="b"/>
              <a:pathLst>
                <a:path w="552" h="96">
                  <a:moveTo>
                    <a:pt x="550" y="96"/>
                  </a:moveTo>
                  <a:lnTo>
                    <a:pt x="552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52" y="96"/>
                  </a:lnTo>
                  <a:lnTo>
                    <a:pt x="552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555360" y="218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3621600" y="218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646080" y="218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3679200" y="218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370656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76524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818520" y="218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844440" y="218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87180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92580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98448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038480" y="218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097160" y="21877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65256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70656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764520" y="23065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84804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904920" y="2306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360" y="2306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877920" y="2629080"/>
              <a:ext cx="398520" cy="2438280"/>
            </a:xfrm>
            <a:custGeom>
              <a:avLst/>
              <a:gdLst/>
              <a:ahLst/>
              <a:rect l="l" t="t" r="r" b="b"/>
              <a:pathLst>
                <a:path w="251" h="1536">
                  <a:moveTo>
                    <a:pt x="0" y="0"/>
                  </a:moveTo>
                  <a:lnTo>
                    <a:pt x="0" y="1536"/>
                  </a:lnTo>
                  <a:lnTo>
                    <a:pt x="251" y="15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922800" y="3024360"/>
              <a:ext cx="52560" cy="568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7"/>
                  </a:moveTo>
                  <a:lnTo>
                    <a:pt x="27" y="36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926040" y="3178080"/>
              <a:ext cx="4932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18"/>
                  </a:moveTo>
                  <a:lnTo>
                    <a:pt x="27" y="35"/>
                  </a:lnTo>
                  <a:lnTo>
                    <a:pt x="31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916680" y="33177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16" y="31"/>
                  </a:lnTo>
                  <a:lnTo>
                    <a:pt x="37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916680" y="347328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4"/>
                  </a:moveTo>
                  <a:lnTo>
                    <a:pt x="20" y="33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919560" y="362916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13"/>
                  </a:moveTo>
                  <a:lnTo>
                    <a:pt x="25" y="36"/>
                  </a:lnTo>
                  <a:lnTo>
                    <a:pt x="35" y="0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916680" y="377820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4"/>
                  </a:moveTo>
                  <a:lnTo>
                    <a:pt x="20" y="30"/>
                  </a:lnTo>
                  <a:lnTo>
                    <a:pt x="37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916680" y="391176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8" y="31"/>
                  </a:lnTo>
                  <a:lnTo>
                    <a:pt x="37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916680" y="406404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0"/>
                  </a:moveTo>
                  <a:lnTo>
                    <a:pt x="8" y="30"/>
                  </a:lnTo>
                  <a:lnTo>
                    <a:pt x="37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916680" y="423072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0"/>
                  </a:moveTo>
                  <a:lnTo>
                    <a:pt x="16" y="2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571280" y="3830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638600" y="38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94760" y="383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747320" y="383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796640" y="3830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820400" y="3830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870080" y="38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926600" y="3830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947840" y="3830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976640" y="38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0" name=""/>
          <p:cNvSpPr/>
          <p:nvPr/>
        </p:nvSpPr>
        <p:spPr>
          <a:xfrm>
            <a:off x="5035680" y="383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091120" y="383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148360" y="383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205240" y="3830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53060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587480" y="3951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4620960" y="3951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64976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4706280" y="39513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72860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77936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831920" y="3951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485928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91328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497196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025600" y="3951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062680" y="395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511740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5168160" y="3951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262400" y="298440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0" y="0"/>
                </a:moveTo>
                <a:lnTo>
                  <a:pt x="0" y="32"/>
                </a:lnTo>
                <a:lnTo>
                  <a:pt x="33" y="1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3879720" y="300816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262400" y="504360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0" y="0"/>
                </a:moveTo>
                <a:lnTo>
                  <a:pt x="0" y="32"/>
                </a:lnTo>
                <a:lnTo>
                  <a:pt x="33" y="1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676840" y="268272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676840" y="268272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5676840" y="298764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6" y="30"/>
                </a:moveTo>
                <a:lnTo>
                  <a:pt x="20" y="30"/>
                </a:lnTo>
                <a:lnTo>
                  <a:pt x="22" y="30"/>
                </a:lnTo>
                <a:lnTo>
                  <a:pt x="25" y="28"/>
                </a:lnTo>
                <a:lnTo>
                  <a:pt x="27" y="28"/>
                </a:lnTo>
                <a:lnTo>
                  <a:pt x="29" y="26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7"/>
                </a:lnTo>
                <a:lnTo>
                  <a:pt x="29" y="5"/>
                </a:lnTo>
                <a:lnTo>
                  <a:pt x="29" y="3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4" y="5"/>
                </a:lnTo>
                <a:lnTo>
                  <a:pt x="2" y="7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6"/>
                </a:lnTo>
                <a:lnTo>
                  <a:pt x="8" y="28"/>
                </a:lnTo>
                <a:lnTo>
                  <a:pt x="10" y="28"/>
                </a:lnTo>
                <a:lnTo>
                  <a:pt x="12" y="30"/>
                </a:lnTo>
                <a:lnTo>
                  <a:pt x="14" y="30"/>
                </a:lnTo>
                <a:lnTo>
                  <a:pt x="18" y="30"/>
                </a:lnTo>
                <a:lnTo>
                  <a:pt x="18" y="30"/>
                </a:lnTo>
                <a:lnTo>
                  <a:pt x="16" y="30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76840" y="298764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6" y="30"/>
                </a:moveTo>
                <a:lnTo>
                  <a:pt x="20" y="30"/>
                </a:lnTo>
                <a:lnTo>
                  <a:pt x="22" y="30"/>
                </a:lnTo>
                <a:lnTo>
                  <a:pt x="25" y="28"/>
                </a:lnTo>
                <a:lnTo>
                  <a:pt x="27" y="28"/>
                </a:lnTo>
                <a:lnTo>
                  <a:pt x="29" y="26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7"/>
                </a:lnTo>
                <a:lnTo>
                  <a:pt x="29" y="5"/>
                </a:lnTo>
                <a:lnTo>
                  <a:pt x="29" y="3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4" y="5"/>
                </a:lnTo>
                <a:lnTo>
                  <a:pt x="2" y="7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6"/>
                </a:lnTo>
                <a:lnTo>
                  <a:pt x="8" y="28"/>
                </a:lnTo>
                <a:lnTo>
                  <a:pt x="10" y="28"/>
                </a:lnTo>
                <a:lnTo>
                  <a:pt x="12" y="30"/>
                </a:lnTo>
                <a:lnTo>
                  <a:pt x="14" y="30"/>
                </a:lnTo>
                <a:lnTo>
                  <a:pt x="18" y="30"/>
                </a:lnTo>
                <a:lnTo>
                  <a:pt x="18" y="30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676840" y="313848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20"/>
                </a:lnTo>
                <a:lnTo>
                  <a:pt x="33" y="18"/>
                </a:lnTo>
                <a:lnTo>
                  <a:pt x="33" y="16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2" y="20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676840" y="313848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20"/>
                </a:lnTo>
                <a:lnTo>
                  <a:pt x="33" y="18"/>
                </a:lnTo>
                <a:lnTo>
                  <a:pt x="33" y="16"/>
                </a:lnTo>
                <a:lnTo>
                  <a:pt x="33" y="12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2" y="20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76840" y="344340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5676840" y="344340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10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10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918480" y="3565440"/>
            <a:ext cx="58680" cy="47880"/>
          </a:xfrm>
          <a:custGeom>
            <a:avLst/>
            <a:gdLst/>
            <a:ahLst/>
            <a:rect l="l" t="t" r="r" b="b"/>
            <a:pathLst>
              <a:path w="37" h="30">
                <a:moveTo>
                  <a:pt x="16" y="0"/>
                </a:moveTo>
                <a:lnTo>
                  <a:pt x="0" y="28"/>
                </a:lnTo>
                <a:lnTo>
                  <a:pt x="37" y="30"/>
                </a:lnTo>
                <a:lnTo>
                  <a:pt x="18" y="0"/>
                </a:lnTo>
                <a:lnTo>
                  <a:pt x="18" y="0"/>
                </a:lnTo>
                <a:lnTo>
                  <a:pt x="16" y="0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6918480" y="3565440"/>
            <a:ext cx="58680" cy="47880"/>
          </a:xfrm>
          <a:custGeom>
            <a:avLst/>
            <a:gdLst/>
            <a:ahLst/>
            <a:rect l="l" t="t" r="r" b="b"/>
            <a:pathLst>
              <a:path w="37" h="30">
                <a:moveTo>
                  <a:pt x="16" y="0"/>
                </a:moveTo>
                <a:lnTo>
                  <a:pt x="0" y="28"/>
                </a:lnTo>
                <a:lnTo>
                  <a:pt x="37" y="30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5689440" y="2852640"/>
            <a:ext cx="1257480" cy="749520"/>
          </a:xfrm>
          <a:custGeom>
            <a:avLst/>
            <a:gdLst/>
            <a:ahLst/>
            <a:rect l="l" t="t" r="r" b="b"/>
            <a:pathLst>
              <a:path w="792" h="472">
                <a:moveTo>
                  <a:pt x="0" y="6"/>
                </a:moveTo>
                <a:lnTo>
                  <a:pt x="788" y="472"/>
                </a:lnTo>
                <a:lnTo>
                  <a:pt x="792" y="464"/>
                </a:lnTo>
                <a:lnTo>
                  <a:pt x="6" y="0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5689440" y="2852640"/>
            <a:ext cx="1257480" cy="749520"/>
          </a:xfrm>
          <a:custGeom>
            <a:avLst/>
            <a:gdLst/>
            <a:ahLst/>
            <a:rect l="l" t="t" r="r" b="b"/>
            <a:pathLst>
              <a:path w="792" h="472">
                <a:moveTo>
                  <a:pt x="0" y="6"/>
                </a:moveTo>
                <a:lnTo>
                  <a:pt x="788" y="472"/>
                </a:lnTo>
                <a:lnTo>
                  <a:pt x="792" y="464"/>
                </a:lnTo>
                <a:lnTo>
                  <a:pt x="6" y="0"/>
                </a:lnTo>
                <a:lnTo>
                  <a:pt x="2" y="6"/>
                </a:lnTo>
                <a:lnTo>
                  <a:pt x="2" y="6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676840" y="283536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eb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5676840" y="2835360"/>
            <a:ext cx="5256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31"/>
                </a:moveTo>
                <a:lnTo>
                  <a:pt x="20" y="31"/>
                </a:lnTo>
                <a:lnTo>
                  <a:pt x="22" y="31"/>
                </a:lnTo>
                <a:lnTo>
                  <a:pt x="25" y="29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3" y="19"/>
                </a:lnTo>
                <a:lnTo>
                  <a:pt x="33" y="17"/>
                </a:lnTo>
                <a:lnTo>
                  <a:pt x="33" y="15"/>
                </a:lnTo>
                <a:lnTo>
                  <a:pt x="33" y="11"/>
                </a:lnTo>
                <a:lnTo>
                  <a:pt x="33" y="9"/>
                </a:lnTo>
                <a:lnTo>
                  <a:pt x="31" y="8"/>
                </a:lnTo>
                <a:lnTo>
                  <a:pt x="29" y="6"/>
                </a:lnTo>
                <a:lnTo>
                  <a:pt x="29" y="4"/>
                </a:lnTo>
                <a:lnTo>
                  <a:pt x="27" y="2"/>
                </a:lnTo>
                <a:lnTo>
                  <a:pt x="25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8"/>
                </a:lnTo>
                <a:lnTo>
                  <a:pt x="2" y="9"/>
                </a:lnTo>
                <a:lnTo>
                  <a:pt x="0" y="11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2" y="23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29"/>
                </a:lnTo>
                <a:lnTo>
                  <a:pt x="12" y="31"/>
                </a:lnTo>
                <a:lnTo>
                  <a:pt x="14" y="31"/>
                </a:lnTo>
                <a:lnTo>
                  <a:pt x="18" y="31"/>
                </a:lnTo>
                <a:lnTo>
                  <a:pt x="18" y="31"/>
                </a:lnTo>
              </a:path>
            </a:pathLst>
          </a:custGeom>
          <a:noFill/>
          <a:ln w="3240">
            <a:solidFill>
              <a:srgbClr val="eb7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4876920" y="3054240"/>
            <a:ext cx="2077920" cy="24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 flipV="1">
            <a:off x="4883040" y="3203640"/>
            <a:ext cx="2078280" cy="27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4876920" y="3336480"/>
            <a:ext cx="2066760" cy="9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4876920" y="3495240"/>
            <a:ext cx="2070000" cy="12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V="1">
            <a:off x="4883040" y="3659040"/>
            <a:ext cx="2068560" cy="201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4876920" y="3798360"/>
            <a:ext cx="207000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4876920" y="3931920"/>
            <a:ext cx="206352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4869000" y="4084560"/>
            <a:ext cx="207468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4876920" y="4249800"/>
            <a:ext cx="20635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284800" y="2631960"/>
            <a:ext cx="846000" cy="150840"/>
          </a:xfrm>
          <a:custGeom>
            <a:avLst/>
            <a:gdLst/>
            <a:ahLst/>
            <a:rect l="l" t="t" r="r" b="b"/>
            <a:pathLst>
              <a:path w="533" h="95">
                <a:moveTo>
                  <a:pt x="533" y="93"/>
                </a:moveTo>
                <a:lnTo>
                  <a:pt x="533" y="0"/>
                </a:lnTo>
                <a:lnTo>
                  <a:pt x="0" y="0"/>
                </a:lnTo>
                <a:lnTo>
                  <a:pt x="0" y="95"/>
                </a:lnTo>
                <a:lnTo>
                  <a:pt x="533" y="95"/>
                </a:lnTo>
                <a:lnTo>
                  <a:pt x="533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284800" y="2782800"/>
            <a:ext cx="846000" cy="15264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284800" y="3087720"/>
            <a:ext cx="846000" cy="15228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284800" y="3390840"/>
            <a:ext cx="846000" cy="15264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284800" y="2935440"/>
            <a:ext cx="846000" cy="152280"/>
          </a:xfrm>
          <a:custGeom>
            <a:avLst/>
            <a:gdLst/>
            <a:ahLst/>
            <a:rect l="l" t="t" r="r" b="b"/>
            <a:pathLst>
              <a:path w="533" h="96">
                <a:moveTo>
                  <a:pt x="533" y="94"/>
                </a:moveTo>
                <a:lnTo>
                  <a:pt x="533" y="0"/>
                </a:lnTo>
                <a:lnTo>
                  <a:pt x="0" y="0"/>
                </a:lnTo>
                <a:lnTo>
                  <a:pt x="0" y="96"/>
                </a:lnTo>
                <a:lnTo>
                  <a:pt x="533" y="96"/>
                </a:lnTo>
                <a:lnTo>
                  <a:pt x="533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721560" y="4745160"/>
            <a:ext cx="1506600" cy="1019160"/>
          </a:xfrm>
          <a:custGeom>
            <a:avLst/>
            <a:gdLst/>
            <a:ahLst/>
            <a:rect l="l" t="t" r="r" b="b"/>
            <a:pathLst>
              <a:path w="949" h="642">
                <a:moveTo>
                  <a:pt x="949" y="80"/>
                </a:moveTo>
                <a:lnTo>
                  <a:pt x="943" y="67"/>
                </a:lnTo>
                <a:lnTo>
                  <a:pt x="926" y="55"/>
                </a:lnTo>
                <a:lnTo>
                  <a:pt x="897" y="44"/>
                </a:lnTo>
                <a:lnTo>
                  <a:pt x="858" y="32"/>
                </a:lnTo>
                <a:lnTo>
                  <a:pt x="811" y="23"/>
                </a:lnTo>
                <a:lnTo>
                  <a:pt x="755" y="15"/>
                </a:lnTo>
                <a:lnTo>
                  <a:pt x="694" y="7"/>
                </a:lnTo>
                <a:lnTo>
                  <a:pt x="625" y="4"/>
                </a:lnTo>
                <a:lnTo>
                  <a:pt x="552" y="0"/>
                </a:lnTo>
                <a:lnTo>
                  <a:pt x="475" y="0"/>
                </a:lnTo>
                <a:lnTo>
                  <a:pt x="398" y="0"/>
                </a:lnTo>
                <a:lnTo>
                  <a:pt x="326" y="4"/>
                </a:lnTo>
                <a:lnTo>
                  <a:pt x="257" y="7"/>
                </a:lnTo>
                <a:lnTo>
                  <a:pt x="195" y="15"/>
                </a:lnTo>
                <a:lnTo>
                  <a:pt x="140" y="23"/>
                </a:lnTo>
                <a:lnTo>
                  <a:pt x="92" y="32"/>
                </a:lnTo>
                <a:lnTo>
                  <a:pt x="53" y="44"/>
                </a:lnTo>
                <a:lnTo>
                  <a:pt x="25" y="55"/>
                </a:lnTo>
                <a:lnTo>
                  <a:pt x="7" y="67"/>
                </a:lnTo>
                <a:lnTo>
                  <a:pt x="0" y="80"/>
                </a:lnTo>
                <a:lnTo>
                  <a:pt x="0" y="559"/>
                </a:lnTo>
                <a:lnTo>
                  <a:pt x="7" y="573"/>
                </a:lnTo>
                <a:lnTo>
                  <a:pt x="25" y="586"/>
                </a:lnTo>
                <a:lnTo>
                  <a:pt x="53" y="597"/>
                </a:lnTo>
                <a:lnTo>
                  <a:pt x="92" y="609"/>
                </a:lnTo>
                <a:lnTo>
                  <a:pt x="140" y="619"/>
                </a:lnTo>
                <a:lnTo>
                  <a:pt x="195" y="626"/>
                </a:lnTo>
                <a:lnTo>
                  <a:pt x="257" y="632"/>
                </a:lnTo>
                <a:lnTo>
                  <a:pt x="326" y="638"/>
                </a:lnTo>
                <a:lnTo>
                  <a:pt x="398" y="640"/>
                </a:lnTo>
                <a:lnTo>
                  <a:pt x="475" y="642"/>
                </a:lnTo>
                <a:lnTo>
                  <a:pt x="552" y="640"/>
                </a:lnTo>
                <a:lnTo>
                  <a:pt x="625" y="638"/>
                </a:lnTo>
                <a:lnTo>
                  <a:pt x="694" y="632"/>
                </a:lnTo>
                <a:lnTo>
                  <a:pt x="755" y="626"/>
                </a:lnTo>
                <a:lnTo>
                  <a:pt x="811" y="619"/>
                </a:lnTo>
                <a:lnTo>
                  <a:pt x="858" y="609"/>
                </a:lnTo>
                <a:lnTo>
                  <a:pt x="897" y="597"/>
                </a:lnTo>
                <a:lnTo>
                  <a:pt x="926" y="586"/>
                </a:lnTo>
                <a:lnTo>
                  <a:pt x="943" y="573"/>
                </a:lnTo>
                <a:lnTo>
                  <a:pt x="949" y="559"/>
                </a:lnTo>
                <a:lnTo>
                  <a:pt x="949" y="80"/>
                </a:lnTo>
                <a:lnTo>
                  <a:pt x="949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279920" y="28386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34868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40196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745416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7504920" y="2838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752724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757872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7633440" y="28386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7657920" y="2838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7684200" y="28386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777096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7825680" y="28386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910640" y="2838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968960" y="28386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001720" y="2838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6983280" y="3008160"/>
            <a:ext cx="1246320" cy="15264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6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6983280" y="3160800"/>
            <a:ext cx="1246320" cy="15228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983280" y="3313080"/>
            <a:ext cx="1246320" cy="147600"/>
          </a:xfrm>
          <a:custGeom>
            <a:avLst/>
            <a:gdLst/>
            <a:ahLst/>
            <a:rect l="l" t="t" r="r" b="b"/>
            <a:pathLst>
              <a:path w="785" h="93">
                <a:moveTo>
                  <a:pt x="785" y="93"/>
                </a:moveTo>
                <a:lnTo>
                  <a:pt x="785" y="0"/>
                </a:lnTo>
                <a:lnTo>
                  <a:pt x="0" y="0"/>
                </a:lnTo>
                <a:lnTo>
                  <a:pt x="0" y="93"/>
                </a:lnTo>
                <a:lnTo>
                  <a:pt x="785" y="93"/>
                </a:lnTo>
                <a:lnTo>
                  <a:pt x="785" y="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6983280" y="3460680"/>
            <a:ext cx="1246320" cy="15264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6983280" y="3613320"/>
            <a:ext cx="1246320" cy="149040"/>
          </a:xfrm>
          <a:custGeom>
            <a:avLst/>
            <a:gdLst/>
            <a:ahLst/>
            <a:rect l="l" t="t" r="r" b="b"/>
            <a:pathLst>
              <a:path w="785" h="94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4"/>
                </a:lnTo>
                <a:lnTo>
                  <a:pt x="785" y="94"/>
                </a:lnTo>
                <a:lnTo>
                  <a:pt x="785" y="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983280" y="3762360"/>
            <a:ext cx="1246320" cy="15228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983280" y="3914640"/>
            <a:ext cx="1246320" cy="149400"/>
          </a:xfrm>
          <a:custGeom>
            <a:avLst/>
            <a:gdLst/>
            <a:ahLst/>
            <a:rect l="l" t="t" r="r" b="b"/>
            <a:pathLst>
              <a:path w="785" h="94">
                <a:moveTo>
                  <a:pt x="785" y="94"/>
                </a:moveTo>
                <a:lnTo>
                  <a:pt x="785" y="0"/>
                </a:lnTo>
                <a:lnTo>
                  <a:pt x="0" y="0"/>
                </a:lnTo>
                <a:lnTo>
                  <a:pt x="0" y="94"/>
                </a:lnTo>
                <a:lnTo>
                  <a:pt x="785" y="94"/>
                </a:lnTo>
                <a:lnTo>
                  <a:pt x="785" y="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6983280" y="4064040"/>
            <a:ext cx="1246320" cy="152280"/>
          </a:xfrm>
          <a:custGeom>
            <a:avLst/>
            <a:gdLst/>
            <a:ahLst/>
            <a:rect l="l" t="t" r="r" b="b"/>
            <a:pathLst>
              <a:path w="785" h="96">
                <a:moveTo>
                  <a:pt x="785" y="96"/>
                </a:moveTo>
                <a:lnTo>
                  <a:pt x="785" y="0"/>
                </a:lnTo>
                <a:lnTo>
                  <a:pt x="0" y="0"/>
                </a:lnTo>
                <a:lnTo>
                  <a:pt x="0" y="96"/>
                </a:lnTo>
                <a:lnTo>
                  <a:pt x="785" y="96"/>
                </a:lnTo>
                <a:lnTo>
                  <a:pt x="785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983280" y="4216320"/>
            <a:ext cx="1246320" cy="150840"/>
          </a:xfrm>
          <a:custGeom>
            <a:avLst/>
            <a:gdLst/>
            <a:ahLst/>
            <a:rect l="l" t="t" r="r" b="b"/>
            <a:pathLst>
              <a:path w="785" h="95">
                <a:moveTo>
                  <a:pt x="785" y="93"/>
                </a:moveTo>
                <a:lnTo>
                  <a:pt x="785" y="0"/>
                </a:lnTo>
                <a:lnTo>
                  <a:pt x="0" y="0"/>
                </a:lnTo>
                <a:lnTo>
                  <a:pt x="0" y="95"/>
                </a:lnTo>
                <a:lnTo>
                  <a:pt x="785" y="95"/>
                </a:lnTo>
                <a:lnTo>
                  <a:pt x="785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6824520" y="5067360"/>
            <a:ext cx="1347840" cy="15228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6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  <a:lnTo>
                  <a:pt x="847" y="9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6824520" y="5067360"/>
            <a:ext cx="1347840" cy="15228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6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6824520" y="5270400"/>
            <a:ext cx="1347840" cy="15264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4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  <a:lnTo>
                  <a:pt x="847" y="9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824520" y="5270400"/>
            <a:ext cx="1347840" cy="152640"/>
          </a:xfrm>
          <a:custGeom>
            <a:avLst/>
            <a:gdLst/>
            <a:ahLst/>
            <a:rect l="l" t="t" r="r" b="b"/>
            <a:pathLst>
              <a:path w="849" h="96">
                <a:moveTo>
                  <a:pt x="847" y="94"/>
                </a:moveTo>
                <a:lnTo>
                  <a:pt x="849" y="0"/>
                </a:lnTo>
                <a:lnTo>
                  <a:pt x="0" y="0"/>
                </a:lnTo>
                <a:lnTo>
                  <a:pt x="0" y="96"/>
                </a:lnTo>
                <a:lnTo>
                  <a:pt x="849" y="96"/>
                </a:lnTo>
                <a:lnTo>
                  <a:pt x="849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6824520" y="5472000"/>
            <a:ext cx="1347840" cy="150840"/>
          </a:xfrm>
          <a:custGeom>
            <a:avLst/>
            <a:gdLst/>
            <a:ahLst/>
            <a:rect l="l" t="t" r="r" b="b"/>
            <a:pathLst>
              <a:path w="849" h="95">
                <a:moveTo>
                  <a:pt x="847" y="95"/>
                </a:moveTo>
                <a:lnTo>
                  <a:pt x="849" y="0"/>
                </a:lnTo>
                <a:lnTo>
                  <a:pt x="0" y="0"/>
                </a:lnTo>
                <a:lnTo>
                  <a:pt x="0" y="95"/>
                </a:lnTo>
                <a:lnTo>
                  <a:pt x="849" y="95"/>
                </a:lnTo>
                <a:lnTo>
                  <a:pt x="849" y="95"/>
                </a:lnTo>
                <a:lnTo>
                  <a:pt x="847" y="9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6824520" y="5472000"/>
            <a:ext cx="1347840" cy="150840"/>
          </a:xfrm>
          <a:custGeom>
            <a:avLst/>
            <a:gdLst/>
            <a:ahLst/>
            <a:rect l="l" t="t" r="r" b="b"/>
            <a:pathLst>
              <a:path w="849" h="95">
                <a:moveTo>
                  <a:pt x="847" y="95"/>
                </a:moveTo>
                <a:lnTo>
                  <a:pt x="849" y="0"/>
                </a:lnTo>
                <a:lnTo>
                  <a:pt x="0" y="0"/>
                </a:lnTo>
                <a:lnTo>
                  <a:pt x="0" y="95"/>
                </a:lnTo>
                <a:lnTo>
                  <a:pt x="849" y="95"/>
                </a:lnTo>
                <a:lnTo>
                  <a:pt x="849" y="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6721560" y="4871880"/>
            <a:ext cx="1506600" cy="131760"/>
          </a:xfrm>
          <a:custGeom>
            <a:avLst/>
            <a:gdLst/>
            <a:ahLst/>
            <a:rect l="l" t="t" r="r" b="b"/>
            <a:pathLst>
              <a:path w="949" h="83">
                <a:moveTo>
                  <a:pt x="0" y="0"/>
                </a:moveTo>
                <a:lnTo>
                  <a:pt x="7" y="14"/>
                </a:lnTo>
                <a:lnTo>
                  <a:pt x="25" y="27"/>
                </a:lnTo>
                <a:lnTo>
                  <a:pt x="53" y="39"/>
                </a:lnTo>
                <a:lnTo>
                  <a:pt x="92" y="50"/>
                </a:lnTo>
                <a:lnTo>
                  <a:pt x="140" y="60"/>
                </a:lnTo>
                <a:lnTo>
                  <a:pt x="195" y="67"/>
                </a:lnTo>
                <a:lnTo>
                  <a:pt x="257" y="75"/>
                </a:lnTo>
                <a:lnTo>
                  <a:pt x="326" y="79"/>
                </a:lnTo>
                <a:lnTo>
                  <a:pt x="398" y="83"/>
                </a:lnTo>
                <a:lnTo>
                  <a:pt x="475" y="83"/>
                </a:lnTo>
                <a:lnTo>
                  <a:pt x="552" y="83"/>
                </a:lnTo>
                <a:lnTo>
                  <a:pt x="625" y="79"/>
                </a:lnTo>
                <a:lnTo>
                  <a:pt x="694" y="75"/>
                </a:lnTo>
                <a:lnTo>
                  <a:pt x="755" y="67"/>
                </a:lnTo>
                <a:lnTo>
                  <a:pt x="811" y="60"/>
                </a:lnTo>
                <a:lnTo>
                  <a:pt x="858" y="50"/>
                </a:lnTo>
                <a:lnTo>
                  <a:pt x="897" y="39"/>
                </a:lnTo>
                <a:lnTo>
                  <a:pt x="926" y="27"/>
                </a:lnTo>
                <a:lnTo>
                  <a:pt x="943" y="14"/>
                </a:lnTo>
                <a:lnTo>
                  <a:pt x="94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7170480" y="45784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7243200" y="45784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265160" y="4578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7315920" y="4578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7368840" y="4578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7395480" y="4578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48040" y="4578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7540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530840" y="4578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56756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762156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680240" y="4578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769080" y="5030640"/>
            <a:ext cx="52560" cy="51120"/>
          </a:xfrm>
          <a:custGeom>
            <a:avLst/>
            <a:gdLst/>
            <a:ahLst/>
            <a:rect l="l" t="t" r="r" b="b"/>
            <a:pathLst>
              <a:path w="33" h="32">
                <a:moveTo>
                  <a:pt x="4" y="0"/>
                </a:moveTo>
                <a:lnTo>
                  <a:pt x="0" y="32"/>
                </a:lnTo>
                <a:lnTo>
                  <a:pt x="33" y="2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6767640" y="5459400"/>
            <a:ext cx="54000" cy="49320"/>
          </a:xfrm>
          <a:custGeom>
            <a:avLst/>
            <a:gdLst/>
            <a:ahLst/>
            <a:rect l="l" t="t" r="r" b="b"/>
            <a:pathLst>
              <a:path w="34" h="31">
                <a:moveTo>
                  <a:pt x="0" y="0"/>
                </a:moveTo>
                <a:lnTo>
                  <a:pt x="7" y="31"/>
                </a:lnTo>
                <a:lnTo>
                  <a:pt x="34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6767640" y="524340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0" y="0"/>
                </a:moveTo>
                <a:lnTo>
                  <a:pt x="3" y="33"/>
                </a:lnTo>
                <a:lnTo>
                  <a:pt x="34" y="15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869000" y="4915080"/>
            <a:ext cx="195264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4876920" y="5479920"/>
            <a:ext cx="191448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V="1">
            <a:off x="4869000" y="5266800"/>
            <a:ext cx="195264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23200" y="3124080"/>
            <a:ext cx="265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TLB size: 32 - 4,096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Block size: 1 - 2 page table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it time: 0.5 - 1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penalty: 10 - 30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rate: 0.01% -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2" name=""/>
          <p:cNvGrpSpPr/>
          <p:nvPr/>
        </p:nvGrpSpPr>
        <p:grpSpPr>
          <a:xfrm>
            <a:off x="1752120" y="1157400"/>
            <a:ext cx="5496120" cy="5154480"/>
            <a:chOff x="1752120" y="1157400"/>
            <a:chExt cx="5496120" cy="5154480"/>
          </a:xfrm>
        </p:grpSpPr>
        <p:sp>
          <p:nvSpPr>
            <p:cNvPr id="3293" name=""/>
            <p:cNvSpPr/>
            <p:nvPr/>
          </p:nvSpPr>
          <p:spPr>
            <a:xfrm>
              <a:off x="2527200" y="4818240"/>
              <a:ext cx="4718160" cy="988920"/>
            </a:xfrm>
            <a:custGeom>
              <a:avLst/>
              <a:gdLst/>
              <a:ahLst/>
              <a:rect l="l" t="t" r="r" b="b"/>
              <a:pathLst>
                <a:path w="2972" h="623">
                  <a:moveTo>
                    <a:pt x="2972" y="623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623"/>
                  </a:lnTo>
                  <a:lnTo>
                    <a:pt x="2972" y="623"/>
                  </a:lnTo>
                  <a:lnTo>
                    <a:pt x="2972" y="6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474280" y="4675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541600" y="467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599560" y="4675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620080" y="4675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643120" y="467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345480" y="466884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408120" y="4668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465360" y="4668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641560" y="46720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715000" y="467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773320" y="467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800680" y="467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530440" y="5380200"/>
              <a:ext cx="4717800" cy="139680"/>
            </a:xfrm>
            <a:custGeom>
              <a:avLst/>
              <a:gdLst/>
              <a:ahLst/>
              <a:rect l="l" t="t" r="r" b="b"/>
              <a:pathLst>
                <a:path w="2972" h="88">
                  <a:moveTo>
                    <a:pt x="2970" y="8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970" y="88"/>
                  </a:lnTo>
                  <a:lnTo>
                    <a:pt x="2970" y="88"/>
                  </a:lnTo>
                  <a:lnTo>
                    <a:pt x="2970" y="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530440" y="5380200"/>
              <a:ext cx="4717800" cy="139680"/>
            </a:xfrm>
            <a:custGeom>
              <a:avLst/>
              <a:gdLst/>
              <a:ahLst/>
              <a:rect l="l" t="t" r="r" b="b"/>
              <a:pathLst>
                <a:path w="2972" h="88">
                  <a:moveTo>
                    <a:pt x="2970" y="8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970" y="88"/>
                  </a:lnTo>
                  <a:lnTo>
                    <a:pt x="2970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H="1">
              <a:off x="2527200" y="4959360"/>
              <a:ext cx="471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2527200" y="5099040"/>
              <a:ext cx="471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H="1">
              <a:off x="2527200" y="5238720"/>
              <a:ext cx="471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H="1">
              <a:off x="2574720" y="5516640"/>
              <a:ext cx="4670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>
              <a:off x="2527200" y="5656320"/>
              <a:ext cx="4718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643120" y="4824360"/>
              <a:ext cx="144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17760" y="4821120"/>
              <a:ext cx="1800" cy="9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4813200" y="151776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901960" y="1517760"/>
              <a:ext cx="3130560" cy="185760"/>
            </a:xfrm>
            <a:custGeom>
              <a:avLst/>
              <a:gdLst/>
              <a:ahLst/>
              <a:rect l="l" t="t" r="r" b="b"/>
              <a:pathLst>
                <a:path w="1972" h="117">
                  <a:moveTo>
                    <a:pt x="0" y="117"/>
                  </a:moveTo>
                  <a:lnTo>
                    <a:pt x="0" y="0"/>
                  </a:lnTo>
                  <a:lnTo>
                    <a:pt x="1972" y="0"/>
                  </a:lnTo>
                  <a:lnTo>
                    <a:pt x="1972" y="117"/>
                  </a:lnTo>
                  <a:lnTo>
                    <a:pt x="0" y="117"/>
                  </a:lnTo>
                  <a:lnTo>
                    <a:pt x="0" y="1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090400" y="1547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1577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2149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27040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32728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35608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4129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44140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468040" y="154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5195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5749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946120" y="3616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01488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721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12756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18444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21180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27012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29712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323760" y="3616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37668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432120" y="3616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7920" y="1547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675960" y="1547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96840" y="1547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7299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573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163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872520" y="1547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89520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9225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98124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03524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939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147560" y="154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17816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23360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291560" y="15476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7328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432320" y="154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85600" y="1547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223880" y="1157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291920" y="1157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312800" y="1157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345920" y="1157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37328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3232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88480" y="1157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511160" y="1157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53852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59720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65120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709520" y="1157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743360" y="115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796640" y="115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848840" y="115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081040" y="209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1512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206320" y="209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257080" y="209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30604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329800" y="209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3830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43780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459040" y="2095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4892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5450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60232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65776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714640" y="2095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7434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8006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855400" y="2095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94036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99580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054120" y="209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358360" y="209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4256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48364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50416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5304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484360" y="2239920"/>
              <a:ext cx="4038480" cy="139680"/>
            </a:xfrm>
            <a:custGeom>
              <a:avLst/>
              <a:gdLst/>
              <a:ahLst/>
              <a:rect l="l" t="t" r="r" b="b"/>
              <a:pathLst>
                <a:path w="2544" h="88">
                  <a:moveTo>
                    <a:pt x="2542" y="88"/>
                  </a:moveTo>
                  <a:lnTo>
                    <a:pt x="254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4" y="88"/>
                  </a:lnTo>
                  <a:lnTo>
                    <a:pt x="2544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487600" y="2379600"/>
              <a:ext cx="4035240" cy="141480"/>
            </a:xfrm>
            <a:custGeom>
              <a:avLst/>
              <a:gdLst/>
              <a:ahLst/>
              <a:rect l="l" t="t" r="r" b="b"/>
              <a:pathLst>
                <a:path w="2542" h="89">
                  <a:moveTo>
                    <a:pt x="2540" y="89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542" y="89"/>
                  </a:lnTo>
                  <a:lnTo>
                    <a:pt x="2542" y="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487600" y="2521080"/>
              <a:ext cx="4035240" cy="139680"/>
            </a:xfrm>
            <a:custGeom>
              <a:avLst/>
              <a:gdLst/>
              <a:ahLst/>
              <a:rect l="l" t="t" r="r" b="b"/>
              <a:pathLst>
                <a:path w="2542" h="88">
                  <a:moveTo>
                    <a:pt x="2540" y="88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2" y="88"/>
                  </a:lnTo>
                  <a:lnTo>
                    <a:pt x="2542" y="88"/>
                  </a:lnTo>
                  <a:lnTo>
                    <a:pt x="2540" y="8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487600" y="2521080"/>
              <a:ext cx="4035240" cy="139680"/>
            </a:xfrm>
            <a:custGeom>
              <a:avLst/>
              <a:gdLst/>
              <a:ahLst/>
              <a:rect l="l" t="t" r="r" b="b"/>
              <a:pathLst>
                <a:path w="2542" h="88">
                  <a:moveTo>
                    <a:pt x="2540" y="88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2" y="88"/>
                  </a:lnTo>
                  <a:lnTo>
                    <a:pt x="2542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84360" y="2660760"/>
              <a:ext cx="4038480" cy="139680"/>
            </a:xfrm>
            <a:custGeom>
              <a:avLst/>
              <a:gdLst/>
              <a:ahLst/>
              <a:rect l="l" t="t" r="r" b="b"/>
              <a:pathLst>
                <a:path w="2544" h="88">
                  <a:moveTo>
                    <a:pt x="2542" y="88"/>
                  </a:moveTo>
                  <a:lnTo>
                    <a:pt x="254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4" y="88"/>
                  </a:lnTo>
                  <a:lnTo>
                    <a:pt x="2544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84360" y="2800440"/>
              <a:ext cx="4038480" cy="141120"/>
            </a:xfrm>
            <a:custGeom>
              <a:avLst/>
              <a:gdLst/>
              <a:ahLst/>
              <a:rect l="l" t="t" r="r" b="b"/>
              <a:pathLst>
                <a:path w="2544" h="89">
                  <a:moveTo>
                    <a:pt x="2542" y="89"/>
                  </a:moveTo>
                  <a:lnTo>
                    <a:pt x="2544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544" y="89"/>
                  </a:lnTo>
                  <a:lnTo>
                    <a:pt x="2544" y="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487600" y="2941560"/>
              <a:ext cx="4035240" cy="139680"/>
            </a:xfrm>
            <a:custGeom>
              <a:avLst/>
              <a:gdLst/>
              <a:ahLst/>
              <a:rect l="l" t="t" r="r" b="b"/>
              <a:pathLst>
                <a:path w="2542" h="88">
                  <a:moveTo>
                    <a:pt x="2540" y="88"/>
                  </a:moveTo>
                  <a:lnTo>
                    <a:pt x="254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542" y="88"/>
                  </a:lnTo>
                  <a:lnTo>
                    <a:pt x="2542" y="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614840" y="2239920"/>
              <a:ext cx="32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517480" y="256536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3" y="29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602320" y="1795320"/>
              <a:ext cx="1220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75460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81328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5888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514680" y="1711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545080" y="256536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3" y="29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505480" y="3181320"/>
              <a:ext cx="1220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61168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66424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98760" y="586728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0" y="2"/>
                  </a:lnTo>
                  <a:lnTo>
                    <a:pt x="15" y="3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956040" y="4121280"/>
              <a:ext cx="1252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065480" y="404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120920" y="404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773680" y="4114800"/>
              <a:ext cx="1252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88312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93856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563560" y="541656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98760" y="54100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724360" y="54165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29"/>
                  </a:moveTo>
                  <a:lnTo>
                    <a:pt x="17" y="30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690520" y="3833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76396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21920" y="383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87376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92920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986080" y="383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14160" y="3833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540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09264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148080" y="383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206400" y="383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71760" y="54165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0"/>
                  </a:moveTo>
                  <a:lnTo>
                    <a:pt x="2" y="30"/>
                  </a:lnTo>
                  <a:lnTo>
                    <a:pt x="31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415960" y="4011480"/>
              <a:ext cx="3421080" cy="1428840"/>
            </a:xfrm>
            <a:custGeom>
              <a:avLst/>
              <a:gdLst/>
              <a:ahLst/>
              <a:rect l="l" t="t" r="r" b="b"/>
              <a:pathLst>
                <a:path w="2155" h="900">
                  <a:moveTo>
                    <a:pt x="2153" y="0"/>
                  </a:moveTo>
                  <a:lnTo>
                    <a:pt x="2155" y="328"/>
                  </a:lnTo>
                  <a:lnTo>
                    <a:pt x="0" y="328"/>
                  </a:lnTo>
                  <a:lnTo>
                    <a:pt x="0" y="900"/>
                  </a:lnTo>
                  <a:lnTo>
                    <a:pt x="39" y="90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328840" y="6129360"/>
              <a:ext cx="222120" cy="182520"/>
            </a:xfrm>
            <a:custGeom>
              <a:avLst/>
              <a:gdLst/>
              <a:ahLst/>
              <a:rect l="l" t="t" r="r" b="b"/>
              <a:pathLst>
                <a:path w="140" h="115">
                  <a:moveTo>
                    <a:pt x="55" y="0"/>
                  </a:moveTo>
                  <a:lnTo>
                    <a:pt x="48" y="0"/>
                  </a:lnTo>
                  <a:lnTo>
                    <a:pt x="38" y="4"/>
                  </a:lnTo>
                  <a:lnTo>
                    <a:pt x="31" y="6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31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4" y="77"/>
                  </a:lnTo>
                  <a:lnTo>
                    <a:pt x="7" y="85"/>
                  </a:lnTo>
                  <a:lnTo>
                    <a:pt x="11" y="92"/>
                  </a:lnTo>
                  <a:lnTo>
                    <a:pt x="17" y="98"/>
                  </a:lnTo>
                  <a:lnTo>
                    <a:pt x="23" y="104"/>
                  </a:lnTo>
                  <a:lnTo>
                    <a:pt x="31" y="110"/>
                  </a:lnTo>
                  <a:lnTo>
                    <a:pt x="38" y="113"/>
                  </a:lnTo>
                  <a:lnTo>
                    <a:pt x="48" y="115"/>
                  </a:lnTo>
                  <a:lnTo>
                    <a:pt x="57" y="115"/>
                  </a:lnTo>
                  <a:lnTo>
                    <a:pt x="140" y="115"/>
                  </a:lnTo>
                  <a:lnTo>
                    <a:pt x="140" y="0"/>
                  </a:lnTo>
                  <a:lnTo>
                    <a:pt x="57" y="0"/>
                  </a:lnTo>
                  <a:lnTo>
                    <a:pt x="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319200" y="593100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65" y="131"/>
                  </a:moveTo>
                  <a:lnTo>
                    <a:pt x="77" y="131"/>
                  </a:lnTo>
                  <a:lnTo>
                    <a:pt x="86" y="129"/>
                  </a:lnTo>
                  <a:lnTo>
                    <a:pt x="96" y="125"/>
                  </a:lnTo>
                  <a:lnTo>
                    <a:pt x="104" y="119"/>
                  </a:lnTo>
                  <a:lnTo>
                    <a:pt x="111" y="112"/>
                  </a:lnTo>
                  <a:lnTo>
                    <a:pt x="119" y="104"/>
                  </a:lnTo>
                  <a:lnTo>
                    <a:pt x="125" y="96"/>
                  </a:lnTo>
                  <a:lnTo>
                    <a:pt x="129" y="87"/>
                  </a:lnTo>
                  <a:lnTo>
                    <a:pt x="131" y="77"/>
                  </a:lnTo>
                  <a:lnTo>
                    <a:pt x="132" y="66"/>
                  </a:lnTo>
                  <a:lnTo>
                    <a:pt x="131" y="56"/>
                  </a:lnTo>
                  <a:lnTo>
                    <a:pt x="129" y="44"/>
                  </a:lnTo>
                  <a:lnTo>
                    <a:pt x="125" y="35"/>
                  </a:lnTo>
                  <a:lnTo>
                    <a:pt x="119" y="27"/>
                  </a:lnTo>
                  <a:lnTo>
                    <a:pt x="111" y="19"/>
                  </a:lnTo>
                  <a:lnTo>
                    <a:pt x="104" y="12"/>
                  </a:lnTo>
                  <a:lnTo>
                    <a:pt x="96" y="6"/>
                  </a:lnTo>
                  <a:lnTo>
                    <a:pt x="86" y="2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2"/>
                  </a:lnTo>
                  <a:lnTo>
                    <a:pt x="19" y="19"/>
                  </a:lnTo>
                  <a:lnTo>
                    <a:pt x="11" y="27"/>
                  </a:lnTo>
                  <a:lnTo>
                    <a:pt x="6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7"/>
                  </a:lnTo>
                  <a:lnTo>
                    <a:pt x="2" y="87"/>
                  </a:lnTo>
                  <a:lnTo>
                    <a:pt x="6" y="96"/>
                  </a:lnTo>
                  <a:lnTo>
                    <a:pt x="11" y="104"/>
                  </a:lnTo>
                  <a:lnTo>
                    <a:pt x="19" y="112"/>
                  </a:lnTo>
                  <a:lnTo>
                    <a:pt x="27" y="119"/>
                  </a:lnTo>
                  <a:lnTo>
                    <a:pt x="34" y="125"/>
                  </a:lnTo>
                  <a:lnTo>
                    <a:pt x="44" y="129"/>
                  </a:lnTo>
                  <a:lnTo>
                    <a:pt x="54" y="131"/>
                  </a:lnTo>
                  <a:lnTo>
                    <a:pt x="65" y="133"/>
                  </a:lnTo>
                  <a:lnTo>
                    <a:pt x="65" y="1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19280" y="5430960"/>
              <a:ext cx="3240" cy="449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392280" y="6019920"/>
              <a:ext cx="60480" cy="29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38" y="0"/>
                  </a:lnTo>
                  <a:lnTo>
                    <a:pt x="38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38" y="15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550960" y="5437080"/>
              <a:ext cx="33480" cy="725760"/>
            </a:xfrm>
            <a:custGeom>
              <a:avLst/>
              <a:gdLst/>
              <a:ahLst/>
              <a:rect l="l" t="t" r="r" b="b"/>
              <a:pathLst>
                <a:path w="21" h="457">
                  <a:moveTo>
                    <a:pt x="21" y="0"/>
                  </a:moveTo>
                  <a:lnTo>
                    <a:pt x="21" y="457"/>
                  </a:lnTo>
                  <a:lnTo>
                    <a:pt x="0" y="4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550960" y="6138720"/>
              <a:ext cx="871560" cy="142920"/>
            </a:xfrm>
            <a:custGeom>
              <a:avLst/>
              <a:gdLst/>
              <a:ahLst/>
              <a:rect l="l" t="t" r="r" b="b"/>
              <a:pathLst>
                <a:path w="549" h="90">
                  <a:moveTo>
                    <a:pt x="547" y="0"/>
                  </a:moveTo>
                  <a:lnTo>
                    <a:pt x="549" y="90"/>
                  </a:lnTo>
                  <a:lnTo>
                    <a:pt x="0" y="9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63760" y="600408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319120" y="4011480"/>
              <a:ext cx="1701720" cy="2024280"/>
            </a:xfrm>
            <a:custGeom>
              <a:avLst/>
              <a:gdLst/>
              <a:ahLst/>
              <a:rect l="l" t="t" r="r" b="b"/>
              <a:pathLst>
                <a:path w="1072" h="1275">
                  <a:moveTo>
                    <a:pt x="1070" y="0"/>
                  </a:moveTo>
                  <a:lnTo>
                    <a:pt x="1072" y="201"/>
                  </a:lnTo>
                  <a:lnTo>
                    <a:pt x="0" y="201"/>
                  </a:lnTo>
                  <a:lnTo>
                    <a:pt x="0" y="1275"/>
                  </a:lnTo>
                  <a:lnTo>
                    <a:pt x="609" y="127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746680" y="5440320"/>
              <a:ext cx="1440" cy="628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684760" y="5891040"/>
              <a:ext cx="122040" cy="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790960" y="581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849640" y="581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950480" y="52354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023920" y="523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080440" y="523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130120" y="523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187360" y="523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721120" y="606276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0" y="2"/>
                  </a:lnTo>
                  <a:lnTo>
                    <a:pt x="16" y="3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641560" y="6119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715000" y="611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773320" y="6119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800680" y="611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193840" y="619920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29" y="27"/>
                  </a:moveTo>
                  <a:lnTo>
                    <a:pt x="31" y="0"/>
                  </a:lnTo>
                  <a:lnTo>
                    <a:pt x="0" y="14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H="1">
              <a:off x="2230200" y="6221520"/>
              <a:ext cx="9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752120" y="6156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82556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882080" y="6156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93176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99044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044080" y="6156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074680" y="615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129400" y="6156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150640" y="6156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757920" y="4008600"/>
              <a:ext cx="1440" cy="285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697440" y="4118040"/>
              <a:ext cx="1224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804000" y="40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737040" y="42768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0" y="0"/>
                  </a:lnTo>
                  <a:lnTo>
                    <a:pt x="13" y="2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657680" y="351468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0"/>
                  </a:lnTo>
                  <a:lnTo>
                    <a:pt x="1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667120" y="1703520"/>
              <a:ext cx="1078200" cy="1825560"/>
            </a:xfrm>
            <a:custGeom>
              <a:avLst/>
              <a:gdLst/>
              <a:ahLst/>
              <a:rect l="l" t="t" r="r" b="b"/>
              <a:pathLst>
                <a:path w="679" h="1150">
                  <a:moveTo>
                    <a:pt x="349" y="1150"/>
                  </a:moveTo>
                  <a:lnTo>
                    <a:pt x="351" y="1029"/>
                  </a:lnTo>
                  <a:lnTo>
                    <a:pt x="678" y="1029"/>
                  </a:lnTo>
                  <a:lnTo>
                    <a:pt x="679" y="140"/>
                  </a:lnTo>
                  <a:lnTo>
                    <a:pt x="0" y="14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200640" y="351468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0"/>
                  </a:lnTo>
                  <a:lnTo>
                    <a:pt x="15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678200" y="2590920"/>
              <a:ext cx="890640" cy="938160"/>
            </a:xfrm>
            <a:custGeom>
              <a:avLst/>
              <a:gdLst/>
              <a:ahLst/>
              <a:rect l="l" t="t" r="r" b="b"/>
              <a:pathLst>
                <a:path w="561" h="591">
                  <a:moveTo>
                    <a:pt x="0" y="591"/>
                  </a:moveTo>
                  <a:lnTo>
                    <a:pt x="2" y="489"/>
                  </a:lnTo>
                  <a:lnTo>
                    <a:pt x="561" y="489"/>
                  </a:lnTo>
                  <a:lnTo>
                    <a:pt x="559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919200" y="37972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985800" y="3797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038360" y="37972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065720" y="3797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124400" y="379728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89680" y="38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943320" y="38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971760" y="38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001640" y="3897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049880" y="38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108200" y="38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603160" y="2095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7552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3" name=""/>
          <p:cNvSpPr/>
          <p:nvPr/>
        </p:nvSpPr>
        <p:spPr>
          <a:xfrm>
            <a:off x="2700000" y="2095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733480" y="2095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760120" y="20955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3712320" y="210492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3773520" y="2104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832200" y="2104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3313080" y="1803240"/>
            <a:ext cx="1224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301840" y="2565360"/>
            <a:ext cx="44640" cy="4932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29"/>
                </a:moveTo>
                <a:lnTo>
                  <a:pt x="28" y="0"/>
                </a:lnTo>
                <a:lnTo>
                  <a:pt x="0" y="16"/>
                </a:lnTo>
                <a:lnTo>
                  <a:pt x="28" y="31"/>
                </a:lnTo>
                <a:lnTo>
                  <a:pt x="28" y="31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197160" y="298620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29"/>
                </a:moveTo>
                <a:lnTo>
                  <a:pt x="29" y="0"/>
                </a:lnTo>
                <a:lnTo>
                  <a:pt x="0" y="16"/>
                </a:lnTo>
                <a:lnTo>
                  <a:pt x="29" y="31"/>
                </a:lnTo>
                <a:lnTo>
                  <a:pt x="29" y="31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197160" y="284652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27"/>
                </a:moveTo>
                <a:lnTo>
                  <a:pt x="29" y="0"/>
                </a:lnTo>
                <a:lnTo>
                  <a:pt x="0" y="13"/>
                </a:lnTo>
                <a:lnTo>
                  <a:pt x="29" y="29"/>
                </a:lnTo>
                <a:lnTo>
                  <a:pt x="29" y="29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197160" y="2706840"/>
            <a:ext cx="46080" cy="4572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29"/>
                </a:moveTo>
                <a:lnTo>
                  <a:pt x="29" y="0"/>
                </a:lnTo>
                <a:lnTo>
                  <a:pt x="0" y="15"/>
                </a:lnTo>
                <a:lnTo>
                  <a:pt x="29" y="29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197160" y="256212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29"/>
                </a:moveTo>
                <a:lnTo>
                  <a:pt x="29" y="0"/>
                </a:lnTo>
                <a:lnTo>
                  <a:pt x="0" y="16"/>
                </a:lnTo>
                <a:lnTo>
                  <a:pt x="29" y="31"/>
                </a:lnTo>
                <a:lnTo>
                  <a:pt x="29" y="31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3197160" y="242568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29"/>
                </a:moveTo>
                <a:lnTo>
                  <a:pt x="29" y="0"/>
                </a:lnTo>
                <a:lnTo>
                  <a:pt x="0" y="15"/>
                </a:lnTo>
                <a:lnTo>
                  <a:pt x="29" y="31"/>
                </a:lnTo>
                <a:lnTo>
                  <a:pt x="29" y="31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3197160" y="228924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8"/>
                </a:moveTo>
                <a:lnTo>
                  <a:pt x="29" y="0"/>
                </a:lnTo>
                <a:lnTo>
                  <a:pt x="0" y="15"/>
                </a:lnTo>
                <a:lnTo>
                  <a:pt x="29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flipH="1">
            <a:off x="2342880" y="2590920"/>
            <a:ext cx="2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1961280" y="25290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023920" y="2529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080800" y="25290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147400" y="2529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176560" y="2529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2232720" y="25290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2255400" y="2529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4147560" y="361620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421632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4272840" y="3616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4325040" y="3616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4372920" y="36162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4398120" y="3616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444672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4504680" y="36162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4525560" y="36162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455436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61160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6702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47242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4782600" y="36162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480996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486576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4921920" y="36162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0086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5062680" y="3616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5121000" y="36162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028400" y="38336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409716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415368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20624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253760" y="383364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427932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43290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385520" y="383364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408200" y="3833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44388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44928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455148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4605120" y="383364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463860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469656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4745880" y="383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797000" y="3833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825800" y="3833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485604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4910040" y="3833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109240" y="229068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2173320" y="22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2226600" y="22906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246480" y="1700280"/>
            <a:ext cx="133200" cy="1311120"/>
          </a:xfrm>
          <a:custGeom>
            <a:avLst/>
            <a:gdLst/>
            <a:ahLst/>
            <a:rect l="l" t="t" r="r" b="b"/>
            <a:pathLst>
              <a:path w="84" h="826">
                <a:moveTo>
                  <a:pt x="84" y="0"/>
                </a:moveTo>
                <a:lnTo>
                  <a:pt x="84" y="826"/>
                </a:lnTo>
                <a:lnTo>
                  <a:pt x="0" y="82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3084480" y="2257560"/>
            <a:ext cx="106560" cy="107640"/>
          </a:xfrm>
          <a:custGeom>
            <a:avLst/>
            <a:gdLst/>
            <a:ahLst/>
            <a:rect l="l" t="t" r="r" b="b"/>
            <a:pathLst>
              <a:path w="67" h="68">
                <a:moveTo>
                  <a:pt x="35" y="68"/>
                </a:moveTo>
                <a:lnTo>
                  <a:pt x="40" y="68"/>
                </a:lnTo>
                <a:lnTo>
                  <a:pt x="44" y="66"/>
                </a:lnTo>
                <a:lnTo>
                  <a:pt x="50" y="64"/>
                </a:lnTo>
                <a:lnTo>
                  <a:pt x="54" y="62"/>
                </a:lnTo>
                <a:lnTo>
                  <a:pt x="58" y="58"/>
                </a:lnTo>
                <a:lnTo>
                  <a:pt x="62" y="54"/>
                </a:lnTo>
                <a:lnTo>
                  <a:pt x="63" y="50"/>
                </a:lnTo>
                <a:lnTo>
                  <a:pt x="67" y="45"/>
                </a:lnTo>
                <a:lnTo>
                  <a:pt x="67" y="39"/>
                </a:lnTo>
                <a:lnTo>
                  <a:pt x="67" y="35"/>
                </a:lnTo>
                <a:lnTo>
                  <a:pt x="67" y="29"/>
                </a:lnTo>
                <a:lnTo>
                  <a:pt x="67" y="23"/>
                </a:lnTo>
                <a:lnTo>
                  <a:pt x="63" y="20"/>
                </a:lnTo>
                <a:lnTo>
                  <a:pt x="62" y="14"/>
                </a:lnTo>
                <a:lnTo>
                  <a:pt x="58" y="10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10"/>
                </a:lnTo>
                <a:lnTo>
                  <a:pt x="8" y="14"/>
                </a:lnTo>
                <a:lnTo>
                  <a:pt x="4" y="20"/>
                </a:lnTo>
                <a:lnTo>
                  <a:pt x="2" y="23"/>
                </a:lnTo>
                <a:lnTo>
                  <a:pt x="2" y="29"/>
                </a:lnTo>
                <a:lnTo>
                  <a:pt x="0" y="35"/>
                </a:lnTo>
                <a:lnTo>
                  <a:pt x="2" y="39"/>
                </a:lnTo>
                <a:lnTo>
                  <a:pt x="2" y="45"/>
                </a:lnTo>
                <a:lnTo>
                  <a:pt x="4" y="50"/>
                </a:lnTo>
                <a:lnTo>
                  <a:pt x="8" y="54"/>
                </a:lnTo>
                <a:lnTo>
                  <a:pt x="12" y="58"/>
                </a:lnTo>
                <a:lnTo>
                  <a:pt x="15" y="62"/>
                </a:lnTo>
                <a:lnTo>
                  <a:pt x="19" y="64"/>
                </a:lnTo>
                <a:lnTo>
                  <a:pt x="23" y="66"/>
                </a:lnTo>
                <a:lnTo>
                  <a:pt x="29" y="68"/>
                </a:lnTo>
                <a:lnTo>
                  <a:pt x="35" y="68"/>
                </a:lnTo>
                <a:lnTo>
                  <a:pt x="35" y="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3084480" y="2395440"/>
            <a:ext cx="106560" cy="10656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7"/>
                </a:moveTo>
                <a:lnTo>
                  <a:pt x="40" y="67"/>
                </a:lnTo>
                <a:lnTo>
                  <a:pt x="44" y="65"/>
                </a:lnTo>
                <a:lnTo>
                  <a:pt x="50" y="63"/>
                </a:lnTo>
                <a:lnTo>
                  <a:pt x="54" y="61"/>
                </a:lnTo>
                <a:lnTo>
                  <a:pt x="58" y="57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8"/>
                </a:lnTo>
                <a:lnTo>
                  <a:pt x="67" y="32"/>
                </a:lnTo>
                <a:lnTo>
                  <a:pt x="67" y="29"/>
                </a:lnTo>
                <a:lnTo>
                  <a:pt x="67" y="23"/>
                </a:lnTo>
                <a:lnTo>
                  <a:pt x="63" y="17"/>
                </a:lnTo>
                <a:lnTo>
                  <a:pt x="62" y="13"/>
                </a:lnTo>
                <a:lnTo>
                  <a:pt x="58" y="9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9"/>
                </a:lnTo>
                <a:lnTo>
                  <a:pt x="8" y="13"/>
                </a:lnTo>
                <a:lnTo>
                  <a:pt x="4" y="17"/>
                </a:lnTo>
                <a:lnTo>
                  <a:pt x="2" y="23"/>
                </a:lnTo>
                <a:lnTo>
                  <a:pt x="2" y="29"/>
                </a:lnTo>
                <a:lnTo>
                  <a:pt x="0" y="32"/>
                </a:lnTo>
                <a:lnTo>
                  <a:pt x="2" y="38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7"/>
                </a:lnTo>
                <a:lnTo>
                  <a:pt x="15" y="61"/>
                </a:lnTo>
                <a:lnTo>
                  <a:pt x="19" y="63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3084480" y="253224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6"/>
                </a:moveTo>
                <a:lnTo>
                  <a:pt x="40" y="67"/>
                </a:lnTo>
                <a:lnTo>
                  <a:pt x="44" y="66"/>
                </a:lnTo>
                <a:lnTo>
                  <a:pt x="50" y="64"/>
                </a:lnTo>
                <a:lnTo>
                  <a:pt x="54" y="60"/>
                </a:lnTo>
                <a:lnTo>
                  <a:pt x="58" y="58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9"/>
                </a:lnTo>
                <a:lnTo>
                  <a:pt x="67" y="33"/>
                </a:lnTo>
                <a:lnTo>
                  <a:pt x="67" y="29"/>
                </a:lnTo>
                <a:lnTo>
                  <a:pt x="67" y="23"/>
                </a:lnTo>
                <a:lnTo>
                  <a:pt x="63" y="18"/>
                </a:lnTo>
                <a:lnTo>
                  <a:pt x="62" y="14"/>
                </a:lnTo>
                <a:lnTo>
                  <a:pt x="58" y="10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10"/>
                </a:lnTo>
                <a:lnTo>
                  <a:pt x="8" y="14"/>
                </a:lnTo>
                <a:lnTo>
                  <a:pt x="4" y="18"/>
                </a:lnTo>
                <a:lnTo>
                  <a:pt x="2" y="23"/>
                </a:lnTo>
                <a:lnTo>
                  <a:pt x="2" y="29"/>
                </a:lnTo>
                <a:lnTo>
                  <a:pt x="0" y="33"/>
                </a:lnTo>
                <a:lnTo>
                  <a:pt x="2" y="39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8"/>
                </a:lnTo>
                <a:lnTo>
                  <a:pt x="15" y="60"/>
                </a:lnTo>
                <a:lnTo>
                  <a:pt x="19" y="64"/>
                </a:lnTo>
                <a:lnTo>
                  <a:pt x="23" y="66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084480" y="267660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5"/>
                </a:moveTo>
                <a:lnTo>
                  <a:pt x="40" y="67"/>
                </a:lnTo>
                <a:lnTo>
                  <a:pt x="44" y="65"/>
                </a:lnTo>
                <a:lnTo>
                  <a:pt x="50" y="63"/>
                </a:lnTo>
                <a:lnTo>
                  <a:pt x="54" y="61"/>
                </a:lnTo>
                <a:lnTo>
                  <a:pt x="58" y="57"/>
                </a:lnTo>
                <a:lnTo>
                  <a:pt x="62" y="53"/>
                </a:lnTo>
                <a:lnTo>
                  <a:pt x="63" y="48"/>
                </a:lnTo>
                <a:lnTo>
                  <a:pt x="67" y="44"/>
                </a:lnTo>
                <a:lnTo>
                  <a:pt x="67" y="38"/>
                </a:lnTo>
                <a:lnTo>
                  <a:pt x="67" y="32"/>
                </a:lnTo>
                <a:lnTo>
                  <a:pt x="67" y="28"/>
                </a:lnTo>
                <a:lnTo>
                  <a:pt x="67" y="23"/>
                </a:lnTo>
                <a:lnTo>
                  <a:pt x="63" y="17"/>
                </a:lnTo>
                <a:lnTo>
                  <a:pt x="62" y="13"/>
                </a:lnTo>
                <a:lnTo>
                  <a:pt x="58" y="9"/>
                </a:lnTo>
                <a:lnTo>
                  <a:pt x="54" y="5"/>
                </a:lnTo>
                <a:lnTo>
                  <a:pt x="50" y="3"/>
                </a:lnTo>
                <a:lnTo>
                  <a:pt x="44" y="1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1"/>
                </a:lnTo>
                <a:lnTo>
                  <a:pt x="19" y="3"/>
                </a:lnTo>
                <a:lnTo>
                  <a:pt x="15" y="5"/>
                </a:lnTo>
                <a:lnTo>
                  <a:pt x="12" y="9"/>
                </a:lnTo>
                <a:lnTo>
                  <a:pt x="8" y="13"/>
                </a:lnTo>
                <a:lnTo>
                  <a:pt x="4" y="17"/>
                </a:lnTo>
                <a:lnTo>
                  <a:pt x="2" y="23"/>
                </a:lnTo>
                <a:lnTo>
                  <a:pt x="2" y="28"/>
                </a:lnTo>
                <a:lnTo>
                  <a:pt x="0" y="32"/>
                </a:lnTo>
                <a:lnTo>
                  <a:pt x="2" y="38"/>
                </a:lnTo>
                <a:lnTo>
                  <a:pt x="2" y="44"/>
                </a:lnTo>
                <a:lnTo>
                  <a:pt x="4" y="48"/>
                </a:lnTo>
                <a:lnTo>
                  <a:pt x="8" y="53"/>
                </a:lnTo>
                <a:lnTo>
                  <a:pt x="12" y="57"/>
                </a:lnTo>
                <a:lnTo>
                  <a:pt x="15" y="61"/>
                </a:lnTo>
                <a:lnTo>
                  <a:pt x="19" y="63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084480" y="281628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5"/>
                </a:moveTo>
                <a:lnTo>
                  <a:pt x="40" y="67"/>
                </a:lnTo>
                <a:lnTo>
                  <a:pt x="44" y="65"/>
                </a:lnTo>
                <a:lnTo>
                  <a:pt x="50" y="63"/>
                </a:lnTo>
                <a:lnTo>
                  <a:pt x="54" y="61"/>
                </a:lnTo>
                <a:lnTo>
                  <a:pt x="58" y="57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8"/>
                </a:lnTo>
                <a:lnTo>
                  <a:pt x="67" y="32"/>
                </a:lnTo>
                <a:lnTo>
                  <a:pt x="67" y="29"/>
                </a:lnTo>
                <a:lnTo>
                  <a:pt x="67" y="23"/>
                </a:lnTo>
                <a:lnTo>
                  <a:pt x="63" y="17"/>
                </a:lnTo>
                <a:lnTo>
                  <a:pt x="62" y="13"/>
                </a:lnTo>
                <a:lnTo>
                  <a:pt x="58" y="9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9"/>
                </a:lnTo>
                <a:lnTo>
                  <a:pt x="8" y="13"/>
                </a:lnTo>
                <a:lnTo>
                  <a:pt x="4" y="17"/>
                </a:lnTo>
                <a:lnTo>
                  <a:pt x="2" y="23"/>
                </a:lnTo>
                <a:lnTo>
                  <a:pt x="2" y="29"/>
                </a:lnTo>
                <a:lnTo>
                  <a:pt x="0" y="32"/>
                </a:lnTo>
                <a:lnTo>
                  <a:pt x="2" y="38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7"/>
                </a:lnTo>
                <a:lnTo>
                  <a:pt x="15" y="61"/>
                </a:lnTo>
                <a:lnTo>
                  <a:pt x="19" y="63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084480" y="2955960"/>
            <a:ext cx="106560" cy="106200"/>
          </a:xfrm>
          <a:custGeom>
            <a:avLst/>
            <a:gdLst/>
            <a:ahLst/>
            <a:rect l="l" t="t" r="r" b="b"/>
            <a:pathLst>
              <a:path w="67" h="67">
                <a:moveTo>
                  <a:pt x="35" y="65"/>
                </a:moveTo>
                <a:lnTo>
                  <a:pt x="40" y="67"/>
                </a:lnTo>
                <a:lnTo>
                  <a:pt x="44" y="65"/>
                </a:lnTo>
                <a:lnTo>
                  <a:pt x="50" y="64"/>
                </a:lnTo>
                <a:lnTo>
                  <a:pt x="54" y="62"/>
                </a:lnTo>
                <a:lnTo>
                  <a:pt x="58" y="58"/>
                </a:lnTo>
                <a:lnTo>
                  <a:pt x="62" y="54"/>
                </a:lnTo>
                <a:lnTo>
                  <a:pt x="63" y="48"/>
                </a:lnTo>
                <a:lnTo>
                  <a:pt x="67" y="44"/>
                </a:lnTo>
                <a:lnTo>
                  <a:pt x="67" y="39"/>
                </a:lnTo>
                <a:lnTo>
                  <a:pt x="67" y="33"/>
                </a:lnTo>
                <a:lnTo>
                  <a:pt x="67" y="29"/>
                </a:lnTo>
                <a:lnTo>
                  <a:pt x="67" y="23"/>
                </a:lnTo>
                <a:lnTo>
                  <a:pt x="63" y="17"/>
                </a:lnTo>
                <a:lnTo>
                  <a:pt x="62" y="14"/>
                </a:lnTo>
                <a:lnTo>
                  <a:pt x="58" y="10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40" y="0"/>
                </a:lnTo>
                <a:lnTo>
                  <a:pt x="35" y="0"/>
                </a:lnTo>
                <a:lnTo>
                  <a:pt x="29" y="0"/>
                </a:lnTo>
                <a:lnTo>
                  <a:pt x="23" y="2"/>
                </a:lnTo>
                <a:lnTo>
                  <a:pt x="19" y="4"/>
                </a:lnTo>
                <a:lnTo>
                  <a:pt x="15" y="6"/>
                </a:lnTo>
                <a:lnTo>
                  <a:pt x="12" y="10"/>
                </a:lnTo>
                <a:lnTo>
                  <a:pt x="8" y="14"/>
                </a:lnTo>
                <a:lnTo>
                  <a:pt x="4" y="17"/>
                </a:lnTo>
                <a:lnTo>
                  <a:pt x="2" y="23"/>
                </a:lnTo>
                <a:lnTo>
                  <a:pt x="2" y="29"/>
                </a:lnTo>
                <a:lnTo>
                  <a:pt x="0" y="33"/>
                </a:lnTo>
                <a:lnTo>
                  <a:pt x="2" y="39"/>
                </a:lnTo>
                <a:lnTo>
                  <a:pt x="2" y="44"/>
                </a:lnTo>
                <a:lnTo>
                  <a:pt x="4" y="48"/>
                </a:lnTo>
                <a:lnTo>
                  <a:pt x="8" y="54"/>
                </a:lnTo>
                <a:lnTo>
                  <a:pt x="12" y="58"/>
                </a:lnTo>
                <a:lnTo>
                  <a:pt x="15" y="62"/>
                </a:lnTo>
                <a:lnTo>
                  <a:pt x="19" y="64"/>
                </a:lnTo>
                <a:lnTo>
                  <a:pt x="23" y="65"/>
                </a:lnTo>
                <a:lnTo>
                  <a:pt x="29" y="67"/>
                </a:lnTo>
                <a:lnTo>
                  <a:pt x="35" y="67"/>
                </a:lnTo>
                <a:lnTo>
                  <a:pt x="35" y="6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108240" y="29480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H="1">
            <a:off x="3246120" y="2867040"/>
            <a:ext cx="1299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 flipH="1">
            <a:off x="3246120" y="2727360"/>
            <a:ext cx="1299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 flipH="1">
            <a:off x="3246120" y="2587680"/>
            <a:ext cx="129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flipH="1">
            <a:off x="3246120" y="2449440"/>
            <a:ext cx="129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flipH="1">
            <a:off x="3246120" y="2309760"/>
            <a:ext cx="129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1984320" y="3174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484360" y="2239920"/>
            <a:ext cx="112680" cy="841320"/>
          </a:xfrm>
          <a:custGeom>
            <a:avLst/>
            <a:gdLst/>
            <a:ahLst/>
            <a:rect l="l" t="t" r="r" b="b"/>
            <a:pathLst>
              <a:path w="71" h="530">
                <a:moveTo>
                  <a:pt x="69" y="530"/>
                </a:moveTo>
                <a:lnTo>
                  <a:pt x="71" y="0"/>
                </a:lnTo>
                <a:lnTo>
                  <a:pt x="0" y="0"/>
                </a:lnTo>
                <a:lnTo>
                  <a:pt x="0" y="530"/>
                </a:lnTo>
                <a:lnTo>
                  <a:pt x="71" y="530"/>
                </a:lnTo>
                <a:lnTo>
                  <a:pt x="71" y="5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597040" y="2239920"/>
            <a:ext cx="112680" cy="841320"/>
          </a:xfrm>
          <a:custGeom>
            <a:avLst/>
            <a:gdLst/>
            <a:ahLst/>
            <a:rect l="l" t="t" r="r" b="b"/>
            <a:pathLst>
              <a:path w="71" h="530">
                <a:moveTo>
                  <a:pt x="71" y="530"/>
                </a:moveTo>
                <a:lnTo>
                  <a:pt x="71" y="0"/>
                </a:lnTo>
                <a:lnTo>
                  <a:pt x="0" y="0"/>
                </a:lnTo>
                <a:lnTo>
                  <a:pt x="0" y="530"/>
                </a:lnTo>
                <a:lnTo>
                  <a:pt x="71" y="530"/>
                </a:lnTo>
                <a:lnTo>
                  <a:pt x="71" y="5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667560" y="3787920"/>
            <a:ext cx="166680" cy="217440"/>
          </a:xfrm>
          <a:custGeom>
            <a:avLst/>
            <a:gdLst/>
            <a:ahLst/>
            <a:rect l="l" t="t" r="r" b="b"/>
            <a:pathLst>
              <a:path w="105" h="137">
                <a:moveTo>
                  <a:pt x="103" y="137"/>
                </a:moveTo>
                <a:lnTo>
                  <a:pt x="105" y="0"/>
                </a:lnTo>
                <a:lnTo>
                  <a:pt x="0" y="0"/>
                </a:lnTo>
                <a:lnTo>
                  <a:pt x="0" y="137"/>
                </a:lnTo>
                <a:lnTo>
                  <a:pt x="105" y="137"/>
                </a:lnTo>
                <a:lnTo>
                  <a:pt x="105" y="13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5270400" y="3784680"/>
            <a:ext cx="1393920" cy="220680"/>
          </a:xfrm>
          <a:custGeom>
            <a:avLst/>
            <a:gdLst/>
            <a:ahLst/>
            <a:rect l="l" t="t" r="r" b="b"/>
            <a:pathLst>
              <a:path w="878" h="139">
                <a:moveTo>
                  <a:pt x="878" y="139"/>
                </a:moveTo>
                <a:lnTo>
                  <a:pt x="878" y="0"/>
                </a:lnTo>
                <a:lnTo>
                  <a:pt x="0" y="0"/>
                </a:lnTo>
                <a:lnTo>
                  <a:pt x="0" y="139"/>
                </a:lnTo>
                <a:lnTo>
                  <a:pt x="878" y="139"/>
                </a:lnTo>
                <a:lnTo>
                  <a:pt x="878" y="1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3703680" y="3784680"/>
            <a:ext cx="1566720" cy="220680"/>
          </a:xfrm>
          <a:custGeom>
            <a:avLst/>
            <a:gdLst/>
            <a:ahLst/>
            <a:rect l="l" t="t" r="r" b="b"/>
            <a:pathLst>
              <a:path w="987" h="139">
                <a:moveTo>
                  <a:pt x="987" y="139"/>
                </a:moveTo>
                <a:lnTo>
                  <a:pt x="987" y="0"/>
                </a:lnTo>
                <a:lnTo>
                  <a:pt x="0" y="0"/>
                </a:lnTo>
                <a:lnTo>
                  <a:pt x="0" y="139"/>
                </a:lnTo>
                <a:lnTo>
                  <a:pt x="987" y="139"/>
                </a:lnTo>
                <a:lnTo>
                  <a:pt x="987" y="1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568840" y="3565440"/>
            <a:ext cx="1262160" cy="219240"/>
          </a:xfrm>
          <a:custGeom>
            <a:avLst/>
            <a:gdLst/>
            <a:ahLst/>
            <a:rect l="l" t="t" r="r" b="b"/>
            <a:pathLst>
              <a:path w="795" h="138">
                <a:moveTo>
                  <a:pt x="795" y="137"/>
                </a:moveTo>
                <a:lnTo>
                  <a:pt x="795" y="0"/>
                </a:lnTo>
                <a:lnTo>
                  <a:pt x="0" y="0"/>
                </a:lnTo>
                <a:lnTo>
                  <a:pt x="0" y="138"/>
                </a:lnTo>
                <a:lnTo>
                  <a:pt x="795" y="138"/>
                </a:lnTo>
                <a:lnTo>
                  <a:pt x="795" y="1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703680" y="3565440"/>
            <a:ext cx="1865160" cy="219240"/>
          </a:xfrm>
          <a:custGeom>
            <a:avLst/>
            <a:gdLst/>
            <a:ahLst/>
            <a:rect l="l" t="t" r="r" b="b"/>
            <a:pathLst>
              <a:path w="1175" h="138">
                <a:moveTo>
                  <a:pt x="1175" y="138"/>
                </a:moveTo>
                <a:lnTo>
                  <a:pt x="1175" y="0"/>
                </a:lnTo>
                <a:lnTo>
                  <a:pt x="0" y="0"/>
                </a:lnTo>
                <a:lnTo>
                  <a:pt x="0" y="138"/>
                </a:lnTo>
                <a:lnTo>
                  <a:pt x="1175" y="138"/>
                </a:lnTo>
                <a:lnTo>
                  <a:pt x="1175" y="1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5022720" y="3736800"/>
            <a:ext cx="860400" cy="96840"/>
          </a:xfrm>
          <a:custGeom>
            <a:avLst/>
            <a:gdLst/>
            <a:ahLst/>
            <a:rect l="l" t="t" r="r" b="b"/>
            <a:pathLst>
              <a:path w="542" h="61">
                <a:moveTo>
                  <a:pt x="542" y="61"/>
                </a:moveTo>
                <a:lnTo>
                  <a:pt x="542" y="0"/>
                </a:lnTo>
                <a:lnTo>
                  <a:pt x="0" y="0"/>
                </a:lnTo>
                <a:lnTo>
                  <a:pt x="0" y="61"/>
                </a:lnTo>
                <a:lnTo>
                  <a:pt x="542" y="61"/>
                </a:lnTo>
                <a:lnTo>
                  <a:pt x="54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087520" y="37209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15772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521100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526356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5312520" y="37209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533628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53895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442840" y="37209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465520" y="37209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4957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55515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560880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5663880" y="37209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5697360" y="37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575388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5806440" y="3720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29354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9908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30477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30751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31338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318744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2162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2734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33285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43653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43959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496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5082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45356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45910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46479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46767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47340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47890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48164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487368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49287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593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50148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50716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50990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51577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52113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24016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529704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53262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572256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575784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581292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58435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590184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592920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598608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6018120" y="135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075000" y="135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75080" y="1411200"/>
            <a:ext cx="2052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3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353844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3411360" y="1411200"/>
            <a:ext cx="2088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11"/>
                </a:move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3" y="7"/>
                </a:lnTo>
                <a:lnTo>
                  <a:pt x="13" y="7"/>
                </a:lnTo>
                <a:lnTo>
                  <a:pt x="13" y="5"/>
                </a:lnTo>
                <a:lnTo>
                  <a:pt x="13" y="5"/>
                </a:lnTo>
                <a:lnTo>
                  <a:pt x="13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7" y="11"/>
                </a:lnTo>
                <a:lnTo>
                  <a:pt x="7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660840" y="1411200"/>
            <a:ext cx="2052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3" y="7"/>
                </a:lnTo>
                <a:lnTo>
                  <a:pt x="13" y="5"/>
                </a:lnTo>
                <a:lnTo>
                  <a:pt x="13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2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72420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360036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3" y="11"/>
                </a:moveTo>
                <a:lnTo>
                  <a:pt x="5" y="11"/>
                </a:ln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9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2" y="11"/>
                </a:lnTo>
                <a:lnTo>
                  <a:pt x="2" y="11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3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385272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391644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4" y="11"/>
                </a:move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9"/>
                </a:lnTo>
                <a:lnTo>
                  <a:pt x="10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378936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11"/>
                </a:move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9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442120" y="1411200"/>
            <a:ext cx="20520" cy="1764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11"/>
                </a:move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3" y="7"/>
                </a:lnTo>
                <a:lnTo>
                  <a:pt x="13" y="5"/>
                </a:lnTo>
                <a:lnTo>
                  <a:pt x="13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7" y="11"/>
                </a:lnTo>
                <a:lnTo>
                  <a:pt x="7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531648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4" y="11"/>
                </a:moveTo>
                <a:lnTo>
                  <a:pt x="6" y="11"/>
                </a:ln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556884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5646600" y="14112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11"/>
                </a:moveTo>
                <a:lnTo>
                  <a:pt x="7" y="11"/>
                </a:ln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1" y="9"/>
                </a:lnTo>
                <a:lnTo>
                  <a:pt x="1" y="9"/>
                </a:lnTo>
                <a:lnTo>
                  <a:pt x="1" y="11"/>
                </a:lnTo>
                <a:lnTo>
                  <a:pt x="3" y="11"/>
                </a:lnTo>
                <a:lnTo>
                  <a:pt x="3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5505480" y="14112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9" y="11"/>
                </a:lnTo>
                <a:lnTo>
                  <a:pt x="9" y="11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403848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102200" y="14112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11"/>
                </a:move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0" y="9"/>
                </a:lnTo>
                <a:lnTo>
                  <a:pt x="10" y="9"/>
                </a:lnTo>
                <a:lnTo>
                  <a:pt x="12" y="9"/>
                </a:lnTo>
                <a:lnTo>
                  <a:pt x="12" y="7"/>
                </a:lnTo>
                <a:lnTo>
                  <a:pt x="12" y="7"/>
                </a:lnTo>
                <a:lnTo>
                  <a:pt x="12" y="5"/>
                </a:lnTo>
                <a:lnTo>
                  <a:pt x="12" y="5"/>
                </a:lnTo>
                <a:lnTo>
                  <a:pt x="12" y="3"/>
                </a:lnTo>
                <a:lnTo>
                  <a:pt x="12" y="3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3975120" y="14112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7" y="11"/>
                </a:lnTo>
                <a:lnTo>
                  <a:pt x="7" y="11"/>
                </a:lnTo>
                <a:lnTo>
                  <a:pt x="9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9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4164120" y="14112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4" y="11"/>
                </a:move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1" y="7"/>
                </a:lnTo>
                <a:lnTo>
                  <a:pt x="11" y="7"/>
                </a:lnTo>
                <a:lnTo>
                  <a:pt x="11" y="5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114720" y="2992320"/>
            <a:ext cx="46080" cy="334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0"/>
                </a:moveTo>
                <a:lnTo>
                  <a:pt x="29" y="2"/>
                </a:lnTo>
                <a:lnTo>
                  <a:pt x="29" y="6"/>
                </a:lnTo>
                <a:lnTo>
                  <a:pt x="0" y="6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16"/>
                </a:moveTo>
                <a:lnTo>
                  <a:pt x="29" y="16"/>
                </a:lnTo>
                <a:lnTo>
                  <a:pt x="29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3114720" y="285588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0"/>
                </a:moveTo>
                <a:lnTo>
                  <a:pt x="29" y="0"/>
                </a:lnTo>
                <a:lnTo>
                  <a:pt x="29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5"/>
                </a:moveTo>
                <a:lnTo>
                  <a:pt x="29" y="15"/>
                </a:lnTo>
                <a:lnTo>
                  <a:pt x="29" y="19"/>
                </a:lnTo>
                <a:lnTo>
                  <a:pt x="0" y="1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114720" y="2712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0"/>
                </a:moveTo>
                <a:lnTo>
                  <a:pt x="29" y="0"/>
                </a:lnTo>
                <a:lnTo>
                  <a:pt x="29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5"/>
                </a:moveTo>
                <a:lnTo>
                  <a:pt x="29" y="15"/>
                </a:lnTo>
                <a:lnTo>
                  <a:pt x="29" y="19"/>
                </a:lnTo>
                <a:lnTo>
                  <a:pt x="0" y="1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3114720" y="2568600"/>
            <a:ext cx="46080" cy="334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0"/>
                </a:moveTo>
                <a:lnTo>
                  <a:pt x="29" y="2"/>
                </a:lnTo>
                <a:lnTo>
                  <a:pt x="29" y="6"/>
                </a:lnTo>
                <a:lnTo>
                  <a:pt x="0" y="6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16"/>
                </a:moveTo>
                <a:lnTo>
                  <a:pt x="29" y="16"/>
                </a:lnTo>
                <a:lnTo>
                  <a:pt x="29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114720" y="2435400"/>
            <a:ext cx="46080" cy="2988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0"/>
                </a:moveTo>
                <a:lnTo>
                  <a:pt x="29" y="0"/>
                </a:lnTo>
                <a:lnTo>
                  <a:pt x="29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3"/>
                </a:moveTo>
                <a:lnTo>
                  <a:pt x="29" y="13"/>
                </a:lnTo>
                <a:lnTo>
                  <a:pt x="29" y="19"/>
                </a:lnTo>
                <a:lnTo>
                  <a:pt x="0" y="19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114720" y="22971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0"/>
                </a:moveTo>
                <a:lnTo>
                  <a:pt x="29" y="0"/>
                </a:lnTo>
                <a:lnTo>
                  <a:pt x="29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16"/>
                </a:moveTo>
                <a:lnTo>
                  <a:pt x="29" y="16"/>
                </a:lnTo>
                <a:lnTo>
                  <a:pt x="29" y="20"/>
                </a:lnTo>
                <a:lnTo>
                  <a:pt x="0" y="20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1" name="" descr=""/>
          <p:cNvPicPr/>
          <p:nvPr/>
        </p:nvPicPr>
        <p:blipFill>
          <a:blip r:embed="rId1"/>
          <a:stretch/>
        </p:blipFill>
        <p:spPr>
          <a:xfrm>
            <a:off x="1928880" y="1528920"/>
            <a:ext cx="531324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, Virtual memory an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3" name=""/>
          <p:cNvGrpSpPr/>
          <p:nvPr/>
        </p:nvGrpSpPr>
        <p:grpSpPr>
          <a:xfrm>
            <a:off x="878040" y="2770200"/>
            <a:ext cx="7427880" cy="1954080"/>
            <a:chOff x="878040" y="2770200"/>
            <a:chExt cx="7427880" cy="1954080"/>
          </a:xfrm>
        </p:grpSpPr>
        <p:sp>
          <p:nvSpPr>
            <p:cNvPr id="3664" name=""/>
            <p:cNvSpPr/>
            <p:nvPr/>
          </p:nvSpPr>
          <p:spPr>
            <a:xfrm>
              <a:off x="878040" y="2922480"/>
              <a:ext cx="7427880" cy="3603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65" name=""/>
            <p:cNvGraphicFramePr/>
            <p:nvPr/>
          </p:nvGraphicFramePr>
          <p:xfrm>
            <a:off x="878040" y="2770200"/>
            <a:ext cx="7427880" cy="1954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8040" y="2770200"/>
                      <a:ext cx="7427880" cy="19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with Virtual Memo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 txBox="1"/>
          <p:nvPr/>
        </p:nvSpPr>
        <p:spPr>
          <a:xfrm>
            <a:off x="488160" y="147888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t least two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 pro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, supervisor, execu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tate that user process can read but not write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table and TL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that are only available in supervisor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whereby the CPU can go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 and vice 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o superviso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cal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 to user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from exception (RF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: page tables (operating system´s address spa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age Faults and TLB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mis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ftware or hard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present in memory, and we need only create the missing TLB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not present in memory, and we need to transfer control to the operating system to deal with a page fa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mechan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aves the entire state the activ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C = virtual address of the faulting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complete three step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ok up the page table entry using the virtual address and find the location of referenced page on dis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se a physical page to replace; if the chosen page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t must be written out to disk before we can bring a new virtual page into this physical p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 a read to bring the referenced page from disk into the chosen physical p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67440" y="1066680"/>
            <a:ext cx="156708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$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447920"/>
            <a:ext cx="2819520" cy="4876560"/>
            <a:chOff x="2057400" y="1447920"/>
            <a:chExt cx="2819520" cy="4876560"/>
          </a:xfrm>
        </p:grpSpPr>
        <p:sp>
          <p:nvSpPr>
            <p:cNvPr id="108" name=""/>
            <p:cNvSpPr/>
            <p:nvPr/>
          </p:nvSpPr>
          <p:spPr>
            <a:xfrm>
              <a:off x="2666880" y="1447920"/>
              <a:ext cx="1524240" cy="68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514600"/>
              <a:ext cx="121896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429000"/>
              <a:ext cx="182880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876920"/>
              <a:ext cx="2819520" cy="1447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38080" y="1066680"/>
            <a:ext cx="137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1185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1981080"/>
            <a:ext cx="463680" cy="761760"/>
            <a:chOff x="2286000" y="1981080"/>
            <a:chExt cx="463680" cy="761760"/>
          </a:xfrm>
        </p:grpSpPr>
        <p:sp>
          <p:nvSpPr>
            <p:cNvPr id="115" name=""/>
            <p:cNvSpPr/>
            <p:nvPr/>
          </p:nvSpPr>
          <p:spPr>
            <a:xfrm>
              <a:off x="2286000" y="198108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01560" y="220644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63680" cy="761760"/>
            <a:chOff x="2133720" y="2743200"/>
            <a:chExt cx="463680" cy="761760"/>
          </a:xfrm>
        </p:grpSpPr>
        <p:sp>
          <p:nvSpPr>
            <p:cNvPr id="118" name=""/>
            <p:cNvSpPr/>
            <p:nvPr/>
          </p:nvSpPr>
          <p:spPr>
            <a:xfrm>
              <a:off x="2133720" y="274320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9280" y="296856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191120"/>
            <a:ext cx="463680" cy="761760"/>
            <a:chOff x="1828800" y="4191120"/>
            <a:chExt cx="463680" cy="761760"/>
          </a:xfrm>
        </p:grpSpPr>
        <p:sp>
          <p:nvSpPr>
            <p:cNvPr id="121" name=""/>
            <p:cNvSpPr/>
            <p:nvPr/>
          </p:nvSpPr>
          <p:spPr>
            <a:xfrm>
              <a:off x="1828800" y="419112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4360" y="441648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219320" y="20570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304920" y="1066680"/>
            <a:ext cx="8381880" cy="4114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an a Block Be Plac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4" name=""/>
          <p:cNvGrpSpPr/>
          <p:nvPr/>
        </p:nvGrpSpPr>
        <p:grpSpPr>
          <a:xfrm>
            <a:off x="1746360" y="2141640"/>
            <a:ext cx="5644800" cy="1287000"/>
            <a:chOff x="1746360" y="2141640"/>
            <a:chExt cx="5644800" cy="1287000"/>
          </a:xfrm>
        </p:grpSpPr>
        <p:sp>
          <p:nvSpPr>
            <p:cNvPr id="3675" name=""/>
            <p:cNvSpPr/>
            <p:nvPr/>
          </p:nvSpPr>
          <p:spPr>
            <a:xfrm>
              <a:off x="1883880" y="21571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me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562920" y="215712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815800" y="215712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per 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746360" y="2141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174636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174636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1746360" y="2141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74636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74636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1752480" y="214164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752480" y="214164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038400" y="2141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038400" y="21416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03840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044880" y="214164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044880" y="214164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52680" y="2141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52680" y="21416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5268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59520" y="214164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59520" y="214164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38504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38504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385040" y="21416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385040" y="2141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746360" y="215064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74636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038400" y="21506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03840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152680" y="21506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15268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385040" y="21506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881000" y="241380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m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167640" y="241380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225120" y="241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746360" y="240012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746360" y="24001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74636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752480" y="240012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752480" y="240012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038400" y="240012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038400" y="24001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03840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044880" y="240012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044880" y="240012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152680" y="240012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152680" y="24001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15268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159520" y="240012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159520" y="240012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7385040" y="24001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385040" y="240012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746360" y="240732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74636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038400" y="24073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303840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152680" y="24073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15268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385040" y="24073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865160" y="267264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167640" y="267264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173760" y="2890800"/>
              <a:ext cx="1845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666240" y="291996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266440" y="2672640"/>
              <a:ext cx="19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 (typically  2 – 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746360" y="265680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746360" y="26568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74636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752480" y="265680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752480" y="265680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3038400" y="265680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038400" y="26568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03840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044880" y="265680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044880" y="265680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152680" y="265680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152680" y="26568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15268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159520" y="265680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59520" y="265680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385040" y="26568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385040" y="265680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746360" y="266580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74636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38400" y="266580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3840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152680" y="266580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15268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385040" y="266580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817640" y="317664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053240" y="31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249160" y="3176640"/>
              <a:ext cx="198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 in the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746360" y="316296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746360" y="316296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74636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752480" y="316296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752480" y="316296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038400" y="316296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038400" y="316296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03840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044880" y="316296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044880" y="316296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52680" y="316296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52680" y="316296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5268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59520" y="316296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159520" y="316296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85040" y="316296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7385040" y="316296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746360" y="317016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74636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746360" y="3419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74636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74636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746360" y="341964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74636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74636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752480" y="341964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752480" y="3419640"/>
              <a:ext cx="128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38400" y="31701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303840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038400" y="3419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038400" y="3419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03840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44880" y="341964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044880" y="3419640"/>
              <a:ext cx="210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152680" y="31701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15268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152680" y="341964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152680" y="3419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15268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159520" y="341964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159520" y="3419640"/>
              <a:ext cx="222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385040" y="317016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8504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38504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85040" y="3419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385040" y="341964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12" name=""/>
          <p:cNvGraphicFramePr/>
          <p:nvPr/>
        </p:nvGraphicFramePr>
        <p:xfrm>
          <a:off x="1523880" y="4076640"/>
          <a:ext cx="6167520" cy="156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76640"/>
                    <a:ext cx="6167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a Block 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:  In virtu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y is beneficial, since misses are very exp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ity allows software to use sophisticated replacement schemes that are designed to reduce the miss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ll map can be easily indexed with no extra hardware and no search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 page size means the page table size overhead is relatively sm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7" name=""/>
          <p:cNvGraphicFramePr/>
          <p:nvPr/>
        </p:nvGraphicFramePr>
        <p:xfrm>
          <a:off x="1255680" y="1762200"/>
          <a:ext cx="6634080" cy="136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62200"/>
                    <a:ext cx="6634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 Block Should Be Replaced on a Cache Mi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:  candidate blocks are randomly selected, possibly using some hardware as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Recently Used (LRU): The block replaced is the one that has been unused for the longest tim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80880" y="990720"/>
            <a:ext cx="8382240" cy="563868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on a Wr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es are simpler and cheaper because they never require a            block to be written back to the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implement than write-back, although to be practical                in a high-speed system, a write-through cache will need to use a          write buff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ack (copy-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 words can be written by the processor at the rate that the cache, rather than the memory, can accep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writes within a block require only one write to the lower level in th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locks are written back, the system can make effective use of a high bandwidth transfer, since the entire block is writ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7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8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0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(custo e velocid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do sistema ($/bit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s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sto do nível mais barato (d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do sistem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locidade do mais rápido (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, assumindo disco 40 GB e memória de 256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r o custo médio por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780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in the upper level (hit ratio - hi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not in the upper level (miss ratio - miss penalt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5400" y="1292400"/>
            <a:ext cx="7571880" cy="2062080"/>
            <a:chOff x="275400" y="1292400"/>
            <a:chExt cx="7571880" cy="2062080"/>
          </a:xfrm>
        </p:grpSpPr>
        <p:sp>
          <p:nvSpPr>
            <p:cNvPr id="133" name=""/>
            <p:cNvSpPr/>
            <p:nvPr/>
          </p:nvSpPr>
          <p:spPr>
            <a:xfrm flipV="1">
              <a:off x="1800000" y="13716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000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400" y="1292400"/>
              <a:ext cx="1512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4840" y="3032280"/>
              <a:ext cx="71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160" y="3657600"/>
            <a:ext cx="8157960" cy="2211480"/>
            <a:chOff x="380160" y="3657600"/>
            <a:chExt cx="8157960" cy="2211480"/>
          </a:xfrm>
        </p:grpSpPr>
        <p:sp>
          <p:nvSpPr>
            <p:cNvPr id="138" name=""/>
            <p:cNvSpPr/>
            <p:nvPr/>
          </p:nvSpPr>
          <p:spPr>
            <a:xfrm flipV="1">
              <a:off x="1784520" y="373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520" y="55656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160" y="3657600"/>
              <a:ext cx="1392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reqüência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esso em </a:t>
              </a: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5546880"/>
              <a:ext cx="245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 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0920" y="2590920"/>
            <a:ext cx="838080" cy="380880"/>
            <a:chOff x="2590920" y="2590920"/>
            <a:chExt cx="838080" cy="380880"/>
          </a:xfrm>
        </p:grpSpPr>
        <p:sp>
          <p:nvSpPr>
            <p:cNvPr id="143" name=""/>
            <p:cNvSpPr/>
            <p:nvPr/>
          </p:nvSpPr>
          <p:spPr>
            <a:xfrm>
              <a:off x="2590920" y="2895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0280" y="2971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96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932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1280" y="1828800"/>
            <a:ext cx="838440" cy="380880"/>
            <a:chOff x="3581280" y="1828800"/>
            <a:chExt cx="838440" cy="380880"/>
          </a:xfrm>
        </p:grpSpPr>
        <p:sp>
          <p:nvSpPr>
            <p:cNvPr id="150" name=""/>
            <p:cNvSpPr/>
            <p:nvPr/>
          </p:nvSpPr>
          <p:spPr>
            <a:xfrm>
              <a:off x="3581280" y="2133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096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640" y="22096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032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000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004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95680" y="2362320"/>
            <a:ext cx="838440" cy="380880"/>
            <a:chOff x="4495680" y="2362320"/>
            <a:chExt cx="838440" cy="380880"/>
          </a:xfrm>
        </p:grpSpPr>
        <p:sp>
          <p:nvSpPr>
            <p:cNvPr id="157" name=""/>
            <p:cNvSpPr/>
            <p:nvPr/>
          </p:nvSpPr>
          <p:spPr>
            <a:xfrm>
              <a:off x="44956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53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750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47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4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362320"/>
            <a:ext cx="838440" cy="380880"/>
            <a:chOff x="5410080" y="2362320"/>
            <a:chExt cx="838440" cy="380880"/>
          </a:xfrm>
        </p:grpSpPr>
        <p:sp>
          <p:nvSpPr>
            <p:cNvPr id="164" name=""/>
            <p:cNvSpPr/>
            <p:nvPr/>
          </p:nvSpPr>
          <p:spPr>
            <a:xfrm>
              <a:off x="54100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97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94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291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88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088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43200" y="4491000"/>
            <a:ext cx="228600" cy="1071720"/>
          </a:xfrm>
          <a:custGeom>
            <a:avLst/>
            <a:gdLst/>
            <a:ahLst/>
            <a:rect l="l" t="t" r="r" b="b"/>
            <a:pathLst>
              <a:path w="192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579"/>
                </a:lnTo>
                <a:lnTo>
                  <a:pt x="192" y="579"/>
                </a:lnTo>
                <a:lnTo>
                  <a:pt x="192" y="6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952880"/>
            <a:ext cx="228600" cy="609840"/>
          </a:xfrm>
          <a:custGeom>
            <a:avLst/>
            <a:gdLst/>
            <a:ahLst/>
            <a:rect l="l" t="t" r="r" b="b"/>
            <a:pathLst>
              <a:path w="144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533520" cy="38124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lnTo>
                  <a:pt x="0" y="240"/>
                </a:lnTo>
                <a:lnTo>
                  <a:pt x="48" y="240"/>
                </a:lnTo>
                <a:lnTo>
                  <a:pt x="48" y="0"/>
                </a:lnTo>
                <a:lnTo>
                  <a:pt x="141" y="0"/>
                </a:lnTo>
                <a:lnTo>
                  <a:pt x="144" y="336"/>
                </a:lnTo>
                <a:lnTo>
                  <a:pt x="192" y="336"/>
                </a:lnTo>
                <a:lnTo>
                  <a:pt x="192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00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5605200"/>
            <a:ext cx="381240" cy="75960"/>
            <a:chOff x="2666880" y="5605200"/>
            <a:chExt cx="381240" cy="75960"/>
          </a:xfrm>
        </p:grpSpPr>
        <p:sp>
          <p:nvSpPr>
            <p:cNvPr id="176" name=""/>
            <p:cNvSpPr/>
            <p:nvPr/>
          </p:nvSpPr>
          <p:spPr>
            <a:xfrm>
              <a:off x="2666880" y="5638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6688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481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33920" y="5605200"/>
            <a:ext cx="380880" cy="75960"/>
            <a:chOff x="3733920" y="5605200"/>
            <a:chExt cx="380880" cy="75960"/>
          </a:xfrm>
        </p:grpSpPr>
        <p:sp>
          <p:nvSpPr>
            <p:cNvPr id="180" name=""/>
            <p:cNvSpPr/>
            <p:nvPr/>
          </p:nvSpPr>
          <p:spPr>
            <a:xfrm>
              <a:off x="3733920" y="5638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1480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5605200"/>
            <a:ext cx="556920" cy="109080"/>
            <a:chOff x="4776840" y="5605200"/>
            <a:chExt cx="556920" cy="109080"/>
          </a:xfrm>
        </p:grpSpPr>
        <p:sp>
          <p:nvSpPr>
            <p:cNvPr id="184" name=""/>
            <p:cNvSpPr/>
            <p:nvPr/>
          </p:nvSpPr>
          <p:spPr>
            <a:xfrm>
              <a:off x="4776840" y="5653080"/>
              <a:ext cx="55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7684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33376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89400" y="160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920" y="434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 em dois n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1143000"/>
            <a:ext cx="1828800" cy="856080"/>
            <a:chOff x="3657600" y="1143000"/>
            <a:chExt cx="1828800" cy="856080"/>
          </a:xfrm>
        </p:grpSpPr>
        <p:sp>
          <p:nvSpPr>
            <p:cNvPr id="191" name=""/>
            <p:cNvSpPr/>
            <p:nvPr/>
          </p:nvSpPr>
          <p:spPr>
            <a:xfrm>
              <a:off x="3657600" y="1143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0520" y="1295280"/>
              <a:ext cx="160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2743200" cy="1218960"/>
            <a:chOff x="3200400" y="2514600"/>
            <a:chExt cx="2743200" cy="121896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274320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86200" y="2514600"/>
              <a:ext cx="609480" cy="1218960"/>
              <a:chOff x="3886200" y="2514600"/>
              <a:chExt cx="60948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8620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112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200" y="281916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86200" y="3124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200" y="34290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2514600"/>
                <a:ext cx="304920" cy="3045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2514600" y="4419720"/>
            <a:ext cx="4038480" cy="1828800"/>
            <a:chOff x="2514600" y="4419720"/>
            <a:chExt cx="4038480" cy="1828800"/>
          </a:xfrm>
        </p:grpSpPr>
        <p:sp>
          <p:nvSpPr>
            <p:cNvPr id="204" name=""/>
            <p:cNvSpPr/>
            <p:nvPr/>
          </p:nvSpPr>
          <p:spPr>
            <a:xfrm>
              <a:off x="2514600" y="4419720"/>
              <a:ext cx="403848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90760" y="4419720"/>
              <a:ext cx="609840" cy="1828800"/>
              <a:chOff x="4190760" y="4419720"/>
              <a:chExt cx="609840" cy="1828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076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060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0760" y="47246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90760" y="50295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0760" y="5334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760" y="56390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90760" y="59439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90760" y="6248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0516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472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02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5334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563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594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160" y="6248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5334120"/>
              <a:ext cx="304560" cy="304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81600" y="3906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dados (blo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3880" y="2133720"/>
            <a:ext cx="2227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idade tempor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ardar os mais us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7560" y="3886200"/>
            <a:ext cx="335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ocalidade espac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. em blocos em vez de palavr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F0704" descr=""/>
          <p:cNvPicPr/>
          <p:nvPr/>
        </p:nvPicPr>
        <p:blipFill>
          <a:blip r:embed="rId1"/>
          <a:stretch/>
        </p:blipFill>
        <p:spPr>
          <a:xfrm>
            <a:off x="2057400" y="191124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8680" y="1063800"/>
            <a:ext cx="22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erência à posição X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CPqD CPqD</cp:lastModifiedBy>
  <cp:lastPrinted>2001-05-26T17:39:16Z</cp:lastPrinted>
  <dcterms:modified xsi:type="dcterms:W3CDTF">2002-05-19T15:12:26Z</dcterms:modified>
  <cp:revision>55</cp:revision>
  <dc:subject/>
  <dc:title>Chapter Seven</dc:title>
</cp:coreProperties>
</file>