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62680" y="6477120"/>
            <a:ext cx="1658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7a-</a:t>
            </a:r>
            <a:fld id="{5EC74034-CBED-45C8-8B02-06DA702A184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ev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s de Memó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5360" y="312840"/>
            <a:ext cx="102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issu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know if a data item is in the cach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it is, how do we find i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first 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 size is one word of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direct mapped”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eamento de endereços entre cache e memó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ita: como fazer a consistência de dados entre cache e memó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ituição: qual bloco descartar da 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39960" y="3836880"/>
            <a:ext cx="7527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each item of data at the lower lev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re is exactly one location in the cache where it might b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g., lots of items at the lower level share locations in the upp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1971720" y="3242880"/>
            <a:ext cx="37296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:  address is modulo the number of blocks in the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Mapped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724120" y="1828800"/>
            <a:ext cx="4896000" cy="4419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91120" y="2511360"/>
            <a:ext cx="1759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ache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8 posiçõ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3 bits de endereç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2880" y="4632480"/>
            <a:ext cx="1759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mória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2 posiçõ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 bits de endereç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2160" y="3124080"/>
            <a:ext cx="281916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2160" y="2819520"/>
            <a:ext cx="281916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2160" y="2438280"/>
            <a:ext cx="281916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2160" y="213984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2160" y="1828800"/>
            <a:ext cx="281916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2160" y="1523880"/>
            <a:ext cx="281916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2160" y="121932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2160" y="914400"/>
            <a:ext cx="281916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920" y="9255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164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0656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6832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320" y="1252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2160" y="1523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2160" y="18590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2160" y="21636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2680" y="2468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2680" y="2849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2680" y="30780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2160" y="3429000"/>
            <a:ext cx="281916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2160" y="3382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1640" y="12193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39920" y="3124080"/>
            <a:ext cx="281952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39920" y="2819520"/>
            <a:ext cx="281952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39920" y="2438280"/>
            <a:ext cx="281952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213984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39920" y="1828800"/>
            <a:ext cx="281952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9920" y="1523880"/>
            <a:ext cx="281952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39920" y="121932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9920" y="914400"/>
            <a:ext cx="281952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10040" y="9255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4976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5432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1644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1252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9920" y="1523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39920" y="18590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39920" y="21636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60800" y="2468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0800" y="2849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60800" y="30780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39920" y="3429000"/>
            <a:ext cx="281952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39920" y="3382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49760" y="1219320"/>
            <a:ext cx="30456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08040" y="3124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68000" y="31240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3124080"/>
            <a:ext cx="281916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2819520"/>
            <a:ext cx="281916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2438280"/>
            <a:ext cx="281916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213984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48520" y="1828800"/>
            <a:ext cx="281916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48520" y="1523880"/>
            <a:ext cx="281916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121932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914400"/>
            <a:ext cx="281916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18280" y="9255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24680" y="9144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32680" y="1252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1523880"/>
            <a:ext cx="47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48520" y="18590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21636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69040" y="2468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69040" y="2849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69040" y="30780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3429000"/>
            <a:ext cx="281916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3382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0" y="12193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16280" y="3124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76600" y="31240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16280" y="1828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76600" y="1828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1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2160" y="6095880"/>
            <a:ext cx="281916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2160" y="5791320"/>
            <a:ext cx="281916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2160" y="5410080"/>
            <a:ext cx="281916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2160" y="511164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2160" y="4800600"/>
            <a:ext cx="281916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2160" y="4495680"/>
            <a:ext cx="281916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2160" y="4191120"/>
            <a:ext cx="281916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2160" y="3886200"/>
            <a:ext cx="281916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920" y="38973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164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0656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6832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320" y="42242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2160" y="449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2160" y="48308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2160" y="51354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2680" y="54403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2680" y="58212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2680" y="6049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2160" y="6400800"/>
            <a:ext cx="281916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2160" y="63547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1640" y="41911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9920" y="6095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20240" y="60958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59920" y="4800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20240" y="48006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1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44080" y="4191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04400" y="41911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6095880"/>
            <a:ext cx="2819520" cy="30816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00400" y="5791320"/>
            <a:ext cx="2819520" cy="30456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5410080"/>
            <a:ext cx="2819520" cy="38124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00400" y="511164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0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00400" y="4800600"/>
            <a:ext cx="2819520" cy="31104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0400" y="4495680"/>
            <a:ext cx="2819520" cy="304920"/>
          </a:xfrm>
          <a:custGeom>
            <a:avLst/>
            <a:gdLst/>
            <a:ahLst/>
            <a:rect l="l" t="t" r="r" b="b"/>
            <a:pathLst>
              <a:path w="1191" h="191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1"/>
                </a:lnTo>
                <a:lnTo>
                  <a:pt x="1191" y="191"/>
                </a:lnTo>
                <a:lnTo>
                  <a:pt x="1191" y="19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00400" y="4191120"/>
            <a:ext cx="2819520" cy="306360"/>
          </a:xfrm>
          <a:custGeom>
            <a:avLst/>
            <a:gdLst/>
            <a:ahLst/>
            <a:rect l="l" t="t" r="r" b="b"/>
            <a:pathLst>
              <a:path w="1191" h="193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3"/>
                </a:lnTo>
                <a:lnTo>
                  <a:pt x="1191" y="193"/>
                </a:lnTo>
                <a:lnTo>
                  <a:pt x="1191" y="19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00400" y="3886200"/>
            <a:ext cx="2819520" cy="30780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1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solidFill>
            <a:srgbClr val="339966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70520" y="38973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   V       Tag           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76920" y="3886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84560" y="42242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00400" y="449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0400" y="48308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00400" y="51354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20920" y="54403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20920" y="58212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20920" y="6049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00400" y="6400800"/>
            <a:ext cx="2819520" cy="304920"/>
          </a:xfrm>
          <a:custGeom>
            <a:avLst/>
            <a:gdLst/>
            <a:ahLst/>
            <a:rect l="l" t="t" r="r" b="b"/>
            <a:pathLst>
              <a:path w="1191" h="194">
                <a:moveTo>
                  <a:pt x="1191" y="194"/>
                </a:moveTo>
                <a:lnTo>
                  <a:pt x="1191" y="0"/>
                </a:lnTo>
                <a:lnTo>
                  <a:pt x="0" y="0"/>
                </a:lnTo>
                <a:lnTo>
                  <a:pt x="0" y="194"/>
                </a:lnTo>
                <a:lnTo>
                  <a:pt x="1191" y="194"/>
                </a:lnTo>
                <a:lnTo>
                  <a:pt x="1191" y="19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00400" y="63547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9880" y="4191120"/>
            <a:ext cx="3049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68160" y="6095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28480" y="60958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1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68160" y="4800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28480" y="48006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1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52320" y="4191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12640" y="41911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10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68160" y="5105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28480" y="510552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(000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enchimento da cache a cada mi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791320" y="3733920"/>
          <a:ext cx="3973320" cy="371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733920"/>
                    <a:ext cx="397332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Mapped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601800" y="955800"/>
            <a:ext cx="5008680" cy="5444280"/>
            <a:chOff x="3601800" y="955800"/>
            <a:chExt cx="5008680" cy="5444280"/>
          </a:xfrm>
        </p:grpSpPr>
        <p:sp>
          <p:nvSpPr>
            <p:cNvPr id="380" name=""/>
            <p:cNvSpPr/>
            <p:nvPr/>
          </p:nvSpPr>
          <p:spPr>
            <a:xfrm>
              <a:off x="5365800" y="2824200"/>
              <a:ext cx="1994040" cy="2093040"/>
            </a:xfrm>
            <a:custGeom>
              <a:avLst/>
              <a:gdLst/>
              <a:ahLst/>
              <a:rect l="l" t="t" r="r" b="b"/>
              <a:pathLst>
                <a:path w="916" h="961">
                  <a:moveTo>
                    <a:pt x="916" y="960"/>
                  </a:moveTo>
                  <a:lnTo>
                    <a:pt x="916" y="0"/>
                  </a:lnTo>
                  <a:lnTo>
                    <a:pt x="0" y="0"/>
                  </a:lnTo>
                  <a:lnTo>
                    <a:pt x="0" y="961"/>
                  </a:lnTo>
                  <a:lnTo>
                    <a:pt x="916" y="961"/>
                  </a:lnTo>
                  <a:lnTo>
                    <a:pt x="916" y="9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65800" y="3658320"/>
              <a:ext cx="1994040" cy="208800"/>
            </a:xfrm>
            <a:custGeom>
              <a:avLst/>
              <a:gdLst/>
              <a:ahLst/>
              <a:rect l="l" t="t" r="r" b="b"/>
              <a:pathLst>
                <a:path w="916" h="96">
                  <a:moveTo>
                    <a:pt x="916" y="96"/>
                  </a:moveTo>
                  <a:lnTo>
                    <a:pt x="916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6" y="96"/>
                  </a:lnTo>
                  <a:lnTo>
                    <a:pt x="916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65800" y="3658320"/>
              <a:ext cx="1994040" cy="208800"/>
            </a:xfrm>
            <a:custGeom>
              <a:avLst/>
              <a:gdLst/>
              <a:ahLst/>
              <a:rect l="l" t="t" r="r" b="b"/>
              <a:pathLst>
                <a:path w="916" h="96">
                  <a:moveTo>
                    <a:pt x="916" y="96"/>
                  </a:moveTo>
                  <a:lnTo>
                    <a:pt x="916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6" y="96"/>
                  </a:lnTo>
                  <a:lnTo>
                    <a:pt x="91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365440" y="3033000"/>
              <a:ext cx="19940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365440" y="3240000"/>
              <a:ext cx="19940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365440" y="344952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365440" y="365832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5365440" y="3867120"/>
              <a:ext cx="1994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5365440" y="407664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365440" y="428364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365440" y="449244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365440" y="4701600"/>
              <a:ext cx="1994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78840" y="2837520"/>
              <a:ext cx="4320" cy="20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9480" y="2828520"/>
              <a:ext cx="2160" cy="20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380280" y="1375920"/>
              <a:ext cx="4320" cy="28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946560" y="1375920"/>
              <a:ext cx="180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02440" y="1371600"/>
              <a:ext cx="1948680" cy="287280"/>
            </a:xfrm>
            <a:custGeom>
              <a:avLst/>
              <a:gdLst/>
              <a:ahLst/>
              <a:rect l="l" t="t" r="r" b="b"/>
              <a:pathLst>
                <a:path w="895" h="132">
                  <a:moveTo>
                    <a:pt x="0" y="130"/>
                  </a:moveTo>
                  <a:lnTo>
                    <a:pt x="2" y="0"/>
                  </a:lnTo>
                  <a:lnTo>
                    <a:pt x="895" y="0"/>
                  </a:lnTo>
                  <a:lnTo>
                    <a:pt x="895" y="132"/>
                  </a:lnTo>
                  <a:lnTo>
                    <a:pt x="2" y="132"/>
                  </a:lnTo>
                  <a:lnTo>
                    <a:pt x="2" y="1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65800" y="9558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561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371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11680" y="955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5668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3732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0248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7484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11200" y="955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5728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2892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0740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84080" y="9558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452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165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9036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7136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808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8728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1752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5460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9132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7160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576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1812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50160" y="955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87600" y="9558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1748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093440" y="95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70120" y="955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40320" y="9558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52200" y="1981080"/>
              <a:ext cx="7128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2"/>
                  </a:moveTo>
                  <a:lnTo>
                    <a:pt x="33" y="32"/>
                  </a:lnTo>
                  <a:lnTo>
                    <a:pt x="17" y="0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775120" y="1800360"/>
              <a:ext cx="17856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33160" y="1698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07320" y="1698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71800" y="1798200"/>
              <a:ext cx="18252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08600" y="168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82400" y="168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99840" y="13888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67520" y="1388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22600" y="1388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0320" y="138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09720" y="13888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7800" y="1508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26840" y="1508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53120" y="1508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2640" y="1508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33040" y="1508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2080" y="1508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73280" y="26150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694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46080" y="26150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78840" y="26150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0656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87640" y="26150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744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482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67120" y="26150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6684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46040" y="261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824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91720" y="3729960"/>
              <a:ext cx="69480" cy="698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5" y="3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58920" y="3729960"/>
              <a:ext cx="7200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31" y="22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27600" y="261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6432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4460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18760" y="26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99400" y="2615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49280" y="2841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49280" y="3050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49280" y="3257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2292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9888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7736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53680" y="430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2292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9888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7736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53680" y="4509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2292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9888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97736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53680" y="471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78080" y="3531960"/>
              <a:ext cx="2592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65560" y="3531960"/>
              <a:ext cx="2556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4" y="12"/>
                  </a:move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91320" y="3531960"/>
              <a:ext cx="23400" cy="259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25520" y="1243080"/>
              <a:ext cx="23400" cy="280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1"/>
                  </a:moveTo>
                  <a:lnTo>
                    <a:pt x="8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12280" y="1243080"/>
              <a:ext cx="25920" cy="28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4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38040" y="1243080"/>
              <a:ext cx="24120" cy="280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11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00320" y="1243080"/>
              <a:ext cx="25920" cy="28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4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83120" y="1243080"/>
              <a:ext cx="30600" cy="280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11"/>
                  </a:moveTo>
                  <a:lnTo>
                    <a:pt x="8" y="13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13560" y="1243080"/>
              <a:ext cx="23400" cy="280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1"/>
                  </a:moveTo>
                  <a:lnTo>
                    <a:pt x="6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78080" y="3950280"/>
              <a:ext cx="2592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65560" y="3950280"/>
              <a:ext cx="25560" cy="25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4" y="12"/>
                  </a:move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91320" y="3950280"/>
              <a:ext cx="23400" cy="259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12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78080" y="4159080"/>
              <a:ext cx="25920" cy="241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5560" y="4159080"/>
              <a:ext cx="25560" cy="241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91320" y="4159080"/>
              <a:ext cx="23400" cy="241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99680" y="18615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82120" y="186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60600" y="186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94440" y="2131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133680" y="213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07840" y="213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85960" y="213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62280" y="2131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82640" y="3721680"/>
              <a:ext cx="69840" cy="694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11640" y="1652400"/>
              <a:ext cx="2446920" cy="2106000"/>
            </a:xfrm>
            <a:custGeom>
              <a:avLst/>
              <a:gdLst/>
              <a:ahLst/>
              <a:rect l="l" t="t" r="r" b="b"/>
              <a:pathLst>
                <a:path w="1124" h="967">
                  <a:moveTo>
                    <a:pt x="1124" y="0"/>
                  </a:moveTo>
                  <a:lnTo>
                    <a:pt x="1124" y="312"/>
                  </a:lnTo>
                  <a:lnTo>
                    <a:pt x="0" y="312"/>
                  </a:lnTo>
                  <a:lnTo>
                    <a:pt x="0" y="967"/>
                  </a:lnTo>
                  <a:lnTo>
                    <a:pt x="503" y="96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01800" y="1780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02240" y="17809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34280" y="178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431560" y="1981080"/>
              <a:ext cx="7128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2"/>
                  </a:moveTo>
                  <a:lnTo>
                    <a:pt x="33" y="32"/>
                  </a:lnTo>
                  <a:lnTo>
                    <a:pt x="17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22480" y="1780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421840" y="178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500680" y="178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539560" y="178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83080" y="5945040"/>
              <a:ext cx="274320" cy="324360"/>
            </a:xfrm>
            <a:custGeom>
              <a:avLst/>
              <a:gdLst/>
              <a:ahLst/>
              <a:rect l="l" t="t" r="r" b="b"/>
              <a:pathLst>
                <a:path w="126" h="149">
                  <a:moveTo>
                    <a:pt x="0" y="88"/>
                  </a:moveTo>
                  <a:lnTo>
                    <a:pt x="2" y="99"/>
                  </a:lnTo>
                  <a:lnTo>
                    <a:pt x="4" y="109"/>
                  </a:lnTo>
                  <a:lnTo>
                    <a:pt x="8" y="117"/>
                  </a:lnTo>
                  <a:lnTo>
                    <a:pt x="13" y="124"/>
                  </a:lnTo>
                  <a:lnTo>
                    <a:pt x="19" y="132"/>
                  </a:lnTo>
                  <a:lnTo>
                    <a:pt x="27" y="138"/>
                  </a:lnTo>
                  <a:lnTo>
                    <a:pt x="34" y="143"/>
                  </a:lnTo>
                  <a:lnTo>
                    <a:pt x="44" y="147"/>
                  </a:lnTo>
                  <a:lnTo>
                    <a:pt x="53" y="149"/>
                  </a:lnTo>
                  <a:lnTo>
                    <a:pt x="63" y="149"/>
                  </a:lnTo>
                  <a:lnTo>
                    <a:pt x="75" y="149"/>
                  </a:lnTo>
                  <a:lnTo>
                    <a:pt x="84" y="147"/>
                  </a:lnTo>
                  <a:lnTo>
                    <a:pt x="92" y="143"/>
                  </a:lnTo>
                  <a:lnTo>
                    <a:pt x="101" y="138"/>
                  </a:lnTo>
                  <a:lnTo>
                    <a:pt x="107" y="132"/>
                  </a:lnTo>
                  <a:lnTo>
                    <a:pt x="115" y="124"/>
                  </a:lnTo>
                  <a:lnTo>
                    <a:pt x="119" y="117"/>
                  </a:lnTo>
                  <a:lnTo>
                    <a:pt x="122" y="109"/>
                  </a:lnTo>
                  <a:lnTo>
                    <a:pt x="126" y="99"/>
                  </a:lnTo>
                  <a:lnTo>
                    <a:pt x="126" y="90"/>
                  </a:lnTo>
                  <a:lnTo>
                    <a:pt x="126" y="0"/>
                  </a:lnTo>
                  <a:lnTo>
                    <a:pt x="2" y="0"/>
                  </a:lnTo>
                  <a:lnTo>
                    <a:pt x="2" y="90"/>
                  </a:lnTo>
                  <a:lnTo>
                    <a:pt x="2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42080" y="4923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15880" y="4923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20160" y="3758400"/>
              <a:ext cx="8640" cy="218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83160" y="5681880"/>
              <a:ext cx="311400" cy="258480"/>
            </a:xfrm>
            <a:custGeom>
              <a:avLst/>
              <a:gdLst/>
              <a:ahLst/>
              <a:rect l="l" t="t" r="r" b="b"/>
              <a:pathLst>
                <a:path w="143" h="119">
                  <a:moveTo>
                    <a:pt x="142" y="0"/>
                  </a:moveTo>
                  <a:lnTo>
                    <a:pt x="143" y="59"/>
                  </a:lnTo>
                  <a:lnTo>
                    <a:pt x="0" y="59"/>
                  </a:lnTo>
                  <a:lnTo>
                    <a:pt x="0" y="1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89280" y="2040120"/>
              <a:ext cx="1830600" cy="4359960"/>
            </a:xfrm>
            <a:custGeom>
              <a:avLst/>
              <a:gdLst/>
              <a:ahLst/>
              <a:rect l="l" t="t" r="r" b="b"/>
              <a:pathLst>
                <a:path w="841" h="2002">
                  <a:moveTo>
                    <a:pt x="841" y="1942"/>
                  </a:moveTo>
                  <a:lnTo>
                    <a:pt x="841" y="2002"/>
                  </a:lnTo>
                  <a:lnTo>
                    <a:pt x="0" y="200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57320" y="5490360"/>
              <a:ext cx="72000" cy="6948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2" y="32"/>
                  </a:lnTo>
                  <a:lnTo>
                    <a:pt x="33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915360" y="1652400"/>
              <a:ext cx="1913760" cy="3870000"/>
            </a:xfrm>
            <a:custGeom>
              <a:avLst/>
              <a:gdLst/>
              <a:ahLst/>
              <a:rect l="l" t="t" r="r" b="b"/>
              <a:pathLst>
                <a:path w="879" h="1777">
                  <a:moveTo>
                    <a:pt x="877" y="0"/>
                  </a:moveTo>
                  <a:lnTo>
                    <a:pt x="879" y="191"/>
                  </a:lnTo>
                  <a:lnTo>
                    <a:pt x="0" y="191"/>
                  </a:lnTo>
                  <a:lnTo>
                    <a:pt x="0" y="1777"/>
                  </a:lnTo>
                  <a:lnTo>
                    <a:pt x="756" y="177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92040" y="2026800"/>
              <a:ext cx="1776240" cy="3299760"/>
            </a:xfrm>
            <a:custGeom>
              <a:avLst/>
              <a:gdLst/>
              <a:ahLst/>
              <a:rect l="l" t="t" r="r" b="b"/>
              <a:pathLst>
                <a:path w="816" h="1515">
                  <a:moveTo>
                    <a:pt x="0" y="801"/>
                  </a:moveTo>
                  <a:lnTo>
                    <a:pt x="2" y="1515"/>
                  </a:lnTo>
                  <a:lnTo>
                    <a:pt x="816" y="1515"/>
                  </a:lnTo>
                  <a:lnTo>
                    <a:pt x="816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04560" y="5052240"/>
              <a:ext cx="17856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762960" y="4947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36760" y="4947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42280" y="5368320"/>
              <a:ext cx="307080" cy="31356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70" y="142"/>
                  </a:moveTo>
                  <a:lnTo>
                    <a:pt x="82" y="142"/>
                  </a:lnTo>
                  <a:lnTo>
                    <a:pt x="93" y="140"/>
                  </a:lnTo>
                  <a:lnTo>
                    <a:pt x="103" y="134"/>
                  </a:lnTo>
                  <a:lnTo>
                    <a:pt x="113" y="129"/>
                  </a:lnTo>
                  <a:lnTo>
                    <a:pt x="122" y="123"/>
                  </a:lnTo>
                  <a:lnTo>
                    <a:pt x="128" y="113"/>
                  </a:lnTo>
                  <a:lnTo>
                    <a:pt x="134" y="106"/>
                  </a:lnTo>
                  <a:lnTo>
                    <a:pt x="139" y="94"/>
                  </a:lnTo>
                  <a:lnTo>
                    <a:pt x="141" y="83"/>
                  </a:lnTo>
                  <a:lnTo>
                    <a:pt x="141" y="71"/>
                  </a:lnTo>
                  <a:lnTo>
                    <a:pt x="141" y="60"/>
                  </a:lnTo>
                  <a:lnTo>
                    <a:pt x="139" y="50"/>
                  </a:lnTo>
                  <a:lnTo>
                    <a:pt x="134" y="39"/>
                  </a:lnTo>
                  <a:lnTo>
                    <a:pt x="128" y="31"/>
                  </a:lnTo>
                  <a:lnTo>
                    <a:pt x="122" y="21"/>
                  </a:lnTo>
                  <a:lnTo>
                    <a:pt x="113" y="14"/>
                  </a:lnTo>
                  <a:lnTo>
                    <a:pt x="103" y="8"/>
                  </a:lnTo>
                  <a:lnTo>
                    <a:pt x="93" y="4"/>
                  </a:lnTo>
                  <a:lnTo>
                    <a:pt x="82" y="2"/>
                  </a:lnTo>
                  <a:lnTo>
                    <a:pt x="70" y="0"/>
                  </a:lnTo>
                  <a:lnTo>
                    <a:pt x="59" y="2"/>
                  </a:lnTo>
                  <a:lnTo>
                    <a:pt x="49" y="4"/>
                  </a:lnTo>
                  <a:lnTo>
                    <a:pt x="38" y="8"/>
                  </a:lnTo>
                  <a:lnTo>
                    <a:pt x="28" y="14"/>
                  </a:lnTo>
                  <a:lnTo>
                    <a:pt x="21" y="21"/>
                  </a:lnTo>
                  <a:lnTo>
                    <a:pt x="13" y="31"/>
                  </a:lnTo>
                  <a:lnTo>
                    <a:pt x="7" y="39"/>
                  </a:lnTo>
                  <a:lnTo>
                    <a:pt x="3" y="50"/>
                  </a:lnTo>
                  <a:lnTo>
                    <a:pt x="2" y="60"/>
                  </a:lnTo>
                  <a:lnTo>
                    <a:pt x="0" y="71"/>
                  </a:lnTo>
                  <a:lnTo>
                    <a:pt x="2" y="83"/>
                  </a:lnTo>
                  <a:lnTo>
                    <a:pt x="3" y="94"/>
                  </a:lnTo>
                  <a:lnTo>
                    <a:pt x="7" y="106"/>
                  </a:lnTo>
                  <a:lnTo>
                    <a:pt x="13" y="113"/>
                  </a:lnTo>
                  <a:lnTo>
                    <a:pt x="21" y="123"/>
                  </a:lnTo>
                  <a:lnTo>
                    <a:pt x="28" y="129"/>
                  </a:lnTo>
                  <a:lnTo>
                    <a:pt x="38" y="134"/>
                  </a:lnTo>
                  <a:lnTo>
                    <a:pt x="49" y="140"/>
                  </a:lnTo>
                  <a:lnTo>
                    <a:pt x="59" y="142"/>
                  </a:lnTo>
                  <a:lnTo>
                    <a:pt x="70" y="144"/>
                  </a:lnTo>
                  <a:lnTo>
                    <a:pt x="70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1936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000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745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152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9152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700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0708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441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834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251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15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986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3784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1632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901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368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20784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28632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252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9936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4803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1744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541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9124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3048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672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70428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4100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2200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872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37560" y="116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976080" y="116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748840" y="5507640"/>
              <a:ext cx="93600" cy="4536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0"/>
                  </a:moveTo>
                  <a:lnTo>
                    <a:pt x="43" y="0"/>
                  </a:lnTo>
                  <a:lnTo>
                    <a:pt x="43" y="5"/>
                  </a:lnTo>
                  <a:lnTo>
                    <a:pt x="2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2" y="15"/>
                  </a:moveTo>
                  <a:lnTo>
                    <a:pt x="43" y="15"/>
                  </a:lnTo>
                  <a:lnTo>
                    <a:pt x="43" y="21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57840" y="5280840"/>
              <a:ext cx="67320" cy="720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6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57840" y="3729960"/>
              <a:ext cx="67320" cy="698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6" y="32"/>
                  </a:moveTo>
                  <a:lnTo>
                    <a:pt x="17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29" y="22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98800" y="5047560"/>
              <a:ext cx="18504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92400" y="3767040"/>
              <a:ext cx="2160" cy="1535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304920" y="2201760"/>
            <a:ext cx="297180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apeamento dire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byte offset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só para acesso a by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argura da cache:v+tag+dado</a:t>
            </a:r>
            <a:br>
              <a:rPr sz="1500"/>
            </a:b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ache de 2</a:t>
            </a:r>
            <a:r>
              <a:rPr b="0" lang="pt-BR" sz="15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linha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índice de n bi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inha da cache: 1+(30-n)+32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                          v    tag    d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amanho da cache= 2</a:t>
            </a:r>
            <a:r>
              <a:rPr b="0" lang="pt-BR" sz="15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*(63-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a de dados com pipe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78720" y="1293120"/>
            <a:ext cx="571968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memory = cache de d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memory = cache de instruçõ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quitetur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Harvar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 Harvard modificada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? semelhante ao st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s: congela o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ção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m já entrou prosse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ir “bolhas” nos estágios segui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perar pelo h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quanto instrução não é lida, manter endereço original (PC-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5483160" y="1901880"/>
            <a:ext cx="2976480" cy="841320"/>
            <a:chOff x="5483160" y="1901880"/>
            <a:chExt cx="2976480" cy="841320"/>
          </a:xfrm>
        </p:grpSpPr>
        <p:sp>
          <p:nvSpPr>
            <p:cNvPr id="567" name=""/>
            <p:cNvSpPr/>
            <p:nvPr/>
          </p:nvSpPr>
          <p:spPr>
            <a:xfrm>
              <a:off x="5483160" y="228456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53080" y="228600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96080" y="228456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0" name=""/>
            <p:cNvCxnSpPr>
              <a:stCxn id="567" idx="3"/>
              <a:endCxn id="568" idx="1"/>
            </p:cNvCxnSpPr>
            <p:nvPr/>
          </p:nvCxnSpPr>
          <p:spPr>
            <a:xfrm>
              <a:off x="6246360" y="2513160"/>
              <a:ext cx="3067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71" name=""/>
            <p:cNvCxnSpPr>
              <a:stCxn id="568" idx="3"/>
              <a:endCxn id="569" idx="1"/>
            </p:cNvCxnSpPr>
            <p:nvPr/>
          </p:nvCxnSpPr>
          <p:spPr>
            <a:xfrm flipV="1">
              <a:off x="7316640" y="2512800"/>
              <a:ext cx="38016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72" name=""/>
            <p:cNvSpPr/>
            <p:nvPr/>
          </p:nvSpPr>
          <p:spPr>
            <a:xfrm>
              <a:off x="6614280" y="1901880"/>
              <a:ext cx="861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Harvar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5637240" y="3198960"/>
            <a:ext cx="2593800" cy="2135160"/>
            <a:chOff x="5637240" y="3198960"/>
            <a:chExt cx="2593800" cy="2135160"/>
          </a:xfrm>
        </p:grpSpPr>
        <p:sp>
          <p:nvSpPr>
            <p:cNvPr id="574" name=""/>
            <p:cNvSpPr/>
            <p:nvPr/>
          </p:nvSpPr>
          <p:spPr>
            <a:xfrm>
              <a:off x="5637240" y="411480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80000" y="3583080"/>
              <a:ext cx="76392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67480" y="4114800"/>
              <a:ext cx="76356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008040" y="3198960"/>
              <a:ext cx="1841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Harvard modificad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019920" y="4876920"/>
              <a:ext cx="1828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9" name=""/>
            <p:cNvCxnSpPr>
              <a:stCxn id="575" idx="1"/>
              <a:endCxn id="574" idx="0"/>
            </p:cNvCxnSpPr>
            <p:nvPr/>
          </p:nvCxnSpPr>
          <p:spPr>
            <a:xfrm flipV="1" rot="10800000">
              <a:off x="6019200" y="3811320"/>
              <a:ext cx="460800" cy="3038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80" name=""/>
            <p:cNvCxnSpPr>
              <a:stCxn id="575" idx="3"/>
              <a:endCxn id="576" idx="0"/>
            </p:cNvCxnSpPr>
            <p:nvPr/>
          </p:nvCxnSpPr>
          <p:spPr>
            <a:xfrm>
              <a:off x="7243920" y="3811680"/>
              <a:ext cx="606960" cy="3038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81" name=""/>
            <p:cNvSpPr/>
            <p:nvPr/>
          </p:nvSpPr>
          <p:spPr>
            <a:xfrm>
              <a:off x="6172200" y="457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96080" y="457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ches in the DECStation 3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199200" y="19000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97560" y="34146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403360" y="1108080"/>
            <a:ext cx="4330440" cy="5292360"/>
            <a:chOff x="2403360" y="1108080"/>
            <a:chExt cx="4330440" cy="5292360"/>
          </a:xfrm>
        </p:grpSpPr>
        <p:sp>
          <p:nvSpPr>
            <p:cNvPr id="587" name=""/>
            <p:cNvSpPr/>
            <p:nvPr/>
          </p:nvSpPr>
          <p:spPr>
            <a:xfrm>
              <a:off x="4067640" y="1532880"/>
              <a:ext cx="2478240" cy="251640"/>
            </a:xfrm>
            <a:custGeom>
              <a:avLst/>
              <a:gdLst/>
              <a:ahLst/>
              <a:rect l="l" t="t" r="r" b="b"/>
              <a:pathLst>
                <a:path w="1190" h="121">
                  <a:moveTo>
                    <a:pt x="0" y="119"/>
                  </a:moveTo>
                  <a:lnTo>
                    <a:pt x="1" y="0"/>
                  </a:lnTo>
                  <a:lnTo>
                    <a:pt x="1190" y="0"/>
                  </a:lnTo>
                  <a:lnTo>
                    <a:pt x="1190" y="121"/>
                  </a:lnTo>
                  <a:lnTo>
                    <a:pt x="1" y="121"/>
                  </a:lnTo>
                  <a:lnTo>
                    <a:pt x="1" y="1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81920" y="1108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6940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5453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19160" y="1108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630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73868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0600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87188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09320" y="1108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504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1804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0932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166360" y="1108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6320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9344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661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44248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766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5444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58216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1852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5344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297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0608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7124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02920" y="110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37840" y="1108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6916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41880" y="1108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14600" y="1108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81920" y="1108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55440" y="5336280"/>
              <a:ext cx="62280" cy="687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30" y="0"/>
                  </a:moveTo>
                  <a:lnTo>
                    <a:pt x="0" y="0"/>
                  </a:lnTo>
                  <a:lnTo>
                    <a:pt x="15" y="33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07280" y="1924560"/>
              <a:ext cx="174600" cy="10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6316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3300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63240" y="1924560"/>
              <a:ext cx="170640" cy="10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3568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05880" y="182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42200" y="1820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29680" y="182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598800" y="1820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635880" y="1820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397560" y="1980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475320" y="198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10960" y="198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45160" y="1980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13920" y="1980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90240" y="198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74200" y="2970360"/>
              <a:ext cx="1916280" cy="2003400"/>
            </a:xfrm>
            <a:custGeom>
              <a:avLst/>
              <a:gdLst/>
              <a:ahLst/>
              <a:rect l="l" t="t" r="r" b="b"/>
              <a:pathLst>
                <a:path w="920" h="962">
                  <a:moveTo>
                    <a:pt x="918" y="960"/>
                  </a:moveTo>
                  <a:lnTo>
                    <a:pt x="920" y="0"/>
                  </a:lnTo>
                  <a:lnTo>
                    <a:pt x="0" y="0"/>
                  </a:lnTo>
                  <a:lnTo>
                    <a:pt x="0" y="962"/>
                  </a:lnTo>
                  <a:lnTo>
                    <a:pt x="920" y="962"/>
                  </a:lnTo>
                  <a:lnTo>
                    <a:pt x="920" y="96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69440" y="2772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5800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33960" y="2772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363120" y="2772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39480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86320" y="27723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6732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3752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03160" y="2772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9748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73080" y="2772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10160" y="2772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278520" y="3769920"/>
              <a:ext cx="1911960" cy="199800"/>
            </a:xfrm>
            <a:custGeom>
              <a:avLst/>
              <a:gdLst/>
              <a:ahLst/>
              <a:rect l="l" t="t" r="r" b="b"/>
              <a:pathLst>
                <a:path w="918" h="96">
                  <a:moveTo>
                    <a:pt x="916" y="94"/>
                  </a:moveTo>
                  <a:lnTo>
                    <a:pt x="91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8" y="96"/>
                  </a:lnTo>
                  <a:lnTo>
                    <a:pt x="918" y="96"/>
                  </a:lnTo>
                  <a:lnTo>
                    <a:pt x="916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78520" y="3769920"/>
              <a:ext cx="1911960" cy="199800"/>
            </a:xfrm>
            <a:custGeom>
              <a:avLst/>
              <a:gdLst/>
              <a:ahLst/>
              <a:rect l="l" t="t" r="r" b="b"/>
              <a:pathLst>
                <a:path w="918" h="96">
                  <a:moveTo>
                    <a:pt x="916" y="94"/>
                  </a:moveTo>
                  <a:lnTo>
                    <a:pt x="918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18" y="96"/>
                  </a:lnTo>
                  <a:lnTo>
                    <a:pt x="91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95080" y="3832200"/>
              <a:ext cx="6840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1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655440" y="3832200"/>
              <a:ext cx="62280" cy="687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5" y="31"/>
                  </a:moveTo>
                  <a:lnTo>
                    <a:pt x="17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07200" y="3832200"/>
              <a:ext cx="66600" cy="687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1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2" y="21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7" y="29"/>
                  </a:lnTo>
                  <a:lnTo>
                    <a:pt x="9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195000" y="383220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95200" y="1780920"/>
              <a:ext cx="2851560" cy="2089080"/>
            </a:xfrm>
            <a:custGeom>
              <a:avLst/>
              <a:gdLst/>
              <a:ahLst/>
              <a:rect l="l" t="t" r="r" b="b"/>
              <a:pathLst>
                <a:path w="1369" h="1003">
                  <a:moveTo>
                    <a:pt x="1369" y="0"/>
                  </a:moveTo>
                  <a:lnTo>
                    <a:pt x="1369" y="313"/>
                  </a:lnTo>
                  <a:lnTo>
                    <a:pt x="0" y="313"/>
                  </a:lnTo>
                  <a:lnTo>
                    <a:pt x="0" y="1003"/>
                  </a:lnTo>
                  <a:lnTo>
                    <a:pt x="100" y="1003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03360" y="2155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98760" y="21556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530080" y="215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016320" y="2155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114240" y="215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186240" y="215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223320" y="215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65560" y="5961240"/>
              <a:ext cx="264240" cy="316440"/>
            </a:xfrm>
            <a:custGeom>
              <a:avLst/>
              <a:gdLst/>
              <a:ahLst/>
              <a:rect l="l" t="t" r="r" b="b"/>
              <a:pathLst>
                <a:path w="127" h="152">
                  <a:moveTo>
                    <a:pt x="0" y="90"/>
                  </a:moveTo>
                  <a:lnTo>
                    <a:pt x="2" y="102"/>
                  </a:lnTo>
                  <a:lnTo>
                    <a:pt x="4" y="110"/>
                  </a:lnTo>
                  <a:lnTo>
                    <a:pt x="8" y="119"/>
                  </a:lnTo>
                  <a:lnTo>
                    <a:pt x="14" y="127"/>
                  </a:lnTo>
                  <a:lnTo>
                    <a:pt x="20" y="134"/>
                  </a:lnTo>
                  <a:lnTo>
                    <a:pt x="27" y="140"/>
                  </a:lnTo>
                  <a:lnTo>
                    <a:pt x="35" y="146"/>
                  </a:lnTo>
                  <a:lnTo>
                    <a:pt x="45" y="150"/>
                  </a:lnTo>
                  <a:lnTo>
                    <a:pt x="54" y="152"/>
                  </a:lnTo>
                  <a:lnTo>
                    <a:pt x="64" y="152"/>
                  </a:lnTo>
                  <a:lnTo>
                    <a:pt x="73" y="152"/>
                  </a:lnTo>
                  <a:lnTo>
                    <a:pt x="83" y="150"/>
                  </a:lnTo>
                  <a:lnTo>
                    <a:pt x="93" y="146"/>
                  </a:lnTo>
                  <a:lnTo>
                    <a:pt x="100" y="140"/>
                  </a:lnTo>
                  <a:lnTo>
                    <a:pt x="108" y="134"/>
                  </a:lnTo>
                  <a:lnTo>
                    <a:pt x="116" y="127"/>
                  </a:lnTo>
                  <a:lnTo>
                    <a:pt x="120" y="119"/>
                  </a:lnTo>
                  <a:lnTo>
                    <a:pt x="123" y="110"/>
                  </a:lnTo>
                  <a:lnTo>
                    <a:pt x="125" y="102"/>
                  </a:lnTo>
                  <a:lnTo>
                    <a:pt x="127" y="90"/>
                  </a:lnTo>
                  <a:lnTo>
                    <a:pt x="127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0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34480" y="5413320"/>
              <a:ext cx="299880" cy="29988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71" y="144"/>
                  </a:moveTo>
                  <a:lnTo>
                    <a:pt x="83" y="144"/>
                  </a:lnTo>
                  <a:lnTo>
                    <a:pt x="94" y="140"/>
                  </a:lnTo>
                  <a:lnTo>
                    <a:pt x="104" y="136"/>
                  </a:lnTo>
                  <a:lnTo>
                    <a:pt x="113" y="131"/>
                  </a:lnTo>
                  <a:lnTo>
                    <a:pt x="123" y="123"/>
                  </a:lnTo>
                  <a:lnTo>
                    <a:pt x="129" y="115"/>
                  </a:lnTo>
                  <a:lnTo>
                    <a:pt x="136" y="106"/>
                  </a:lnTo>
                  <a:lnTo>
                    <a:pt x="140" y="94"/>
                  </a:lnTo>
                  <a:lnTo>
                    <a:pt x="142" y="84"/>
                  </a:lnTo>
                  <a:lnTo>
                    <a:pt x="144" y="73"/>
                  </a:lnTo>
                  <a:lnTo>
                    <a:pt x="142" y="59"/>
                  </a:lnTo>
                  <a:lnTo>
                    <a:pt x="140" y="50"/>
                  </a:lnTo>
                  <a:lnTo>
                    <a:pt x="136" y="38"/>
                  </a:lnTo>
                  <a:lnTo>
                    <a:pt x="129" y="29"/>
                  </a:lnTo>
                  <a:lnTo>
                    <a:pt x="123" y="21"/>
                  </a:lnTo>
                  <a:lnTo>
                    <a:pt x="113" y="13"/>
                  </a:lnTo>
                  <a:lnTo>
                    <a:pt x="104" y="8"/>
                  </a:lnTo>
                  <a:lnTo>
                    <a:pt x="94" y="4"/>
                  </a:lnTo>
                  <a:lnTo>
                    <a:pt x="83" y="2"/>
                  </a:lnTo>
                  <a:lnTo>
                    <a:pt x="71" y="0"/>
                  </a:lnTo>
                  <a:lnTo>
                    <a:pt x="60" y="2"/>
                  </a:lnTo>
                  <a:lnTo>
                    <a:pt x="48" y="4"/>
                  </a:lnTo>
                  <a:lnTo>
                    <a:pt x="39" y="8"/>
                  </a:lnTo>
                  <a:lnTo>
                    <a:pt x="29" y="13"/>
                  </a:lnTo>
                  <a:lnTo>
                    <a:pt x="21" y="21"/>
                  </a:lnTo>
                  <a:lnTo>
                    <a:pt x="14" y="29"/>
                  </a:lnTo>
                  <a:lnTo>
                    <a:pt x="8" y="38"/>
                  </a:lnTo>
                  <a:lnTo>
                    <a:pt x="4" y="50"/>
                  </a:lnTo>
                  <a:lnTo>
                    <a:pt x="0" y="59"/>
                  </a:lnTo>
                  <a:lnTo>
                    <a:pt x="0" y="73"/>
                  </a:lnTo>
                  <a:lnTo>
                    <a:pt x="0" y="84"/>
                  </a:lnTo>
                  <a:lnTo>
                    <a:pt x="4" y="94"/>
                  </a:lnTo>
                  <a:lnTo>
                    <a:pt x="8" y="106"/>
                  </a:lnTo>
                  <a:lnTo>
                    <a:pt x="14" y="115"/>
                  </a:lnTo>
                  <a:lnTo>
                    <a:pt x="21" y="123"/>
                  </a:lnTo>
                  <a:lnTo>
                    <a:pt x="29" y="131"/>
                  </a:lnTo>
                  <a:lnTo>
                    <a:pt x="39" y="136"/>
                  </a:lnTo>
                  <a:lnTo>
                    <a:pt x="48" y="140"/>
                  </a:lnTo>
                  <a:lnTo>
                    <a:pt x="60" y="144"/>
                  </a:lnTo>
                  <a:lnTo>
                    <a:pt x="71" y="144"/>
                  </a:lnTo>
                  <a:lnTo>
                    <a:pt x="71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599280" y="5109120"/>
              <a:ext cx="17460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74976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2500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686760" y="3866040"/>
              <a:ext cx="1800" cy="148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38520" y="5540400"/>
              <a:ext cx="87840" cy="457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0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6"/>
                  </a:moveTo>
                  <a:lnTo>
                    <a:pt x="42" y="16"/>
                  </a:lnTo>
                  <a:lnTo>
                    <a:pt x="42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322080" y="3866040"/>
              <a:ext cx="396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65720" y="5713200"/>
              <a:ext cx="216720" cy="247680"/>
            </a:xfrm>
            <a:custGeom>
              <a:avLst/>
              <a:gdLst/>
              <a:ahLst/>
              <a:rect l="l" t="t" r="r" b="b"/>
              <a:pathLst>
                <a:path w="104" h="119">
                  <a:moveTo>
                    <a:pt x="104" y="0"/>
                  </a:moveTo>
                  <a:lnTo>
                    <a:pt x="104" y="50"/>
                  </a:lnTo>
                  <a:lnTo>
                    <a:pt x="0" y="52"/>
                  </a:lnTo>
                  <a:lnTo>
                    <a:pt x="0" y="1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91200" y="2405880"/>
              <a:ext cx="903960" cy="3994560"/>
            </a:xfrm>
            <a:custGeom>
              <a:avLst/>
              <a:gdLst/>
              <a:ahLst/>
              <a:rect l="l" t="t" r="r" b="b"/>
              <a:pathLst>
                <a:path w="434" h="1918">
                  <a:moveTo>
                    <a:pt x="434" y="1859"/>
                  </a:moveTo>
                  <a:lnTo>
                    <a:pt x="434" y="1918"/>
                  </a:lnTo>
                  <a:lnTo>
                    <a:pt x="2" y="191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55280" y="5529960"/>
              <a:ext cx="70560" cy="666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2" y="32"/>
                  </a:lnTo>
                  <a:lnTo>
                    <a:pt x="34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742840" y="1780920"/>
              <a:ext cx="1939320" cy="3780000"/>
            </a:xfrm>
            <a:custGeom>
              <a:avLst/>
              <a:gdLst/>
              <a:ahLst/>
              <a:rect l="l" t="t" r="r" b="b"/>
              <a:pathLst>
                <a:path w="931" h="1815">
                  <a:moveTo>
                    <a:pt x="929" y="0"/>
                  </a:moveTo>
                  <a:lnTo>
                    <a:pt x="931" y="194"/>
                  </a:lnTo>
                  <a:lnTo>
                    <a:pt x="0" y="194"/>
                  </a:lnTo>
                  <a:lnTo>
                    <a:pt x="0" y="1815"/>
                  </a:lnTo>
                  <a:lnTo>
                    <a:pt x="344" y="1815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38160" y="2405880"/>
              <a:ext cx="1629000" cy="3155040"/>
            </a:xfrm>
            <a:custGeom>
              <a:avLst/>
              <a:gdLst/>
              <a:ahLst/>
              <a:rect l="l" t="t" r="r" b="b"/>
              <a:pathLst>
                <a:path w="782" h="1515">
                  <a:moveTo>
                    <a:pt x="0" y="701"/>
                  </a:moveTo>
                  <a:lnTo>
                    <a:pt x="2" y="1515"/>
                  </a:lnTo>
                  <a:lnTo>
                    <a:pt x="782" y="1515"/>
                  </a:lnTo>
                  <a:lnTo>
                    <a:pt x="78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55000" y="5109120"/>
              <a:ext cx="17064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0584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82160" y="5009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82280" y="1532880"/>
              <a:ext cx="180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367320" y="1532880"/>
              <a:ext cx="216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17520" y="2666160"/>
              <a:ext cx="68760" cy="66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55080" y="2970360"/>
              <a:ext cx="68400" cy="622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33" y="30"/>
                  </a:lnTo>
                  <a:lnTo>
                    <a:pt x="17" y="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59400" y="4897080"/>
              <a:ext cx="64080" cy="72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0"/>
                  </a:moveTo>
                  <a:lnTo>
                    <a:pt x="0" y="2"/>
                  </a:lnTo>
                  <a:lnTo>
                    <a:pt x="15" y="35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90720" y="3013920"/>
              <a:ext cx="1800" cy="190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545440" y="380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623560" y="380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698440" y="3807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45440" y="396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623560" y="396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98800" y="3963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733720" y="3963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777280" y="3963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805720" y="396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883120" y="3963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90960" y="2667960"/>
              <a:ext cx="64080" cy="644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31"/>
                  </a:moveTo>
                  <a:lnTo>
                    <a:pt x="31" y="0"/>
                  </a:lnTo>
                  <a:lnTo>
                    <a:pt x="0" y="16"/>
                  </a:lnTo>
                  <a:lnTo>
                    <a:pt x="31" y="3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138360" y="2336760"/>
              <a:ext cx="68760" cy="68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1"/>
                  </a:moveTo>
                  <a:lnTo>
                    <a:pt x="33" y="33"/>
                  </a:lnTo>
                  <a:lnTo>
                    <a:pt x="18" y="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55560" y="2336760"/>
              <a:ext cx="66600" cy="687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1"/>
                  </a:moveTo>
                  <a:lnTo>
                    <a:pt x="32" y="33"/>
                  </a:lnTo>
                  <a:lnTo>
                    <a:pt x="17" y="0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26040" y="2666160"/>
              <a:ext cx="68760" cy="66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355560" y="2667960"/>
              <a:ext cx="62280" cy="644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30" y="31"/>
                  </a:moveTo>
                  <a:lnTo>
                    <a:pt x="30" y="0"/>
                  </a:lnTo>
                  <a:lnTo>
                    <a:pt x="0" y="16"/>
                  </a:lnTo>
                  <a:lnTo>
                    <a:pt x="30" y="31"/>
                  </a:lnTo>
                  <a:lnTo>
                    <a:pt x="3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411720" y="2697480"/>
              <a:ext cx="52272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026240" y="2697480"/>
              <a:ext cx="110808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768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4996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62520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622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33920" y="2507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6776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03400" y="2507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4232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4182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064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24480" y="2507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02600" y="2507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29960" y="250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72080" y="2507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3273840" y="316584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273840" y="336564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3273840" y="356580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3273840" y="376560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3273840" y="396540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3273840" y="4165920"/>
              <a:ext cx="19119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3273840" y="4365720"/>
              <a:ext cx="19119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273840" y="4565520"/>
              <a:ext cx="19119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273840" y="4765680"/>
              <a:ext cx="191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86520" y="2976480"/>
              <a:ext cx="1800" cy="20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78000" y="2972160"/>
              <a:ext cx="3960" cy="20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7664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547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249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31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333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110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460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820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187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511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5853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22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591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694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30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66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02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963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705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428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7852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5484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268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6320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33268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884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3236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60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09360" y="132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32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299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56668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60304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383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709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447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07860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3592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7148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8400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27120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396480" y="132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37128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44360" y="13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478560" y="13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80280" y="1397520"/>
              <a:ext cx="22320" cy="23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3" y="11"/>
                  </a:move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63440" y="1397520"/>
              <a:ext cx="23040" cy="23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94960" y="1397520"/>
              <a:ext cx="24840" cy="23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743000" y="1397520"/>
              <a:ext cx="28800" cy="230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763240" y="1397520"/>
              <a:ext cx="24840" cy="23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48560" y="1397520"/>
              <a:ext cx="23040" cy="23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680080" y="1397520"/>
              <a:ext cx="29160" cy="230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idade espacial: aumentando o tamanho do blo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99400" y="944640"/>
            <a:ext cx="7806240" cy="5342400"/>
            <a:chOff x="599400" y="944640"/>
            <a:chExt cx="7806240" cy="5342400"/>
          </a:xfrm>
        </p:grpSpPr>
        <p:grpSp>
          <p:nvGrpSpPr>
            <p:cNvPr id="782" name=""/>
            <p:cNvGrpSpPr/>
            <p:nvPr/>
          </p:nvGrpSpPr>
          <p:grpSpPr>
            <a:xfrm>
              <a:off x="599400" y="944640"/>
              <a:ext cx="7806240" cy="5342400"/>
              <a:chOff x="599400" y="944640"/>
              <a:chExt cx="7806240" cy="5342400"/>
            </a:xfrm>
          </p:grpSpPr>
          <p:sp>
            <p:nvSpPr>
              <p:cNvPr id="783" name=""/>
              <p:cNvSpPr/>
              <p:nvPr/>
            </p:nvSpPr>
            <p:spPr>
              <a:xfrm>
                <a:off x="2828520" y="944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9242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052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088800" y="944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13740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21660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28932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36564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402360" y="944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45132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52584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0216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84960" y="944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79008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82104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9016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98160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2228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10400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13568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17816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21776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29552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7868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44924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483080" y="944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525200" y="944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55760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36440" y="944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719960" y="944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788360" y="944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614960" y="51440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29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58080" y="194112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29"/>
                    </a:moveTo>
                    <a:lnTo>
                      <a:pt x="30" y="31"/>
                    </a:lnTo>
                    <a:lnTo>
                      <a:pt x="16" y="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297960" y="1767960"/>
                <a:ext cx="166320" cy="10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44160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52584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803040" y="1767960"/>
                <a:ext cx="166320" cy="10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93048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01256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470120" y="16484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570560" y="1648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640760" y="1648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68360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762800" y="164844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427640" y="1828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510800" y="1828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551480" y="1828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87840" y="1828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662000" y="1828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3360" y="1828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150200" y="2801160"/>
                <a:ext cx="6109560" cy="1990440"/>
              </a:xfrm>
              <a:custGeom>
                <a:avLst/>
                <a:gdLst/>
                <a:ahLst/>
                <a:rect l="l" t="t" r="r" b="b"/>
                <a:pathLst>
                  <a:path w="2865" h="933">
                    <a:moveTo>
                      <a:pt x="2863" y="931"/>
                    </a:moveTo>
                    <a:lnTo>
                      <a:pt x="2865" y="0"/>
                    </a:lnTo>
                    <a:lnTo>
                      <a:pt x="0" y="0"/>
                    </a:lnTo>
                    <a:lnTo>
                      <a:pt x="0" y="933"/>
                    </a:lnTo>
                    <a:lnTo>
                      <a:pt x="2865" y="933"/>
                    </a:lnTo>
                    <a:lnTo>
                      <a:pt x="2865" y="93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192320" y="25621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506600" y="25682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597680" y="256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676520" y="256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284000" y="2562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388400" y="256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465800" y="256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506480" y="256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150200" y="3594600"/>
                <a:ext cx="6109560" cy="202680"/>
              </a:xfrm>
              <a:custGeom>
                <a:avLst/>
                <a:gdLst/>
                <a:ahLst/>
                <a:rect l="l" t="t" r="r" b="b"/>
                <a:pathLst>
                  <a:path w="2865" h="95">
                    <a:moveTo>
                      <a:pt x="2863" y="93"/>
                    </a:moveTo>
                    <a:lnTo>
                      <a:pt x="2865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2865" y="95"/>
                    </a:lnTo>
                    <a:lnTo>
                      <a:pt x="2865" y="95"/>
                    </a:lnTo>
                    <a:lnTo>
                      <a:pt x="2863" y="9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150200" y="3594600"/>
                <a:ext cx="6109560" cy="202680"/>
              </a:xfrm>
              <a:custGeom>
                <a:avLst/>
                <a:gdLst/>
                <a:ahLst/>
                <a:rect l="l" t="t" r="r" b="b"/>
                <a:pathLst>
                  <a:path w="2865" h="95">
                    <a:moveTo>
                      <a:pt x="2863" y="93"/>
                    </a:moveTo>
                    <a:lnTo>
                      <a:pt x="2865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2865" y="95"/>
                    </a:lnTo>
                    <a:lnTo>
                      <a:pt x="2865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197000" y="36608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4" y="30"/>
                    </a:moveTo>
                    <a:lnTo>
                      <a:pt x="19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8"/>
                    </a:lnTo>
                    <a:lnTo>
                      <a:pt x="29" y="26"/>
                    </a:lnTo>
                    <a:lnTo>
                      <a:pt x="29" y="24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614960" y="365220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8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592000" y="36608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31" y="19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071360" y="366084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0"/>
                    </a:moveTo>
                    <a:lnTo>
                      <a:pt x="2" y="32"/>
                    </a:lnTo>
                    <a:lnTo>
                      <a:pt x="31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62640" y="1621080"/>
                <a:ext cx="2910600" cy="2076120"/>
              </a:xfrm>
              <a:custGeom>
                <a:avLst/>
                <a:gdLst/>
                <a:ahLst/>
                <a:rect l="l" t="t" r="r" b="b"/>
                <a:pathLst>
                  <a:path w="1365" h="973">
                    <a:moveTo>
                      <a:pt x="1365" y="0"/>
                    </a:moveTo>
                    <a:lnTo>
                      <a:pt x="1365" y="304"/>
                    </a:lnTo>
                    <a:lnTo>
                      <a:pt x="0" y="304"/>
                    </a:lnTo>
                    <a:lnTo>
                      <a:pt x="0" y="973"/>
                    </a:lnTo>
                    <a:lnTo>
                      <a:pt x="63" y="973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99400" y="1734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4880" y="1734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34040" y="1734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210880" y="1941120"/>
                <a:ext cx="65520" cy="655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29"/>
                    </a:moveTo>
                    <a:lnTo>
                      <a:pt x="31" y="31"/>
                    </a:lnTo>
                    <a:lnTo>
                      <a:pt x="16" y="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096040" y="1734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99000" y="1734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287560" y="1734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319600" y="1734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113840" y="5779800"/>
                <a:ext cx="253800" cy="311040"/>
              </a:xfrm>
              <a:custGeom>
                <a:avLst/>
                <a:gdLst/>
                <a:ahLst/>
                <a:rect l="l" t="t" r="r" b="b"/>
                <a:pathLst>
                  <a:path w="119" h="146">
                    <a:moveTo>
                      <a:pt x="0" y="86"/>
                    </a:moveTo>
                    <a:lnTo>
                      <a:pt x="2" y="97"/>
                    </a:lnTo>
                    <a:lnTo>
                      <a:pt x="4" y="105"/>
                    </a:lnTo>
                    <a:lnTo>
                      <a:pt x="8" y="114"/>
                    </a:lnTo>
                    <a:lnTo>
                      <a:pt x="13" y="122"/>
                    </a:lnTo>
                    <a:lnTo>
                      <a:pt x="19" y="129"/>
                    </a:lnTo>
                    <a:lnTo>
                      <a:pt x="25" y="135"/>
                    </a:lnTo>
                    <a:lnTo>
                      <a:pt x="33" y="139"/>
                    </a:lnTo>
                    <a:lnTo>
                      <a:pt x="41" y="143"/>
                    </a:lnTo>
                    <a:lnTo>
                      <a:pt x="51" y="146"/>
                    </a:lnTo>
                    <a:lnTo>
                      <a:pt x="62" y="146"/>
                    </a:lnTo>
                    <a:lnTo>
                      <a:pt x="70" y="146"/>
                    </a:lnTo>
                    <a:lnTo>
                      <a:pt x="80" y="143"/>
                    </a:lnTo>
                    <a:lnTo>
                      <a:pt x="88" y="139"/>
                    </a:lnTo>
                    <a:lnTo>
                      <a:pt x="96" y="135"/>
                    </a:lnTo>
                    <a:lnTo>
                      <a:pt x="103" y="129"/>
                    </a:lnTo>
                    <a:lnTo>
                      <a:pt x="109" y="122"/>
                    </a:lnTo>
                    <a:lnTo>
                      <a:pt x="113" y="114"/>
                    </a:lnTo>
                    <a:lnTo>
                      <a:pt x="117" y="105"/>
                    </a:lnTo>
                    <a:lnTo>
                      <a:pt x="119" y="97"/>
                    </a:lnTo>
                    <a:lnTo>
                      <a:pt x="119" y="86"/>
                    </a:lnTo>
                    <a:lnTo>
                      <a:pt x="119" y="0"/>
                    </a:lnTo>
                    <a:lnTo>
                      <a:pt x="2" y="0"/>
                    </a:lnTo>
                    <a:lnTo>
                      <a:pt x="2" y="86"/>
                    </a:lnTo>
                    <a:lnTo>
                      <a:pt x="2" y="8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502280" y="5220360"/>
                <a:ext cx="287640" cy="29628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68" y="139"/>
                    </a:moveTo>
                    <a:lnTo>
                      <a:pt x="80" y="139"/>
                    </a:lnTo>
                    <a:lnTo>
                      <a:pt x="90" y="137"/>
                    </a:lnTo>
                    <a:lnTo>
                      <a:pt x="98" y="133"/>
                    </a:lnTo>
                    <a:lnTo>
                      <a:pt x="109" y="127"/>
                    </a:lnTo>
                    <a:lnTo>
                      <a:pt x="117" y="120"/>
                    </a:lnTo>
                    <a:lnTo>
                      <a:pt x="123" y="112"/>
                    </a:lnTo>
                    <a:lnTo>
                      <a:pt x="129" y="103"/>
                    </a:lnTo>
                    <a:lnTo>
                      <a:pt x="133" y="93"/>
                    </a:lnTo>
                    <a:lnTo>
                      <a:pt x="135" y="82"/>
                    </a:lnTo>
                    <a:lnTo>
                      <a:pt x="135" y="70"/>
                    </a:lnTo>
                    <a:lnTo>
                      <a:pt x="135" y="59"/>
                    </a:lnTo>
                    <a:lnTo>
                      <a:pt x="133" y="49"/>
                    </a:lnTo>
                    <a:lnTo>
                      <a:pt x="129" y="38"/>
                    </a:lnTo>
                    <a:lnTo>
                      <a:pt x="123" y="30"/>
                    </a:lnTo>
                    <a:lnTo>
                      <a:pt x="117" y="21"/>
                    </a:lnTo>
                    <a:lnTo>
                      <a:pt x="109" y="15"/>
                    </a:lnTo>
                    <a:lnTo>
                      <a:pt x="98" y="8"/>
                    </a:lnTo>
                    <a:lnTo>
                      <a:pt x="90" y="4"/>
                    </a:lnTo>
                    <a:lnTo>
                      <a:pt x="80" y="2"/>
                    </a:lnTo>
                    <a:lnTo>
                      <a:pt x="68" y="0"/>
                    </a:lnTo>
                    <a:lnTo>
                      <a:pt x="57" y="2"/>
                    </a:lnTo>
                    <a:lnTo>
                      <a:pt x="47" y="4"/>
                    </a:lnTo>
                    <a:lnTo>
                      <a:pt x="37" y="8"/>
                    </a:lnTo>
                    <a:lnTo>
                      <a:pt x="29" y="15"/>
                    </a:lnTo>
                    <a:lnTo>
                      <a:pt x="21" y="21"/>
                    </a:lnTo>
                    <a:lnTo>
                      <a:pt x="15" y="30"/>
                    </a:lnTo>
                    <a:lnTo>
                      <a:pt x="8" y="38"/>
                    </a:lnTo>
                    <a:lnTo>
                      <a:pt x="4" y="49"/>
                    </a:lnTo>
                    <a:lnTo>
                      <a:pt x="2" y="59"/>
                    </a:lnTo>
                    <a:lnTo>
                      <a:pt x="0" y="70"/>
                    </a:lnTo>
                    <a:lnTo>
                      <a:pt x="2" y="82"/>
                    </a:lnTo>
                    <a:lnTo>
                      <a:pt x="4" y="93"/>
                    </a:lnTo>
                    <a:lnTo>
                      <a:pt x="8" y="103"/>
                    </a:lnTo>
                    <a:lnTo>
                      <a:pt x="15" y="112"/>
                    </a:lnTo>
                    <a:lnTo>
                      <a:pt x="21" y="120"/>
                    </a:lnTo>
                    <a:lnTo>
                      <a:pt x="29" y="127"/>
                    </a:lnTo>
                    <a:lnTo>
                      <a:pt x="37" y="133"/>
                    </a:lnTo>
                    <a:lnTo>
                      <a:pt x="47" y="137"/>
                    </a:lnTo>
                    <a:lnTo>
                      <a:pt x="57" y="139"/>
                    </a:lnTo>
                    <a:lnTo>
                      <a:pt x="68" y="139"/>
                    </a:lnTo>
                    <a:lnTo>
                      <a:pt x="68" y="13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64200" y="4917600"/>
                <a:ext cx="166320" cy="10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705320" y="4802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789560" y="4802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647360" y="3684240"/>
                <a:ext cx="1800" cy="1476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227240" y="3692880"/>
                <a:ext cx="6120" cy="208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297440" y="5517000"/>
                <a:ext cx="349920" cy="247680"/>
              </a:xfrm>
              <a:custGeom>
                <a:avLst/>
                <a:gdLst/>
                <a:ahLst/>
                <a:rect l="l" t="t" r="r" b="b"/>
                <a:pathLst>
                  <a:path w="164" h="116">
                    <a:moveTo>
                      <a:pt x="164" y="0"/>
                    </a:moveTo>
                    <a:lnTo>
                      <a:pt x="164" y="59"/>
                    </a:lnTo>
                    <a:lnTo>
                      <a:pt x="0" y="59"/>
                    </a:lnTo>
                    <a:lnTo>
                      <a:pt x="0" y="11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1920" y="1994400"/>
                <a:ext cx="541440" cy="4292640"/>
              </a:xfrm>
              <a:custGeom>
                <a:avLst/>
                <a:gdLst/>
                <a:ahLst/>
                <a:rect l="l" t="t" r="r" b="b"/>
                <a:pathLst>
                  <a:path w="254" h="2012">
                    <a:moveTo>
                      <a:pt x="254" y="1920"/>
                    </a:moveTo>
                    <a:lnTo>
                      <a:pt x="254" y="2012"/>
                    </a:lnTo>
                    <a:lnTo>
                      <a:pt x="0" y="201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427400" y="533808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0"/>
                    </a:moveTo>
                    <a:lnTo>
                      <a:pt x="3" y="32"/>
                    </a:lnTo>
                    <a:lnTo>
                      <a:pt x="31" y="1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49600" y="1621080"/>
                <a:ext cx="2539440" cy="3753360"/>
              </a:xfrm>
              <a:custGeom>
                <a:avLst/>
                <a:gdLst/>
                <a:ahLst/>
                <a:rect l="l" t="t" r="r" b="b"/>
                <a:pathLst>
                  <a:path w="1191" h="1759">
                    <a:moveTo>
                      <a:pt x="1191" y="0"/>
                    </a:moveTo>
                    <a:lnTo>
                      <a:pt x="1191" y="188"/>
                    </a:lnTo>
                    <a:lnTo>
                      <a:pt x="0" y="188"/>
                    </a:lnTo>
                    <a:lnTo>
                      <a:pt x="0" y="1759"/>
                    </a:lnTo>
                    <a:lnTo>
                      <a:pt x="282" y="1759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617560" y="3692880"/>
                <a:ext cx="1588320" cy="1828440"/>
              </a:xfrm>
              <a:custGeom>
                <a:avLst/>
                <a:gdLst/>
                <a:ahLst/>
                <a:rect l="l" t="t" r="r" b="b"/>
                <a:pathLst>
                  <a:path w="745" h="857">
                    <a:moveTo>
                      <a:pt x="0" y="0"/>
                    </a:moveTo>
                    <a:lnTo>
                      <a:pt x="0" y="792"/>
                    </a:lnTo>
                    <a:lnTo>
                      <a:pt x="745" y="792"/>
                    </a:lnTo>
                    <a:lnTo>
                      <a:pt x="745" y="857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491720" y="1981440"/>
                <a:ext cx="3753000" cy="4297320"/>
              </a:xfrm>
              <a:custGeom>
                <a:avLst/>
                <a:gdLst/>
                <a:ahLst/>
                <a:rect l="l" t="t" r="r" b="b"/>
                <a:pathLst>
                  <a:path w="1760" h="2014">
                    <a:moveTo>
                      <a:pt x="1760" y="0"/>
                    </a:moveTo>
                    <a:lnTo>
                      <a:pt x="1760" y="2014"/>
                    </a:lnTo>
                    <a:lnTo>
                      <a:pt x="0" y="2014"/>
                    </a:lnTo>
                    <a:lnTo>
                      <a:pt x="0" y="1828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540520" y="4932720"/>
                <a:ext cx="16416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68848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76552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864440" y="2497680"/>
                <a:ext cx="66240" cy="7236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0" y="0"/>
                    </a:moveTo>
                    <a:lnTo>
                      <a:pt x="0" y="34"/>
                    </a:lnTo>
                    <a:lnTo>
                      <a:pt x="31" y="1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334280" y="280116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29"/>
                    </a:moveTo>
                    <a:lnTo>
                      <a:pt x="31" y="32"/>
                    </a:lnTo>
                    <a:lnTo>
                      <a:pt x="16" y="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334280" y="4721040"/>
                <a:ext cx="66240" cy="662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29" y="0"/>
                    </a:moveTo>
                    <a:lnTo>
                      <a:pt x="0" y="0"/>
                    </a:lnTo>
                    <a:lnTo>
                      <a:pt x="16" y="31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364160" y="2845800"/>
                <a:ext cx="4320" cy="189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418520" y="3622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498440" y="36223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594560" y="362232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418520" y="3797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497360" y="3797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581600" y="3797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619400" y="3797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66920" y="3797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697520" y="3797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780320" y="3797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935000" y="2504520"/>
                <a:ext cx="63720" cy="655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8" y="29"/>
                    </a:moveTo>
                    <a:lnTo>
                      <a:pt x="30" y="0"/>
                    </a:lnTo>
                    <a:lnTo>
                      <a:pt x="0" y="14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2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196040" y="2497680"/>
                <a:ext cx="63720" cy="723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0" y="0"/>
                    </a:moveTo>
                    <a:lnTo>
                      <a:pt x="0" y="34"/>
                    </a:lnTo>
                    <a:lnTo>
                      <a:pt x="30" y="1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380600" y="2504520"/>
                <a:ext cx="66240" cy="655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29" y="29"/>
                    </a:moveTo>
                    <a:lnTo>
                      <a:pt x="31" y="0"/>
                    </a:lnTo>
                    <a:lnTo>
                      <a:pt x="0" y="1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427400" y="2534040"/>
                <a:ext cx="4456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990800" y="2534040"/>
                <a:ext cx="52221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41876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50084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58076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62324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702440" y="2329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73916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776960" y="2329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15332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23144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31568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39128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436280" y="232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515480" y="2329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551480" y="2329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588560" y="2329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310640" y="1621080"/>
                <a:ext cx="3603960" cy="4113720"/>
              </a:xfrm>
              <a:custGeom>
                <a:avLst/>
                <a:gdLst/>
                <a:ahLst/>
                <a:rect l="l" t="t" r="r" b="b"/>
                <a:pathLst>
                  <a:path w="1690" h="1928">
                    <a:moveTo>
                      <a:pt x="310" y="1926"/>
                    </a:moveTo>
                    <a:lnTo>
                      <a:pt x="1690" y="1928"/>
                    </a:lnTo>
                    <a:lnTo>
                      <a:pt x="1690" y="304"/>
                    </a:lnTo>
                    <a:lnTo>
                      <a:pt x="0" y="304"/>
                    </a:lnTo>
                    <a:lnTo>
                      <a:pt x="0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014000" y="5581440"/>
                <a:ext cx="957240" cy="300240"/>
              </a:xfrm>
              <a:custGeom>
                <a:avLst/>
                <a:gdLst/>
                <a:ahLst/>
                <a:rect l="l" t="t" r="r" b="b"/>
                <a:pathLst>
                  <a:path w="449" h="141">
                    <a:moveTo>
                      <a:pt x="67" y="139"/>
                    </a:moveTo>
                    <a:lnTo>
                      <a:pt x="57" y="139"/>
                    </a:lnTo>
                    <a:lnTo>
                      <a:pt x="47" y="137"/>
                    </a:lnTo>
                    <a:lnTo>
                      <a:pt x="36" y="133"/>
                    </a:lnTo>
                    <a:lnTo>
                      <a:pt x="28" y="127"/>
                    </a:lnTo>
                    <a:lnTo>
                      <a:pt x="20" y="120"/>
                    </a:lnTo>
                    <a:lnTo>
                      <a:pt x="12" y="112"/>
                    </a:lnTo>
                    <a:lnTo>
                      <a:pt x="8" y="103"/>
                    </a:lnTo>
                    <a:lnTo>
                      <a:pt x="4" y="93"/>
                    </a:lnTo>
                    <a:lnTo>
                      <a:pt x="0" y="82"/>
                    </a:lnTo>
                    <a:lnTo>
                      <a:pt x="0" y="72"/>
                    </a:lnTo>
                    <a:lnTo>
                      <a:pt x="0" y="59"/>
                    </a:lnTo>
                    <a:lnTo>
                      <a:pt x="4" y="48"/>
                    </a:lnTo>
                    <a:lnTo>
                      <a:pt x="8" y="38"/>
                    </a:lnTo>
                    <a:lnTo>
                      <a:pt x="12" y="29"/>
                    </a:lnTo>
                    <a:lnTo>
                      <a:pt x="20" y="21"/>
                    </a:lnTo>
                    <a:lnTo>
                      <a:pt x="28" y="15"/>
                    </a:lnTo>
                    <a:lnTo>
                      <a:pt x="36" y="8"/>
                    </a:lnTo>
                    <a:lnTo>
                      <a:pt x="47" y="4"/>
                    </a:lnTo>
                    <a:lnTo>
                      <a:pt x="57" y="2"/>
                    </a:lnTo>
                    <a:lnTo>
                      <a:pt x="67" y="0"/>
                    </a:lnTo>
                    <a:lnTo>
                      <a:pt x="382" y="0"/>
                    </a:lnTo>
                    <a:lnTo>
                      <a:pt x="394" y="2"/>
                    </a:lnTo>
                    <a:lnTo>
                      <a:pt x="404" y="4"/>
                    </a:lnTo>
                    <a:lnTo>
                      <a:pt x="415" y="8"/>
                    </a:lnTo>
                    <a:lnTo>
                      <a:pt x="423" y="15"/>
                    </a:lnTo>
                    <a:lnTo>
                      <a:pt x="431" y="21"/>
                    </a:lnTo>
                    <a:lnTo>
                      <a:pt x="437" y="29"/>
                    </a:lnTo>
                    <a:lnTo>
                      <a:pt x="443" y="38"/>
                    </a:lnTo>
                    <a:lnTo>
                      <a:pt x="447" y="48"/>
                    </a:lnTo>
                    <a:lnTo>
                      <a:pt x="449" y="59"/>
                    </a:lnTo>
                    <a:lnTo>
                      <a:pt x="449" y="72"/>
                    </a:lnTo>
                    <a:lnTo>
                      <a:pt x="449" y="82"/>
                    </a:lnTo>
                    <a:lnTo>
                      <a:pt x="447" y="93"/>
                    </a:lnTo>
                    <a:lnTo>
                      <a:pt x="443" y="103"/>
                    </a:lnTo>
                    <a:lnTo>
                      <a:pt x="437" y="112"/>
                    </a:lnTo>
                    <a:lnTo>
                      <a:pt x="431" y="120"/>
                    </a:lnTo>
                    <a:lnTo>
                      <a:pt x="423" y="127"/>
                    </a:lnTo>
                    <a:lnTo>
                      <a:pt x="415" y="133"/>
                    </a:lnTo>
                    <a:lnTo>
                      <a:pt x="404" y="137"/>
                    </a:lnTo>
                    <a:lnTo>
                      <a:pt x="394" y="139"/>
                    </a:lnTo>
                    <a:lnTo>
                      <a:pt x="382" y="141"/>
                    </a:lnTo>
                    <a:lnTo>
                      <a:pt x="67" y="141"/>
                    </a:lnTo>
                    <a:lnTo>
                      <a:pt x="67" y="14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2120" y="56365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78760" y="5636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563000" y="5636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922560" y="3660840"/>
                <a:ext cx="63720" cy="6804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14" y="30"/>
                    </a:moveTo>
                    <a:lnTo>
                      <a:pt x="18" y="32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4" y="28"/>
                    </a:lnTo>
                    <a:lnTo>
                      <a:pt x="26" y="28"/>
                    </a:lnTo>
                    <a:lnTo>
                      <a:pt x="28" y="26"/>
                    </a:lnTo>
                    <a:lnTo>
                      <a:pt x="28" y="24"/>
                    </a:lnTo>
                    <a:lnTo>
                      <a:pt x="30" y="21"/>
                    </a:lnTo>
                    <a:lnTo>
                      <a:pt x="30" y="19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30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869280" y="4932720"/>
                <a:ext cx="16992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01796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09932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246640" y="3660840"/>
                <a:ext cx="61560" cy="680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4" y="30"/>
                    </a:moveTo>
                    <a:lnTo>
                      <a:pt x="16" y="32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3" y="28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588200" y="3692880"/>
                <a:ext cx="684000" cy="1828440"/>
              </a:xfrm>
              <a:custGeom>
                <a:avLst/>
                <a:gdLst/>
                <a:ahLst/>
                <a:rect l="l" t="t" r="r" b="b"/>
                <a:pathLst>
                  <a:path w="321" h="857">
                    <a:moveTo>
                      <a:pt x="321" y="0"/>
                    </a:moveTo>
                    <a:lnTo>
                      <a:pt x="321" y="699"/>
                    </a:lnTo>
                    <a:lnTo>
                      <a:pt x="0" y="699"/>
                    </a:lnTo>
                    <a:lnTo>
                      <a:pt x="0" y="857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193360" y="4932720"/>
                <a:ext cx="16632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33916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42124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575760" y="3660840"/>
                <a:ext cx="6552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15" y="30"/>
                    </a:moveTo>
                    <a:lnTo>
                      <a:pt x="17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780080" y="3692880"/>
                <a:ext cx="1827360" cy="1824120"/>
              </a:xfrm>
              <a:custGeom>
                <a:avLst/>
                <a:gdLst/>
                <a:ahLst/>
                <a:rect l="l" t="t" r="r" b="b"/>
                <a:pathLst>
                  <a:path w="857" h="855">
                    <a:moveTo>
                      <a:pt x="855" y="0"/>
                    </a:moveTo>
                    <a:lnTo>
                      <a:pt x="857" y="792"/>
                    </a:lnTo>
                    <a:lnTo>
                      <a:pt x="0" y="792"/>
                    </a:lnTo>
                    <a:lnTo>
                      <a:pt x="0" y="855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524280" y="4932720"/>
                <a:ext cx="16632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67188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749640" y="4811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174200" y="5504400"/>
                <a:ext cx="61560" cy="680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29" y="0"/>
                    </a:moveTo>
                    <a:lnTo>
                      <a:pt x="0" y="2"/>
                    </a:lnTo>
                    <a:lnTo>
                      <a:pt x="15" y="3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366080" y="5504400"/>
                <a:ext cx="61560" cy="680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29" y="0"/>
                    </a:moveTo>
                    <a:lnTo>
                      <a:pt x="0" y="2"/>
                    </a:lnTo>
                    <a:lnTo>
                      <a:pt x="14" y="3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557960" y="5504400"/>
                <a:ext cx="6624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29" y="0"/>
                    </a:moveTo>
                    <a:lnTo>
                      <a:pt x="0" y="2"/>
                    </a:lnTo>
                    <a:lnTo>
                      <a:pt x="14" y="3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750200" y="5504400"/>
                <a:ext cx="65520" cy="680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29" y="0"/>
                    </a:moveTo>
                    <a:lnTo>
                      <a:pt x="0" y="2"/>
                    </a:lnTo>
                    <a:lnTo>
                      <a:pt x="14" y="3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231800" y="1767960"/>
                <a:ext cx="168480" cy="10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340160" y="164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411080" y="6022800"/>
                <a:ext cx="163800" cy="10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553280" y="5905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637520" y="5905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060320" y="2058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157160" y="2058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19316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27056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34400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41960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45668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3660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8160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1904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9356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77096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062880" y="2058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10104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17988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261960" y="2058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342240" y="2058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51240" y="18068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641600" y="180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718640" y="1806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952800" y="3692880"/>
                <a:ext cx="443160" cy="1824120"/>
              </a:xfrm>
              <a:custGeom>
                <a:avLst/>
                <a:gdLst/>
                <a:ahLst/>
                <a:rect l="l" t="t" r="r" b="b"/>
                <a:pathLst>
                  <a:path w="208" h="855">
                    <a:moveTo>
                      <a:pt x="208" y="855"/>
                    </a:moveTo>
                    <a:lnTo>
                      <a:pt x="208" y="699"/>
                    </a:lnTo>
                    <a:lnTo>
                      <a:pt x="0" y="699"/>
                    </a:lnTo>
                    <a:lnTo>
                      <a:pt x="0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1310400" y="2813760"/>
                <a:ext cx="432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V="1">
                <a:off x="1969560" y="2813760"/>
                <a:ext cx="360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V="1">
                <a:off x="3284640" y="2813760"/>
                <a:ext cx="432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V="1">
                <a:off x="4619880" y="2813760"/>
                <a:ext cx="432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V="1">
                <a:off x="5943960" y="2813760"/>
                <a:ext cx="2160" cy="19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1158480" y="299952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1158480" y="319788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1158480" y="339624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1158480" y="359460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1158480" y="3792960"/>
                <a:ext cx="60879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1158480" y="399564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1158480" y="419220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1158480" y="439056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1158480" y="4588920"/>
                <a:ext cx="608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598040" y="5342400"/>
                <a:ext cx="9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598040" y="5387040"/>
                <a:ext cx="9180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024720" y="1390680"/>
                <a:ext cx="1595160" cy="219600"/>
              </a:xfrm>
              <a:custGeom>
                <a:avLst/>
                <a:gdLst/>
                <a:ahLst/>
                <a:rect l="l" t="t" r="r" b="b"/>
                <a:pathLst>
                  <a:path w="748" h="103">
                    <a:moveTo>
                      <a:pt x="0" y="103"/>
                    </a:moveTo>
                    <a:lnTo>
                      <a:pt x="0" y="0"/>
                    </a:lnTo>
                    <a:lnTo>
                      <a:pt x="748" y="0"/>
                    </a:lnTo>
                    <a:lnTo>
                      <a:pt x="748" y="103"/>
                    </a:lnTo>
                    <a:lnTo>
                      <a:pt x="0" y="103"/>
                    </a:lnTo>
                    <a:lnTo>
                      <a:pt x="0" y="10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98640" y="1386360"/>
                <a:ext cx="1800" cy="23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199760" y="1386360"/>
                <a:ext cx="6120" cy="23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11080" y="1386360"/>
                <a:ext cx="3600" cy="23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067200" y="1171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144960" y="1171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22488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26304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30372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34188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380760" y="11710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3" name=""/>
            <p:cNvSpPr/>
            <p:nvPr/>
          </p:nvSpPr>
          <p:spPr>
            <a:xfrm>
              <a:off x="3422160" y="1171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45960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5391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975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8180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62440" y="1171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90132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91896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93948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95640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98016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9492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1400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3740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432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73760" y="1213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9212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2357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33296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46292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76320" y="1171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42600" y="1260360"/>
              <a:ext cx="2556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34400" y="1260360"/>
              <a:ext cx="2556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251160" y="1260360"/>
              <a:ext cx="29160" cy="255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986640" y="1260360"/>
              <a:ext cx="27360" cy="25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78440" y="1260360"/>
              <a:ext cx="25560" cy="25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894840" y="1260360"/>
              <a:ext cx="32400" cy="255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7" y="10"/>
                  </a:moveTo>
                  <a:lnTo>
                    <a:pt x="9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225360" y="312840"/>
            <a:ext cx="2279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h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what we wan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mi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ll the CPU, fetch block from memory, deliver to cache, restar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hi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replace data in cache and memory (write-throug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data only into the cache (write-back the cache la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mbém conhecida como copy-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miss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the entire block into the cache, then write the w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mpenho: write-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abilidade: write-throug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. paralelo: write-throug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ts vs. Misses (política de atualização ou escrit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225360" y="312840"/>
            <a:ext cx="2505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ura da comunicação Mem - Cache – CP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016000" y="5326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088720" y="5326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170080" y="5326200"/>
            <a:ext cx="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010600" y="5487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079000" y="548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156760" y="5487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194200" y="548784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977760" y="1357200"/>
            <a:ext cx="1423440" cy="4344120"/>
            <a:chOff x="977760" y="1357200"/>
            <a:chExt cx="1423440" cy="4344120"/>
          </a:xfrm>
        </p:grpSpPr>
        <p:sp>
          <p:nvSpPr>
            <p:cNvPr id="1023" name=""/>
            <p:cNvSpPr/>
            <p:nvPr/>
          </p:nvSpPr>
          <p:spPr>
            <a:xfrm>
              <a:off x="1055520" y="1357200"/>
              <a:ext cx="622440" cy="3114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6" y="142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88" y="144"/>
                  </a:lnTo>
                  <a:lnTo>
                    <a:pt x="288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239840" y="1428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338120" y="14288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428120" y="1428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77760" y="1685880"/>
              <a:ext cx="777960" cy="1270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9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977760" y="1862280"/>
              <a:ext cx="7779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0"/>
                  </a:moveTo>
                  <a:lnTo>
                    <a:pt x="180" y="61"/>
                  </a:lnTo>
                  <a:lnTo>
                    <a:pt x="36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050840" y="1789200"/>
              <a:ext cx="46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1673280" y="1789200"/>
              <a:ext cx="46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055520" y="2011320"/>
              <a:ext cx="622440" cy="62064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6" y="287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175400" y="2239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275840" y="223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2520" y="2239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420200" y="223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497960" y="2239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77760" y="2647800"/>
              <a:ext cx="777960" cy="1288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9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977760" y="3137040"/>
              <a:ext cx="7779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0"/>
                  </a:moveTo>
                  <a:lnTo>
                    <a:pt x="180" y="61"/>
                  </a:lnTo>
                  <a:lnTo>
                    <a:pt x="36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050840" y="2752560"/>
              <a:ext cx="4680" cy="4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1673280" y="2752200"/>
              <a:ext cx="4680" cy="4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45240" y="2874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42440" y="2874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415160" y="2874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055520" y="3286080"/>
              <a:ext cx="622440" cy="1859040"/>
            </a:xfrm>
            <a:custGeom>
              <a:avLst/>
              <a:gdLst/>
              <a:ahLst/>
              <a:rect l="l" t="t" r="r" b="b"/>
              <a:pathLst>
                <a:path w="288" h="861">
                  <a:moveTo>
                    <a:pt x="286" y="86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861"/>
                  </a:lnTo>
                  <a:lnTo>
                    <a:pt x="288" y="861"/>
                  </a:lnTo>
                  <a:lnTo>
                    <a:pt x="288" y="861"/>
                  </a:lnTo>
                  <a:lnTo>
                    <a:pt x="286" y="861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055520" y="3286080"/>
              <a:ext cx="622440" cy="1859040"/>
            </a:xfrm>
            <a:custGeom>
              <a:avLst/>
              <a:gdLst/>
              <a:ahLst/>
              <a:rect l="l" t="t" r="r" b="b"/>
              <a:pathLst>
                <a:path w="288" h="861">
                  <a:moveTo>
                    <a:pt x="286" y="86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861"/>
                  </a:lnTo>
                  <a:lnTo>
                    <a:pt x="288" y="861"/>
                  </a:lnTo>
                  <a:lnTo>
                    <a:pt x="288" y="8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127160" y="4132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39120" y="413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317240" y="4132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433520" y="413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505880" y="4132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551960" y="413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04940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131120" y="5326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167480" y="5326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204560" y="53262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31220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9212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474200" y="532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528920" y="5326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62648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701720" y="532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44920" y="532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834560" y="5326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83520" y="5326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984680" y="5326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050840" y="5487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093320" y="5487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20420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83760" y="5487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39716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474200" y="5487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518480" y="5487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590840" y="5487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62648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704240" y="5487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5032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2520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90296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79280" y="5487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22660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01480" y="548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2381400" y="5487840"/>
            <a:ext cx="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050840" y="565452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2346480" y="1357200"/>
            <a:ext cx="2830320" cy="2942640"/>
            <a:chOff x="2346480" y="1357200"/>
            <a:chExt cx="2830320" cy="2942640"/>
          </a:xfrm>
        </p:grpSpPr>
        <p:sp>
          <p:nvSpPr>
            <p:cNvPr id="1085" name=""/>
            <p:cNvSpPr/>
            <p:nvPr/>
          </p:nvSpPr>
          <p:spPr>
            <a:xfrm>
              <a:off x="3452760" y="1357200"/>
              <a:ext cx="620640" cy="31140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288" y="144"/>
                  </a:lnTo>
                  <a:lnTo>
                    <a:pt x="288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633840" y="1433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732120" y="1433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825720" y="1433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75000" y="1685880"/>
              <a:ext cx="7761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59"/>
                  </a:moveTo>
                  <a:lnTo>
                    <a:pt x="180" y="0"/>
                  </a:lnTo>
                  <a:lnTo>
                    <a:pt x="360" y="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75000" y="1866960"/>
              <a:ext cx="776160" cy="1270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0"/>
                  </a:moveTo>
                  <a:lnTo>
                    <a:pt x="180" y="59"/>
                  </a:lnTo>
                  <a:lnTo>
                    <a:pt x="3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452760" y="1789200"/>
              <a:ext cx="18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4073400" y="1789200"/>
              <a:ext cx="32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521080" y="2011320"/>
              <a:ext cx="2482560" cy="208080"/>
            </a:xfrm>
            <a:custGeom>
              <a:avLst/>
              <a:gdLst/>
              <a:ahLst/>
              <a:rect l="l" t="t" r="r" b="b"/>
              <a:pathLst>
                <a:path w="1150" h="96">
                  <a:moveTo>
                    <a:pt x="719" y="0"/>
                  </a:moveTo>
                  <a:lnTo>
                    <a:pt x="431" y="0"/>
                  </a:lnTo>
                  <a:lnTo>
                    <a:pt x="0" y="96"/>
                  </a:lnTo>
                  <a:lnTo>
                    <a:pt x="1150" y="96"/>
                  </a:lnTo>
                  <a:lnTo>
                    <a:pt x="719" y="0"/>
                  </a:lnTo>
                  <a:lnTo>
                    <a:pt x="71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346480" y="2652840"/>
              <a:ext cx="2830320" cy="126720"/>
            </a:xfrm>
            <a:custGeom>
              <a:avLst/>
              <a:gdLst/>
              <a:ahLst/>
              <a:rect l="l" t="t" r="r" b="b"/>
              <a:pathLst>
                <a:path w="1311" h="59">
                  <a:moveTo>
                    <a:pt x="0" y="57"/>
                  </a:moveTo>
                  <a:lnTo>
                    <a:pt x="656" y="0"/>
                  </a:lnTo>
                  <a:lnTo>
                    <a:pt x="1311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346480" y="3141720"/>
              <a:ext cx="2830320" cy="131760"/>
            </a:xfrm>
            <a:custGeom>
              <a:avLst/>
              <a:gdLst/>
              <a:ahLst/>
              <a:rect l="l" t="t" r="r" b="b"/>
              <a:pathLst>
                <a:path w="1311" h="61">
                  <a:moveTo>
                    <a:pt x="0" y="0"/>
                  </a:moveTo>
                  <a:lnTo>
                    <a:pt x="656" y="61"/>
                  </a:lnTo>
                  <a:lnTo>
                    <a:pt x="13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521080" y="2763720"/>
              <a:ext cx="2880" cy="3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5003640" y="2763720"/>
              <a:ext cx="324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646440" y="2879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736800" y="2879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811680" y="2879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521080" y="3287880"/>
              <a:ext cx="2482560" cy="622080"/>
            </a:xfrm>
            <a:custGeom>
              <a:avLst/>
              <a:gdLst/>
              <a:ahLst/>
              <a:rect l="l" t="t" r="r" b="b"/>
              <a:pathLst>
                <a:path w="1150" h="288">
                  <a:moveTo>
                    <a:pt x="1150" y="286"/>
                  </a:moveTo>
                  <a:lnTo>
                    <a:pt x="115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150" y="288"/>
                  </a:lnTo>
                  <a:lnTo>
                    <a:pt x="1150" y="288"/>
                  </a:lnTo>
                  <a:lnTo>
                    <a:pt x="1150" y="286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21080" y="3287880"/>
              <a:ext cx="2482560" cy="622080"/>
            </a:xfrm>
            <a:custGeom>
              <a:avLst/>
              <a:gdLst/>
              <a:ahLst/>
              <a:rect l="l" t="t" r="r" b="b"/>
              <a:pathLst>
                <a:path w="1150" h="288">
                  <a:moveTo>
                    <a:pt x="1150" y="286"/>
                  </a:moveTo>
                  <a:lnTo>
                    <a:pt x="115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150" y="288"/>
                  </a:lnTo>
                  <a:lnTo>
                    <a:pt x="115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5203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9488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63268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674800" y="408636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801520" y="4086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83068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9084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98512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26880" y="40863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1370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15880" y="40863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3332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05960" y="4086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452760" y="4086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52260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5600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38520" y="4086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831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587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3652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911400" y="4086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944880" y="4086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1580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88520" y="408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127400" y="4086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16016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233240" y="4086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522240" y="3516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637800" y="3516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12680" y="3516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830040" y="3516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03120" y="3516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952080" y="3516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431880" y="20239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54600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21600" y="20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654360" y="2023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692160" y="20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2204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800160" y="2023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83004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908520" y="2023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974400" y="2023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52880" y="2023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21080" y="2424240"/>
              <a:ext cx="2482560" cy="207720"/>
            </a:xfrm>
            <a:custGeom>
              <a:avLst/>
              <a:gdLst/>
              <a:ahLst/>
              <a:rect l="l" t="t" r="r" b="b"/>
              <a:pathLst>
                <a:path w="1150" h="96">
                  <a:moveTo>
                    <a:pt x="1150" y="96"/>
                  </a:moveTo>
                  <a:lnTo>
                    <a:pt x="115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150" y="96"/>
                  </a:lnTo>
                  <a:lnTo>
                    <a:pt x="115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573360" y="2449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670560" y="244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49040" y="2449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5640" y="244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93400" y="244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521080" y="2238480"/>
              <a:ext cx="566640" cy="41040"/>
            </a:xfrm>
            <a:custGeom>
              <a:avLst/>
              <a:gdLst/>
              <a:ahLst/>
              <a:rect l="l" t="t" r="r" b="b"/>
              <a:pathLst>
                <a:path w="262" h="19">
                  <a:moveTo>
                    <a:pt x="0" y="19"/>
                  </a:moveTo>
                  <a:lnTo>
                    <a:pt x="132" y="0"/>
                  </a:lnTo>
                  <a:lnTo>
                    <a:pt x="262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521080" y="2363760"/>
              <a:ext cx="566640" cy="44640"/>
            </a:xfrm>
            <a:custGeom>
              <a:avLst/>
              <a:gdLst/>
              <a:ahLst/>
              <a:rect l="l" t="t" r="r" b="b"/>
              <a:pathLst>
                <a:path w="262" h="21">
                  <a:moveTo>
                    <a:pt x="0" y="0"/>
                  </a:moveTo>
                  <a:lnTo>
                    <a:pt x="132" y="21"/>
                  </a:lnTo>
                  <a:lnTo>
                    <a:pt x="26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575080" y="2273400"/>
              <a:ext cx="468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3030480" y="2274480"/>
              <a:ext cx="468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432320" y="2238480"/>
              <a:ext cx="571320" cy="4104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0" y="19"/>
                  </a:moveTo>
                  <a:lnTo>
                    <a:pt x="133" y="0"/>
                  </a:lnTo>
                  <a:lnTo>
                    <a:pt x="265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432320" y="2363760"/>
              <a:ext cx="571320" cy="44640"/>
            </a:xfrm>
            <a:custGeom>
              <a:avLst/>
              <a:gdLst/>
              <a:ahLst/>
              <a:rect l="l" t="t" r="r" b="b"/>
              <a:pathLst>
                <a:path w="265" h="21">
                  <a:moveTo>
                    <a:pt x="0" y="0"/>
                  </a:moveTo>
                  <a:lnTo>
                    <a:pt x="133" y="21"/>
                  </a:lnTo>
                  <a:lnTo>
                    <a:pt x="265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491000" y="2273400"/>
              <a:ext cx="180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4946760" y="2274480"/>
              <a:ext cx="14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159000" y="2238480"/>
              <a:ext cx="571680" cy="4104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0" y="19"/>
                  </a:moveTo>
                  <a:lnTo>
                    <a:pt x="132" y="0"/>
                  </a:lnTo>
                  <a:lnTo>
                    <a:pt x="265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159000" y="2363760"/>
              <a:ext cx="571680" cy="44640"/>
            </a:xfrm>
            <a:custGeom>
              <a:avLst/>
              <a:gdLst/>
              <a:ahLst/>
              <a:rect l="l" t="t" r="r" b="b"/>
              <a:pathLst>
                <a:path w="265" h="21">
                  <a:moveTo>
                    <a:pt x="0" y="0"/>
                  </a:moveTo>
                  <a:lnTo>
                    <a:pt x="132" y="21"/>
                  </a:lnTo>
                  <a:lnTo>
                    <a:pt x="265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213000" y="2273400"/>
              <a:ext cx="32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3668760" y="2274480"/>
              <a:ext cx="32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95840" y="2238480"/>
              <a:ext cx="571320" cy="4104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0" y="19"/>
                  </a:moveTo>
                  <a:lnTo>
                    <a:pt x="133" y="0"/>
                  </a:lnTo>
                  <a:lnTo>
                    <a:pt x="265" y="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95840" y="2363760"/>
              <a:ext cx="571320" cy="44640"/>
            </a:xfrm>
            <a:custGeom>
              <a:avLst/>
              <a:gdLst/>
              <a:ahLst/>
              <a:rect l="l" t="t" r="r" b="b"/>
              <a:pathLst>
                <a:path w="265" h="21">
                  <a:moveTo>
                    <a:pt x="0" y="0"/>
                  </a:moveTo>
                  <a:lnTo>
                    <a:pt x="133" y="21"/>
                  </a:lnTo>
                  <a:lnTo>
                    <a:pt x="265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54520" y="2273400"/>
              <a:ext cx="14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308480" y="2274480"/>
              <a:ext cx="32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02324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9932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36784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353280" y="3425760"/>
            <a:ext cx="3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5780880" y="1351080"/>
            <a:ext cx="2640960" cy="2940840"/>
            <a:chOff x="5780880" y="1351080"/>
            <a:chExt cx="2640960" cy="2940840"/>
          </a:xfrm>
        </p:grpSpPr>
        <p:sp>
          <p:nvSpPr>
            <p:cNvPr id="1174" name=""/>
            <p:cNvSpPr/>
            <p:nvPr/>
          </p:nvSpPr>
          <p:spPr>
            <a:xfrm>
              <a:off x="6792840" y="1351080"/>
              <a:ext cx="620640" cy="307800"/>
            </a:xfrm>
            <a:custGeom>
              <a:avLst/>
              <a:gdLst/>
              <a:ahLst/>
              <a:rect l="l" t="t" r="r" b="b"/>
              <a:pathLst>
                <a:path w="288" h="143">
                  <a:moveTo>
                    <a:pt x="288" y="143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288" y="143"/>
                  </a:lnTo>
                  <a:lnTo>
                    <a:pt x="288" y="14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973920" y="1424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076880" y="14241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171560" y="1424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715080" y="1676520"/>
              <a:ext cx="776160" cy="12852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9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715080" y="1859040"/>
              <a:ext cx="776160" cy="12708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0"/>
                  </a:moveTo>
                  <a:lnTo>
                    <a:pt x="180" y="59"/>
                  </a:lnTo>
                  <a:lnTo>
                    <a:pt x="3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792840" y="1781280"/>
              <a:ext cx="180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7413480" y="1781280"/>
              <a:ext cx="324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792840" y="2003400"/>
              <a:ext cx="6206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7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16680" y="2232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016760" y="223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089120" y="2232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161120" y="223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234200" y="223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715080" y="2644920"/>
              <a:ext cx="776160" cy="126720"/>
            </a:xfrm>
            <a:custGeom>
              <a:avLst/>
              <a:gdLst/>
              <a:ahLst/>
              <a:rect l="l" t="t" r="r" b="b"/>
              <a:pathLst>
                <a:path w="360" h="59">
                  <a:moveTo>
                    <a:pt x="0" y="57"/>
                  </a:moveTo>
                  <a:lnTo>
                    <a:pt x="180" y="0"/>
                  </a:lnTo>
                  <a:lnTo>
                    <a:pt x="360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715080" y="3132000"/>
              <a:ext cx="776160" cy="131760"/>
            </a:xfrm>
            <a:custGeom>
              <a:avLst/>
              <a:gdLst/>
              <a:ahLst/>
              <a:rect l="l" t="t" r="r" b="b"/>
              <a:pathLst>
                <a:path w="360" h="61">
                  <a:moveTo>
                    <a:pt x="0" y="0"/>
                  </a:moveTo>
                  <a:lnTo>
                    <a:pt x="180" y="61"/>
                  </a:lnTo>
                  <a:lnTo>
                    <a:pt x="3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792840" y="2743200"/>
              <a:ext cx="1800" cy="41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7413480" y="2747880"/>
              <a:ext cx="3240" cy="4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986520" y="2871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77240" y="2871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155720" y="2871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4580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287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4580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52572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6430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71796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83244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91344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95736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55632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6340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7096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78816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85872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954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26200" y="3281400"/>
              <a:ext cx="6224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  <a:lnTo>
                    <a:pt x="288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126200" y="3281400"/>
              <a:ext cx="6224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9748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3144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39332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50420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8124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62804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23060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3058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38360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45740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52724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56540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8026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287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802640" y="3281400"/>
              <a:ext cx="619200" cy="6192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7" y="285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7" y="287"/>
                  </a:lnTo>
                  <a:lnTo>
                    <a:pt x="287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87032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9876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06580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1766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25660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30196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9034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772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0542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13204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20332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24004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81600" y="3281400"/>
              <a:ext cx="6206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  <a:lnTo>
                    <a:pt x="288" y="285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81600" y="3281400"/>
              <a:ext cx="620640" cy="6192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8" y="285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287"/>
                  </a:lnTo>
                  <a:lnTo>
                    <a:pt x="288" y="287"/>
                  </a:lnTo>
                  <a:lnTo>
                    <a:pt x="288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85324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96772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046560" y="3425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15888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235920" y="34257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280920" y="3425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88492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96052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0382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12800" y="3592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182640" y="359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20080" y="3592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8088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85216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88888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92524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9637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04188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0778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158880" y="4078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03520" y="407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326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3111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38496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4558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3364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60960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46680" y="4078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7636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841800" y="4078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9519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030440" y="4078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07616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14780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18452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259040" y="4078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30980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3828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4613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535520" y="407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568640" y="407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359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717680" y="407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751520" y="407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78032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85916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2973240" y="4876920"/>
            <a:ext cx="51624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lock para enviar ende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clocks para ler 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lock para enviar uma palavra de vo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ha da cache com 4 palav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álculo da miss penalty vs largura comunica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ma palavra de largura na memóri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4*15 + 4*1 = 65 ciclos (miss penal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65 = 0,25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as palavras de largura na memóri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2*15 + 2*1 = 33 cicl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33 = 0,48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tro palavras de largura na memóri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1*15 + 1*1 = 17 cicl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17 = 0,94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: multiplexador de 128 bits de largura e atras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do com uma palavra de largura mas 4 bancos de memória interleaved (intercalad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o de leitura das memórias é paralelizado (ou superposto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s comum:endereço bits mais significa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+ 1*15 + 4*1 = 20 cicl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s / ciclo para um miss: 4 * 4 / 20 = 0,8 B/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iona bem também em escrita (4 escritas simultâneas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do para caches com write 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1790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A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is stored  on a pair of inverting g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but takes up more space than DRAM (4 to 6 transistors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is stored as a charge on capacitor (must be refresh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small but slower than SRAM (factor of 5 to 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ies: 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89440" y="3809880"/>
            <a:ext cx="4281840" cy="2209680"/>
            <a:chOff x="289440" y="3809880"/>
            <a:chExt cx="4281840" cy="2209680"/>
          </a:xfrm>
        </p:grpSpPr>
        <p:grpSp>
          <p:nvGrpSpPr>
            <p:cNvPr id="47" name=""/>
            <p:cNvGrpSpPr/>
            <p:nvPr/>
          </p:nvGrpSpPr>
          <p:grpSpPr>
            <a:xfrm>
              <a:off x="2209680" y="4952880"/>
              <a:ext cx="456840" cy="1066680"/>
              <a:chOff x="2209680" y="4952880"/>
              <a:chExt cx="456840" cy="106668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2209680" y="4952880"/>
                <a:ext cx="412560" cy="380880"/>
                <a:chOff x="2209680" y="4952880"/>
                <a:chExt cx="412560" cy="3808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2209680" y="495288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209680" y="4952880"/>
                  <a:ext cx="30456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V="1">
                  <a:off x="2209680" y="5181120"/>
                  <a:ext cx="30456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514240" y="5105160"/>
                  <a:ext cx="108000" cy="108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2253960" y="5638680"/>
                <a:ext cx="412560" cy="380880"/>
                <a:chOff x="2253960" y="5638680"/>
                <a:chExt cx="412560" cy="3808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2666520" y="563868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H="1">
                  <a:off x="2361960" y="5638680"/>
                  <a:ext cx="30456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flipV="1">
                  <a:off x="2361960" y="5866920"/>
                  <a:ext cx="30456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>
                  <a:off x="2253960" y="5790960"/>
                  <a:ext cx="108000" cy="108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" name=""/>
            <p:cNvSpPr/>
            <p:nvPr/>
          </p:nvSpPr>
          <p:spPr>
            <a:xfrm>
              <a:off x="2590920" y="51814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71800" y="51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666520" y="5867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523520" y="5181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828800" y="58672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828800" y="5181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62120" y="51814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1219320" y="4876560"/>
              <a:ext cx="304560" cy="304560"/>
              <a:chOff x="1219320" y="4876560"/>
              <a:chExt cx="304560" cy="30456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2388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1219320" y="49528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121932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19320" y="48765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V="1">
              <a:off x="1371600" y="411480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373356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3429000" y="495288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429000" y="4952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429000" y="48765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flipH="1">
              <a:off x="3733920" y="51814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71600" y="449568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128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9440" y="48877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24800" y="487656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91120" y="48765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28960" y="38098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800600" y="3857760"/>
            <a:ext cx="3622320" cy="2087280"/>
            <a:chOff x="4800600" y="3857760"/>
            <a:chExt cx="3622320" cy="2087280"/>
          </a:xfrm>
        </p:grpSpPr>
        <p:sp>
          <p:nvSpPr>
            <p:cNvPr id="84" name=""/>
            <p:cNvSpPr/>
            <p:nvPr/>
          </p:nvSpPr>
          <p:spPr>
            <a:xfrm flipH="1">
              <a:off x="4895280" y="4178160"/>
              <a:ext cx="3527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318080" y="3884760"/>
              <a:ext cx="1800" cy="2054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5840" y="4132080"/>
              <a:ext cx="53640" cy="93960"/>
            </a:xfrm>
            <a:custGeom>
              <a:avLst/>
              <a:gdLst/>
              <a:ahLst/>
              <a:rect l="l" t="t" r="r" b="b"/>
              <a:pathLst>
                <a:path w="34" h="59">
                  <a:moveTo>
                    <a:pt x="17" y="59"/>
                  </a:moveTo>
                  <a:lnTo>
                    <a:pt x="19" y="59"/>
                  </a:lnTo>
                  <a:lnTo>
                    <a:pt x="23" y="59"/>
                  </a:lnTo>
                  <a:lnTo>
                    <a:pt x="25" y="55"/>
                  </a:lnTo>
                  <a:lnTo>
                    <a:pt x="28" y="55"/>
                  </a:lnTo>
                  <a:lnTo>
                    <a:pt x="30" y="51"/>
                  </a:lnTo>
                  <a:lnTo>
                    <a:pt x="32" y="48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4" y="33"/>
                  </a:lnTo>
                  <a:lnTo>
                    <a:pt x="34" y="29"/>
                  </a:lnTo>
                  <a:lnTo>
                    <a:pt x="34" y="25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2" y="11"/>
                  </a:lnTo>
                  <a:lnTo>
                    <a:pt x="30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7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5"/>
                  </a:lnTo>
                  <a:lnTo>
                    <a:pt x="10" y="59"/>
                  </a:lnTo>
                  <a:lnTo>
                    <a:pt x="15" y="59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89640" y="4641840"/>
              <a:ext cx="55440" cy="10008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18" y="59"/>
                  </a:moveTo>
                  <a:lnTo>
                    <a:pt x="20" y="63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28" y="56"/>
                  </a:lnTo>
                  <a:lnTo>
                    <a:pt x="30" y="52"/>
                  </a:lnTo>
                  <a:lnTo>
                    <a:pt x="33" y="48"/>
                  </a:lnTo>
                  <a:lnTo>
                    <a:pt x="33" y="44"/>
                  </a:lnTo>
                  <a:lnTo>
                    <a:pt x="35" y="41"/>
                  </a:lnTo>
                  <a:lnTo>
                    <a:pt x="35" y="37"/>
                  </a:lnTo>
                  <a:lnTo>
                    <a:pt x="35" y="30"/>
                  </a:lnTo>
                  <a:lnTo>
                    <a:pt x="35" y="26"/>
                  </a:lnTo>
                  <a:lnTo>
                    <a:pt x="35" y="22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0" y="11"/>
                  </a:lnTo>
                  <a:lnTo>
                    <a:pt x="28" y="8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8"/>
                  </a:lnTo>
                  <a:lnTo>
                    <a:pt x="5" y="11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5" y="52"/>
                  </a:lnTo>
                  <a:lnTo>
                    <a:pt x="7" y="56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5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062840" y="4178160"/>
              <a:ext cx="1440" cy="293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7240" y="4471920"/>
              <a:ext cx="510840" cy="51120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0" y="322"/>
                  </a:moveTo>
                  <a:lnTo>
                    <a:pt x="0" y="137"/>
                  </a:lnTo>
                  <a:lnTo>
                    <a:pt x="90" y="137"/>
                  </a:lnTo>
                  <a:lnTo>
                    <a:pt x="90" y="0"/>
                  </a:lnTo>
                  <a:lnTo>
                    <a:pt x="232" y="0"/>
                  </a:lnTo>
                  <a:lnTo>
                    <a:pt x="232" y="137"/>
                  </a:lnTo>
                  <a:lnTo>
                    <a:pt x="322" y="13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807240" y="5087880"/>
              <a:ext cx="1440" cy="193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723000" y="4983120"/>
              <a:ext cx="169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723000" y="5081400"/>
              <a:ext cx="1699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67280" y="5281560"/>
              <a:ext cx="84240" cy="298440"/>
            </a:xfrm>
            <a:custGeom>
              <a:avLst/>
              <a:gdLst/>
              <a:ahLst/>
              <a:rect l="l" t="t" r="r" b="b"/>
              <a:pathLst>
                <a:path w="53" h="188">
                  <a:moveTo>
                    <a:pt x="51" y="0"/>
                  </a:moveTo>
                  <a:lnTo>
                    <a:pt x="25" y="188"/>
                  </a:lnTo>
                  <a:lnTo>
                    <a:pt x="0" y="4"/>
                  </a:lnTo>
                  <a:lnTo>
                    <a:pt x="53" y="4"/>
                  </a:lnTo>
                  <a:lnTo>
                    <a:pt x="53" y="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15360" y="4861080"/>
              <a:ext cx="1000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pac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08280" y="4390920"/>
              <a:ext cx="1448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ass transis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0600" y="3857760"/>
              <a:ext cx="990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ord li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5920" y="5622840"/>
              <a:ext cx="755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it li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962360" y="6245280"/>
            <a:ext cx="4133880" cy="3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r arquivo: revisão de conceitos de memóri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álculo aproximado da eficiência do siste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186480" y="948240"/>
            <a:ext cx="5951520" cy="47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de acesso médio = estágio mais rápi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or dois níve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tempo de acesso a 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tempo de acesso a M2 (M2+miss penal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tempo médiode acesso do sist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=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= eficiência do sistema =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H *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(1-H) *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H + (1-H) * r = 1/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= 1 / [ r + H * (1-r) 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7086600" y="1219320"/>
            <a:ext cx="1125720" cy="1371600"/>
            <a:chOff x="7086600" y="1219320"/>
            <a:chExt cx="1125720" cy="1371600"/>
          </a:xfrm>
        </p:grpSpPr>
        <p:sp>
          <p:nvSpPr>
            <p:cNvPr id="1291" name=""/>
            <p:cNvSpPr/>
            <p:nvPr/>
          </p:nvSpPr>
          <p:spPr>
            <a:xfrm>
              <a:off x="7086600" y="1219320"/>
              <a:ext cx="685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086600" y="2133720"/>
              <a:ext cx="6858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786080" y="1295280"/>
              <a:ext cx="42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786080" y="2133720"/>
              <a:ext cx="42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5" name="" descr=""/>
          <p:cNvPicPr/>
          <p:nvPr/>
        </p:nvPicPr>
        <p:blipFill>
          <a:blip r:embed="rId1"/>
          <a:stretch/>
        </p:blipFill>
        <p:spPr>
          <a:xfrm>
            <a:off x="3352680" y="3483000"/>
            <a:ext cx="5829480" cy="333072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4116600" y="350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62192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225360" y="312840"/>
            <a:ext cx="195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324000" y="4929480"/>
            <a:ext cx="8343000" cy="49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plit caches because there is more spatial locality in code: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 rate vs block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990720" y="774720"/>
            <a:ext cx="5371200" cy="3988080"/>
            <a:chOff x="990720" y="774720"/>
            <a:chExt cx="5371200" cy="3988080"/>
          </a:xfrm>
        </p:grpSpPr>
        <p:sp>
          <p:nvSpPr>
            <p:cNvPr id="1302" name=""/>
            <p:cNvSpPr/>
            <p:nvPr/>
          </p:nvSpPr>
          <p:spPr>
            <a:xfrm>
              <a:off x="1875600" y="1007640"/>
              <a:ext cx="4372560" cy="1219320"/>
            </a:xfrm>
            <a:custGeom>
              <a:avLst/>
              <a:gdLst/>
              <a:ahLst/>
              <a:rect l="l" t="t" r="r" b="b"/>
              <a:pathLst>
                <a:path w="1971" h="549">
                  <a:moveTo>
                    <a:pt x="0" y="0"/>
                  </a:moveTo>
                  <a:lnTo>
                    <a:pt x="657" y="448"/>
                  </a:lnTo>
                  <a:lnTo>
                    <a:pt x="1314" y="549"/>
                  </a:lnTo>
                  <a:lnTo>
                    <a:pt x="1971" y="305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875600" y="2687400"/>
              <a:ext cx="4372560" cy="412920"/>
            </a:xfrm>
            <a:custGeom>
              <a:avLst/>
              <a:gdLst/>
              <a:ahLst/>
              <a:rect l="l" t="t" r="r" b="b"/>
              <a:pathLst>
                <a:path w="1971" h="186">
                  <a:moveTo>
                    <a:pt x="0" y="0"/>
                  </a:moveTo>
                  <a:lnTo>
                    <a:pt x="657" y="149"/>
                  </a:lnTo>
                  <a:lnTo>
                    <a:pt x="1314" y="186"/>
                  </a:lnTo>
                  <a:lnTo>
                    <a:pt x="1971" y="159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875600" y="3249360"/>
              <a:ext cx="4372560" cy="130680"/>
            </a:xfrm>
            <a:custGeom>
              <a:avLst/>
              <a:gdLst/>
              <a:ahLst/>
              <a:rect l="l" t="t" r="r" b="b"/>
              <a:pathLst>
                <a:path w="1971" h="59">
                  <a:moveTo>
                    <a:pt x="0" y="0"/>
                  </a:moveTo>
                  <a:lnTo>
                    <a:pt x="657" y="49"/>
                  </a:lnTo>
                  <a:lnTo>
                    <a:pt x="1314" y="57"/>
                  </a:lnTo>
                  <a:lnTo>
                    <a:pt x="1971" y="59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183720" y="3315960"/>
              <a:ext cx="126000" cy="12888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56" y="29"/>
                  </a:moveTo>
                  <a:lnTo>
                    <a:pt x="29" y="0"/>
                  </a:lnTo>
                  <a:lnTo>
                    <a:pt x="0" y="29"/>
                  </a:lnTo>
                  <a:lnTo>
                    <a:pt x="29" y="58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725720" y="3311280"/>
              <a:ext cx="128520" cy="12888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9"/>
                  </a:moveTo>
                  <a:lnTo>
                    <a:pt x="29" y="0"/>
                  </a:lnTo>
                  <a:lnTo>
                    <a:pt x="0" y="29"/>
                  </a:lnTo>
                  <a:lnTo>
                    <a:pt x="29" y="58"/>
                  </a:lnTo>
                  <a:lnTo>
                    <a:pt x="58" y="29"/>
                  </a:lnTo>
                  <a:lnTo>
                    <a:pt x="58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268440" y="3295800"/>
              <a:ext cx="128520" cy="12240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56" y="26"/>
                  </a:moveTo>
                  <a:lnTo>
                    <a:pt x="29" y="0"/>
                  </a:lnTo>
                  <a:lnTo>
                    <a:pt x="0" y="26"/>
                  </a:lnTo>
                  <a:lnTo>
                    <a:pt x="29" y="55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11160" y="3184920"/>
              <a:ext cx="128520" cy="126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6" y="29"/>
                  </a:moveTo>
                  <a:lnTo>
                    <a:pt x="29" y="0"/>
                  </a:lnTo>
                  <a:lnTo>
                    <a:pt x="0" y="29"/>
                  </a:lnTo>
                  <a:lnTo>
                    <a:pt x="29" y="57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418000" y="4595400"/>
              <a:ext cx="124200" cy="12420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27"/>
                  </a:moveTo>
                  <a:lnTo>
                    <a:pt x="27" y="0"/>
                  </a:lnTo>
                  <a:lnTo>
                    <a:pt x="0" y="27"/>
                  </a:lnTo>
                  <a:lnTo>
                    <a:pt x="27" y="56"/>
                  </a:lnTo>
                  <a:lnTo>
                    <a:pt x="56" y="27"/>
                  </a:lnTo>
                  <a:lnTo>
                    <a:pt x="56" y="2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201360" y="2994120"/>
              <a:ext cx="88200" cy="885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19" y="40"/>
                  </a:moveTo>
                  <a:lnTo>
                    <a:pt x="25" y="40"/>
                  </a:lnTo>
                  <a:lnTo>
                    <a:pt x="26" y="40"/>
                  </a:lnTo>
                  <a:lnTo>
                    <a:pt x="30" y="38"/>
                  </a:lnTo>
                  <a:lnTo>
                    <a:pt x="32" y="36"/>
                  </a:lnTo>
                  <a:lnTo>
                    <a:pt x="34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4" y="7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7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748400" y="3057840"/>
              <a:ext cx="88200" cy="889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19" y="40"/>
                  </a:moveTo>
                  <a:lnTo>
                    <a:pt x="23" y="40"/>
                  </a:lnTo>
                  <a:lnTo>
                    <a:pt x="27" y="40"/>
                  </a:lnTo>
                  <a:lnTo>
                    <a:pt x="30" y="38"/>
                  </a:lnTo>
                  <a:lnTo>
                    <a:pt x="32" y="36"/>
                  </a:lnTo>
                  <a:lnTo>
                    <a:pt x="34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6"/>
                  </a:lnTo>
                  <a:lnTo>
                    <a:pt x="40" y="24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9" y="3"/>
                  </a:lnTo>
                  <a:lnTo>
                    <a:pt x="5" y="5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3" y="40"/>
                  </a:lnTo>
                  <a:lnTo>
                    <a:pt x="17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31680" y="4195440"/>
              <a:ext cx="88200" cy="889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19" y="39"/>
                  </a:moveTo>
                  <a:lnTo>
                    <a:pt x="23" y="40"/>
                  </a:lnTo>
                  <a:lnTo>
                    <a:pt x="27" y="39"/>
                  </a:lnTo>
                  <a:lnTo>
                    <a:pt x="29" y="39"/>
                  </a:lnTo>
                  <a:lnTo>
                    <a:pt x="33" y="37"/>
                  </a:lnTo>
                  <a:lnTo>
                    <a:pt x="35" y="35"/>
                  </a:lnTo>
                  <a:lnTo>
                    <a:pt x="36" y="33"/>
                  </a:lnTo>
                  <a:lnTo>
                    <a:pt x="38" y="29"/>
                  </a:lnTo>
                  <a:lnTo>
                    <a:pt x="38" y="27"/>
                  </a:lnTo>
                  <a:lnTo>
                    <a:pt x="40" y="23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8"/>
                  </a:lnTo>
                  <a:lnTo>
                    <a:pt x="35" y="6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8" y="37"/>
                  </a:lnTo>
                  <a:lnTo>
                    <a:pt x="12" y="39"/>
                  </a:lnTo>
                  <a:lnTo>
                    <a:pt x="13" y="39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290760" y="297144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9" y="40"/>
                  </a:moveTo>
                  <a:lnTo>
                    <a:pt x="23" y="40"/>
                  </a:lnTo>
                  <a:lnTo>
                    <a:pt x="25" y="40"/>
                  </a:lnTo>
                  <a:lnTo>
                    <a:pt x="29" y="39"/>
                  </a:lnTo>
                  <a:lnTo>
                    <a:pt x="31" y="37"/>
                  </a:lnTo>
                  <a:lnTo>
                    <a:pt x="32" y="35"/>
                  </a:lnTo>
                  <a:lnTo>
                    <a:pt x="34" y="33"/>
                  </a:lnTo>
                  <a:lnTo>
                    <a:pt x="36" y="29"/>
                  </a:lnTo>
                  <a:lnTo>
                    <a:pt x="38" y="27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38" y="14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2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8" y="37"/>
                  </a:lnTo>
                  <a:lnTo>
                    <a:pt x="9" y="39"/>
                  </a:lnTo>
                  <a:lnTo>
                    <a:pt x="13" y="40"/>
                  </a:lnTo>
                  <a:lnTo>
                    <a:pt x="15" y="40"/>
                  </a:lnTo>
                  <a:lnTo>
                    <a:pt x="19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33120" y="264492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9" y="38"/>
                  </a:moveTo>
                  <a:lnTo>
                    <a:pt x="23" y="38"/>
                  </a:lnTo>
                  <a:lnTo>
                    <a:pt x="25" y="38"/>
                  </a:lnTo>
                  <a:lnTo>
                    <a:pt x="29" y="36"/>
                  </a:lnTo>
                  <a:lnTo>
                    <a:pt x="31" y="34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6" y="29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8" y="19"/>
                  </a:lnTo>
                  <a:lnTo>
                    <a:pt x="38" y="15"/>
                  </a:lnTo>
                  <a:lnTo>
                    <a:pt x="38" y="13"/>
                  </a:lnTo>
                  <a:lnTo>
                    <a:pt x="36" y="9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4" y="31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0" y="36"/>
                  </a:lnTo>
                  <a:lnTo>
                    <a:pt x="13" y="38"/>
                  </a:lnTo>
                  <a:lnTo>
                    <a:pt x="15" y="38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206040" y="1636560"/>
              <a:ext cx="88200" cy="9108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8" y="41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748400" y="2184840"/>
              <a:ext cx="88200" cy="8640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8" y="39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40" y="39"/>
                  </a:lnTo>
                  <a:lnTo>
                    <a:pt x="40" y="39"/>
                  </a:lnTo>
                  <a:lnTo>
                    <a:pt x="38" y="39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427000" y="3780360"/>
              <a:ext cx="88200" cy="8388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38" y="38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833120" y="96552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8" y="40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8" y="40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290760" y="1956240"/>
              <a:ext cx="84240" cy="88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8" y="40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8" y="40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561640" y="372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641560" y="372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677200" y="3727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79440" y="3727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868720" y="372708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561640" y="3939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641560" y="3939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677200" y="3939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779440" y="3939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868720" y="39398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561640" y="4151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641560" y="4151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716800" y="4151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761800" y="4151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56840" y="4151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952960" y="415116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561640" y="436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641560" y="436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716800" y="436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761800" y="436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856840" y="436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952960" y="436680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56164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64156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716800" y="457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801400" y="45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837400" y="4579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932440" y="4579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1182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1938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27588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266480" y="774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342080" y="774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424520" y="7747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266480" y="1099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42080" y="1099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424520" y="10990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266480" y="141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42080" y="141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24520" y="14169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266480" y="17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342080" y="17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424520" y="173664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266480" y="2058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342080" y="2058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24520" y="20584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266480" y="237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42080" y="237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424520" y="23785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266480" y="2696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42080" y="2696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424520" y="26964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353240" y="301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31000" y="30160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53240" y="3336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431000" y="33361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16200000">
              <a:off x="1018440" y="22543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rot="16200000">
              <a:off x="1064880" y="21877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rot="16200000">
              <a:off x="1043640" y="2135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16200000">
              <a:off x="1050120" y="2067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16200000">
              <a:off x="1068480" y="2004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16200000">
              <a:off x="1064880" y="1967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16200000">
              <a:off x="1038960" y="1897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16200000">
              <a:off x="1066680" y="1845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16200000">
              <a:off x="1047240" y="177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7052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78080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24324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2316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828080" y="346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514680" y="3711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612240" y="3711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64284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71916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7915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863160" y="371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9031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974040" y="3711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00428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07520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54040" y="371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196160" y="371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24188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3171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390200" y="371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428000" y="371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07920" y="371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577400" y="371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842120" y="2342520"/>
              <a:ext cx="66240" cy="734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5" y="33"/>
                  </a:moveTo>
                  <a:lnTo>
                    <a:pt x="17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7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440320" y="3995280"/>
              <a:ext cx="68760" cy="687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3" y="31"/>
                  </a:moveTo>
                  <a:lnTo>
                    <a:pt x="17" y="31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1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875600" y="2376360"/>
              <a:ext cx="2914560" cy="565920"/>
            </a:xfrm>
            <a:custGeom>
              <a:avLst/>
              <a:gdLst/>
              <a:ahLst/>
              <a:rect l="l" t="t" r="r" b="b"/>
              <a:pathLst>
                <a:path w="1314" h="255">
                  <a:moveTo>
                    <a:pt x="0" y="0"/>
                  </a:moveTo>
                  <a:lnTo>
                    <a:pt x="657" y="178"/>
                  </a:lnTo>
                  <a:lnTo>
                    <a:pt x="1314" y="25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875600" y="3078000"/>
              <a:ext cx="4372560" cy="217440"/>
            </a:xfrm>
            <a:custGeom>
              <a:avLst/>
              <a:gdLst/>
              <a:ahLst/>
              <a:rect l="l" t="t" r="r" b="b"/>
              <a:pathLst>
                <a:path w="1971" h="98">
                  <a:moveTo>
                    <a:pt x="1971" y="98"/>
                  </a:moveTo>
                  <a:lnTo>
                    <a:pt x="1314" y="98"/>
                  </a:lnTo>
                  <a:lnTo>
                    <a:pt x="657" y="7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299760" y="2738160"/>
              <a:ext cx="66240" cy="734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5" y="31"/>
                  </a:moveTo>
                  <a:lnTo>
                    <a:pt x="17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5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757040" y="2909520"/>
              <a:ext cx="70920" cy="662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5" y="30"/>
                  </a:moveTo>
                  <a:lnTo>
                    <a:pt x="19" y="30"/>
                  </a:lnTo>
                  <a:lnTo>
                    <a:pt x="21" y="30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6" y="26"/>
                  </a:lnTo>
                  <a:lnTo>
                    <a:pt x="28" y="24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17"/>
                  </a:lnTo>
                  <a:lnTo>
                    <a:pt x="32" y="15"/>
                  </a:lnTo>
                  <a:lnTo>
                    <a:pt x="30" y="13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28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212520" y="2878200"/>
              <a:ext cx="68760" cy="734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1"/>
                  </a:moveTo>
                  <a:lnTo>
                    <a:pt x="18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824480" y="3027240"/>
              <a:ext cx="10152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422680" y="439092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1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282120" y="319356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739400" y="324504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5"/>
                  </a:lnTo>
                  <a:lnTo>
                    <a:pt x="23" y="46"/>
                  </a:lnTo>
                  <a:lnTo>
                    <a:pt x="46" y="25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197040" y="3245040"/>
              <a:ext cx="101880" cy="102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0" y="23"/>
                  </a:lnTo>
                  <a:lnTo>
                    <a:pt x="23" y="46"/>
                  </a:lnTo>
                  <a:lnTo>
                    <a:pt x="46" y="23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1611000" y="1174680"/>
              <a:ext cx="68760" cy="4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1611000" y="1816200"/>
              <a:ext cx="687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1611000" y="2454120"/>
              <a:ext cx="68760" cy="4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11000" y="3095640"/>
              <a:ext cx="687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790160" y="3342600"/>
              <a:ext cx="2160" cy="7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332880" y="3342600"/>
              <a:ext cx="2160" cy="7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611360" y="854640"/>
              <a:ext cx="4636800" cy="2558880"/>
            </a:xfrm>
            <a:custGeom>
              <a:avLst/>
              <a:gdLst/>
              <a:ahLst/>
              <a:rect l="l" t="t" r="r" b="b"/>
              <a:pathLst>
                <a:path w="2090" h="1152">
                  <a:moveTo>
                    <a:pt x="2090" y="1120"/>
                  </a:moveTo>
                  <a:lnTo>
                    <a:pt x="2090" y="1152"/>
                  </a:lnTo>
                  <a:lnTo>
                    <a:pt x="0" y="115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875600" y="3342600"/>
              <a:ext cx="1800" cy="7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609200" y="852480"/>
              <a:ext cx="4638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09200" y="1496520"/>
              <a:ext cx="463860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09200" y="2134080"/>
              <a:ext cx="4638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609200" y="2772000"/>
              <a:ext cx="46386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790160" y="2911320"/>
              <a:ext cx="1457640" cy="3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33" name=""/>
          <p:cNvGraphicFramePr/>
          <p:nvPr/>
        </p:nvGraphicFramePr>
        <p:xfrm>
          <a:off x="1066680" y="5272200"/>
          <a:ext cx="7037640" cy="143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272200"/>
                    <a:ext cx="70376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5" name=""/>
          <p:cNvSpPr/>
          <p:nvPr/>
        </p:nvSpPr>
        <p:spPr>
          <a:xfrm>
            <a:off x="304920" y="3809880"/>
            <a:ext cx="1295280" cy="228600"/>
          </a:xfrm>
          <a:prstGeom prst="leftArrow">
            <a:avLst>
              <a:gd name="adj1" fmla="val 50000"/>
              <a:gd name="adj2" fmla="val 14165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42440" y="342576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57200" y="4114800"/>
            <a:ext cx="1981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nos local. espac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7238160" y="3733920"/>
            <a:ext cx="1295640" cy="228600"/>
          </a:xfrm>
          <a:prstGeom prst="leftArrow">
            <a:avLst>
              <a:gd name="adj1" fmla="val 50000"/>
              <a:gd name="adj2" fmla="val 14169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7392600" y="3336840"/>
            <a:ext cx="500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858000" y="3886200"/>
            <a:ext cx="2286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fragmentação intern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enos blo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iss penal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ed model: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 time = (execution cycles + stall cycles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ycle ti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ll cycles = RD + WR stall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 stall cycles = # of RDs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D miss ratio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D miss penal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 stall cycles = # of WRs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R miss ratio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R miss penalty (mais complicado do que ist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ways of improving performanc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reasing the miss rat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reasing the miss penalt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hat happens if we increase block siz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pag 565 - 56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420120" y="1334520"/>
            <a:ext cx="7998120" cy="487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c: instruction miss ratio = 2%; data cache miss rate = 4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2 (sem stalls de mem); miss penalty = 40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misses cycles = I * 2% * 40 = 0.8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bendo que lw+sw= 36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miss cycles = I * 36% * 4% * 40 = 0.58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. de stalls de mem = 0.8 I + 0.58 I = 1.38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total = 2 + 1.38 = 3.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ção de velocidades com ou sem mem stalls = rel de CP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8 / 2 = 1.69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melhorássemos a arquitetura (CPI) sem afetar a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=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ção = 2.38 / 1 = 2.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eito negativo da memória aumenta (Lei de Amdh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 exemplo da pag 567: aumento do clock tem efeito semelh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5360" y="312840"/>
            <a:ext cx="294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reasing miss ratio with associa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428400" y="1471680"/>
            <a:ext cx="8181360" cy="3600000"/>
            <a:chOff x="428400" y="1471680"/>
            <a:chExt cx="8181360" cy="3600000"/>
          </a:xfrm>
        </p:grpSpPr>
        <p:grpSp>
          <p:nvGrpSpPr>
            <p:cNvPr id="1448" name=""/>
            <p:cNvGrpSpPr/>
            <p:nvPr/>
          </p:nvGrpSpPr>
          <p:grpSpPr>
            <a:xfrm>
              <a:off x="428400" y="1471680"/>
              <a:ext cx="8181360" cy="3599640"/>
              <a:chOff x="428400" y="1471680"/>
              <a:chExt cx="8181360" cy="3599640"/>
            </a:xfrm>
          </p:grpSpPr>
          <p:sp>
            <p:nvSpPr>
              <p:cNvPr id="1449" name=""/>
              <p:cNvSpPr/>
              <p:nvPr/>
            </p:nvSpPr>
            <p:spPr>
              <a:xfrm>
                <a:off x="4365000" y="2112480"/>
                <a:ext cx="180360" cy="1444320"/>
              </a:xfrm>
              <a:custGeom>
                <a:avLst/>
                <a:gdLst/>
                <a:ahLst/>
                <a:rect l="l" t="t" r="r" b="b"/>
                <a:pathLst>
                  <a:path w="96" h="768">
                    <a:moveTo>
                      <a:pt x="96" y="76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96" y="768"/>
                    </a:lnTo>
                    <a:lnTo>
                      <a:pt x="96" y="768"/>
                    </a:lnTo>
                    <a:lnTo>
                      <a:pt x="96" y="76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244720" y="2112480"/>
                <a:ext cx="183960" cy="1444320"/>
              </a:xfrm>
              <a:custGeom>
                <a:avLst/>
                <a:gdLst/>
                <a:ahLst/>
                <a:rect l="l" t="t" r="r" b="b"/>
                <a:pathLst>
                  <a:path w="98" h="768">
                    <a:moveTo>
                      <a:pt x="95" y="765"/>
                    </a:moveTo>
                    <a:lnTo>
                      <a:pt x="98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98" y="768"/>
                    </a:lnTo>
                    <a:lnTo>
                      <a:pt x="98" y="768"/>
                    </a:lnTo>
                    <a:lnTo>
                      <a:pt x="95" y="76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931400" y="2112480"/>
                <a:ext cx="180360" cy="1444320"/>
              </a:xfrm>
              <a:custGeom>
                <a:avLst/>
                <a:gdLst/>
                <a:ahLst/>
                <a:rect l="l" t="t" r="r" b="b"/>
                <a:pathLst>
                  <a:path w="96" h="768">
                    <a:moveTo>
                      <a:pt x="92" y="765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96" y="768"/>
                    </a:lnTo>
                    <a:lnTo>
                      <a:pt x="96" y="768"/>
                    </a:lnTo>
                    <a:lnTo>
                      <a:pt x="92" y="765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961280" y="4089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064960" y="4089600"/>
                <a:ext cx="3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961280" y="4377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208880" y="3989880"/>
                <a:ext cx="1444320" cy="722520"/>
              </a:xfrm>
              <a:custGeom>
                <a:avLst/>
                <a:gdLst/>
                <a:ahLst/>
                <a:rect l="l" t="t" r="r" b="b"/>
                <a:pathLst>
                  <a:path w="768" h="384">
                    <a:moveTo>
                      <a:pt x="765" y="381"/>
                    </a:moveTo>
                    <a:lnTo>
                      <a:pt x="768" y="0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768" y="384"/>
                    </a:lnTo>
                    <a:lnTo>
                      <a:pt x="768" y="3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V="1">
                <a:off x="2648160" y="3989880"/>
                <a:ext cx="5400" cy="71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46924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29068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104200" y="3984120"/>
                <a:ext cx="756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925640" y="3984120"/>
                <a:ext cx="576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74744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56852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38204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20348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62480" y="4234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8791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9835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208880" y="2112480"/>
                <a:ext cx="1444320" cy="1444320"/>
              </a:xfrm>
              <a:custGeom>
                <a:avLst/>
                <a:gdLst/>
                <a:ahLst/>
                <a:rect l="l" t="t" r="r" b="b"/>
                <a:pathLst>
                  <a:path w="768" h="768">
                    <a:moveTo>
                      <a:pt x="765" y="765"/>
                    </a:moveTo>
                    <a:lnTo>
                      <a:pt x="768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768" y="768"/>
                    </a:lnTo>
                    <a:lnTo>
                      <a:pt x="768" y="76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V="1">
                <a:off x="2648160" y="2112120"/>
                <a:ext cx="5400" cy="143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46924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29068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104200" y="2107080"/>
                <a:ext cx="756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925640" y="2107080"/>
                <a:ext cx="576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74744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56852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38204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20348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60600" y="2720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9812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907200" y="2720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96012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28400" y="18363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56200" y="1836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9508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05960" y="1836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98120" y="1836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895680" y="183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94860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23660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4169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59660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7798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96128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13912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3187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5041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76280" y="4776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0048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0596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15040" y="47761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79120" y="4776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97668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967040" y="4717800"/>
                <a:ext cx="9792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01816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312200" y="14716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5152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492920" y="1471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5552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66608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76292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81584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866600" y="1471680"/>
                <a:ext cx="148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0282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1344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28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35368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4570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394160" y="4089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498560" y="4089600"/>
                <a:ext cx="3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394160" y="4377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186440" y="3989880"/>
                <a:ext cx="1446120" cy="722520"/>
              </a:xfrm>
              <a:custGeom>
                <a:avLst/>
                <a:gdLst/>
                <a:ahLst/>
                <a:rect l="l" t="t" r="r" b="b"/>
                <a:pathLst>
                  <a:path w="769" h="384">
                    <a:moveTo>
                      <a:pt x="765" y="381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769" y="384"/>
                    </a:lnTo>
                    <a:lnTo>
                      <a:pt x="769" y="3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V="1">
                <a:off x="5625000" y="3989880"/>
                <a:ext cx="7560" cy="71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44608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267880" y="3984120"/>
                <a:ext cx="144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089320" y="3984120"/>
                <a:ext cx="144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90284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72428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545360" y="3984120"/>
                <a:ext cx="18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365000" y="3984120"/>
                <a:ext cx="144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180680" y="3984120"/>
                <a:ext cx="540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739680" y="4234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8563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96612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186440" y="2112480"/>
                <a:ext cx="1446120" cy="1444320"/>
              </a:xfrm>
              <a:custGeom>
                <a:avLst/>
                <a:gdLst/>
                <a:ahLst/>
                <a:rect l="l" t="t" r="r" b="b"/>
                <a:pathLst>
                  <a:path w="769" h="768">
                    <a:moveTo>
                      <a:pt x="765" y="765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769" y="768"/>
                    </a:lnTo>
                    <a:lnTo>
                      <a:pt x="769" y="76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5625000" y="2112120"/>
                <a:ext cx="7560" cy="143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44608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67880" y="2107080"/>
                <a:ext cx="144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089320" y="2107080"/>
                <a:ext cx="144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90284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72428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545360" y="2107080"/>
                <a:ext cx="18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365000" y="2107080"/>
                <a:ext cx="144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180680" y="2107080"/>
                <a:ext cx="540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636720" y="2720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77532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884040" y="2720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93696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579480" y="18363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7058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809160" y="183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867480" y="1836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9200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3077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66488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2956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387040" y="1836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452400" y="4776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57912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68316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792960" y="47761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855960" y="4776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95532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406400" y="4717800"/>
                <a:ext cx="9756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45176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261680" y="14716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43887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49208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5004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6011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70592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80420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9028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500724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10552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14548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25528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30676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535284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4453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272080" y="4089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8383680" y="4089600"/>
                <a:ext cx="3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8272080" y="43776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163640" y="3989880"/>
                <a:ext cx="1446120" cy="722520"/>
              </a:xfrm>
              <a:custGeom>
                <a:avLst/>
                <a:gdLst/>
                <a:ahLst/>
                <a:rect l="l" t="t" r="r" b="b"/>
                <a:pathLst>
                  <a:path w="769" h="384">
                    <a:moveTo>
                      <a:pt x="765" y="381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769" y="384"/>
                    </a:lnTo>
                    <a:lnTo>
                      <a:pt x="769" y="3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V="1">
                <a:off x="8602200" y="3989880"/>
                <a:ext cx="7560" cy="71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8423640" y="3984120"/>
                <a:ext cx="54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824472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806616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0040" y="3984120"/>
                <a:ext cx="54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701480" y="3984120"/>
                <a:ext cx="54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522920" y="3984120"/>
                <a:ext cx="144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341840" y="3984120"/>
                <a:ext cx="1800" cy="72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157520" y="3984120"/>
                <a:ext cx="5760" cy="72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716880" y="4234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83424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942600" y="4234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163640" y="2112480"/>
                <a:ext cx="1446120" cy="1444320"/>
              </a:xfrm>
              <a:custGeom>
                <a:avLst/>
                <a:gdLst/>
                <a:ahLst/>
                <a:rect l="l" t="t" r="r" b="b"/>
                <a:pathLst>
                  <a:path w="769" h="768">
                    <a:moveTo>
                      <a:pt x="765" y="765"/>
                    </a:moveTo>
                    <a:lnTo>
                      <a:pt x="769" y="0"/>
                    </a:lnTo>
                    <a:lnTo>
                      <a:pt x="0" y="0"/>
                    </a:lnTo>
                    <a:lnTo>
                      <a:pt x="0" y="768"/>
                    </a:lnTo>
                    <a:lnTo>
                      <a:pt x="769" y="768"/>
                    </a:lnTo>
                    <a:lnTo>
                      <a:pt x="769" y="76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V="1">
                <a:off x="8602200" y="2112120"/>
                <a:ext cx="7560" cy="143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8423640" y="2107080"/>
                <a:ext cx="54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824472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806616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880040" y="2107080"/>
                <a:ext cx="54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701480" y="2107080"/>
                <a:ext cx="54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522920" y="2107080"/>
                <a:ext cx="144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341840" y="2107080"/>
                <a:ext cx="1800" cy="145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157520" y="2107080"/>
                <a:ext cx="5760" cy="145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619680" y="2720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75828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861600" y="2720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914160" y="2720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429600" y="4776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55524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66612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769800" y="47761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834240" y="4776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931080" y="4776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921440" y="4717800"/>
                <a:ext cx="102960" cy="9972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0" y="53"/>
                    </a:moveTo>
                    <a:lnTo>
                      <a:pt x="55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97220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191720" y="14716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31376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41672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46388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50276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60212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65324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76448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85664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95528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805932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815796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819792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307720" y="1471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8359200" y="147168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405280" y="147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497800" y="1471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8105760" y="4717800"/>
                <a:ext cx="9756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5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815256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284320" y="4717800"/>
                <a:ext cx="99360" cy="9972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53"/>
                    </a:lnTo>
                    <a:lnTo>
                      <a:pt x="28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8331480" y="4798440"/>
                <a:ext cx="54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8465040" y="4717800"/>
                <a:ext cx="9756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8515440" y="4798440"/>
                <a:ext cx="18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740720" y="4717800"/>
                <a:ext cx="99720" cy="9972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53"/>
                    </a:lnTo>
                    <a:lnTo>
                      <a:pt x="28" y="0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793640" y="4798440"/>
                <a:ext cx="144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562160" y="4717800"/>
                <a:ext cx="9792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8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609320" y="4798440"/>
                <a:ext cx="54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383240" y="4717800"/>
                <a:ext cx="97920" cy="997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52" y="53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428600" y="4798440"/>
                <a:ext cx="18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98920" y="4717800"/>
                <a:ext cx="103320" cy="9972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0" y="53"/>
                    </a:moveTo>
                    <a:lnTo>
                      <a:pt x="55" y="53"/>
                    </a:lnTo>
                    <a:lnTo>
                      <a:pt x="27" y="0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249680" y="4798440"/>
                <a:ext cx="1800" cy="27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9" name=""/>
            <p:cNvSpPr/>
            <p:nvPr/>
          </p:nvSpPr>
          <p:spPr>
            <a:xfrm>
              <a:off x="4220280" y="4718160"/>
              <a:ext cx="99720" cy="9936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53"/>
                  </a:moveTo>
                  <a:lnTo>
                    <a:pt x="53" y="53"/>
                  </a:lnTo>
                  <a:lnTo>
                    <a:pt x="28" y="0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273200" y="4798800"/>
              <a:ext cx="144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225360" y="312840"/>
            <a:ext cx="294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reasing miss ratio with associa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1490760" y="1050840"/>
            <a:ext cx="6148440" cy="4968720"/>
            <a:chOff x="1490760" y="1050840"/>
            <a:chExt cx="6148440" cy="4968720"/>
          </a:xfrm>
        </p:grpSpPr>
        <p:grpSp>
          <p:nvGrpSpPr>
            <p:cNvPr id="1654" name=""/>
            <p:cNvGrpSpPr/>
            <p:nvPr/>
          </p:nvGrpSpPr>
          <p:grpSpPr>
            <a:xfrm>
              <a:off x="1490760" y="1491840"/>
              <a:ext cx="6148440" cy="4527720"/>
              <a:chOff x="1490760" y="1491840"/>
              <a:chExt cx="6148440" cy="4527720"/>
            </a:xfrm>
          </p:grpSpPr>
          <p:sp>
            <p:nvSpPr>
              <p:cNvPr id="1655" name=""/>
              <p:cNvSpPr/>
              <p:nvPr/>
            </p:nvSpPr>
            <p:spPr>
              <a:xfrm>
                <a:off x="1490760" y="5778360"/>
                <a:ext cx="6148440" cy="241200"/>
              </a:xfrm>
              <a:custGeom>
                <a:avLst/>
                <a:gdLst/>
                <a:ahLst/>
                <a:rect l="l" t="t" r="r" b="b"/>
                <a:pathLst>
                  <a:path w="3873" h="152">
                    <a:moveTo>
                      <a:pt x="3873" y="152"/>
                    </a:moveTo>
                    <a:lnTo>
                      <a:pt x="3873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3873" y="152"/>
                    </a:lnTo>
                    <a:lnTo>
                      <a:pt x="3873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251840" y="5773320"/>
                <a:ext cx="28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867360" y="5773320"/>
                <a:ext cx="50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483240" y="5773320"/>
                <a:ext cx="50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099120" y="5773320"/>
                <a:ext cx="46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715000" y="5773320"/>
                <a:ext cx="46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330880" y="5773320"/>
                <a:ext cx="468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94676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56264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17816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79404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41136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02724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643120" y="5773320"/>
                <a:ext cx="180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25900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874880" y="5773320"/>
                <a:ext cx="1440" cy="246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56816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6585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7362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91772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0203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09772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1409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33640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4267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5045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68596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7885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87100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9091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10788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1950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2727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45456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5571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63924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6777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87612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39618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0442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22280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3254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40604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44600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64472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7300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8128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98960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0936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17428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2142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41296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4986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5810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75784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8604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94288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9828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618120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2668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3493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53112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6337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71112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74964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948000" y="553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0401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11612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7299360" y="5532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40196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479360" y="55321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517880" y="5532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211560" y="52653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30660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33648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41892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49632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539520" y="5265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592440" y="52653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6950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7774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85056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88872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95856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03920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07916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11732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19976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27284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34268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4236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49856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5284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0440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4940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6792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75236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82976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872960" y="5265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92048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9586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03676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07168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510156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17428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21424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29524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36508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43816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1592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58936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62392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701320" y="52653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740200" y="526536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774760" y="5265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5844600" y="5265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5925600" y="5265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20920" y="4484520"/>
                <a:ext cx="3071880" cy="241200"/>
              </a:xfrm>
              <a:custGeom>
                <a:avLst/>
                <a:gdLst/>
                <a:ahLst/>
                <a:rect l="l" t="t" r="r" b="b"/>
                <a:pathLst>
                  <a:path w="1935" h="152">
                    <a:moveTo>
                      <a:pt x="1935" y="152"/>
                    </a:moveTo>
                    <a:lnTo>
                      <a:pt x="1935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1935" y="152"/>
                    </a:lnTo>
                    <a:lnTo>
                      <a:pt x="1935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90868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552456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5141880" y="4479840"/>
                <a:ext cx="180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75776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37364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989520" y="4479840"/>
                <a:ext cx="144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605040" y="4479840"/>
                <a:ext cx="1800" cy="2458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9832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3886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64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64824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7508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82824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8714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06980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1569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23504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41648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5190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60116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6396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83840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9255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0065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18472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2873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36976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4079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606640" y="423828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6923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577476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952960" y="4238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05556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13656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17652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3220920" y="4725720"/>
                <a:ext cx="3071880" cy="241200"/>
              </a:xfrm>
              <a:custGeom>
                <a:avLst/>
                <a:gdLst/>
                <a:ahLst/>
                <a:rect l="l" t="t" r="r" b="b"/>
                <a:pathLst>
                  <a:path w="1935" h="152">
                    <a:moveTo>
                      <a:pt x="1935" y="152"/>
                    </a:moveTo>
                    <a:lnTo>
                      <a:pt x="1935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1935" y="152"/>
                    </a:lnTo>
                    <a:lnTo>
                      <a:pt x="1935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90868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52456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141880" y="4725720"/>
                <a:ext cx="180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5776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37364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989520" y="4725720"/>
                <a:ext cx="144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605040" y="4725720"/>
                <a:ext cx="1800" cy="2412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793680" y="39715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88548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9618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044240" y="39715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091760" y="397152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145040" y="3971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25232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32828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40280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44096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5144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59180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63140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6746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75236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82544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89852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97592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5049720" y="397152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507960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5161680" y="397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5202000" y="3971520"/>
                <a:ext cx="40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5231520" y="3971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5304960" y="39715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832120" y="42382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931480" y="4238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009240" y="42382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2896560" y="45147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896560" y="4760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220920" y="1731600"/>
                <a:ext cx="768600" cy="243000"/>
              </a:xfrm>
              <a:custGeom>
                <a:avLst/>
                <a:gdLst/>
                <a:ahLst/>
                <a:rect l="l" t="t" r="r" b="b"/>
                <a:pathLst>
                  <a:path w="484" h="153">
                    <a:moveTo>
                      <a:pt x="484" y="153"/>
                    </a:moveTo>
                    <a:lnTo>
                      <a:pt x="484" y="0"/>
                    </a:lnTo>
                    <a:lnTo>
                      <a:pt x="0" y="0"/>
                    </a:lnTo>
                    <a:lnTo>
                      <a:pt x="0" y="153"/>
                    </a:lnTo>
                    <a:lnTo>
                      <a:pt x="484" y="153"/>
                    </a:lnTo>
                    <a:lnTo>
                      <a:pt x="484" y="1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605040" y="1731600"/>
                <a:ext cx="1800" cy="243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298320" y="14918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38868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46644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648240" y="14918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75084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828240" y="14918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871440" y="1491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220920" y="3431880"/>
                <a:ext cx="768600" cy="241200"/>
              </a:xfrm>
              <a:custGeom>
                <a:avLst/>
                <a:gdLst/>
                <a:ahLst/>
                <a:rect l="l" t="t" r="r" b="b"/>
                <a:pathLst>
                  <a:path w="484" h="152">
                    <a:moveTo>
                      <a:pt x="484" y="152"/>
                    </a:moveTo>
                    <a:lnTo>
                      <a:pt x="484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484" y="152"/>
                    </a:lnTo>
                    <a:lnTo>
                      <a:pt x="484" y="152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5" name=""/>
            <p:cNvSpPr/>
            <p:nvPr/>
          </p:nvSpPr>
          <p:spPr>
            <a:xfrm>
              <a:off x="3605040" y="343188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650680" y="10508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76336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84436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921760" y="1050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979720" y="1050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08232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16476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23280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27600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34584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42648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46644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50460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58704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5544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72996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81096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881160" y="1050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91572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991680" y="1050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036680" y="1050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066560" y="1050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139640" y="105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218120" y="105084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918880" y="121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96640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43080" y="12189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77640" y="121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1251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202920" y="1218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275640" y="121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315600" y="121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354120" y="12189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4743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5571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63492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71736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793680" y="121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876120" y="121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766960" y="14918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866680" y="1491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896560" y="149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74320" y="1491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047400" y="1491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896560" y="1766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896560" y="3466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220920" y="1974600"/>
              <a:ext cx="768600" cy="244440"/>
            </a:xfrm>
            <a:custGeom>
              <a:avLst/>
              <a:gdLst/>
              <a:ahLst/>
              <a:rect l="l" t="t" r="r" b="b"/>
              <a:pathLst>
                <a:path w="484" h="154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4"/>
                  </a:lnTo>
                  <a:lnTo>
                    <a:pt x="484" y="154"/>
                  </a:lnTo>
                  <a:lnTo>
                    <a:pt x="484" y="154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605040" y="1974600"/>
              <a:ext cx="1800" cy="244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96560" y="2009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220920" y="2219040"/>
              <a:ext cx="768600" cy="243000"/>
            </a:xfrm>
            <a:custGeom>
              <a:avLst/>
              <a:gdLst/>
              <a:ahLst/>
              <a:rect l="l" t="t" r="r" b="b"/>
              <a:pathLst>
                <a:path w="484" h="153">
                  <a:moveTo>
                    <a:pt x="484" y="153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484" y="153"/>
                  </a:lnTo>
                  <a:lnTo>
                    <a:pt x="484" y="15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605040" y="221580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896560" y="22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220920" y="2462040"/>
              <a:ext cx="768600" cy="241200"/>
            </a:xfrm>
            <a:custGeom>
              <a:avLst/>
              <a:gdLst/>
              <a:ahLst/>
              <a:rect l="l" t="t" r="r" b="b"/>
              <a:pathLst>
                <a:path w="484" h="152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4" y="152"/>
                  </a:lnTo>
                  <a:lnTo>
                    <a:pt x="484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605040" y="246204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896560" y="2496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20920" y="2703240"/>
              <a:ext cx="768600" cy="241200"/>
            </a:xfrm>
            <a:custGeom>
              <a:avLst/>
              <a:gdLst/>
              <a:ahLst/>
              <a:rect l="l" t="t" r="r" b="b"/>
              <a:pathLst>
                <a:path w="484" h="152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4" y="152"/>
                  </a:lnTo>
                  <a:lnTo>
                    <a:pt x="484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605040" y="270324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896560" y="2738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220920" y="2944440"/>
              <a:ext cx="768600" cy="246240"/>
            </a:xfrm>
            <a:custGeom>
              <a:avLst/>
              <a:gdLst/>
              <a:ahLst/>
              <a:rect l="l" t="t" r="r" b="b"/>
              <a:pathLst>
                <a:path w="484" h="155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5"/>
                  </a:lnTo>
                  <a:lnTo>
                    <a:pt x="484" y="155"/>
                  </a:lnTo>
                  <a:lnTo>
                    <a:pt x="484" y="15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605040" y="294444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896560" y="297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220920" y="3190680"/>
              <a:ext cx="768600" cy="241200"/>
            </a:xfrm>
            <a:custGeom>
              <a:avLst/>
              <a:gdLst/>
              <a:ahLst/>
              <a:rect l="l" t="t" r="r" b="b"/>
              <a:pathLst>
                <a:path w="484" h="152">
                  <a:moveTo>
                    <a:pt x="484" y="152"/>
                  </a:moveTo>
                  <a:lnTo>
                    <a:pt x="484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4" y="152"/>
                  </a:lnTo>
                  <a:lnTo>
                    <a:pt x="484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05040" y="3186000"/>
              <a:ext cx="1800" cy="245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896560" y="3220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925880" y="2404800"/>
              <a:ext cx="766800" cy="246240"/>
            </a:xfrm>
            <a:custGeom>
              <a:avLst/>
              <a:gdLst/>
              <a:ahLst/>
              <a:rect l="l" t="t" r="r" b="b"/>
              <a:pathLst>
                <a:path w="483" h="155">
                  <a:moveTo>
                    <a:pt x="483" y="152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5"/>
                  </a:lnTo>
                  <a:lnTo>
                    <a:pt x="483" y="155"/>
                  </a:lnTo>
                  <a:lnTo>
                    <a:pt x="483" y="15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310360" y="2404800"/>
              <a:ext cx="144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006520" y="2163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0936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1746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353200" y="2163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45580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37880" y="2163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57640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743000" y="1896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835520" y="1896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93812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15880" y="1896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072040" y="1896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17464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25708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32512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36976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43816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52060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55876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59836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67936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74920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82228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90472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73480" y="1896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00804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085800" y="1896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129000" y="18968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158880" y="1896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231960" y="189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541760" y="2163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63500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712400" y="2163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601520" y="243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925880" y="2651040"/>
              <a:ext cx="766800" cy="241200"/>
            </a:xfrm>
            <a:custGeom>
              <a:avLst/>
              <a:gdLst/>
              <a:ahLst/>
              <a:rect l="l" t="t" r="r" b="b"/>
              <a:pathLst>
                <a:path w="483" h="152">
                  <a:moveTo>
                    <a:pt x="483" y="152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3" y="152"/>
                  </a:lnTo>
                  <a:lnTo>
                    <a:pt x="483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310360" y="2646000"/>
              <a:ext cx="144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601520" y="2680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925880" y="2892240"/>
              <a:ext cx="766800" cy="241200"/>
            </a:xfrm>
            <a:custGeom>
              <a:avLst/>
              <a:gdLst/>
              <a:ahLst/>
              <a:rect l="l" t="t" r="r" b="b"/>
              <a:pathLst>
                <a:path w="483" h="152">
                  <a:moveTo>
                    <a:pt x="483" y="152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3" y="152"/>
                  </a:lnTo>
                  <a:lnTo>
                    <a:pt x="483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310360" y="2892240"/>
              <a:ext cx="144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601520" y="2927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925880" y="3133440"/>
              <a:ext cx="766800" cy="243000"/>
            </a:xfrm>
            <a:custGeom>
              <a:avLst/>
              <a:gdLst/>
              <a:ahLst/>
              <a:rect l="l" t="t" r="r" b="b"/>
              <a:pathLst>
                <a:path w="483" h="153">
                  <a:moveTo>
                    <a:pt x="483" y="153"/>
                  </a:moveTo>
                  <a:lnTo>
                    <a:pt x="483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483" y="153"/>
                  </a:lnTo>
                  <a:lnTo>
                    <a:pt x="483" y="15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310360" y="3133440"/>
              <a:ext cx="1440" cy="243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601520" y="3168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692680" y="2404800"/>
              <a:ext cx="773280" cy="246240"/>
            </a:xfrm>
            <a:custGeom>
              <a:avLst/>
              <a:gdLst/>
              <a:ahLst/>
              <a:rect l="l" t="t" r="r" b="b"/>
              <a:pathLst>
                <a:path w="487" h="155">
                  <a:moveTo>
                    <a:pt x="484" y="152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5"/>
                  </a:lnTo>
                  <a:lnTo>
                    <a:pt x="487" y="155"/>
                  </a:lnTo>
                  <a:lnTo>
                    <a:pt x="487" y="15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076800" y="240480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774760" y="2163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8604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94288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121440" y="2163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2240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304680" y="2163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344640" y="2163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692680" y="2651040"/>
              <a:ext cx="773280" cy="241200"/>
            </a:xfrm>
            <a:custGeom>
              <a:avLst/>
              <a:gdLst/>
              <a:ahLst/>
              <a:rect l="l" t="t" r="r" b="b"/>
              <a:pathLst>
                <a:path w="487" h="152">
                  <a:moveTo>
                    <a:pt x="484" y="152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7" y="152"/>
                  </a:lnTo>
                  <a:lnTo>
                    <a:pt x="487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076800" y="2646000"/>
              <a:ext cx="1800" cy="24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692680" y="2892240"/>
              <a:ext cx="773280" cy="241200"/>
            </a:xfrm>
            <a:custGeom>
              <a:avLst/>
              <a:gdLst/>
              <a:ahLst/>
              <a:rect l="l" t="t" r="r" b="b"/>
              <a:pathLst>
                <a:path w="487" h="152">
                  <a:moveTo>
                    <a:pt x="484" y="152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2"/>
                  </a:lnTo>
                  <a:lnTo>
                    <a:pt x="487" y="152"/>
                  </a:lnTo>
                  <a:lnTo>
                    <a:pt x="487" y="15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076800" y="2892240"/>
              <a:ext cx="1800" cy="241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692680" y="3133440"/>
              <a:ext cx="773280" cy="243000"/>
            </a:xfrm>
            <a:custGeom>
              <a:avLst/>
              <a:gdLst/>
              <a:ahLst/>
              <a:rect l="l" t="t" r="r" b="b"/>
              <a:pathLst>
                <a:path w="487" h="153">
                  <a:moveTo>
                    <a:pt x="484" y="153"/>
                  </a:moveTo>
                  <a:lnTo>
                    <a:pt x="487" y="0"/>
                  </a:lnTo>
                  <a:lnTo>
                    <a:pt x="0" y="0"/>
                  </a:lnTo>
                  <a:lnTo>
                    <a:pt x="0" y="153"/>
                  </a:lnTo>
                  <a:lnTo>
                    <a:pt x="487" y="153"/>
                  </a:lnTo>
                  <a:lnTo>
                    <a:pt x="487" y="15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076800" y="3133440"/>
              <a:ext cx="1800" cy="243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1" name=""/>
          <p:cNvGrpSpPr/>
          <p:nvPr/>
        </p:nvGrpSpPr>
        <p:grpSpPr>
          <a:xfrm>
            <a:off x="1279440" y="934920"/>
            <a:ext cx="6568200" cy="5679360"/>
            <a:chOff x="1279440" y="934920"/>
            <a:chExt cx="6568200" cy="5679360"/>
          </a:xfrm>
        </p:grpSpPr>
        <p:grpSp>
          <p:nvGrpSpPr>
            <p:cNvPr id="1982" name=""/>
            <p:cNvGrpSpPr/>
            <p:nvPr/>
          </p:nvGrpSpPr>
          <p:grpSpPr>
            <a:xfrm>
              <a:off x="1279440" y="934920"/>
              <a:ext cx="6568200" cy="5469840"/>
              <a:chOff x="1279440" y="934920"/>
              <a:chExt cx="6568200" cy="5469840"/>
            </a:xfrm>
          </p:grpSpPr>
          <p:sp>
            <p:nvSpPr>
              <p:cNvPr id="1983" name=""/>
              <p:cNvSpPr/>
              <p:nvPr/>
            </p:nvSpPr>
            <p:spPr>
              <a:xfrm flipV="1">
                <a:off x="5014800" y="1355400"/>
                <a:ext cx="2160" cy="20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4278960" y="1352160"/>
                <a:ext cx="2160" cy="21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040920" y="1347480"/>
                <a:ext cx="2228040" cy="222120"/>
              </a:xfrm>
              <a:custGeom>
                <a:avLst/>
                <a:gdLst/>
                <a:ahLst/>
                <a:rect l="l" t="t" r="r" b="b"/>
                <a:pathLst>
                  <a:path w="1042" h="104">
                    <a:moveTo>
                      <a:pt x="0" y="102"/>
                    </a:moveTo>
                    <a:lnTo>
                      <a:pt x="2" y="0"/>
                    </a:lnTo>
                    <a:lnTo>
                      <a:pt x="1042" y="0"/>
                    </a:lnTo>
                    <a:lnTo>
                      <a:pt x="1042" y="104"/>
                    </a:lnTo>
                    <a:lnTo>
                      <a:pt x="2" y="104"/>
                    </a:lnTo>
                    <a:lnTo>
                      <a:pt x="2" y="10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899160" y="9349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989160" y="93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068000" y="93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142160" y="934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191480" y="93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266360" y="934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334760" y="934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544840" y="420156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0" y="0"/>
                    </a:lnTo>
                    <a:lnTo>
                      <a:pt x="15" y="2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577680" y="1721880"/>
                <a:ext cx="16452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697920" y="1614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778560" y="1614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4574160" y="1717920"/>
                <a:ext cx="16236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4716000" y="1610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200680" y="253728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8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23560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48724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5704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64636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200680" y="272556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2200680" y="291384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2200680" y="310212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  <a:lnTo>
                      <a:pt x="558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200680" y="310212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6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2200680" y="329040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7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200680" y="3478680"/>
                <a:ext cx="1193400" cy="186120"/>
              </a:xfrm>
              <a:custGeom>
                <a:avLst/>
                <a:gdLst/>
                <a:ahLst/>
                <a:rect l="l" t="t" r="r" b="b"/>
                <a:pathLst>
                  <a:path w="558" h="87">
                    <a:moveTo>
                      <a:pt x="558" y="87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58" y="87"/>
                    </a:lnTo>
                    <a:lnTo>
                      <a:pt x="558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200680" y="3664800"/>
                <a:ext cx="1193400" cy="187920"/>
              </a:xfrm>
              <a:custGeom>
                <a:avLst/>
                <a:gdLst/>
                <a:ahLst/>
                <a:rect l="l" t="t" r="r" b="b"/>
                <a:pathLst>
                  <a:path w="558" h="88">
                    <a:moveTo>
                      <a:pt x="558" y="88"/>
                    </a:moveTo>
                    <a:lnTo>
                      <a:pt x="558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8" y="88"/>
                    </a:lnTo>
                    <a:lnTo>
                      <a:pt x="558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25396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54484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67652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161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910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8691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941840" y="2344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94240" y="2545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94240" y="27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94240" y="292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11800" y="3300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88120" y="3300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863720" y="3300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1800" y="3489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88120" y="3489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863720" y="3489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11800" y="367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88120" y="367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863720" y="367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093760" y="3164040"/>
                <a:ext cx="65880" cy="658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0"/>
                    </a:moveTo>
                    <a:lnTo>
                      <a:pt x="2" y="31"/>
                    </a:lnTo>
                    <a:lnTo>
                      <a:pt x="31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546560" y="1569960"/>
                <a:ext cx="3112920" cy="1626120"/>
              </a:xfrm>
              <a:custGeom>
                <a:avLst/>
                <a:gdLst/>
                <a:ahLst/>
                <a:rect l="l" t="t" r="r" b="b"/>
                <a:pathLst>
                  <a:path w="1456" h="760">
                    <a:moveTo>
                      <a:pt x="1454" y="0"/>
                    </a:moveTo>
                    <a:lnTo>
                      <a:pt x="1456" y="291"/>
                    </a:lnTo>
                    <a:lnTo>
                      <a:pt x="0" y="291"/>
                    </a:lnTo>
                    <a:lnTo>
                      <a:pt x="0" y="760"/>
                    </a:lnTo>
                    <a:lnTo>
                      <a:pt x="266" y="76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237040" y="4791960"/>
                <a:ext cx="250200" cy="293400"/>
              </a:xfrm>
              <a:custGeom>
                <a:avLst/>
                <a:gdLst/>
                <a:ahLst/>
                <a:rect l="l" t="t" r="r" b="b"/>
                <a:pathLst>
                  <a:path w="117" h="137">
                    <a:moveTo>
                      <a:pt x="0" y="82"/>
                    </a:moveTo>
                    <a:lnTo>
                      <a:pt x="2" y="92"/>
                    </a:lnTo>
                    <a:lnTo>
                      <a:pt x="4" y="99"/>
                    </a:lnTo>
                    <a:lnTo>
                      <a:pt x="8" y="107"/>
                    </a:lnTo>
                    <a:lnTo>
                      <a:pt x="12" y="114"/>
                    </a:lnTo>
                    <a:lnTo>
                      <a:pt x="18" y="122"/>
                    </a:lnTo>
                    <a:lnTo>
                      <a:pt x="25" y="128"/>
                    </a:lnTo>
                    <a:lnTo>
                      <a:pt x="33" y="132"/>
                    </a:lnTo>
                    <a:lnTo>
                      <a:pt x="41" y="136"/>
                    </a:lnTo>
                    <a:lnTo>
                      <a:pt x="50" y="137"/>
                    </a:lnTo>
                    <a:lnTo>
                      <a:pt x="58" y="137"/>
                    </a:lnTo>
                    <a:lnTo>
                      <a:pt x="67" y="137"/>
                    </a:lnTo>
                    <a:lnTo>
                      <a:pt x="77" y="136"/>
                    </a:lnTo>
                    <a:lnTo>
                      <a:pt x="85" y="132"/>
                    </a:lnTo>
                    <a:lnTo>
                      <a:pt x="92" y="128"/>
                    </a:lnTo>
                    <a:lnTo>
                      <a:pt x="100" y="122"/>
                    </a:lnTo>
                    <a:lnTo>
                      <a:pt x="106" y="114"/>
                    </a:lnTo>
                    <a:lnTo>
                      <a:pt x="110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7" y="82"/>
                    </a:lnTo>
                    <a:lnTo>
                      <a:pt x="117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33960" y="4274280"/>
                <a:ext cx="284040" cy="282240"/>
              </a:xfrm>
              <a:custGeom>
                <a:avLst/>
                <a:gdLst/>
                <a:ahLst/>
                <a:rect l="l" t="t" r="r" b="b"/>
                <a:pathLst>
                  <a:path w="133" h="132">
                    <a:moveTo>
                      <a:pt x="65" y="130"/>
                    </a:moveTo>
                    <a:lnTo>
                      <a:pt x="77" y="130"/>
                    </a:lnTo>
                    <a:lnTo>
                      <a:pt x="88" y="129"/>
                    </a:lnTo>
                    <a:lnTo>
                      <a:pt x="98" y="125"/>
                    </a:lnTo>
                    <a:lnTo>
                      <a:pt x="106" y="119"/>
                    </a:lnTo>
                    <a:lnTo>
                      <a:pt x="113" y="111"/>
                    </a:lnTo>
                    <a:lnTo>
                      <a:pt x="121" y="104"/>
                    </a:lnTo>
                    <a:lnTo>
                      <a:pt x="125" y="96"/>
                    </a:lnTo>
                    <a:lnTo>
                      <a:pt x="129" y="86"/>
                    </a:lnTo>
                    <a:lnTo>
                      <a:pt x="133" y="77"/>
                    </a:lnTo>
                    <a:lnTo>
                      <a:pt x="133" y="65"/>
                    </a:lnTo>
                    <a:lnTo>
                      <a:pt x="133" y="56"/>
                    </a:lnTo>
                    <a:lnTo>
                      <a:pt x="129" y="44"/>
                    </a:lnTo>
                    <a:lnTo>
                      <a:pt x="125" y="35"/>
                    </a:lnTo>
                    <a:lnTo>
                      <a:pt x="121" y="27"/>
                    </a:lnTo>
                    <a:lnTo>
                      <a:pt x="113" y="19"/>
                    </a:lnTo>
                    <a:lnTo>
                      <a:pt x="106" y="12"/>
                    </a:lnTo>
                    <a:lnTo>
                      <a:pt x="98" y="8"/>
                    </a:lnTo>
                    <a:lnTo>
                      <a:pt x="88" y="2"/>
                    </a:lnTo>
                    <a:lnTo>
                      <a:pt x="77" y="0"/>
                    </a:lnTo>
                    <a:lnTo>
                      <a:pt x="67" y="0"/>
                    </a:lnTo>
                    <a:lnTo>
                      <a:pt x="56" y="0"/>
                    </a:lnTo>
                    <a:lnTo>
                      <a:pt x="46" y="2"/>
                    </a:lnTo>
                    <a:lnTo>
                      <a:pt x="37" y="8"/>
                    </a:lnTo>
                    <a:lnTo>
                      <a:pt x="27" y="12"/>
                    </a:lnTo>
                    <a:lnTo>
                      <a:pt x="20" y="19"/>
                    </a:lnTo>
                    <a:lnTo>
                      <a:pt x="14" y="27"/>
                    </a:lnTo>
                    <a:lnTo>
                      <a:pt x="8" y="35"/>
                    </a:lnTo>
                    <a:lnTo>
                      <a:pt x="4" y="44"/>
                    </a:lnTo>
                    <a:lnTo>
                      <a:pt x="2" y="56"/>
                    </a:lnTo>
                    <a:lnTo>
                      <a:pt x="0" y="65"/>
                    </a:lnTo>
                    <a:lnTo>
                      <a:pt x="2" y="77"/>
                    </a:lnTo>
                    <a:lnTo>
                      <a:pt x="4" y="86"/>
                    </a:lnTo>
                    <a:lnTo>
                      <a:pt x="8" y="96"/>
                    </a:lnTo>
                    <a:lnTo>
                      <a:pt x="14" y="104"/>
                    </a:lnTo>
                    <a:lnTo>
                      <a:pt x="20" y="111"/>
                    </a:lnTo>
                    <a:lnTo>
                      <a:pt x="27" y="119"/>
                    </a:lnTo>
                    <a:lnTo>
                      <a:pt x="37" y="125"/>
                    </a:lnTo>
                    <a:lnTo>
                      <a:pt x="46" y="129"/>
                    </a:lnTo>
                    <a:lnTo>
                      <a:pt x="56" y="130"/>
                    </a:lnTo>
                    <a:lnTo>
                      <a:pt x="67" y="132"/>
                    </a:lnTo>
                    <a:lnTo>
                      <a:pt x="67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572920" y="3191760"/>
                <a:ext cx="360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32240" y="4394160"/>
                <a:ext cx="87480" cy="4068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0" y="0"/>
                    </a:moveTo>
                    <a:lnTo>
                      <a:pt x="41" y="0"/>
                    </a:lnTo>
                    <a:lnTo>
                      <a:pt x="41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  <a:moveTo>
                      <a:pt x="2" y="15"/>
                    </a:moveTo>
                    <a:lnTo>
                      <a:pt x="41" y="15"/>
                    </a:lnTo>
                    <a:lnTo>
                      <a:pt x="41" y="19"/>
                    </a:lnTo>
                    <a:lnTo>
                      <a:pt x="2" y="19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282040" y="3191760"/>
                <a:ext cx="180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365560" y="4381560"/>
                <a:ext cx="61920" cy="6588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0" y="0"/>
                    </a:moveTo>
                    <a:lnTo>
                      <a:pt x="0" y="31"/>
                    </a:lnTo>
                    <a:lnTo>
                      <a:pt x="2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311120" y="1574280"/>
                <a:ext cx="2347920" cy="2838960"/>
              </a:xfrm>
              <a:custGeom>
                <a:avLst/>
                <a:gdLst/>
                <a:ahLst/>
                <a:rect l="l" t="t" r="r" b="b"/>
                <a:pathLst>
                  <a:path w="1098" h="1327">
                    <a:moveTo>
                      <a:pt x="1096" y="0"/>
                    </a:moveTo>
                    <a:lnTo>
                      <a:pt x="1098" y="182"/>
                    </a:lnTo>
                    <a:lnTo>
                      <a:pt x="0" y="180"/>
                    </a:lnTo>
                    <a:lnTo>
                      <a:pt x="0" y="1327"/>
                    </a:lnTo>
                    <a:lnTo>
                      <a:pt x="504" y="132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86400" y="2537280"/>
                <a:ext cx="216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7604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9736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04920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0844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054240" y="3164040"/>
                <a:ext cx="59400" cy="619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6" y="8"/>
                    </a:lnTo>
                    <a:lnTo>
                      <a:pt x="26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087080" y="4201560"/>
                <a:ext cx="59400" cy="601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0"/>
                    </a:moveTo>
                    <a:lnTo>
                      <a:pt x="0" y="0"/>
                    </a:lnTo>
                    <a:lnTo>
                      <a:pt x="13" y="28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738240" y="253728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8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77856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02912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41086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1860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738240" y="272556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738240" y="291384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738240" y="310212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  <a:lnTo>
                      <a:pt x="557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738240" y="310212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6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738240" y="329040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7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738240" y="3478680"/>
                <a:ext cx="1195200" cy="186120"/>
              </a:xfrm>
              <a:custGeom>
                <a:avLst/>
                <a:gdLst/>
                <a:ahLst/>
                <a:rect l="l" t="t" r="r" b="b"/>
                <a:pathLst>
                  <a:path w="559" h="87">
                    <a:moveTo>
                      <a:pt x="557" y="87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59" y="87"/>
                    </a:lnTo>
                    <a:lnTo>
                      <a:pt x="559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738240" y="3664800"/>
                <a:ext cx="1195200" cy="187920"/>
              </a:xfrm>
              <a:custGeom>
                <a:avLst/>
                <a:gdLst/>
                <a:ahLst/>
                <a:rect l="l" t="t" r="r" b="b"/>
                <a:pathLst>
                  <a:path w="559" h="88">
                    <a:moveTo>
                      <a:pt x="557" y="88"/>
                    </a:moveTo>
                    <a:lnTo>
                      <a:pt x="55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9" y="88"/>
                    </a:lnTo>
                    <a:lnTo>
                      <a:pt x="559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791520" y="3164040"/>
                <a:ext cx="60120" cy="619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4" y="25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6" y="8"/>
                    </a:lnTo>
                    <a:lnTo>
                      <a:pt x="26" y="6"/>
                    </a:lnTo>
                    <a:lnTo>
                      <a:pt x="24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082760" y="3164040"/>
                <a:ext cx="63720" cy="61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lnTo>
                      <a:pt x="17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7"/>
                    </a:lnTo>
                    <a:lnTo>
                      <a:pt x="26" y="25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778920" y="4791960"/>
                <a:ext cx="245520" cy="293400"/>
              </a:xfrm>
              <a:custGeom>
                <a:avLst/>
                <a:gdLst/>
                <a:ahLst/>
                <a:rect l="l" t="t" r="r" b="b"/>
                <a:pathLst>
                  <a:path w="115" h="137">
                    <a:moveTo>
                      <a:pt x="0" y="82"/>
                    </a:moveTo>
                    <a:lnTo>
                      <a:pt x="2" y="92"/>
                    </a:lnTo>
                    <a:lnTo>
                      <a:pt x="4" y="99"/>
                    </a:lnTo>
                    <a:lnTo>
                      <a:pt x="7" y="107"/>
                    </a:lnTo>
                    <a:lnTo>
                      <a:pt x="11" y="114"/>
                    </a:lnTo>
                    <a:lnTo>
                      <a:pt x="17" y="122"/>
                    </a:lnTo>
                    <a:lnTo>
                      <a:pt x="23" y="128"/>
                    </a:lnTo>
                    <a:lnTo>
                      <a:pt x="30" y="132"/>
                    </a:lnTo>
                    <a:lnTo>
                      <a:pt x="40" y="136"/>
                    </a:lnTo>
                    <a:lnTo>
                      <a:pt x="48" y="137"/>
                    </a:lnTo>
                    <a:lnTo>
                      <a:pt x="57" y="137"/>
                    </a:lnTo>
                    <a:lnTo>
                      <a:pt x="67" y="137"/>
                    </a:lnTo>
                    <a:lnTo>
                      <a:pt x="76" y="136"/>
                    </a:lnTo>
                    <a:lnTo>
                      <a:pt x="84" y="132"/>
                    </a:lnTo>
                    <a:lnTo>
                      <a:pt x="92" y="128"/>
                    </a:lnTo>
                    <a:lnTo>
                      <a:pt x="98" y="122"/>
                    </a:lnTo>
                    <a:lnTo>
                      <a:pt x="103" y="114"/>
                    </a:lnTo>
                    <a:lnTo>
                      <a:pt x="109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5" y="82"/>
                    </a:lnTo>
                    <a:lnTo>
                      <a:pt x="115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3975480" y="4274280"/>
                <a:ext cx="281880" cy="282240"/>
              </a:xfrm>
              <a:custGeom>
                <a:avLst/>
                <a:gdLst/>
                <a:ahLst/>
                <a:rect l="l" t="t" r="r" b="b"/>
                <a:pathLst>
                  <a:path w="132" h="132">
                    <a:moveTo>
                      <a:pt x="65" y="130"/>
                    </a:moveTo>
                    <a:lnTo>
                      <a:pt x="76" y="130"/>
                    </a:lnTo>
                    <a:lnTo>
                      <a:pt x="86" y="129"/>
                    </a:lnTo>
                    <a:lnTo>
                      <a:pt x="96" y="125"/>
                    </a:lnTo>
                    <a:lnTo>
                      <a:pt x="105" y="119"/>
                    </a:lnTo>
                    <a:lnTo>
                      <a:pt x="113" y="111"/>
                    </a:lnTo>
                    <a:lnTo>
                      <a:pt x="119" y="104"/>
                    </a:lnTo>
                    <a:lnTo>
                      <a:pt x="124" y="96"/>
                    </a:lnTo>
                    <a:lnTo>
                      <a:pt x="128" y="86"/>
                    </a:lnTo>
                    <a:lnTo>
                      <a:pt x="130" y="77"/>
                    </a:lnTo>
                    <a:lnTo>
                      <a:pt x="132" y="65"/>
                    </a:lnTo>
                    <a:lnTo>
                      <a:pt x="130" y="56"/>
                    </a:lnTo>
                    <a:lnTo>
                      <a:pt x="128" y="44"/>
                    </a:lnTo>
                    <a:lnTo>
                      <a:pt x="124" y="35"/>
                    </a:lnTo>
                    <a:lnTo>
                      <a:pt x="119" y="27"/>
                    </a:lnTo>
                    <a:lnTo>
                      <a:pt x="113" y="19"/>
                    </a:lnTo>
                    <a:lnTo>
                      <a:pt x="105" y="12"/>
                    </a:lnTo>
                    <a:lnTo>
                      <a:pt x="96" y="8"/>
                    </a:lnTo>
                    <a:lnTo>
                      <a:pt x="86" y="2"/>
                    </a:lnTo>
                    <a:lnTo>
                      <a:pt x="76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6" y="8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3" y="27"/>
                    </a:lnTo>
                    <a:lnTo>
                      <a:pt x="7" y="35"/>
                    </a:lnTo>
                    <a:lnTo>
                      <a:pt x="4" y="44"/>
                    </a:lnTo>
                    <a:lnTo>
                      <a:pt x="0" y="56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4" y="86"/>
                    </a:lnTo>
                    <a:lnTo>
                      <a:pt x="7" y="96"/>
                    </a:lnTo>
                    <a:lnTo>
                      <a:pt x="13" y="104"/>
                    </a:lnTo>
                    <a:lnTo>
                      <a:pt x="19" y="111"/>
                    </a:lnTo>
                    <a:lnTo>
                      <a:pt x="27" y="119"/>
                    </a:lnTo>
                    <a:lnTo>
                      <a:pt x="36" y="125"/>
                    </a:lnTo>
                    <a:lnTo>
                      <a:pt x="44" y="129"/>
                    </a:lnTo>
                    <a:lnTo>
                      <a:pt x="55" y="130"/>
                    </a:lnTo>
                    <a:lnTo>
                      <a:pt x="65" y="132"/>
                    </a:lnTo>
                    <a:lnTo>
                      <a:pt x="65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4114440" y="3191760"/>
                <a:ext cx="180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4073760" y="4394160"/>
                <a:ext cx="81360" cy="4068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38" y="0"/>
                    </a:lnTo>
                    <a:lnTo>
                      <a:pt x="38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8" y="15"/>
                    </a:lnTo>
                    <a:lnTo>
                      <a:pt x="38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823560" y="3191760"/>
                <a:ext cx="216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913200" y="4381560"/>
                <a:ext cx="61920" cy="6588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0" y="0"/>
                    </a:moveTo>
                    <a:lnTo>
                      <a:pt x="0" y="31"/>
                    </a:lnTo>
                    <a:lnTo>
                      <a:pt x="2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4323960" y="2537280"/>
                <a:ext cx="432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441324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45122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458892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62420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4525200" y="3164040"/>
                <a:ext cx="63720" cy="61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549400" y="4201560"/>
                <a:ext cx="63720" cy="6012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28" y="0"/>
                    </a:moveTo>
                    <a:lnTo>
                      <a:pt x="0" y="0"/>
                    </a:lnTo>
                    <a:lnTo>
                      <a:pt x="15" y="28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216040" y="253728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8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4880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50008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5843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6581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16040" y="272556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216040" y="291384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5216040" y="310212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  <a:lnTo>
                      <a:pt x="556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216040" y="310212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6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216040" y="329040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7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216040" y="3478680"/>
                <a:ext cx="1188720" cy="186120"/>
              </a:xfrm>
              <a:custGeom>
                <a:avLst/>
                <a:gdLst/>
                <a:ahLst/>
                <a:rect l="l" t="t" r="r" b="b"/>
                <a:pathLst>
                  <a:path w="556" h="87">
                    <a:moveTo>
                      <a:pt x="556" y="87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56" y="87"/>
                    </a:lnTo>
                    <a:lnTo>
                      <a:pt x="556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216040" y="3664800"/>
                <a:ext cx="1188720" cy="187920"/>
              </a:xfrm>
              <a:custGeom>
                <a:avLst/>
                <a:gdLst/>
                <a:ahLst/>
                <a:rect l="l" t="t" r="r" b="b"/>
                <a:pathLst>
                  <a:path w="556" h="88">
                    <a:moveTo>
                      <a:pt x="556" y="88"/>
                    </a:moveTo>
                    <a:lnTo>
                      <a:pt x="556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56" y="88"/>
                    </a:lnTo>
                    <a:lnTo>
                      <a:pt x="556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26500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4" y="29"/>
                    </a:moveTo>
                    <a:lnTo>
                      <a:pt x="18" y="29"/>
                    </a:lnTo>
                    <a:lnTo>
                      <a:pt x="20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549400" y="3164040"/>
                <a:ext cx="63720" cy="61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lnTo>
                      <a:pt x="17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6" y="25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28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249880" y="4791960"/>
                <a:ext cx="250200" cy="293400"/>
              </a:xfrm>
              <a:custGeom>
                <a:avLst/>
                <a:gdLst/>
                <a:ahLst/>
                <a:rect l="l" t="t" r="r" b="b"/>
                <a:pathLst>
                  <a:path w="117" h="137">
                    <a:moveTo>
                      <a:pt x="0" y="82"/>
                    </a:moveTo>
                    <a:lnTo>
                      <a:pt x="2" y="92"/>
                    </a:lnTo>
                    <a:lnTo>
                      <a:pt x="4" y="99"/>
                    </a:lnTo>
                    <a:lnTo>
                      <a:pt x="7" y="107"/>
                    </a:lnTo>
                    <a:lnTo>
                      <a:pt x="11" y="114"/>
                    </a:lnTo>
                    <a:lnTo>
                      <a:pt x="17" y="122"/>
                    </a:lnTo>
                    <a:lnTo>
                      <a:pt x="25" y="128"/>
                    </a:lnTo>
                    <a:lnTo>
                      <a:pt x="32" y="132"/>
                    </a:lnTo>
                    <a:lnTo>
                      <a:pt x="40" y="136"/>
                    </a:lnTo>
                    <a:lnTo>
                      <a:pt x="50" y="137"/>
                    </a:lnTo>
                    <a:lnTo>
                      <a:pt x="59" y="137"/>
                    </a:lnTo>
                    <a:lnTo>
                      <a:pt x="69" y="137"/>
                    </a:lnTo>
                    <a:lnTo>
                      <a:pt x="76" y="136"/>
                    </a:lnTo>
                    <a:lnTo>
                      <a:pt x="84" y="132"/>
                    </a:lnTo>
                    <a:lnTo>
                      <a:pt x="92" y="128"/>
                    </a:lnTo>
                    <a:lnTo>
                      <a:pt x="99" y="122"/>
                    </a:lnTo>
                    <a:lnTo>
                      <a:pt x="105" y="114"/>
                    </a:lnTo>
                    <a:lnTo>
                      <a:pt x="109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7" y="82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2" y="82"/>
                    </a:lnTo>
                    <a:lnTo>
                      <a:pt x="2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442480" y="4274280"/>
                <a:ext cx="281880" cy="282240"/>
              </a:xfrm>
              <a:custGeom>
                <a:avLst/>
                <a:gdLst/>
                <a:ahLst/>
                <a:rect l="l" t="t" r="r" b="b"/>
                <a:pathLst>
                  <a:path w="132" h="132">
                    <a:moveTo>
                      <a:pt x="65" y="130"/>
                    </a:moveTo>
                    <a:lnTo>
                      <a:pt x="76" y="130"/>
                    </a:lnTo>
                    <a:lnTo>
                      <a:pt x="86" y="129"/>
                    </a:lnTo>
                    <a:lnTo>
                      <a:pt x="96" y="125"/>
                    </a:lnTo>
                    <a:lnTo>
                      <a:pt x="105" y="119"/>
                    </a:lnTo>
                    <a:lnTo>
                      <a:pt x="113" y="111"/>
                    </a:lnTo>
                    <a:lnTo>
                      <a:pt x="119" y="104"/>
                    </a:lnTo>
                    <a:lnTo>
                      <a:pt x="124" y="96"/>
                    </a:lnTo>
                    <a:lnTo>
                      <a:pt x="128" y="86"/>
                    </a:lnTo>
                    <a:lnTo>
                      <a:pt x="130" y="77"/>
                    </a:lnTo>
                    <a:lnTo>
                      <a:pt x="132" y="65"/>
                    </a:lnTo>
                    <a:lnTo>
                      <a:pt x="130" y="56"/>
                    </a:lnTo>
                    <a:lnTo>
                      <a:pt x="128" y="44"/>
                    </a:lnTo>
                    <a:lnTo>
                      <a:pt x="124" y="35"/>
                    </a:lnTo>
                    <a:lnTo>
                      <a:pt x="119" y="27"/>
                    </a:lnTo>
                    <a:lnTo>
                      <a:pt x="113" y="19"/>
                    </a:lnTo>
                    <a:lnTo>
                      <a:pt x="105" y="12"/>
                    </a:lnTo>
                    <a:lnTo>
                      <a:pt x="96" y="8"/>
                    </a:lnTo>
                    <a:lnTo>
                      <a:pt x="86" y="2"/>
                    </a:lnTo>
                    <a:lnTo>
                      <a:pt x="76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4" y="8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1" y="27"/>
                    </a:lnTo>
                    <a:lnTo>
                      <a:pt x="7" y="35"/>
                    </a:lnTo>
                    <a:lnTo>
                      <a:pt x="4" y="44"/>
                    </a:lnTo>
                    <a:lnTo>
                      <a:pt x="0" y="56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4" y="86"/>
                    </a:lnTo>
                    <a:lnTo>
                      <a:pt x="7" y="96"/>
                    </a:lnTo>
                    <a:lnTo>
                      <a:pt x="11" y="104"/>
                    </a:lnTo>
                    <a:lnTo>
                      <a:pt x="19" y="111"/>
                    </a:lnTo>
                    <a:lnTo>
                      <a:pt x="27" y="119"/>
                    </a:lnTo>
                    <a:lnTo>
                      <a:pt x="34" y="125"/>
                    </a:lnTo>
                    <a:lnTo>
                      <a:pt x="44" y="129"/>
                    </a:lnTo>
                    <a:lnTo>
                      <a:pt x="55" y="130"/>
                    </a:lnTo>
                    <a:lnTo>
                      <a:pt x="65" y="132"/>
                    </a:lnTo>
                    <a:lnTo>
                      <a:pt x="65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581440" y="3191760"/>
                <a:ext cx="180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540760" y="4394160"/>
                <a:ext cx="81360" cy="4068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38" y="0"/>
                    </a:lnTo>
                    <a:lnTo>
                      <a:pt x="38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8" y="15"/>
                    </a:lnTo>
                    <a:lnTo>
                      <a:pt x="38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294880" y="3191760"/>
                <a:ext cx="432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455440" y="4552920"/>
                <a:ext cx="126000" cy="239040"/>
              </a:xfrm>
              <a:custGeom>
                <a:avLst/>
                <a:gdLst/>
                <a:ahLst/>
                <a:rect l="l" t="t" r="r" b="b"/>
                <a:pathLst>
                  <a:path w="59" h="112">
                    <a:moveTo>
                      <a:pt x="59" y="0"/>
                    </a:moveTo>
                    <a:lnTo>
                      <a:pt x="59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988440" y="4552920"/>
                <a:ext cx="126000" cy="239040"/>
              </a:xfrm>
              <a:custGeom>
                <a:avLst/>
                <a:gdLst/>
                <a:ahLst/>
                <a:rect l="l" t="t" r="r" b="b"/>
                <a:pathLst>
                  <a:path w="59" h="112">
                    <a:moveTo>
                      <a:pt x="59" y="0"/>
                    </a:moveTo>
                    <a:lnTo>
                      <a:pt x="59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442600" y="4552920"/>
                <a:ext cx="130320" cy="239040"/>
              </a:xfrm>
              <a:custGeom>
                <a:avLst/>
                <a:gdLst/>
                <a:ahLst/>
                <a:rect l="l" t="t" r="r" b="b"/>
                <a:pathLst>
                  <a:path w="61" h="112">
                    <a:moveTo>
                      <a:pt x="60" y="0"/>
                    </a:moveTo>
                    <a:lnTo>
                      <a:pt x="61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892200" y="4552920"/>
                <a:ext cx="130320" cy="239040"/>
              </a:xfrm>
              <a:custGeom>
                <a:avLst/>
                <a:gdLst/>
                <a:ahLst/>
                <a:rect l="l" t="t" r="r" b="b"/>
                <a:pathLst>
                  <a:path w="61" h="112">
                    <a:moveTo>
                      <a:pt x="59" y="0"/>
                    </a:moveTo>
                    <a:lnTo>
                      <a:pt x="61" y="56"/>
                    </a:lnTo>
                    <a:lnTo>
                      <a:pt x="0" y="56"/>
                    </a:lnTo>
                    <a:lnTo>
                      <a:pt x="0" y="1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367600" y="4381560"/>
                <a:ext cx="66240" cy="658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0"/>
                    </a:moveTo>
                    <a:lnTo>
                      <a:pt x="0" y="31"/>
                    </a:lnTo>
                    <a:lnTo>
                      <a:pt x="31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7440" y="2537280"/>
                <a:ext cx="216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88888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9864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06024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60998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606888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5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990840" y="420156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0" y="0"/>
                    </a:lnTo>
                    <a:lnTo>
                      <a:pt x="13" y="2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646320" y="253728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8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690240" y="2344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6941880" y="234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702684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710028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6646320" y="272556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646320" y="291384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646320" y="310212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  <a:lnTo>
                      <a:pt x="562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646320" y="310212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6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646320" y="329040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7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646320" y="3478680"/>
                <a:ext cx="1201320" cy="186120"/>
              </a:xfrm>
              <a:custGeom>
                <a:avLst/>
                <a:gdLst/>
                <a:ahLst/>
                <a:rect l="l" t="t" r="r" b="b"/>
                <a:pathLst>
                  <a:path w="562" h="87">
                    <a:moveTo>
                      <a:pt x="562" y="87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562" y="87"/>
                    </a:lnTo>
                    <a:lnTo>
                      <a:pt x="562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6646320" y="3664800"/>
                <a:ext cx="1201320" cy="187920"/>
              </a:xfrm>
              <a:custGeom>
                <a:avLst/>
                <a:gdLst/>
                <a:ahLst/>
                <a:rect l="l" t="t" r="r" b="b"/>
                <a:pathLst>
                  <a:path w="562" h="88">
                    <a:moveTo>
                      <a:pt x="562" y="88"/>
                    </a:moveTo>
                    <a:lnTo>
                      <a:pt x="56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562" y="88"/>
                    </a:lnTo>
                    <a:lnTo>
                      <a:pt x="56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670428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699084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682680" y="4791960"/>
                <a:ext cx="245520" cy="293400"/>
              </a:xfrm>
              <a:custGeom>
                <a:avLst/>
                <a:gdLst/>
                <a:ahLst/>
                <a:rect l="l" t="t" r="r" b="b"/>
                <a:pathLst>
                  <a:path w="115" h="137">
                    <a:moveTo>
                      <a:pt x="0" y="82"/>
                    </a:moveTo>
                    <a:lnTo>
                      <a:pt x="0" y="92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12" y="114"/>
                    </a:lnTo>
                    <a:lnTo>
                      <a:pt x="18" y="122"/>
                    </a:lnTo>
                    <a:lnTo>
                      <a:pt x="23" y="128"/>
                    </a:lnTo>
                    <a:lnTo>
                      <a:pt x="31" y="132"/>
                    </a:lnTo>
                    <a:lnTo>
                      <a:pt x="41" y="136"/>
                    </a:lnTo>
                    <a:lnTo>
                      <a:pt x="48" y="137"/>
                    </a:lnTo>
                    <a:lnTo>
                      <a:pt x="58" y="137"/>
                    </a:lnTo>
                    <a:lnTo>
                      <a:pt x="67" y="137"/>
                    </a:lnTo>
                    <a:lnTo>
                      <a:pt x="77" y="136"/>
                    </a:lnTo>
                    <a:lnTo>
                      <a:pt x="85" y="132"/>
                    </a:lnTo>
                    <a:lnTo>
                      <a:pt x="92" y="128"/>
                    </a:lnTo>
                    <a:lnTo>
                      <a:pt x="98" y="122"/>
                    </a:lnTo>
                    <a:lnTo>
                      <a:pt x="104" y="114"/>
                    </a:lnTo>
                    <a:lnTo>
                      <a:pt x="110" y="107"/>
                    </a:lnTo>
                    <a:lnTo>
                      <a:pt x="113" y="99"/>
                    </a:lnTo>
                    <a:lnTo>
                      <a:pt x="115" y="92"/>
                    </a:lnTo>
                    <a:lnTo>
                      <a:pt x="115" y="82"/>
                    </a:lnTo>
                    <a:lnTo>
                      <a:pt x="115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879600" y="4274280"/>
                <a:ext cx="284040" cy="282240"/>
              </a:xfrm>
              <a:custGeom>
                <a:avLst/>
                <a:gdLst/>
                <a:ahLst/>
                <a:rect l="l" t="t" r="r" b="b"/>
                <a:pathLst>
                  <a:path w="133" h="132">
                    <a:moveTo>
                      <a:pt x="65" y="130"/>
                    </a:moveTo>
                    <a:lnTo>
                      <a:pt x="77" y="130"/>
                    </a:lnTo>
                    <a:lnTo>
                      <a:pt x="87" y="129"/>
                    </a:lnTo>
                    <a:lnTo>
                      <a:pt x="96" y="125"/>
                    </a:lnTo>
                    <a:lnTo>
                      <a:pt x="106" y="119"/>
                    </a:lnTo>
                    <a:lnTo>
                      <a:pt x="113" y="111"/>
                    </a:lnTo>
                    <a:lnTo>
                      <a:pt x="119" y="104"/>
                    </a:lnTo>
                    <a:lnTo>
                      <a:pt x="125" y="96"/>
                    </a:lnTo>
                    <a:lnTo>
                      <a:pt x="129" y="86"/>
                    </a:lnTo>
                    <a:lnTo>
                      <a:pt x="131" y="77"/>
                    </a:lnTo>
                    <a:lnTo>
                      <a:pt x="133" y="65"/>
                    </a:lnTo>
                    <a:lnTo>
                      <a:pt x="131" y="56"/>
                    </a:lnTo>
                    <a:lnTo>
                      <a:pt x="129" y="44"/>
                    </a:lnTo>
                    <a:lnTo>
                      <a:pt x="125" y="35"/>
                    </a:lnTo>
                    <a:lnTo>
                      <a:pt x="119" y="27"/>
                    </a:lnTo>
                    <a:lnTo>
                      <a:pt x="113" y="19"/>
                    </a:lnTo>
                    <a:lnTo>
                      <a:pt x="106" y="12"/>
                    </a:lnTo>
                    <a:lnTo>
                      <a:pt x="96" y="8"/>
                    </a:lnTo>
                    <a:lnTo>
                      <a:pt x="87" y="2"/>
                    </a:lnTo>
                    <a:lnTo>
                      <a:pt x="77" y="0"/>
                    </a:lnTo>
                    <a:lnTo>
                      <a:pt x="65" y="0"/>
                    </a:lnTo>
                    <a:lnTo>
                      <a:pt x="56" y="0"/>
                    </a:lnTo>
                    <a:lnTo>
                      <a:pt x="44" y="2"/>
                    </a:lnTo>
                    <a:lnTo>
                      <a:pt x="35" y="8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4" y="27"/>
                    </a:lnTo>
                    <a:lnTo>
                      <a:pt x="8" y="35"/>
                    </a:lnTo>
                    <a:lnTo>
                      <a:pt x="4" y="44"/>
                    </a:lnTo>
                    <a:lnTo>
                      <a:pt x="0" y="56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4" y="86"/>
                    </a:lnTo>
                    <a:lnTo>
                      <a:pt x="8" y="96"/>
                    </a:lnTo>
                    <a:lnTo>
                      <a:pt x="14" y="104"/>
                    </a:lnTo>
                    <a:lnTo>
                      <a:pt x="19" y="111"/>
                    </a:lnTo>
                    <a:lnTo>
                      <a:pt x="27" y="119"/>
                    </a:lnTo>
                    <a:lnTo>
                      <a:pt x="35" y="125"/>
                    </a:lnTo>
                    <a:lnTo>
                      <a:pt x="44" y="129"/>
                    </a:lnTo>
                    <a:lnTo>
                      <a:pt x="56" y="130"/>
                    </a:lnTo>
                    <a:lnTo>
                      <a:pt x="65" y="132"/>
                    </a:lnTo>
                    <a:lnTo>
                      <a:pt x="65" y="1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018200" y="3191760"/>
                <a:ext cx="2160" cy="102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978240" y="4394160"/>
                <a:ext cx="83160" cy="4068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0"/>
                    </a:moveTo>
                    <a:lnTo>
                      <a:pt x="39" y="0"/>
                    </a:lnTo>
                    <a:lnTo>
                      <a:pt x="39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9" y="15"/>
                    </a:lnTo>
                    <a:lnTo>
                      <a:pt x="39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731640" y="3191760"/>
                <a:ext cx="2160" cy="15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811200" y="4381560"/>
                <a:ext cx="63720" cy="6588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0"/>
                    </a:moveTo>
                    <a:lnTo>
                      <a:pt x="0" y="31"/>
                    </a:lnTo>
                    <a:lnTo>
                      <a:pt x="3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241040" y="2537280"/>
                <a:ext cx="180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356920" y="2537280"/>
                <a:ext cx="432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896280" y="2537280"/>
                <a:ext cx="432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371920" y="2537280"/>
                <a:ext cx="180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815160" y="2537280"/>
                <a:ext cx="2160" cy="13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329960" y="2344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42752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503480" y="2344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544160" y="23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514280" y="316404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4" y="29"/>
                    </a:moveTo>
                    <a:lnTo>
                      <a:pt x="18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4" y="2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081600" y="3191760"/>
                <a:ext cx="2876040" cy="2554200"/>
              </a:xfrm>
              <a:custGeom>
                <a:avLst/>
                <a:gdLst/>
                <a:ahLst/>
                <a:rect l="l" t="t" r="r" b="b"/>
                <a:pathLst>
                  <a:path w="1345" h="1194">
                    <a:moveTo>
                      <a:pt x="0" y="0"/>
                    </a:moveTo>
                    <a:lnTo>
                      <a:pt x="0" y="1002"/>
                    </a:lnTo>
                    <a:lnTo>
                      <a:pt x="1345" y="1002"/>
                    </a:lnTo>
                    <a:lnTo>
                      <a:pt x="1345" y="119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4557240" y="3191760"/>
                <a:ext cx="1671840" cy="2554200"/>
              </a:xfrm>
              <a:custGeom>
                <a:avLst/>
                <a:gdLst/>
                <a:ahLst/>
                <a:rect l="l" t="t" r="r" b="b"/>
                <a:pathLst>
                  <a:path w="782" h="1194">
                    <a:moveTo>
                      <a:pt x="0" y="0"/>
                    </a:moveTo>
                    <a:lnTo>
                      <a:pt x="0" y="916"/>
                    </a:lnTo>
                    <a:lnTo>
                      <a:pt x="782" y="916"/>
                    </a:lnTo>
                    <a:lnTo>
                      <a:pt x="782" y="119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096960" y="3191760"/>
                <a:ext cx="4320" cy="2554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364080" y="3191760"/>
                <a:ext cx="1180080" cy="2554200"/>
              </a:xfrm>
              <a:custGeom>
                <a:avLst/>
                <a:gdLst/>
                <a:ahLst/>
                <a:rect l="l" t="t" r="r" b="b"/>
                <a:pathLst>
                  <a:path w="552" h="1194">
                    <a:moveTo>
                      <a:pt x="552" y="0"/>
                    </a:moveTo>
                    <a:lnTo>
                      <a:pt x="552" y="1085"/>
                    </a:lnTo>
                    <a:lnTo>
                      <a:pt x="0" y="1085"/>
                    </a:lnTo>
                    <a:lnTo>
                      <a:pt x="0" y="119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461000" y="3987360"/>
                <a:ext cx="1645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60320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68240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937200" y="3987360"/>
                <a:ext cx="16416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07904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157880" y="3882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1311120" y="4041360"/>
                <a:ext cx="5499720" cy="371880"/>
              </a:xfrm>
              <a:custGeom>
                <a:avLst/>
                <a:gdLst/>
                <a:ahLst/>
                <a:rect l="l" t="t" r="r" b="b"/>
                <a:pathLst>
                  <a:path w="2572" h="174">
                    <a:moveTo>
                      <a:pt x="2572" y="174"/>
                    </a:moveTo>
                    <a:lnTo>
                      <a:pt x="2441" y="174"/>
                    </a:lnTo>
                    <a:lnTo>
                      <a:pt x="2441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924800" y="4041360"/>
                <a:ext cx="459360" cy="371880"/>
              </a:xfrm>
              <a:custGeom>
                <a:avLst/>
                <a:gdLst/>
                <a:ahLst/>
                <a:rect l="l" t="t" r="r" b="b"/>
                <a:pathLst>
                  <a:path w="215" h="174">
                    <a:moveTo>
                      <a:pt x="0" y="0"/>
                    </a:moveTo>
                    <a:lnTo>
                      <a:pt x="0" y="174"/>
                    </a:lnTo>
                    <a:lnTo>
                      <a:pt x="215" y="17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4897440" y="4013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3" y="28"/>
                    </a:moveTo>
                    <a:lnTo>
                      <a:pt x="17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8" y="26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3" y="28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417120" y="4041360"/>
                <a:ext cx="509040" cy="371880"/>
              </a:xfrm>
              <a:custGeom>
                <a:avLst/>
                <a:gdLst/>
                <a:ahLst/>
                <a:rect l="l" t="t" r="r" b="b"/>
                <a:pathLst>
                  <a:path w="238" h="174">
                    <a:moveTo>
                      <a:pt x="0" y="0"/>
                    </a:moveTo>
                    <a:lnTo>
                      <a:pt x="0" y="174"/>
                    </a:lnTo>
                    <a:lnTo>
                      <a:pt x="238" y="17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389760" y="4013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3" y="28"/>
                    </a:moveTo>
                    <a:lnTo>
                      <a:pt x="17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5" y="24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7" y="26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3" y="28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1279440" y="4013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3" y="28"/>
                    </a:moveTo>
                    <a:lnTo>
                      <a:pt x="17" y="28"/>
                    </a:lnTo>
                    <a:lnTo>
                      <a:pt x="19" y="28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5" y="24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8" y="26"/>
                    </a:lnTo>
                    <a:lnTo>
                      <a:pt x="10" y="28"/>
                    </a:lnTo>
                    <a:lnTo>
                      <a:pt x="13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806640" y="5778360"/>
                <a:ext cx="250200" cy="344160"/>
              </a:xfrm>
              <a:custGeom>
                <a:avLst/>
                <a:gdLst/>
                <a:ahLst/>
                <a:rect l="l" t="t" r="r" b="b"/>
                <a:pathLst>
                  <a:path w="117" h="161">
                    <a:moveTo>
                      <a:pt x="56" y="16"/>
                    </a:moveTo>
                    <a:lnTo>
                      <a:pt x="50" y="16"/>
                    </a:lnTo>
                    <a:lnTo>
                      <a:pt x="42" y="16"/>
                    </a:lnTo>
                    <a:lnTo>
                      <a:pt x="37" y="16"/>
                    </a:lnTo>
                    <a:lnTo>
                      <a:pt x="33" y="14"/>
                    </a:lnTo>
                    <a:lnTo>
                      <a:pt x="27" y="14"/>
                    </a:lnTo>
                    <a:lnTo>
                      <a:pt x="23" y="12"/>
                    </a:lnTo>
                    <a:lnTo>
                      <a:pt x="17" y="10"/>
                    </a:lnTo>
                    <a:lnTo>
                      <a:pt x="14" y="8"/>
                    </a:lnTo>
                    <a:lnTo>
                      <a:pt x="8" y="4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0" y="31"/>
                    </a:lnTo>
                    <a:lnTo>
                      <a:pt x="0" y="42"/>
                    </a:lnTo>
                    <a:lnTo>
                      <a:pt x="2" y="56"/>
                    </a:lnTo>
                    <a:lnTo>
                      <a:pt x="2" y="69"/>
                    </a:lnTo>
                    <a:lnTo>
                      <a:pt x="2" y="81"/>
                    </a:lnTo>
                    <a:lnTo>
                      <a:pt x="2" y="90"/>
                    </a:lnTo>
                    <a:lnTo>
                      <a:pt x="4" y="96"/>
                    </a:lnTo>
                    <a:lnTo>
                      <a:pt x="8" y="108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4"/>
                    </a:lnTo>
                    <a:lnTo>
                      <a:pt x="31" y="142"/>
                    </a:lnTo>
                    <a:lnTo>
                      <a:pt x="37" y="148"/>
                    </a:lnTo>
                    <a:lnTo>
                      <a:pt x="42" y="152"/>
                    </a:lnTo>
                    <a:lnTo>
                      <a:pt x="48" y="155"/>
                    </a:lnTo>
                    <a:lnTo>
                      <a:pt x="54" y="159"/>
                    </a:lnTo>
                    <a:lnTo>
                      <a:pt x="58" y="161"/>
                    </a:lnTo>
                    <a:lnTo>
                      <a:pt x="63" y="159"/>
                    </a:lnTo>
                    <a:lnTo>
                      <a:pt x="69" y="155"/>
                    </a:lnTo>
                    <a:lnTo>
                      <a:pt x="75" y="152"/>
                    </a:lnTo>
                    <a:lnTo>
                      <a:pt x="81" y="148"/>
                    </a:lnTo>
                    <a:lnTo>
                      <a:pt x="86" y="142"/>
                    </a:lnTo>
                    <a:lnTo>
                      <a:pt x="94" y="134"/>
                    </a:lnTo>
                    <a:lnTo>
                      <a:pt x="100" y="127"/>
                    </a:lnTo>
                    <a:lnTo>
                      <a:pt x="106" y="117"/>
                    </a:lnTo>
                    <a:lnTo>
                      <a:pt x="109" y="108"/>
                    </a:lnTo>
                    <a:lnTo>
                      <a:pt x="113" y="96"/>
                    </a:lnTo>
                    <a:lnTo>
                      <a:pt x="115" y="90"/>
                    </a:lnTo>
                    <a:lnTo>
                      <a:pt x="115" y="81"/>
                    </a:lnTo>
                    <a:lnTo>
                      <a:pt x="115" y="69"/>
                    </a:lnTo>
                    <a:lnTo>
                      <a:pt x="115" y="56"/>
                    </a:lnTo>
                    <a:lnTo>
                      <a:pt x="117" y="42"/>
                    </a:lnTo>
                    <a:lnTo>
                      <a:pt x="115" y="31"/>
                    </a:lnTo>
                    <a:lnTo>
                      <a:pt x="115" y="19"/>
                    </a:lnTo>
                    <a:lnTo>
                      <a:pt x="115" y="10"/>
                    </a:lnTo>
                    <a:lnTo>
                      <a:pt x="115" y="4"/>
                    </a:lnTo>
                    <a:lnTo>
                      <a:pt x="115" y="0"/>
                    </a:lnTo>
                    <a:lnTo>
                      <a:pt x="109" y="4"/>
                    </a:lnTo>
                    <a:lnTo>
                      <a:pt x="104" y="8"/>
                    </a:lnTo>
                    <a:lnTo>
                      <a:pt x="98" y="10"/>
                    </a:lnTo>
                    <a:lnTo>
                      <a:pt x="92" y="12"/>
                    </a:lnTo>
                    <a:lnTo>
                      <a:pt x="88" y="14"/>
                    </a:lnTo>
                    <a:lnTo>
                      <a:pt x="83" y="14"/>
                    </a:lnTo>
                    <a:lnTo>
                      <a:pt x="77" y="16"/>
                    </a:lnTo>
                    <a:lnTo>
                      <a:pt x="71" y="16"/>
                    </a:lnTo>
                    <a:lnTo>
                      <a:pt x="63" y="16"/>
                    </a:lnTo>
                    <a:lnTo>
                      <a:pt x="58" y="17"/>
                    </a:lnTo>
                    <a:lnTo>
                      <a:pt x="58" y="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622120" y="5746320"/>
                <a:ext cx="1252800" cy="376200"/>
              </a:xfrm>
              <a:custGeom>
                <a:avLst/>
                <a:gdLst/>
                <a:ahLst/>
                <a:rect l="l" t="t" r="r" b="b"/>
                <a:pathLst>
                  <a:path w="586" h="176">
                    <a:moveTo>
                      <a:pt x="88" y="174"/>
                    </a:moveTo>
                    <a:lnTo>
                      <a:pt x="75" y="174"/>
                    </a:lnTo>
                    <a:lnTo>
                      <a:pt x="59" y="170"/>
                    </a:lnTo>
                    <a:lnTo>
                      <a:pt x="48" y="167"/>
                    </a:lnTo>
                    <a:lnTo>
                      <a:pt x="36" y="159"/>
                    </a:lnTo>
                    <a:lnTo>
                      <a:pt x="27" y="149"/>
                    </a:lnTo>
                    <a:lnTo>
                      <a:pt x="17" y="140"/>
                    </a:lnTo>
                    <a:lnTo>
                      <a:pt x="10" y="128"/>
                    </a:lnTo>
                    <a:lnTo>
                      <a:pt x="4" y="115"/>
                    </a:lnTo>
                    <a:lnTo>
                      <a:pt x="2" y="101"/>
                    </a:lnTo>
                    <a:lnTo>
                      <a:pt x="0" y="88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10" y="48"/>
                    </a:lnTo>
                    <a:lnTo>
                      <a:pt x="17" y="36"/>
                    </a:lnTo>
                    <a:lnTo>
                      <a:pt x="27" y="25"/>
                    </a:lnTo>
                    <a:lnTo>
                      <a:pt x="36" y="17"/>
                    </a:lnTo>
                    <a:lnTo>
                      <a:pt x="48" y="10"/>
                    </a:lnTo>
                    <a:lnTo>
                      <a:pt x="59" y="4"/>
                    </a:lnTo>
                    <a:lnTo>
                      <a:pt x="75" y="2"/>
                    </a:lnTo>
                    <a:lnTo>
                      <a:pt x="88" y="0"/>
                    </a:lnTo>
                    <a:lnTo>
                      <a:pt x="498" y="0"/>
                    </a:lnTo>
                    <a:lnTo>
                      <a:pt x="514" y="2"/>
                    </a:lnTo>
                    <a:lnTo>
                      <a:pt x="527" y="4"/>
                    </a:lnTo>
                    <a:lnTo>
                      <a:pt x="538" y="10"/>
                    </a:lnTo>
                    <a:lnTo>
                      <a:pt x="550" y="17"/>
                    </a:lnTo>
                    <a:lnTo>
                      <a:pt x="561" y="25"/>
                    </a:lnTo>
                    <a:lnTo>
                      <a:pt x="569" y="36"/>
                    </a:lnTo>
                    <a:lnTo>
                      <a:pt x="577" y="48"/>
                    </a:lnTo>
                    <a:lnTo>
                      <a:pt x="583" y="59"/>
                    </a:lnTo>
                    <a:lnTo>
                      <a:pt x="584" y="73"/>
                    </a:lnTo>
                    <a:lnTo>
                      <a:pt x="586" y="88"/>
                    </a:lnTo>
                    <a:lnTo>
                      <a:pt x="584" y="101"/>
                    </a:lnTo>
                    <a:lnTo>
                      <a:pt x="583" y="115"/>
                    </a:lnTo>
                    <a:lnTo>
                      <a:pt x="577" y="128"/>
                    </a:lnTo>
                    <a:lnTo>
                      <a:pt x="569" y="140"/>
                    </a:lnTo>
                    <a:lnTo>
                      <a:pt x="561" y="149"/>
                    </a:lnTo>
                    <a:lnTo>
                      <a:pt x="550" y="159"/>
                    </a:lnTo>
                    <a:lnTo>
                      <a:pt x="538" y="167"/>
                    </a:lnTo>
                    <a:lnTo>
                      <a:pt x="527" y="170"/>
                    </a:lnTo>
                    <a:lnTo>
                      <a:pt x="514" y="174"/>
                    </a:lnTo>
                    <a:lnTo>
                      <a:pt x="498" y="176"/>
                    </a:lnTo>
                    <a:lnTo>
                      <a:pt x="88" y="176"/>
                    </a:lnTo>
                    <a:lnTo>
                      <a:pt x="88" y="17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71500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797440" y="5849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850720" y="5849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88816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970960" y="5849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02280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6100920" y="5849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137280" y="5849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25176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326640" y="5849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359400" y="5849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395040" y="5849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42492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503400" y="5849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52968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609960" y="5849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672600" y="5849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753600" y="5849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962880" y="5085360"/>
                <a:ext cx="1409040" cy="727200"/>
              </a:xfrm>
              <a:custGeom>
                <a:avLst/>
                <a:gdLst/>
                <a:ahLst/>
                <a:rect l="l" t="t" r="r" b="b"/>
                <a:pathLst>
                  <a:path w="659" h="340">
                    <a:moveTo>
                      <a:pt x="659" y="0"/>
                    </a:moveTo>
                    <a:lnTo>
                      <a:pt x="659" y="60"/>
                    </a:lnTo>
                    <a:lnTo>
                      <a:pt x="0" y="6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896280" y="5093640"/>
                <a:ext cx="2160" cy="71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024800" y="5085360"/>
                <a:ext cx="2781720" cy="710280"/>
              </a:xfrm>
              <a:custGeom>
                <a:avLst/>
                <a:gdLst/>
                <a:ahLst/>
                <a:rect l="l" t="t" r="r" b="b"/>
                <a:pathLst>
                  <a:path w="1301" h="332">
                    <a:moveTo>
                      <a:pt x="1301" y="0"/>
                    </a:moveTo>
                    <a:lnTo>
                      <a:pt x="1301" y="89"/>
                    </a:lnTo>
                    <a:lnTo>
                      <a:pt x="0" y="89"/>
                    </a:lnTo>
                    <a:lnTo>
                      <a:pt x="0" y="3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361240" y="5085360"/>
                <a:ext cx="1475280" cy="710280"/>
              </a:xfrm>
              <a:custGeom>
                <a:avLst/>
                <a:gdLst/>
                <a:ahLst/>
                <a:rect l="l" t="t" r="r" b="b"/>
                <a:pathLst>
                  <a:path w="690" h="332">
                    <a:moveTo>
                      <a:pt x="0" y="0"/>
                    </a:moveTo>
                    <a:lnTo>
                      <a:pt x="2" y="177"/>
                    </a:lnTo>
                    <a:lnTo>
                      <a:pt x="690" y="177"/>
                    </a:lnTo>
                    <a:lnTo>
                      <a:pt x="690" y="33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024800" y="5401800"/>
                <a:ext cx="1618560" cy="438480"/>
              </a:xfrm>
              <a:custGeom>
                <a:avLst/>
                <a:gdLst/>
                <a:ahLst/>
                <a:rect l="l" t="t" r="r" b="b"/>
                <a:pathLst>
                  <a:path w="757" h="205">
                    <a:moveTo>
                      <a:pt x="757" y="203"/>
                    </a:moveTo>
                    <a:lnTo>
                      <a:pt x="498" y="205"/>
                    </a:lnTo>
                    <a:lnTo>
                      <a:pt x="49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994920" y="536976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14" y="28"/>
                    </a:moveTo>
                    <a:lnTo>
                      <a:pt x="18" y="28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3" y="26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962880" y="5464080"/>
                <a:ext cx="1659240" cy="438480"/>
              </a:xfrm>
              <a:custGeom>
                <a:avLst/>
                <a:gdLst/>
                <a:ahLst/>
                <a:rect l="l" t="t" r="r" b="b"/>
                <a:pathLst>
                  <a:path w="776" h="205">
                    <a:moveTo>
                      <a:pt x="776" y="205"/>
                    </a:moveTo>
                    <a:lnTo>
                      <a:pt x="498" y="205"/>
                    </a:lnTo>
                    <a:lnTo>
                      <a:pt x="49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930840" y="5429880"/>
                <a:ext cx="63720" cy="6588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5" y="29"/>
                    </a:moveTo>
                    <a:lnTo>
                      <a:pt x="17" y="31"/>
                    </a:lnTo>
                    <a:lnTo>
                      <a:pt x="19" y="29"/>
                    </a:lnTo>
                    <a:lnTo>
                      <a:pt x="23" y="29"/>
                    </a:lnTo>
                    <a:lnTo>
                      <a:pt x="25" y="27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8" y="23"/>
                    </a:lnTo>
                    <a:lnTo>
                      <a:pt x="28" y="21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896280" y="5524200"/>
                <a:ext cx="1725840" cy="438480"/>
              </a:xfrm>
              <a:custGeom>
                <a:avLst/>
                <a:gdLst/>
                <a:ahLst/>
                <a:rect l="l" t="t" r="r" b="b"/>
                <a:pathLst>
                  <a:path w="807" h="205">
                    <a:moveTo>
                      <a:pt x="807" y="205"/>
                    </a:moveTo>
                    <a:lnTo>
                      <a:pt x="499" y="205"/>
                    </a:lnTo>
                    <a:lnTo>
                      <a:pt x="499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868920" y="549612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5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2"/>
                    </a:lnTo>
                    <a:lnTo>
                      <a:pt x="29" y="10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836880" y="5590080"/>
                <a:ext cx="1806480" cy="438480"/>
              </a:xfrm>
              <a:custGeom>
                <a:avLst/>
                <a:gdLst/>
                <a:ahLst/>
                <a:rect l="l" t="t" r="r" b="b"/>
                <a:pathLst>
                  <a:path w="845" h="205">
                    <a:moveTo>
                      <a:pt x="845" y="203"/>
                    </a:moveTo>
                    <a:lnTo>
                      <a:pt x="498" y="205"/>
                    </a:lnTo>
                    <a:lnTo>
                      <a:pt x="498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802320" y="5558040"/>
                <a:ext cx="66240" cy="6192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16" y="29"/>
                    </a:moveTo>
                    <a:lnTo>
                      <a:pt x="18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1" y="11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2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900600" y="6341040"/>
                <a:ext cx="61920" cy="637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29" y="0"/>
                    </a:moveTo>
                    <a:lnTo>
                      <a:pt x="0" y="0"/>
                    </a:lnTo>
                    <a:lnTo>
                      <a:pt x="14" y="3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3" name=""/>
            <p:cNvSpPr/>
            <p:nvPr/>
          </p:nvSpPr>
          <p:spPr>
            <a:xfrm flipV="1">
              <a:off x="3930840" y="61232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846960" y="6431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945960" y="643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975120" y="643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217200" y="6341400"/>
              <a:ext cx="65880" cy="637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9" y="0"/>
                  </a:moveTo>
                  <a:lnTo>
                    <a:pt x="0" y="0"/>
                  </a:lnTo>
                  <a:lnTo>
                    <a:pt x="15" y="3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V="1">
              <a:off x="6248880" y="6123240"/>
              <a:ext cx="1800" cy="22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104880" y="6431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202440" y="643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282720" y="643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318000" y="643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0310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91292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7934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43196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3102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1004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1752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8908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96576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802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7558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25584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33504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04524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11688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158800" y="115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64724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73256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561920" y="1234080"/>
              <a:ext cx="27360" cy="237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55212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639960" y="1234080"/>
              <a:ext cx="23040" cy="237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466800" y="1234080"/>
              <a:ext cx="255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347840" y="1035000"/>
            <a:ext cx="6445440" cy="5410440"/>
            <a:chOff x="1347840" y="1035000"/>
            <a:chExt cx="6445440" cy="5410440"/>
          </a:xfrm>
        </p:grpSpPr>
        <p:sp>
          <p:nvSpPr>
            <p:cNvPr id="2217" name=""/>
            <p:cNvSpPr/>
            <p:nvPr/>
          </p:nvSpPr>
          <p:spPr>
            <a:xfrm>
              <a:off x="2005920" y="5311800"/>
              <a:ext cx="5436000" cy="12600"/>
            </a:xfrm>
            <a:custGeom>
              <a:avLst/>
              <a:gdLst/>
              <a:ahLst/>
              <a:rect l="l" t="t" r="r" b="b"/>
              <a:pathLst>
                <a:path w="2485" h="6">
                  <a:moveTo>
                    <a:pt x="2485" y="0"/>
                  </a:moveTo>
                  <a:lnTo>
                    <a:pt x="2485" y="6"/>
                  </a:lnTo>
                  <a:lnTo>
                    <a:pt x="0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723680" y="5219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804320" y="521928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723680" y="4402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804320" y="440244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723680" y="3558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804320" y="355896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723680" y="2710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804320" y="271080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640880" y="1874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718640" y="1874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95320" y="187416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640880" y="103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718640" y="1035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795320" y="103500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2005920" y="1148760"/>
              <a:ext cx="1800" cy="4176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005920" y="4488120"/>
              <a:ext cx="74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005920" y="3648600"/>
              <a:ext cx="7416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5920" y="2814120"/>
              <a:ext cx="74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005920" y="1978920"/>
              <a:ext cx="741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180120" y="5898600"/>
              <a:ext cx="96120" cy="745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0" y="0"/>
                  </a:moveTo>
                  <a:lnTo>
                    <a:pt x="44" y="0"/>
                  </a:lnTo>
                  <a:lnTo>
                    <a:pt x="44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908400" y="6339240"/>
              <a:ext cx="96120" cy="4536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0"/>
                  </a:moveTo>
                  <a:lnTo>
                    <a:pt x="44" y="0"/>
                  </a:lnTo>
                  <a:lnTo>
                    <a:pt x="44" y="21"/>
                  </a:lnTo>
                  <a:lnTo>
                    <a:pt x="2" y="2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25920" y="5029200"/>
              <a:ext cx="96120" cy="5004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2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285440" y="5029200"/>
              <a:ext cx="91440" cy="50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845320" y="5029200"/>
              <a:ext cx="91440" cy="50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328880" y="5029200"/>
              <a:ext cx="91440" cy="50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904080" y="6124680"/>
              <a:ext cx="96120" cy="5004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2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175800" y="5684040"/>
              <a:ext cx="96120" cy="7668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0"/>
                  </a:moveTo>
                  <a:lnTo>
                    <a:pt x="44" y="0"/>
                  </a:lnTo>
                  <a:lnTo>
                    <a:pt x="44" y="35"/>
                  </a:lnTo>
                  <a:lnTo>
                    <a:pt x="2" y="3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182000" y="53618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274520" y="5361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3026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38324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460640" y="5361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49880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4632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64568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72236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643720" y="53618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72724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80176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88204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2776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97492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07428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15348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097160" y="53618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18104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2804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35924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40676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50648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58280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531520" y="5361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6424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72124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797200" y="536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844720" y="536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944800" y="536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023280" y="5361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900120" y="5902920"/>
              <a:ext cx="113400" cy="7452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4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706120" y="4743720"/>
              <a:ext cx="111600" cy="7668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49" y="17"/>
                  </a:moveTo>
                  <a:lnTo>
                    <a:pt x="24" y="0"/>
                  </a:lnTo>
                  <a:lnTo>
                    <a:pt x="0" y="17"/>
                  </a:lnTo>
                  <a:lnTo>
                    <a:pt x="24" y="35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900120" y="5692680"/>
              <a:ext cx="109080" cy="7632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5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712600" y="4454640"/>
              <a:ext cx="109440" cy="766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5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272840" y="4730760"/>
              <a:ext cx="109080" cy="806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7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819040" y="4728960"/>
              <a:ext cx="109440" cy="784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7"/>
                  </a:moveTo>
                  <a:lnTo>
                    <a:pt x="25" y="0"/>
                  </a:lnTo>
                  <a:lnTo>
                    <a:pt x="0" y="19"/>
                  </a:lnTo>
                  <a:lnTo>
                    <a:pt x="25" y="36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348680" y="4730760"/>
              <a:ext cx="109080" cy="7632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5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184800" y="6339240"/>
              <a:ext cx="74160" cy="5436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9" y="23"/>
                  </a:lnTo>
                  <a:lnTo>
                    <a:pt x="30" y="21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730240" y="3909240"/>
              <a:ext cx="76320" cy="5508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7" y="23"/>
                  </a:moveTo>
                  <a:lnTo>
                    <a:pt x="21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9" y="21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290120" y="4185360"/>
              <a:ext cx="74160" cy="5436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5"/>
                  </a:moveTo>
                  <a:lnTo>
                    <a:pt x="19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3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841000" y="4183560"/>
              <a:ext cx="78840" cy="5184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17" y="24"/>
                  </a:moveTo>
                  <a:lnTo>
                    <a:pt x="21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2" y="21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2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356960" y="4463640"/>
              <a:ext cx="76680" cy="543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6" y="23"/>
                  </a:moveTo>
                  <a:lnTo>
                    <a:pt x="19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184800" y="6124680"/>
              <a:ext cx="74160" cy="5436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9" y="23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730240" y="3350520"/>
              <a:ext cx="76320" cy="543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5" y="23"/>
                  </a:moveTo>
                  <a:lnTo>
                    <a:pt x="19" y="23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1" y="19"/>
                  </a:lnTo>
                  <a:lnTo>
                    <a:pt x="33" y="18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285440" y="3633480"/>
              <a:ext cx="78840" cy="5436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3"/>
                  </a:moveTo>
                  <a:lnTo>
                    <a:pt x="21" y="23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29" y="21"/>
                  </a:lnTo>
                  <a:lnTo>
                    <a:pt x="31" y="21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4" y="7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5" y="23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841000" y="3909240"/>
              <a:ext cx="78840" cy="550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352640" y="4183560"/>
              <a:ext cx="81360" cy="5184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18" y="24"/>
                  </a:moveTo>
                  <a:lnTo>
                    <a:pt x="21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35" y="17"/>
                  </a:lnTo>
                  <a:lnTo>
                    <a:pt x="37" y="15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344640" y="5642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418080" y="5642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460200" y="5642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552000" y="5642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645960" y="5642280"/>
              <a:ext cx="3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6344640" y="5852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418080" y="5852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460200" y="58528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552000" y="58528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645960" y="58528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344640" y="6063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418080" y="6063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460200" y="60631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552000" y="60631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645960" y="6063120"/>
              <a:ext cx="3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344640" y="6273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418080" y="6273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460200" y="62730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552000" y="62730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rot="16200000">
              <a:off x="1377000" y="33573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rot="16200000">
              <a:off x="1420200" y="32835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16200000">
              <a:off x="1400400" y="3235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rot="16200000">
              <a:off x="1400400" y="3163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rot="16200000">
              <a:off x="1415880" y="3112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rot="16200000">
              <a:off x="1411920" y="30744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16200000">
              <a:off x="1396800" y="3004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rot="16200000">
              <a:off x="1415880" y="2952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rot="16200000">
              <a:off x="1392480" y="2891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738680" y="56048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83012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90248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968360" y="560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04864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119560" y="5604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148720" y="5604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222880" y="5604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265720" y="5604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29596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366880" y="5604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395320" y="5604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433840" y="560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005920" y="1144080"/>
              <a:ext cx="741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072920" y="5646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152840" y="5646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227360" y="5646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265160" y="5646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361640" y="5646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453440" y="5646600"/>
              <a:ext cx="3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072920" y="5857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152840" y="5857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227360" y="5857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265160" y="58572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361640" y="58572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453440" y="585720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72920" y="606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152840" y="606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227360" y="606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265160" y="60674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361640" y="60674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453440" y="60674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7072920" y="6277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152840" y="6277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228080" y="6277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305480" y="6277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7344000" y="6277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7437960" y="6277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005920" y="4488120"/>
              <a:ext cx="5456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005920" y="3648600"/>
              <a:ext cx="54360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005920" y="2814120"/>
              <a:ext cx="54360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005920" y="1974960"/>
              <a:ext cx="54360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005920" y="1144080"/>
              <a:ext cx="543600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H="1">
              <a:off x="2767680" y="5046480"/>
              <a:ext cx="15595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H="1">
              <a:off x="4326840" y="5046480"/>
              <a:ext cx="154620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H="1">
              <a:off x="5873400" y="5046480"/>
              <a:ext cx="1513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H="1" flipV="1">
              <a:off x="2767680" y="4492080"/>
              <a:ext cx="1559520" cy="2779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4326840" y="4766040"/>
              <a:ext cx="1546200" cy="39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H="1">
              <a:off x="5873400" y="4766040"/>
              <a:ext cx="1513800" cy="39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 flipV="1">
              <a:off x="2767680" y="3935160"/>
              <a:ext cx="155952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4326840" y="4207320"/>
              <a:ext cx="1546200" cy="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H="1" flipV="1">
              <a:off x="5873400" y="4211280"/>
              <a:ext cx="151380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 flipV="1">
              <a:off x="2767680" y="3376800"/>
              <a:ext cx="1559520" cy="2754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H="1" flipV="1">
              <a:off x="4326840" y="3657240"/>
              <a:ext cx="1546200" cy="2736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 flipV="1">
              <a:off x="5873400" y="3930480"/>
              <a:ext cx="1513800" cy="2761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 flipV="1">
              <a:off x="2767680" y="2541960"/>
              <a:ext cx="1559520" cy="55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 flipV="1">
              <a:off x="4326840" y="3098880"/>
              <a:ext cx="1546200" cy="55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 flipV="1">
              <a:off x="5873400" y="3652920"/>
              <a:ext cx="151380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 flipV="1">
              <a:off x="2767680" y="1704960"/>
              <a:ext cx="1559520" cy="5544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 flipV="1">
              <a:off x="4326840" y="2264040"/>
              <a:ext cx="1546200" cy="2736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 flipV="1">
              <a:off x="5873400" y="2537280"/>
              <a:ext cx="1513800" cy="2761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710440" y="2487240"/>
              <a:ext cx="115920" cy="109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0"/>
                  </a:moveTo>
                  <a:lnTo>
                    <a:pt x="53" y="2"/>
                  </a:lnTo>
                  <a:lnTo>
                    <a:pt x="53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268160" y="3044160"/>
              <a:ext cx="117720" cy="1090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814720" y="3598200"/>
              <a:ext cx="118440" cy="10512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328880" y="3876480"/>
              <a:ext cx="115920" cy="109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0"/>
                  </a:moveTo>
                  <a:lnTo>
                    <a:pt x="53" y="2"/>
                  </a:lnTo>
                  <a:lnTo>
                    <a:pt x="53" y="50"/>
                  </a:lnTo>
                  <a:lnTo>
                    <a:pt x="2" y="5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710440" y="1652400"/>
              <a:ext cx="115920" cy="10332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0" y="0"/>
                  </a:moveTo>
                  <a:lnTo>
                    <a:pt x="53" y="0"/>
                  </a:lnTo>
                  <a:lnTo>
                    <a:pt x="53" y="47"/>
                  </a:lnTo>
                  <a:lnTo>
                    <a:pt x="0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268160" y="2208960"/>
              <a:ext cx="117720" cy="10512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814720" y="2483280"/>
              <a:ext cx="118440" cy="1090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328880" y="2763360"/>
              <a:ext cx="115920" cy="1051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0" y="0"/>
                  </a:moveTo>
                  <a:lnTo>
                    <a:pt x="53" y="0"/>
                  </a:lnTo>
                  <a:lnTo>
                    <a:pt x="53" y="48"/>
                  </a:lnTo>
                  <a:lnTo>
                    <a:pt x="2" y="4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823720" y="5009040"/>
              <a:ext cx="113400" cy="7884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0" y="17"/>
                  </a:moveTo>
                  <a:lnTo>
                    <a:pt x="27" y="0"/>
                  </a:lnTo>
                  <a:lnTo>
                    <a:pt x="0" y="17"/>
                  </a:lnTo>
                  <a:lnTo>
                    <a:pt x="27" y="36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333200" y="5009040"/>
              <a:ext cx="111600" cy="7884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50" y="17"/>
                  </a:moveTo>
                  <a:lnTo>
                    <a:pt x="27" y="0"/>
                  </a:lnTo>
                  <a:lnTo>
                    <a:pt x="0" y="17"/>
                  </a:lnTo>
                  <a:lnTo>
                    <a:pt x="27" y="36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272840" y="5009040"/>
              <a:ext cx="109080" cy="788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6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2767680" y="5029200"/>
              <a:ext cx="155952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>
              <a:off x="4326840" y="5026680"/>
              <a:ext cx="1546200" cy="684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873400" y="5026680"/>
              <a:ext cx="1513800" cy="21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 flipV="1">
              <a:off x="2767680" y="4769640"/>
              <a:ext cx="155952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326840" y="5046480"/>
              <a:ext cx="154620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5873400" y="5046480"/>
              <a:ext cx="1513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725920" y="5000040"/>
              <a:ext cx="91440" cy="5040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0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285440" y="5000040"/>
              <a:ext cx="96120" cy="50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845320" y="5000040"/>
              <a:ext cx="96120" cy="50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324200" y="5000040"/>
              <a:ext cx="96120" cy="50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2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767680" y="5252760"/>
              <a:ext cx="180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322880" y="5252760"/>
              <a:ext cx="432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878080" y="5252760"/>
              <a:ext cx="432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442280" y="5252760"/>
              <a:ext cx="2160" cy="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ítica de substituiçã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 item descarta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R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atoriam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 seção 7.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asing miss penalty with multilevel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 txBox="1"/>
          <p:nvPr/>
        </p:nvSpPr>
        <p:spPr>
          <a:xfrm>
            <a:off x="425880" y="1340640"/>
            <a:ext cx="7986600" cy="50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 second level cach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ten primary cache is on the same chip as the process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SRAMs to add another cache above primary memory (DRA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s penalty goes down if data is in 2nd level cach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(pag 576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I of 1.0 on a 500MHz machine with a 5% miss rate, 200ns DRAM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2nd level cache with 20ns access time and miss rate to 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s penalty (só L1) = 200ns/período = 100 cicl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I (só L1)= CPIbase + clocks perdidos = 1 + 5% * 100 = 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s penalty (L2)= 20ns/período = 10 cicl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I (L1 e L2)= 1 + stalls L1 + stalls L2 = 1 + 5% * 10 + 2% * 100 = 3.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nho do sistema em velocidade com L2 = 6.0 / 3.5 = 1.7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ing multilevel cach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and optimize the hit time on the 1st level c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and optimize the miss rate on the 2nd level c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5360" y="312840"/>
            <a:ext cx="428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 want large and fast memories!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RAM access times are 2 - 25ns at cost of $100 to $25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M access times are 60-120ns at cost of $5 to $1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k access times are 10 to 20 million ns at cost of $.10 to $.2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d give it to them any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a memory hierarch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iting Memory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78560" y="2022480"/>
            <a:ext cx="638640" cy="363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600280" y="3848040"/>
            <a:ext cx="395460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967440" y="1066680"/>
            <a:ext cx="156708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$/b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5360" y="312840"/>
            <a:ext cx="428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57400" y="1447920"/>
            <a:ext cx="2819520" cy="4876560"/>
            <a:chOff x="2057400" y="1447920"/>
            <a:chExt cx="2819520" cy="4876560"/>
          </a:xfrm>
        </p:grpSpPr>
        <p:sp>
          <p:nvSpPr>
            <p:cNvPr id="108" name=""/>
            <p:cNvSpPr/>
            <p:nvPr/>
          </p:nvSpPr>
          <p:spPr>
            <a:xfrm>
              <a:off x="2666880" y="1447920"/>
              <a:ext cx="1524240" cy="6858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2514600"/>
              <a:ext cx="1218960" cy="457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3429000"/>
              <a:ext cx="1828800" cy="99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7400" y="4876920"/>
              <a:ext cx="2819520" cy="1447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ór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838080" y="1066680"/>
            <a:ext cx="13716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loc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áp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1066680"/>
            <a:ext cx="11858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man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86000" y="1981080"/>
            <a:ext cx="463680" cy="761760"/>
            <a:chOff x="2286000" y="1981080"/>
            <a:chExt cx="463680" cy="761760"/>
          </a:xfrm>
        </p:grpSpPr>
        <p:sp>
          <p:nvSpPr>
            <p:cNvPr id="115" name=""/>
            <p:cNvSpPr/>
            <p:nvPr/>
          </p:nvSpPr>
          <p:spPr>
            <a:xfrm>
              <a:off x="2286000" y="1981080"/>
              <a:ext cx="247680" cy="761760"/>
            </a:xfrm>
            <a:custGeom>
              <a:avLst/>
              <a:gdLst/>
              <a:ahLst/>
              <a:rect l="l" t="t" r="r" b="b"/>
              <a:pathLst>
                <a:path w="248" h="768">
                  <a:moveTo>
                    <a:pt x="200" y="0"/>
                  </a:moveTo>
                  <a:cubicBezTo>
                    <a:pt x="100" y="152"/>
                    <a:pt x="0" y="304"/>
                    <a:pt x="8" y="432"/>
                  </a:cubicBezTo>
                  <a:cubicBezTo>
                    <a:pt x="16" y="560"/>
                    <a:pt x="132" y="664"/>
                    <a:pt x="248" y="7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01560" y="2206440"/>
              <a:ext cx="3481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33720" y="2743200"/>
            <a:ext cx="463680" cy="761760"/>
            <a:chOff x="2133720" y="2743200"/>
            <a:chExt cx="463680" cy="761760"/>
          </a:xfrm>
        </p:grpSpPr>
        <p:sp>
          <p:nvSpPr>
            <p:cNvPr id="118" name=""/>
            <p:cNvSpPr/>
            <p:nvPr/>
          </p:nvSpPr>
          <p:spPr>
            <a:xfrm>
              <a:off x="2133720" y="2743200"/>
              <a:ext cx="247680" cy="761760"/>
            </a:xfrm>
            <a:custGeom>
              <a:avLst/>
              <a:gdLst/>
              <a:ahLst/>
              <a:rect l="l" t="t" r="r" b="b"/>
              <a:pathLst>
                <a:path w="248" h="768">
                  <a:moveTo>
                    <a:pt x="200" y="0"/>
                  </a:moveTo>
                  <a:cubicBezTo>
                    <a:pt x="100" y="152"/>
                    <a:pt x="0" y="304"/>
                    <a:pt x="8" y="432"/>
                  </a:cubicBezTo>
                  <a:cubicBezTo>
                    <a:pt x="16" y="560"/>
                    <a:pt x="132" y="664"/>
                    <a:pt x="248" y="7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49280" y="2968560"/>
              <a:ext cx="3481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828800" y="4191120"/>
            <a:ext cx="463680" cy="761760"/>
            <a:chOff x="1828800" y="4191120"/>
            <a:chExt cx="463680" cy="761760"/>
          </a:xfrm>
        </p:grpSpPr>
        <p:sp>
          <p:nvSpPr>
            <p:cNvPr id="121" name=""/>
            <p:cNvSpPr/>
            <p:nvPr/>
          </p:nvSpPr>
          <p:spPr>
            <a:xfrm>
              <a:off x="1828800" y="4191120"/>
              <a:ext cx="247680" cy="761760"/>
            </a:xfrm>
            <a:custGeom>
              <a:avLst/>
              <a:gdLst/>
              <a:ahLst/>
              <a:rect l="l" t="t" r="r" b="b"/>
              <a:pathLst>
                <a:path w="248" h="768">
                  <a:moveTo>
                    <a:pt x="200" y="0"/>
                  </a:moveTo>
                  <a:cubicBezTo>
                    <a:pt x="100" y="152"/>
                    <a:pt x="0" y="304"/>
                    <a:pt x="8" y="432"/>
                  </a:cubicBezTo>
                  <a:cubicBezTo>
                    <a:pt x="16" y="560"/>
                    <a:pt x="132" y="664"/>
                    <a:pt x="248" y="7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44360" y="4416480"/>
              <a:ext cx="3481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V="1">
            <a:off x="1219320" y="205704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2133720"/>
            <a:ext cx="0" cy="32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467480" y="22860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erarquia de memória (custo e velocidad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 médio do sistema ($/bit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……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…… +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s do sist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 médio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usto do nível mais barato (disc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ocidade do sistem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locidade do mais rápido (cach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je, assumindo disco 40 GB e memória de 256 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r o custo médio por 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17800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inciple that makes having a memory hierarchy a good ide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n item is referenced,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l locality:  it will tend to be referenced again so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tial locality:   nearby items will tend to be referenced soon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y does code have localit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initial focus:  two levels (upper, low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:   minimum unit of dat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requested is in the upper level (hit ratio - hit t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requested is not in the upper level (miss ratio - miss penalty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ípio da localida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75400" y="1292400"/>
            <a:ext cx="7571880" cy="2062080"/>
            <a:chOff x="275400" y="1292400"/>
            <a:chExt cx="7571880" cy="2062080"/>
          </a:xfrm>
        </p:grpSpPr>
        <p:sp>
          <p:nvSpPr>
            <p:cNvPr id="133" name=""/>
            <p:cNvSpPr/>
            <p:nvPr/>
          </p:nvSpPr>
          <p:spPr>
            <a:xfrm flipV="1">
              <a:off x="1800000" y="13716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00000" y="3200400"/>
              <a:ext cx="502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5400" y="1292400"/>
              <a:ext cx="15127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paço de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ndereç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34840" y="3032280"/>
              <a:ext cx="712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80160" y="3657600"/>
            <a:ext cx="8157960" cy="2211480"/>
            <a:chOff x="380160" y="3657600"/>
            <a:chExt cx="8157960" cy="2211480"/>
          </a:xfrm>
        </p:grpSpPr>
        <p:sp>
          <p:nvSpPr>
            <p:cNvPr id="138" name=""/>
            <p:cNvSpPr/>
            <p:nvPr/>
          </p:nvSpPr>
          <p:spPr>
            <a:xfrm flipV="1">
              <a:off x="1784520" y="3736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84520" y="5565600"/>
              <a:ext cx="502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160" y="3657600"/>
              <a:ext cx="1392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reqüência de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cesso em </a:t>
              </a: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86520" y="5546880"/>
              <a:ext cx="2451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paço de endereçamen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590920" y="2590920"/>
            <a:ext cx="838080" cy="380880"/>
            <a:chOff x="2590920" y="2590920"/>
            <a:chExt cx="838080" cy="380880"/>
          </a:xfrm>
        </p:grpSpPr>
        <p:sp>
          <p:nvSpPr>
            <p:cNvPr id="143" name=""/>
            <p:cNvSpPr/>
            <p:nvPr/>
          </p:nvSpPr>
          <p:spPr>
            <a:xfrm>
              <a:off x="2590920" y="2895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3060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70280" y="29718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9960" y="2590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4964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89320" y="2590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81280" y="1828800"/>
            <a:ext cx="838440" cy="380880"/>
            <a:chOff x="3581280" y="1828800"/>
            <a:chExt cx="838440" cy="380880"/>
          </a:xfrm>
        </p:grpSpPr>
        <p:sp>
          <p:nvSpPr>
            <p:cNvPr id="150" name=""/>
            <p:cNvSpPr/>
            <p:nvPr/>
          </p:nvSpPr>
          <p:spPr>
            <a:xfrm>
              <a:off x="3581280" y="2133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0960" y="1981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60640" y="22096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00320" y="18288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40000" y="1981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80040" y="18288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495680" y="2362320"/>
            <a:ext cx="838440" cy="380880"/>
            <a:chOff x="4495680" y="2362320"/>
            <a:chExt cx="838440" cy="380880"/>
          </a:xfrm>
        </p:grpSpPr>
        <p:sp>
          <p:nvSpPr>
            <p:cNvPr id="157" name=""/>
            <p:cNvSpPr/>
            <p:nvPr/>
          </p:nvSpPr>
          <p:spPr>
            <a:xfrm>
              <a:off x="4495680" y="26668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3536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7504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1472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5440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9444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410080" y="2362320"/>
            <a:ext cx="838440" cy="380880"/>
            <a:chOff x="5410080" y="2362320"/>
            <a:chExt cx="838440" cy="380880"/>
          </a:xfrm>
        </p:grpSpPr>
        <p:sp>
          <p:nvSpPr>
            <p:cNvPr id="164" name=""/>
            <p:cNvSpPr/>
            <p:nvPr/>
          </p:nvSpPr>
          <p:spPr>
            <a:xfrm>
              <a:off x="5410080" y="26668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4976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9440" y="2743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2912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68800" y="2514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08840" y="2362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743200" y="4491000"/>
            <a:ext cx="228600" cy="1071720"/>
          </a:xfrm>
          <a:custGeom>
            <a:avLst/>
            <a:gdLst/>
            <a:ahLst/>
            <a:rect l="l" t="t" r="r" b="b"/>
            <a:pathLst>
              <a:path w="192" h="675">
                <a:moveTo>
                  <a:pt x="0" y="675"/>
                </a:moveTo>
                <a:lnTo>
                  <a:pt x="0" y="483"/>
                </a:lnTo>
                <a:lnTo>
                  <a:pt x="48" y="483"/>
                </a:lnTo>
                <a:lnTo>
                  <a:pt x="48" y="243"/>
                </a:lnTo>
                <a:lnTo>
                  <a:pt x="96" y="243"/>
                </a:lnTo>
                <a:lnTo>
                  <a:pt x="96" y="3"/>
                </a:lnTo>
                <a:lnTo>
                  <a:pt x="144" y="0"/>
                </a:lnTo>
                <a:lnTo>
                  <a:pt x="144" y="579"/>
                </a:lnTo>
                <a:lnTo>
                  <a:pt x="192" y="579"/>
                </a:lnTo>
                <a:lnTo>
                  <a:pt x="192" y="6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4952880"/>
            <a:ext cx="228600" cy="609840"/>
          </a:xfrm>
          <a:custGeom>
            <a:avLst/>
            <a:gdLst/>
            <a:ahLst/>
            <a:rect l="l" t="t" r="r" b="b"/>
            <a:pathLst>
              <a:path w="144" h="675">
                <a:moveTo>
                  <a:pt x="0" y="675"/>
                </a:moveTo>
                <a:lnTo>
                  <a:pt x="0" y="483"/>
                </a:lnTo>
                <a:lnTo>
                  <a:pt x="48" y="483"/>
                </a:lnTo>
                <a:lnTo>
                  <a:pt x="48" y="243"/>
                </a:lnTo>
                <a:lnTo>
                  <a:pt x="96" y="243"/>
                </a:lnTo>
                <a:lnTo>
                  <a:pt x="96" y="3"/>
                </a:lnTo>
                <a:lnTo>
                  <a:pt x="144" y="0"/>
                </a:lnTo>
                <a:lnTo>
                  <a:pt x="144" y="66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5181480"/>
            <a:ext cx="533520" cy="38124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lnTo>
                  <a:pt x="0" y="240"/>
                </a:lnTo>
                <a:lnTo>
                  <a:pt x="48" y="240"/>
                </a:lnTo>
                <a:lnTo>
                  <a:pt x="48" y="0"/>
                </a:lnTo>
                <a:lnTo>
                  <a:pt x="141" y="0"/>
                </a:lnTo>
                <a:lnTo>
                  <a:pt x="144" y="336"/>
                </a:lnTo>
                <a:lnTo>
                  <a:pt x="192" y="336"/>
                </a:lnTo>
                <a:lnTo>
                  <a:pt x="192" y="4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48006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5181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666880" y="5605200"/>
            <a:ext cx="381240" cy="75960"/>
            <a:chOff x="2666880" y="5605200"/>
            <a:chExt cx="381240" cy="75960"/>
          </a:xfrm>
        </p:grpSpPr>
        <p:sp>
          <p:nvSpPr>
            <p:cNvPr id="176" name=""/>
            <p:cNvSpPr/>
            <p:nvPr/>
          </p:nvSpPr>
          <p:spPr>
            <a:xfrm>
              <a:off x="2666880" y="56386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66688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04812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733920" y="5605200"/>
            <a:ext cx="380880" cy="75960"/>
            <a:chOff x="3733920" y="5605200"/>
            <a:chExt cx="380880" cy="75960"/>
          </a:xfrm>
        </p:grpSpPr>
        <p:sp>
          <p:nvSpPr>
            <p:cNvPr id="180" name=""/>
            <p:cNvSpPr/>
            <p:nvPr/>
          </p:nvSpPr>
          <p:spPr>
            <a:xfrm>
              <a:off x="3733920" y="56386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73392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14800" y="56052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776840" y="5605200"/>
            <a:ext cx="556920" cy="109080"/>
            <a:chOff x="4776840" y="5605200"/>
            <a:chExt cx="556920" cy="109080"/>
          </a:xfrm>
        </p:grpSpPr>
        <p:sp>
          <p:nvSpPr>
            <p:cNvPr id="184" name=""/>
            <p:cNvSpPr/>
            <p:nvPr/>
          </p:nvSpPr>
          <p:spPr>
            <a:xfrm>
              <a:off x="4776840" y="5653080"/>
              <a:ext cx="55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776840" y="560520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333760" y="560520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189400" y="160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920" y="43434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a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ão em dois níve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1143000"/>
            <a:ext cx="1828800" cy="856080"/>
            <a:chOff x="3657600" y="1143000"/>
            <a:chExt cx="1828800" cy="856080"/>
          </a:xfrm>
        </p:grpSpPr>
        <p:sp>
          <p:nvSpPr>
            <p:cNvPr id="191" name=""/>
            <p:cNvSpPr/>
            <p:nvPr/>
          </p:nvSpPr>
          <p:spPr>
            <a:xfrm>
              <a:off x="3657600" y="114300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0520" y="1295280"/>
              <a:ext cx="160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00400" y="2514600"/>
            <a:ext cx="2743200" cy="1218960"/>
            <a:chOff x="3200400" y="2514600"/>
            <a:chExt cx="2743200" cy="1218960"/>
          </a:xfrm>
        </p:grpSpPr>
        <p:sp>
          <p:nvSpPr>
            <p:cNvPr id="194" name=""/>
            <p:cNvSpPr/>
            <p:nvPr/>
          </p:nvSpPr>
          <p:spPr>
            <a:xfrm>
              <a:off x="3200400" y="2514600"/>
              <a:ext cx="2743200" cy="121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886200" y="2514600"/>
              <a:ext cx="609480" cy="1218960"/>
              <a:chOff x="3886200" y="2514600"/>
              <a:chExt cx="609480" cy="1218960"/>
            </a:xfrm>
          </p:grpSpPr>
          <p:sp>
            <p:nvSpPr>
              <p:cNvPr id="196" name=""/>
              <p:cNvSpPr/>
              <p:nvPr/>
            </p:nvSpPr>
            <p:spPr>
              <a:xfrm>
                <a:off x="3886200" y="251460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191120" y="251460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495680" y="251460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86200" y="281916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86200" y="312408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86200" y="342900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86200" y="2514600"/>
                <a:ext cx="304920" cy="30456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2514600" y="4419720"/>
            <a:ext cx="4038480" cy="1828800"/>
            <a:chOff x="2514600" y="4419720"/>
            <a:chExt cx="4038480" cy="1828800"/>
          </a:xfrm>
        </p:grpSpPr>
        <p:sp>
          <p:nvSpPr>
            <p:cNvPr id="204" name=""/>
            <p:cNvSpPr/>
            <p:nvPr/>
          </p:nvSpPr>
          <p:spPr>
            <a:xfrm>
              <a:off x="2514600" y="4419720"/>
              <a:ext cx="403848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4190760" y="4419720"/>
              <a:ext cx="609840" cy="1828800"/>
              <a:chOff x="4190760" y="4419720"/>
              <a:chExt cx="609840" cy="1828800"/>
            </a:xfrm>
          </p:grpSpPr>
          <p:sp>
            <p:nvSpPr>
              <p:cNvPr id="206" name=""/>
              <p:cNvSpPr/>
              <p:nvPr/>
            </p:nvSpPr>
            <p:spPr>
              <a:xfrm>
                <a:off x="4190760" y="441972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95680" y="441972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00600" y="441972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90760" y="472464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90760" y="502956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90760" y="53341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90760" y="563904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90760" y="594396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90760" y="62485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105160" y="441972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10080" y="441972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15000" y="441972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00600" y="4724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0600" y="502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00600" y="5334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00600" y="563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00600" y="5943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05160" y="624852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0600" y="5334120"/>
              <a:ext cx="304560" cy="3049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572000" y="1828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81600" y="390672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encia de dados (blo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3880" y="2133720"/>
            <a:ext cx="2227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calidade temporal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uardar os mais usad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7560" y="3886200"/>
            <a:ext cx="3356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ocalidade espacial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ransf. em blocos em vez de palavr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F0704" descr=""/>
          <p:cNvPicPr/>
          <p:nvPr/>
        </p:nvPicPr>
        <p:blipFill>
          <a:blip r:embed="rId1"/>
          <a:stretch/>
        </p:blipFill>
        <p:spPr>
          <a:xfrm>
            <a:off x="2057400" y="1911240"/>
            <a:ext cx="5029200" cy="33465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048680" y="1063800"/>
            <a:ext cx="226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ferência à posição X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48:44Z</dcterms:created>
  <dc:creator>Tod Amon</dc:creator>
  <dc:description/>
  <dc:language>en-US</dc:language>
  <cp:lastModifiedBy>CPqD CPqD</cp:lastModifiedBy>
  <cp:lastPrinted>2001-05-26T17:39:16Z</cp:lastPrinted>
  <dcterms:modified xsi:type="dcterms:W3CDTF">2002-05-21T21:35:48Z</dcterms:modified>
  <cp:revision>57</cp:revision>
  <dc:subject/>
  <dc:title>Chapter Seven</dc:title>
</cp:coreProperties>
</file>